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A936-1ADA-4E22-9899-BC6DF5FD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A18F-EBDA-4185-9D3E-6B593D43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775-A0AD-4A8A-8DB9-B679B799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0CBC-540A-4A40-84E2-379220A3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7B9-3874-4FE6-869D-6CABFB75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D52-4ACD-4D2F-80C5-8E423EFE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709-E28A-4EBB-9996-823A13BF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D7D-D2CB-492F-8DE6-AB6E314F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07B4-9CEB-4CD8-BFEF-52BB31B2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7B6C-A685-4F6E-8FC5-79278DB9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328-A00C-41EE-B8C1-D0433E40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3E9-054B-4AFF-8C75-814E0DEA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E82B-95D9-4AA3-8FB4-0112E68149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vechnikov-sk@mail.ru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68360" y="609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.К. Свечников, 2006-20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  <a:ea typeface="Arial"/>
                <a:hlinkClick r:id="rId1"/>
              </a:rPr>
              <a:t>svechnikov-sk@mail.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4427640" y="1916280"/>
            <a:ext cx="3889440" cy="466560"/>
          </a:xfrm>
          <a:prstGeom prst="wedgeRectCallout">
            <a:avLst>
              <a:gd name="adj1" fmla="val -55796"/>
              <a:gd name="adj2" fmla="val 9013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скусство ведения хозяй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esk1"/>
          <p:cNvSpPr/>
          <p:nvPr/>
        </p:nvSpPr>
        <p:spPr>
          <a:xfrm>
            <a:off x="1979640" y="1844640"/>
            <a:ext cx="4680000" cy="10080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ЗЕМЛ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природные ресурсы производства (участки, полезные ископаемые, реки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1835280" y="3933720"/>
            <a:ext cx="4895640" cy="86544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н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доход того, кто владеет зем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ubBanner"/>
          <p:cNvSpPr/>
          <p:nvPr/>
        </p:nvSpPr>
        <p:spPr>
          <a:xfrm>
            <a:off x="1332000" y="1413000"/>
            <a:ext cx="6840360" cy="2303280"/>
          </a:xfrm>
          <a:custGeom>
            <a:avLst/>
            <a:gdLst>
              <a:gd name="textAreaLeft" fmla="*/ 1313640 w 6840360"/>
              <a:gd name="textAreaRight" fmla="*/ 5526720 w 6840360"/>
              <a:gd name="textAreaTop" fmla="*/ 442440 h 2303280"/>
              <a:gd name="textAreaBottom" fmla="*/ 186084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430" y="11620"/>
                </a:lnTo>
                <a:lnTo>
                  <a:pt x="198" y="12861"/>
                </a:lnTo>
                <a:lnTo>
                  <a:pt x="1758" y="13393"/>
                </a:lnTo>
                <a:lnTo>
                  <a:pt x="786" y="14846"/>
                </a:lnTo>
                <a:lnTo>
                  <a:pt x="2495" y="15216"/>
                </a:lnTo>
                <a:lnTo>
                  <a:pt x="1742" y="16682"/>
                </a:lnTo>
                <a:lnTo>
                  <a:pt x="3490" y="16719"/>
                </a:lnTo>
                <a:lnTo>
                  <a:pt x="3163" y="18437"/>
                </a:lnTo>
                <a:lnTo>
                  <a:pt x="4754" y="18005"/>
                </a:lnTo>
                <a:lnTo>
                  <a:pt x="4761" y="19754"/>
                </a:lnTo>
                <a:lnTo>
                  <a:pt x="6240" y="19027"/>
                </a:lnTo>
                <a:lnTo>
                  <a:pt x="6580" y="20741"/>
                </a:lnTo>
                <a:lnTo>
                  <a:pt x="8050" y="19795"/>
                </a:lnTo>
                <a:lnTo>
                  <a:pt x="8555" y="21364"/>
                </a:lnTo>
                <a:lnTo>
                  <a:pt x="9817" y="20154"/>
                </a:lnTo>
                <a:lnTo>
                  <a:pt x="10800" y="21600"/>
                </a:lnTo>
                <a:lnTo>
                  <a:pt x="11620" y="20170"/>
                </a:lnTo>
                <a:lnTo>
                  <a:pt x="12861" y="21402"/>
                </a:lnTo>
                <a:lnTo>
                  <a:pt x="13393" y="19842"/>
                </a:lnTo>
                <a:lnTo>
                  <a:pt x="14846" y="20814"/>
                </a:lnTo>
                <a:lnTo>
                  <a:pt x="15216" y="19105"/>
                </a:lnTo>
                <a:lnTo>
                  <a:pt x="16682" y="19858"/>
                </a:lnTo>
                <a:lnTo>
                  <a:pt x="16719" y="18110"/>
                </a:lnTo>
                <a:lnTo>
                  <a:pt x="18437" y="18437"/>
                </a:lnTo>
                <a:lnTo>
                  <a:pt x="18005" y="16846"/>
                </a:lnTo>
                <a:lnTo>
                  <a:pt x="19754" y="16839"/>
                </a:lnTo>
                <a:lnTo>
                  <a:pt x="19027" y="15360"/>
                </a:lnTo>
                <a:lnTo>
                  <a:pt x="20741" y="15020"/>
                </a:lnTo>
                <a:lnTo>
                  <a:pt x="19795" y="13550"/>
                </a:lnTo>
                <a:lnTo>
                  <a:pt x="21364" y="13045"/>
                </a:lnTo>
                <a:lnTo>
                  <a:pt x="20154" y="11783"/>
                </a:lnTo>
                <a:lnTo>
                  <a:pt x="21600" y="10800"/>
                </a:lnTo>
                <a:lnTo>
                  <a:pt x="20170" y="9980"/>
                </a:lnTo>
                <a:lnTo>
                  <a:pt x="21402" y="8739"/>
                </a:lnTo>
                <a:lnTo>
                  <a:pt x="19842" y="8207"/>
                </a:lnTo>
                <a:lnTo>
                  <a:pt x="20814" y="6754"/>
                </a:lnTo>
                <a:lnTo>
                  <a:pt x="19105" y="6384"/>
                </a:lnTo>
                <a:lnTo>
                  <a:pt x="19858" y="4918"/>
                </a:lnTo>
                <a:lnTo>
                  <a:pt x="18110" y="4881"/>
                </a:lnTo>
                <a:lnTo>
                  <a:pt x="18437" y="3163"/>
                </a:lnTo>
                <a:lnTo>
                  <a:pt x="16846" y="3595"/>
                </a:lnTo>
                <a:lnTo>
                  <a:pt x="16839" y="1846"/>
                </a:lnTo>
                <a:lnTo>
                  <a:pt x="15360" y="2573"/>
                </a:lnTo>
                <a:lnTo>
                  <a:pt x="15020" y="859"/>
                </a:lnTo>
                <a:lnTo>
                  <a:pt x="13550" y="1805"/>
                </a:lnTo>
                <a:lnTo>
                  <a:pt x="13045" y="236"/>
                </a:lnTo>
                <a:lnTo>
                  <a:pt x="11783" y="1446"/>
                </a:lnTo>
                <a:lnTo>
                  <a:pt x="10800" y="0"/>
                </a:lnTo>
                <a:lnTo>
                  <a:pt x="9980" y="1430"/>
                </a:lnTo>
                <a:lnTo>
                  <a:pt x="8739" y="198"/>
                </a:lnTo>
                <a:lnTo>
                  <a:pt x="8207" y="1758"/>
                </a:lnTo>
                <a:lnTo>
                  <a:pt x="6754" y="786"/>
                </a:lnTo>
                <a:lnTo>
                  <a:pt x="6384" y="2495"/>
                </a:lnTo>
                <a:lnTo>
                  <a:pt x="4918" y="1742"/>
                </a:lnTo>
                <a:lnTo>
                  <a:pt x="4881" y="3490"/>
                </a:lnTo>
                <a:lnTo>
                  <a:pt x="3163" y="3163"/>
                </a:lnTo>
                <a:lnTo>
                  <a:pt x="3595" y="4754"/>
                </a:lnTo>
                <a:lnTo>
                  <a:pt x="1846" y="4761"/>
                </a:lnTo>
                <a:lnTo>
                  <a:pt x="2573" y="6240"/>
                </a:lnTo>
                <a:lnTo>
                  <a:pt x="859" y="6580"/>
                </a:lnTo>
                <a:lnTo>
                  <a:pt x="1805" y="8050"/>
                </a:lnTo>
                <a:lnTo>
                  <a:pt x="236" y="8555"/>
                </a:lnTo>
                <a:lnTo>
                  <a:pt x="1446" y="9817"/>
                </a:lnTo>
                <a:lnTo>
                  <a:pt x="0" y="108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ПРЕДПРИНИМАТЕЛЬ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деятельность по организации и управлению производством, которые связаны с новаторством, ри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2484360" y="4005360"/>
            <a:ext cx="4103640" cy="1295280"/>
          </a:xfrm>
          <a:prstGeom prst="downArrow">
            <a:avLst>
              <a:gd name="adj1" fmla="val 51102"/>
              <a:gd name="adj2" fmla="val 4681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а за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3059280" y="5516640"/>
            <a:ext cx="3014640" cy="761760"/>
          </a:xfrm>
          <a:custGeom>
            <a:avLst/>
            <a:gdLst>
              <a:gd name="textAreaLeft" fmla="*/ 753480 w 3014640"/>
              <a:gd name="textAreaRight" fmla="*/ 2261160 w 3014640"/>
              <a:gd name="textAreaTop" fmla="*/ 190440 h 761760"/>
              <a:gd name="textAreaBottom" fmla="*/ 739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Ы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рты трудовой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личие сознательно поставленной цел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обходимость средств труд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вместные усилия (общественный характер труд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азделение труда (распределение и закрепление занятий между участникам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щение, позволяющее координировать людям свою деяте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фессионализм, квалификация, специализ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71280" y="5372280"/>
            <a:ext cx="2737080" cy="1152360"/>
          </a:xfrm>
          <a:prstGeom prst="wedgeRectCallout">
            <a:avLst>
              <a:gd name="adj1" fmla="val 40314"/>
              <a:gd name="adj2" fmla="val -7424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терство и грамотность выполнения трудовы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2987640" y="5372280"/>
            <a:ext cx="3313080" cy="1412640"/>
          </a:xfrm>
          <a:prstGeom prst="wedgeRectCallout">
            <a:avLst>
              <a:gd name="adj1" fmla="val -6157"/>
              <a:gd name="adj2" fmla="val -7213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ая профессиональная подготовка, необходимая для выполнения сложны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6588000" y="5373720"/>
            <a:ext cx="2160720" cy="1224000"/>
          </a:xfrm>
          <a:prstGeom prst="wedgeRectCallout">
            <a:avLst>
              <a:gd name="adj1" fmla="val -48750"/>
              <a:gd name="adj2" fmla="val -7282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е одной или нескольки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бровольное, сознательное соблюдение правил и порядка поведения в коллективе, добросовестное исполнение своих обязанностей, высокое качество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042920" y="4076640"/>
            <a:ext cx="2232000" cy="7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957" y="-25236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ческая дисцип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5508720" y="4076640"/>
            <a:ext cx="2232000" cy="7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743" y="-25236"/>
                </a:moveTo>
                <a:lnTo>
                  <a:pt x="-737" y="3117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говорная дисцип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ческ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324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вокупность материальных и духовных средств, с помощью которых люди осуществляют материально-производственную деяте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124000" y="3141720"/>
          <a:ext cx="4762440" cy="2913120"/>
        </p:xfrm>
        <a:graphic>
          <a:graphicData uri="http://schemas.openxmlformats.org/drawingml/2006/table">
            <a:tbl>
              <a:tblPr/>
              <a:tblGrid>
                <a:gridCol w="476244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 производ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 обм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 распреде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 потреб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гуманизация и гуманизация т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9640" y="1916280"/>
            <a:ext cx="4680000" cy="936360"/>
          </a:xfrm>
          <a:prstGeom prst="bevel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меслен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создает вещь от нач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конца, оттачивает свое масте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3708360" y="3068640"/>
            <a:ext cx="4248360" cy="1584360"/>
          </a:xfrm>
          <a:prstGeom prst="flowChartMultidocumen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и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здает только ч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и, машины доминир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 лич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1116000" y="4508640"/>
            <a:ext cx="2016000" cy="649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гум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AutoShape 12"/>
          <p:cNvCxnSpPr>
            <a:stCxn id="137" idx="1"/>
            <a:endCxn id="138" idx="0"/>
          </p:cNvCxnSpPr>
          <p:nvPr/>
        </p:nvCxnSpPr>
        <p:spPr>
          <a:xfrm flipV="1" rot="10800000">
            <a:off x="2123280" y="3860640"/>
            <a:ext cx="1585080" cy="648360"/>
          </a:xfrm>
          <a:prstGeom prst="curvedConnector2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AutoShape 13"/>
          <p:cNvSpPr/>
          <p:nvPr/>
        </p:nvSpPr>
        <p:spPr>
          <a:xfrm>
            <a:off x="3564000" y="5300640"/>
            <a:ext cx="2592360" cy="1130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м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16"/>
          <p:cNvCxnSpPr>
            <a:stCxn id="140" idx="0"/>
            <a:endCxn id="137" idx="2"/>
          </p:cNvCxnSpPr>
          <p:nvPr/>
        </p:nvCxnSpPr>
        <p:spPr>
          <a:xfrm flipH="1" flipV="1" rot="5400000">
            <a:off x="4960080" y="4428000"/>
            <a:ext cx="773640" cy="972000"/>
          </a:xfrm>
          <a:prstGeom prst="curvedConnector5">
            <a:avLst>
              <a:gd name="adj1" fmla="val 41852"/>
              <a:gd name="adj2" fmla="val 49981"/>
              <a:gd name="adj3" fmla="val 41852"/>
            </a:avLst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Text Box 17"/>
          <p:cNvSpPr/>
          <p:nvPr/>
        </p:nvSpPr>
        <p:spPr>
          <a:xfrm>
            <a:off x="250920" y="5516640"/>
            <a:ext cx="3168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анение факторов, угрожающих здоровью и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6372360" y="5516640"/>
            <a:ext cx="2447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ллектуализац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факторам производства относитс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вень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ительность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сть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ств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ы отношений собств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с юридической точки зр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оря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500720" y="71280"/>
            <a:ext cx="3600360" cy="432000"/>
          </a:xfrm>
          <a:prstGeom prst="wedgeRectCallout">
            <a:avLst>
              <a:gd name="adj1" fmla="val -43694"/>
              <a:gd name="adj2" fmla="val 9742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«человек – вещ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3348000" y="2852640"/>
            <a:ext cx="5327640" cy="1008000"/>
          </a:xfrm>
          <a:prstGeom prst="leftArrow">
            <a:avLst>
              <a:gd name="adj1" fmla="val 67556"/>
              <a:gd name="adj2" fmla="val 140943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иметь у себя иму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3348000" y="3933720"/>
            <a:ext cx="5400720" cy="1008000"/>
          </a:xfrm>
          <a:prstGeom prst="leftArrow">
            <a:avLst>
              <a:gd name="adj1" fmla="val 67556"/>
              <a:gd name="adj2" fmla="val 13861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изменять состоя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ение, принадлежность 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3348000" y="5013360"/>
            <a:ext cx="5400720" cy="1008000"/>
          </a:xfrm>
          <a:prstGeom prst="leftArrow">
            <a:avLst>
              <a:gd name="adj1" fmla="val 67556"/>
              <a:gd name="adj2" fmla="val 13861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использ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зные свойства 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собств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600200"/>
          <a:ext cx="8229600" cy="4311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 типолог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ая типолог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ервобытная, семейная, государственная, коллектив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личная, индивидуаль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бовладельческая, феодальная, начальный капитализ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ша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кционерная, кооперативная, совместные предприят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ектив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упповая (акционерная) собств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рпорация выпускает ценные бумаги (акции), их собственники имеют право на часть дохода (дивиденды) и на участие в управлении делам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1116000" y="3429000"/>
            <a:ext cx="2448000" cy="1728720"/>
          </a:xfrm>
          <a:prstGeom prst="foldedCorner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глосаксо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д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уках немног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-30% а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4788000" y="3429000"/>
            <a:ext cx="2448000" cy="1728720"/>
          </a:xfrm>
          <a:prstGeom prst="foldedCorner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инент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д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уках немног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-80% а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ера деятельности людей по производству, распределению, обмену и потреблению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атериальных бла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ка, изучающая эффективные способы использования ограниченных ресурсов для производств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атериальных бла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2"/>
          <p:cNvSpPr/>
          <p:nvPr/>
        </p:nvSpPr>
        <p:spPr>
          <a:xfrm>
            <a:off x="6948360" y="1989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3"/>
          <p:cNvSpPr/>
          <p:nvPr/>
        </p:nvSpPr>
        <p:spPr>
          <a:xfrm>
            <a:off x="6516720" y="2133720"/>
            <a:ext cx="238284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вары и услу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я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и потребност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ющиеся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граниченном колич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4"/>
          <p:cNvSpPr/>
          <p:nvPr/>
        </p:nvSpPr>
        <p:spPr>
          <a:xfrm flipV="1">
            <a:off x="4284720" y="2707920"/>
            <a:ext cx="22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5"/>
          <p:cNvSpPr/>
          <p:nvPr/>
        </p:nvSpPr>
        <p:spPr>
          <a:xfrm flipV="1">
            <a:off x="6084720" y="4149360"/>
            <a:ext cx="1008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ы собственности в современной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7"/>
          <p:cNvGrpSpPr/>
          <p:nvPr/>
        </p:nvGrpSpPr>
        <p:grpSpPr>
          <a:xfrm>
            <a:off x="457200" y="1600200"/>
            <a:ext cx="8229600" cy="4959360"/>
            <a:chOff x="457200" y="1600200"/>
            <a:chExt cx="8229600" cy="4959360"/>
          </a:xfrm>
        </p:grpSpPr>
        <p:sp>
          <p:nvSpPr>
            <p:cNvPr id="163" name="Rectangle 14"/>
            <p:cNvSpPr/>
            <p:nvPr/>
          </p:nvSpPr>
          <p:spPr>
            <a:xfrm>
              <a:off x="3203640" y="5186520"/>
              <a:ext cx="5483160" cy="13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Предприятие, перешедшее в собственность коллектива, члены которого участвуют в управлении производством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3"/>
            <p:cNvSpPr/>
            <p:nvPr/>
          </p:nvSpPr>
          <p:spPr>
            <a:xfrm>
              <a:off x="457200" y="5186520"/>
              <a:ext cx="2746440" cy="13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Коллективное (народное) предприят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3203640" y="4454640"/>
              <a:ext cx="54831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Член кооператива имеет свою долю и может выйти с возвращением дол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457200" y="4454640"/>
              <a:ext cx="27464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Кооператив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0"/>
            <p:cNvSpPr/>
            <p:nvPr/>
          </p:nvSpPr>
          <p:spPr>
            <a:xfrm>
              <a:off x="3203640" y="3722760"/>
              <a:ext cx="54831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Имущество, находящееся в распоряжении, ведении местных орган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9"/>
            <p:cNvSpPr/>
            <p:nvPr/>
          </p:nvSpPr>
          <p:spPr>
            <a:xfrm>
              <a:off x="457200" y="3722760"/>
              <a:ext cx="27464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Муниципаль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8"/>
            <p:cNvSpPr/>
            <p:nvPr/>
          </p:nvSpPr>
          <p:spPr>
            <a:xfrm>
              <a:off x="3203640" y="2349360"/>
              <a:ext cx="54831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Промышленные предприятия, банки, транспорт, энергетика; преобладает в отраслях, имеющих стратегическое зна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457200" y="2349360"/>
              <a:ext cx="27464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Государствен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3203640" y="1600200"/>
              <a:ext cx="54831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Семейные фирмы, мастерские, бензоколонки…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457200" y="1600200"/>
              <a:ext cx="27464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Индивидуальная част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5"/>
            <p:cNvSpPr/>
            <p:nvPr/>
          </p:nvSpPr>
          <p:spPr>
            <a:xfrm>
              <a:off x="457200" y="160020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>
              <a:off x="457200" y="2349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457200" y="37227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457200" y="44546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457200" y="51865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>
              <a:off x="457200" y="655956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457200" y="1600200"/>
              <a:ext cx="0" cy="4959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>
              <a:off x="3203640" y="1600200"/>
              <a:ext cx="0" cy="495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>
              <a:off x="8686800" y="1600200"/>
              <a:ext cx="0" cy="4959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бельная фабрика по договору передала в аренду строительному кооперативу часть свободных помещений сроком на пять лет. Пример иллюстрирует право собственник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ряж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ед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ческ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1181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 организации хозяйственной деятельности жизни об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Organization Chart 6"/>
          <p:cNvGrpSpPr/>
          <p:nvPr/>
        </p:nvGrpSpPr>
        <p:grpSpPr>
          <a:xfrm>
            <a:off x="431640" y="3505320"/>
            <a:ext cx="8208360" cy="1508040"/>
            <a:chOff x="431640" y="3505320"/>
            <a:chExt cx="8208360" cy="1508040"/>
          </a:xfrm>
        </p:grpSpPr>
        <p:cxnSp>
          <p:nvCxnSpPr>
            <p:cNvPr id="189" name="_s2052"/>
            <p:cNvCxnSpPr>
              <a:stCxn id="190" idx="0"/>
              <a:endCxn id="191" idx="2"/>
            </p:cNvCxnSpPr>
            <p:nvPr/>
          </p:nvCxnSpPr>
          <p:spPr>
            <a:xfrm flipV="1" rot="16200000">
              <a:off x="5855400" y="2687760"/>
              <a:ext cx="229320" cy="287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2" name="_s2053"/>
            <p:cNvCxnSpPr>
              <a:stCxn id="193" idx="0"/>
              <a:endCxn id="191" idx="2"/>
            </p:cNvCxnSpPr>
            <p:nvPr/>
          </p:nvCxnSpPr>
          <p:spPr>
            <a:xfrm flipV="1" rot="16200000">
              <a:off x="4420800" y="4122360"/>
              <a:ext cx="229320" cy="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2054"/>
            <p:cNvCxnSpPr>
              <a:stCxn id="195" idx="0"/>
              <a:endCxn id="191" idx="2"/>
            </p:cNvCxnSpPr>
            <p:nvPr/>
          </p:nvCxnSpPr>
          <p:spPr>
            <a:xfrm flipH="1" flipV="1" rot="5400000">
              <a:off x="2985480" y="2689200"/>
              <a:ext cx="229320" cy="2869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_s2055"/>
            <p:cNvSpPr/>
            <p:nvPr/>
          </p:nvSpPr>
          <p:spPr>
            <a:xfrm>
              <a:off x="2395800" y="3505320"/>
              <a:ext cx="4277520" cy="50472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иды экономических систе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56"/>
            <p:cNvSpPr/>
            <p:nvPr/>
          </p:nvSpPr>
          <p:spPr>
            <a:xfrm>
              <a:off x="431640" y="4238640"/>
              <a:ext cx="2470320" cy="77472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Традицион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57"/>
            <p:cNvSpPr/>
            <p:nvPr/>
          </p:nvSpPr>
          <p:spPr>
            <a:xfrm>
              <a:off x="3300480" y="4238640"/>
              <a:ext cx="2470320" cy="77472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омандн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административ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2058"/>
            <p:cNvSpPr/>
            <p:nvPr/>
          </p:nvSpPr>
          <p:spPr>
            <a:xfrm>
              <a:off x="6169680" y="4238640"/>
              <a:ext cx="2470320" cy="77472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ыноч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адиционна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номическ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я и капитал находятся в общем вла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ится преемственность, приверженность традиц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подствует натуральное хозя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азвитость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технического прогр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бый производственный потенц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ность производимых материальных б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андно-административная экономическ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без экономических кризи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ие ц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безрабо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рантированные зарабо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бая мотивированность к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сихологии иждивен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ицит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ое качество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очительное отношение к ресур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ыночная эконом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яет ресурсы на производство необходимых тов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ощряет рациональную и эффективную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о откликается на потребности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 достижения Н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пособствует сохранению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тимулирует крупные проекты, которые не дают быстрой вы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обеспечивает фундаментальные исследования в нау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носит нестабильный характер со спадами и инфля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а безработица и усиление экономической дифференциации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2987640" y="71280"/>
            <a:ext cx="5761080" cy="358920"/>
          </a:xfrm>
          <a:prstGeom prst="wedgeRectCallout">
            <a:avLst>
              <a:gd name="adj1" fmla="val -24097"/>
              <a:gd name="adj2" fmla="val 14336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нтанная координация, «стихийный поряд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андная экономика, в отличие от рыночной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ждает товарный де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ержена циклическим колеба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ет пропорции между производством и потреб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ет условия для внедрения в производство технических дост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рын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3382920" y="71280"/>
            <a:ext cx="4934160" cy="405000"/>
          </a:xfrm>
          <a:prstGeom prst="wedgeRectCallout">
            <a:avLst>
              <a:gd name="adj1" fmla="val -13129"/>
              <a:gd name="adj2" fmla="val 10529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ера купли-продажи товаров и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600200"/>
          <a:ext cx="8229600" cy="4705200"/>
        </p:xfrm>
        <a:graphic>
          <a:graphicData uri="http://schemas.openxmlformats.org/drawingml/2006/table">
            <a:tbl>
              <a:tblPr/>
              <a:tblGrid>
                <a:gridCol w="2027160"/>
                <a:gridCol w="6202440"/>
              </a:tblGrid>
              <a:tr h="11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к товаров и усл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пля-продажа продуктов конечного пользования: товарные биржи, предприятия оптовой и розничной торговли, ярмарки, аукционы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ки факторов произво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пля-продажа земли, полезных ископаемых, трудовых ресурсов, т.е. всех товаров, идущих на произво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к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пля-продажа услуг всех работающих, вся информация по спросу и предложению рабочей си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к научно-технических разрабо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тенты, лицензии, ноу-хау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и ры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редн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о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у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иру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 flipH="1">
            <a:off x="4210920" y="1916280"/>
            <a:ext cx="4932360" cy="431640"/>
          </a:xfrm>
          <a:custGeom>
            <a:avLst/>
            <a:gdLst>
              <a:gd name="textAreaLeft" fmla="*/ -360 w 4932360"/>
              <a:gd name="textAreaRight" fmla="*/ 4932360 w 4932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02" y="0"/>
                </a:lnTo>
                <a:lnTo>
                  <a:pt x="21600" y="10800"/>
                </a:lnTo>
                <a:lnTo>
                  <a:pt x="200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производителями и потреб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 flipH="1">
            <a:off x="4210920" y="2708280"/>
            <a:ext cx="4932360" cy="576360"/>
          </a:xfrm>
          <a:custGeom>
            <a:avLst/>
            <a:gdLst>
              <a:gd name="textAreaLeft" fmla="*/ -360 w 4932360"/>
              <a:gd name="textAreaRight" fmla="*/ 4932360 w 4932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02" y="0"/>
                </a:lnTo>
                <a:lnTo>
                  <a:pt x="21600" y="10800"/>
                </a:lnTo>
                <a:lnTo>
                  <a:pt x="200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уется в ходе конкуренци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ия равновесной ц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 flipH="1">
            <a:off x="3994920" y="3573360"/>
            <a:ext cx="5148360" cy="576360"/>
          </a:xfrm>
          <a:custGeom>
            <a:avLst/>
            <a:gdLst>
              <a:gd name="textAreaLeft" fmla="*/ -360 w 5148360"/>
              <a:gd name="textAreaRight" fmla="*/ 5148360 w 5148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88" y="0"/>
                </a:lnTo>
                <a:lnTo>
                  <a:pt x="21600" y="10800"/>
                </a:lnTo>
                <a:lnTo>
                  <a:pt x="200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бщает о размерах производств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ении потребительского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 flipH="1">
            <a:off x="3994920" y="4437000"/>
            <a:ext cx="5148360" cy="576360"/>
          </a:xfrm>
          <a:custGeom>
            <a:avLst/>
            <a:gdLst>
              <a:gd name="textAreaLeft" fmla="*/ -360 w 5148360"/>
              <a:gd name="textAreaRight" fmla="*/ 5148360 w 5148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8" y="0"/>
                </a:lnTo>
                <a:lnTo>
                  <a:pt x="21600" y="10800"/>
                </a:lnTo>
                <a:lnTo>
                  <a:pt x="198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текание капитала из ме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годных областей в более выг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 flipH="1">
            <a:off x="3418920" y="5229360"/>
            <a:ext cx="5724360" cy="576000"/>
          </a:xfrm>
          <a:custGeom>
            <a:avLst/>
            <a:gdLst>
              <a:gd name="textAreaLeft" fmla="*/ -360 w 5724360"/>
              <a:gd name="textAreaRight" fmla="*/ 5724360 w 5724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6" y="0"/>
                </a:lnTo>
                <a:lnTo>
                  <a:pt x="21600" y="10800"/>
                </a:lnTo>
                <a:lnTo>
                  <a:pt x="202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бождение экономики от неэффекти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зяй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знаки свободного ры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регулируемое предложение, нерегулируемая цена и спро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ограниченное число участников, доступ на рынок для любого производителя това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куренция производит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бильность материальных, финансовых, трудовых ресурсов, необходимых для производства това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3"/>
          <p:cNvSpPr/>
          <p:nvPr/>
        </p:nvSpPr>
        <p:spPr>
          <a:xfrm>
            <a:off x="1264320" y="1628640"/>
            <a:ext cx="653292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териальное производ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здание продуктов и услу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яющих материальные потребности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4"/>
          <p:cNvSpPr/>
          <p:nvPr/>
        </p:nvSpPr>
        <p:spPr>
          <a:xfrm>
            <a:off x="1258920" y="2565360"/>
            <a:ext cx="65530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уховное производ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здание духовных ценнос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которых человек меняет свое со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6"/>
          <p:cNvSpPr/>
          <p:nvPr/>
        </p:nvSpPr>
        <p:spPr>
          <a:xfrm>
            <a:off x="2987640" y="3789360"/>
            <a:ext cx="2952720" cy="934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ое производ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произве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ько и потреб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1547640" y="4869000"/>
            <a:ext cx="6120000" cy="1008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ширенное производ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ится больше, чем потреб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9"/>
          <p:cNvSpPr/>
          <p:nvPr/>
        </p:nvSpPr>
        <p:spPr>
          <a:xfrm>
            <a:off x="1403280" y="142920"/>
            <a:ext cx="4390920" cy="349200"/>
          </a:xfrm>
          <a:prstGeom prst="wedgeRectCallout">
            <a:avLst>
              <a:gd name="adj1" fmla="val 7916"/>
              <a:gd name="adj2" fmla="val 10363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создания материальных бл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ые элементы рыночного мех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оличество товаров определенного вида, которое покупатель готов купить по определенной це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оличество товаров, которое продавец готов предложить покупателям в конкретном месте и в конкретно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денежное выражение сто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4140360" y="4653000"/>
            <a:ext cx="4248000" cy="360360"/>
          </a:xfrm>
          <a:prstGeom prst="wedgeRectCallout">
            <a:avLst>
              <a:gd name="adj1" fmla="val 2726"/>
              <a:gd name="adj2" fmla="val 8700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оженные в производство затр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а спро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симальная цена, по которой покупатель может купить тов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а предл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нимальная цена, по которой продавец может продать тов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 flipH="1">
            <a:off x="2340000" y="1125360"/>
            <a:ext cx="1727280" cy="57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5076720" y="1125360"/>
            <a:ext cx="1656000" cy="57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684360" y="3860640"/>
            <a:ext cx="7921440" cy="18734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чная це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а, при которой объем спроса равен объему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должна опускаться ниже цены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должна подниматься выше цены спр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ои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ребительская стоим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зность вещи, ее способность удовлетворить ту или иную потреб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новая стоим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енное отношение, в котором обмениваются тов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 flipH="1">
            <a:off x="2410920" y="1197000"/>
            <a:ext cx="1008360" cy="5763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5651640" y="1197000"/>
            <a:ext cx="936360" cy="5763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овая конку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цены за аналогичную продукцию по сравнению с другими конкурен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ценовая конку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ьба за высокое качество, широкая реклама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4030560" y="71280"/>
            <a:ext cx="4718160" cy="478080"/>
          </a:xfrm>
          <a:prstGeom prst="wedgeRectCallout">
            <a:avLst>
              <a:gd name="adj1" fmla="val -37550"/>
              <a:gd name="adj2" fmla="val 8521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ьба производителей за потреб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7"/>
          <p:cNvSpPr/>
          <p:nvPr/>
        </p:nvSpPr>
        <p:spPr>
          <a:xfrm flipH="1">
            <a:off x="2410920" y="1197000"/>
            <a:ext cx="1008360" cy="5763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5651640" y="1197000"/>
            <a:ext cx="936360" cy="5763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нопо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1403280" y="34920"/>
            <a:ext cx="6985080" cy="609480"/>
          </a:xfrm>
          <a:prstGeom prst="wedgeRectCallout">
            <a:avLst>
              <a:gd name="adj1" fmla="val 2226"/>
              <a:gd name="adj2" fmla="val 8437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нок, на котором только один продавец, где покупатель вынужден платить назначенную це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57200" y="1600200"/>
          <a:ext cx="8229600" cy="4532400"/>
        </p:xfrm>
        <a:graphic>
          <a:graphicData uri="http://schemas.openxmlformats.org/drawingml/2006/table">
            <a:tbl>
              <a:tblPr/>
              <a:tblGrid>
                <a:gridCol w="2674800"/>
                <a:gridCol w="5554800"/>
              </a:tblGrid>
              <a:tr h="88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гопо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к, на котором преобладают несколько крупных фир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ятия одной отрасли заключают соглашение о ценах, рынках сбыта и т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дик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ятия одной отрасли сохраняют собственность на средства производства, но теряют коммерческую самосто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р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корпорации, имеющая многоотраслево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ыночная экономика предполагает участие потребителей в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лении рыночной цены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еделении производствен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е методов кредитования предпри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и налоговых льг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р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684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ая (акционерная) организация, предоставляющая помещение, гарантии, расчетные и информационные услуги для совершения сделок с товарами и ценными бума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Organization Chart 6"/>
          <p:cNvGrpSpPr/>
          <p:nvPr/>
        </p:nvGrpSpPr>
        <p:grpSpPr>
          <a:xfrm>
            <a:off x="324000" y="3216600"/>
            <a:ext cx="8360640" cy="1823760"/>
            <a:chOff x="324000" y="3216600"/>
            <a:chExt cx="8360640" cy="1823760"/>
          </a:xfrm>
        </p:grpSpPr>
        <p:cxnSp>
          <p:nvCxnSpPr>
            <p:cNvPr id="254" name="_s3076"/>
            <p:cNvCxnSpPr>
              <a:stCxn id="255" idx="0"/>
              <a:endCxn id="256" idx="2"/>
            </p:cNvCxnSpPr>
            <p:nvPr/>
          </p:nvCxnSpPr>
          <p:spPr>
            <a:xfrm flipV="1" rot="16200000">
              <a:off x="5874120" y="2335320"/>
              <a:ext cx="186480" cy="2926800"/>
            </a:xfrm>
            <a:prstGeom prst="bentConnector3">
              <a:avLst>
                <a:gd name="adj1" fmla="val 49516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257" name="_s3077"/>
            <p:cNvCxnSpPr>
              <a:stCxn id="258" idx="0"/>
              <a:endCxn id="256" idx="2"/>
            </p:cNvCxnSpPr>
            <p:nvPr/>
          </p:nvCxnSpPr>
          <p:spPr>
            <a:xfrm flipV="1">
              <a:off x="4503960" y="3705840"/>
              <a:ext cx="3960" cy="186480"/>
            </a:xfrm>
            <a:prstGeom prst="bentConnector2">
              <a:avLst/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259" name="_s3078"/>
            <p:cNvCxnSpPr>
              <a:stCxn id="260" idx="0"/>
              <a:endCxn id="256" idx="2"/>
            </p:cNvCxnSpPr>
            <p:nvPr/>
          </p:nvCxnSpPr>
          <p:spPr>
            <a:xfrm flipH="1" flipV="1" rot="5400000">
              <a:off x="2947680" y="2335680"/>
              <a:ext cx="186480" cy="2926800"/>
            </a:xfrm>
            <a:prstGeom prst="bentConnector3">
              <a:avLst>
                <a:gd name="adj1" fmla="val 49516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256" name="_s3079"/>
            <p:cNvSpPr/>
            <p:nvPr/>
          </p:nvSpPr>
          <p:spPr>
            <a:xfrm>
              <a:off x="3247560" y="3216600"/>
              <a:ext cx="2513160" cy="489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3300"/>
              </a:solidFill>
              <a:miter/>
            </a:ln>
            <a:effectLst>
              <a:outerShdw dist="63504" dir="19383909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Бирж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3080"/>
            <p:cNvSpPr/>
            <p:nvPr/>
          </p:nvSpPr>
          <p:spPr>
            <a:xfrm>
              <a:off x="324000" y="3892320"/>
              <a:ext cx="2508120" cy="1148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Фондовые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упля-продаж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ценных бумаг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3081"/>
            <p:cNvSpPr/>
            <p:nvPr/>
          </p:nvSpPr>
          <p:spPr>
            <a:xfrm>
              <a:off x="3250800" y="3892320"/>
              <a:ext cx="2507400" cy="1148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Труд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наем работник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3082"/>
            <p:cNvSpPr/>
            <p:nvPr/>
          </p:nvSpPr>
          <p:spPr>
            <a:xfrm>
              <a:off x="6177240" y="3892320"/>
              <a:ext cx="2507400" cy="1148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Товарные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птовая торговл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14"/>
          <p:cNvSpPr/>
          <p:nvPr/>
        </p:nvSpPr>
        <p:spPr>
          <a:xfrm>
            <a:off x="324000" y="5300640"/>
            <a:ext cx="3887640" cy="1150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л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дает местом на бир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ет сделки от сво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ни и за свой 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4427640" y="5300640"/>
            <a:ext cx="4392360" cy="1150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ок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редник, обладает местом на бир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ет сделки от сво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ни и за счет кли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изводители б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зическое ли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, участвующий в экономической деятельности в качестве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ует от своего имени, не нуждается в создании и регистрации своей фи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заниматься предпринимательской деятельность (И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Юридическое ли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, учреждение, фирма, выступающая в качестве самостоятельного носителя прав и обяза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ки: независимость  входящих в него лиц; право приобретать, пользоваться и распоряжаться собственностью; право осуществлять экономические операции от своего имени; имущественная ответственность; право выступать от своего имени на су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6"/>
          <p:cNvSpPr/>
          <p:nvPr/>
        </p:nvSpPr>
        <p:spPr>
          <a:xfrm flipH="1">
            <a:off x="2626920" y="1197000"/>
            <a:ext cx="792360" cy="431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7"/>
          <p:cNvSpPr/>
          <p:nvPr/>
        </p:nvSpPr>
        <p:spPr>
          <a:xfrm>
            <a:off x="5364000" y="1197000"/>
            <a:ext cx="792360" cy="431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он убывающей доход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1468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ство каждой дополнительной единицы продукции дается все с большими затратами физического труда, денег, нер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Organization Chart 6"/>
          <p:cNvGrpSpPr/>
          <p:nvPr/>
        </p:nvGrpSpPr>
        <p:grpSpPr>
          <a:xfrm>
            <a:off x="246600" y="3362040"/>
            <a:ext cx="8640000" cy="1625400"/>
            <a:chOff x="246600" y="3362040"/>
            <a:chExt cx="8640000" cy="1625400"/>
          </a:xfrm>
        </p:grpSpPr>
        <p:cxnSp>
          <p:nvCxnSpPr>
            <p:cNvPr id="271" name="_s4100"/>
            <p:cNvCxnSpPr>
              <a:stCxn id="272" idx="0"/>
              <a:endCxn id="273" idx="2"/>
            </p:cNvCxnSpPr>
            <p:nvPr/>
          </p:nvCxnSpPr>
          <p:spPr>
            <a:xfrm flipV="1" rot="16200000">
              <a:off x="5340960" y="3043800"/>
              <a:ext cx="228960" cy="1778760"/>
            </a:xfrm>
            <a:prstGeom prst="bentConnector3">
              <a:avLst>
                <a:gd name="adj1" fmla="val 49921"/>
              </a:avLst>
            </a:prstGeom>
            <a:ln w="38160">
              <a:solidFill>
                <a:srgbClr val="fbdf53"/>
              </a:solidFill>
              <a:miter/>
            </a:ln>
          </p:spPr>
        </p:cxnSp>
        <p:cxnSp>
          <p:nvCxnSpPr>
            <p:cNvPr id="274" name="_s4101"/>
            <p:cNvCxnSpPr>
              <a:stCxn id="275" idx="0"/>
              <a:endCxn id="273" idx="2"/>
            </p:cNvCxnSpPr>
            <p:nvPr/>
          </p:nvCxnSpPr>
          <p:spPr>
            <a:xfrm flipV="1" rot="16200000">
              <a:off x="6230160" y="2154600"/>
              <a:ext cx="228960" cy="3556800"/>
            </a:xfrm>
            <a:prstGeom prst="bentConnector3">
              <a:avLst>
                <a:gd name="adj1" fmla="val 49921"/>
              </a:avLst>
            </a:prstGeom>
            <a:ln w="38160">
              <a:solidFill>
                <a:srgbClr val="fbdf53"/>
              </a:solidFill>
              <a:miter/>
            </a:ln>
          </p:spPr>
        </p:cxnSp>
        <p:cxnSp>
          <p:nvCxnSpPr>
            <p:cNvPr id="276" name="_s4102"/>
            <p:cNvCxnSpPr>
              <a:stCxn id="277" idx="0"/>
              <a:endCxn id="273" idx="2"/>
            </p:cNvCxnSpPr>
            <p:nvPr/>
          </p:nvCxnSpPr>
          <p:spPr>
            <a:xfrm flipV="1" rot="16200000">
              <a:off x="4444200" y="3940200"/>
              <a:ext cx="257400" cy="14040"/>
            </a:xfrm>
            <a:prstGeom prst="bentConnector3">
              <a:avLst>
                <a:gd name="adj1" fmla="val 44397"/>
              </a:avLst>
            </a:prstGeom>
            <a:ln w="38160">
              <a:solidFill>
                <a:srgbClr val="fbdf53"/>
              </a:solidFill>
              <a:miter/>
            </a:ln>
          </p:spPr>
        </p:cxnSp>
        <p:cxnSp>
          <p:nvCxnSpPr>
            <p:cNvPr id="278" name="_s4103"/>
            <p:cNvCxnSpPr>
              <a:stCxn id="279" idx="0"/>
              <a:endCxn id="273" idx="2"/>
            </p:cNvCxnSpPr>
            <p:nvPr/>
          </p:nvCxnSpPr>
          <p:spPr>
            <a:xfrm flipH="1" flipV="1" rot="5400000">
              <a:off x="3563280" y="3044160"/>
              <a:ext cx="228960" cy="1778400"/>
            </a:xfrm>
            <a:prstGeom prst="bentConnector3">
              <a:avLst>
                <a:gd name="adj1" fmla="val 49921"/>
              </a:avLst>
            </a:prstGeom>
            <a:ln w="38160">
              <a:solidFill>
                <a:srgbClr val="fbdf53"/>
              </a:solidFill>
              <a:miter/>
            </a:ln>
          </p:spPr>
        </p:cxnSp>
        <p:cxnSp>
          <p:nvCxnSpPr>
            <p:cNvPr id="280" name="_s4104"/>
            <p:cNvCxnSpPr>
              <a:stCxn id="281" idx="0"/>
              <a:endCxn id="273" idx="2"/>
            </p:cNvCxnSpPr>
            <p:nvPr/>
          </p:nvCxnSpPr>
          <p:spPr>
            <a:xfrm flipH="1" flipV="1" rot="5400000">
              <a:off x="2674080" y="2154960"/>
              <a:ext cx="228960" cy="3556800"/>
            </a:xfrm>
            <a:prstGeom prst="bentConnector3">
              <a:avLst>
                <a:gd name="adj1" fmla="val 49921"/>
              </a:avLst>
            </a:prstGeom>
            <a:ln w="38160">
              <a:solidFill>
                <a:srgbClr val="fbdf53"/>
              </a:solidFill>
              <a:miter/>
            </a:ln>
          </p:spPr>
        </p:cxnSp>
        <p:sp>
          <p:nvSpPr>
            <p:cNvPr id="273" name="_s4105"/>
            <p:cNvSpPr/>
            <p:nvPr/>
          </p:nvSpPr>
          <p:spPr>
            <a:xfrm>
              <a:off x="3168720" y="3362040"/>
              <a:ext cx="2795400" cy="4568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Возрастание доходнос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4106"/>
            <p:cNvSpPr/>
            <p:nvPr/>
          </p:nvSpPr>
          <p:spPr>
            <a:xfrm>
              <a:off x="246600" y="4047840"/>
              <a:ext cx="1527480" cy="910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Использова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новых источнико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энерг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4107"/>
            <p:cNvSpPr/>
            <p:nvPr/>
          </p:nvSpPr>
          <p:spPr>
            <a:xfrm>
              <a:off x="2025000" y="4047840"/>
              <a:ext cx="1527480" cy="910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имен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автоматических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механизмо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4108"/>
            <p:cNvSpPr/>
            <p:nvPr/>
          </p:nvSpPr>
          <p:spPr>
            <a:xfrm>
              <a:off x="3814200" y="4076280"/>
              <a:ext cx="1529280" cy="91116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тандарт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взаимозаменяем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час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4109"/>
            <p:cNvSpPr/>
            <p:nvPr/>
          </p:nvSpPr>
          <p:spPr>
            <a:xfrm>
              <a:off x="7359120" y="4047840"/>
              <a:ext cx="1527480" cy="9108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пециализация и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разделение труд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4110"/>
            <p:cNvSpPr/>
            <p:nvPr/>
          </p:nvSpPr>
          <p:spPr>
            <a:xfrm>
              <a:off x="5581080" y="4047840"/>
              <a:ext cx="1527480" cy="91080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Расчленение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оизводств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на прост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овторяющиес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операц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20"/>
          <p:cNvSpPr/>
          <p:nvPr/>
        </p:nvSpPr>
        <p:spPr>
          <a:xfrm>
            <a:off x="3348000" y="5373720"/>
            <a:ext cx="2376360" cy="9144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вей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принима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539640" y="1268280"/>
            <a:ext cx="8229600" cy="1468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 хозяйственной деятельности, цель которого – получение прибыли путем удовлетворения потребностей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ующая (соединение экономических ресурс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ая (организация производства ради прибы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кая (создание новых видов производства, новых продук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производства = Производительные силы + Производственные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3924360" y="71280"/>
            <a:ext cx="4535280" cy="609840"/>
          </a:xfrm>
          <a:prstGeom prst="wedgeRectCallout">
            <a:avLst>
              <a:gd name="adj1" fmla="val -85703"/>
              <a:gd name="adj2" fmla="val 5573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, как люди производят средства к жизни в тот или иной период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2124000" y="2492280"/>
            <a:ext cx="2879640" cy="1297080"/>
          </a:xfrm>
          <a:prstGeom prst="wedgeRectCallout">
            <a:avLst>
              <a:gd name="adj1" fmla="val 35060"/>
              <a:gd name="adj2" fmla="val -9761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и и средства производства: орудия труда, предметы и средства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5364000" y="2492280"/>
            <a:ext cx="2880000" cy="1297080"/>
          </a:xfrm>
          <a:prstGeom prst="wedgeRectCallout">
            <a:avLst>
              <a:gd name="adj1" fmla="val 24476"/>
              <a:gd name="adj2" fmla="val -9443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я людей в процессе производства, обмена, распределения и 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324000" y="4076640"/>
            <a:ext cx="2571480" cy="934920"/>
          </a:xfrm>
          <a:prstGeom prst="cloudCallout">
            <a:avLst>
              <a:gd name="adj1" fmla="val 71050"/>
              <a:gd name="adj2" fmla="val -72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яются быс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5940360" y="4149720"/>
            <a:ext cx="2571840" cy="934920"/>
          </a:xfrm>
          <a:prstGeom prst="cloudCallout">
            <a:avLst>
              <a:gd name="adj1" fmla="val -18518"/>
              <a:gd name="adj2" fmla="val -837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яются медл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1619280" y="5084640"/>
            <a:ext cx="4967280" cy="1440000"/>
          </a:xfrm>
          <a:prstGeom prst="irregularSeal2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альная револю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/>
          <p:cNvSpPr/>
          <p:nvPr/>
        </p:nvSpPr>
        <p:spPr>
          <a:xfrm>
            <a:off x="6696000" y="5373720"/>
            <a:ext cx="2411640" cy="934920"/>
          </a:xfrm>
          <a:prstGeom prst="wedgeRectCallout">
            <a:avLst>
              <a:gd name="adj1" fmla="val -91476"/>
              <a:gd name="adj2" fmla="val 925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е производственные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4"/>
          <p:cNvSpPr/>
          <p:nvPr/>
        </p:nvSpPr>
        <p:spPr>
          <a:xfrm>
            <a:off x="2987640" y="4221000"/>
            <a:ext cx="2879640" cy="628920"/>
          </a:xfrm>
          <a:prstGeom prst="leftRightArrow">
            <a:avLst>
              <a:gd name="adj1" fmla="val 50000"/>
              <a:gd name="adj2" fmla="val 9115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тиворе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3708360" y="4724280"/>
            <a:ext cx="647640" cy="5778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50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алых предприят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быстро реагируют на изменения рынк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привлекательны для талантливых и энергичных людей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не требуют больших затра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изводительность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468360" y="1413000"/>
            <a:ext cx="8229600" cy="647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продукции за единицу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324000" y="2637000"/>
            <a:ext cx="2736720" cy="2016000"/>
          </a:xfrm>
          <a:prstGeom prst="upArrowCallout">
            <a:avLst>
              <a:gd name="adj1" fmla="val 33941"/>
              <a:gd name="adj2" fmla="val 33938"/>
              <a:gd name="adj3" fmla="val 16667"/>
              <a:gd name="adj4" fmla="val 6666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3203640" y="2637000"/>
            <a:ext cx="2736720" cy="2016000"/>
          </a:xfrm>
          <a:prstGeom prst="upArrowCallout">
            <a:avLst>
              <a:gd name="adj1" fmla="val 33941"/>
              <a:gd name="adj2" fmla="val 33938"/>
              <a:gd name="adj3" fmla="val 16667"/>
              <a:gd name="adj4" fmla="val 6666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9"/>
          <p:cNvSpPr/>
          <p:nvPr/>
        </p:nvSpPr>
        <p:spPr>
          <a:xfrm>
            <a:off x="6084720" y="2637000"/>
            <a:ext cx="2737080" cy="2016000"/>
          </a:xfrm>
          <a:prstGeom prst="upArrowCallout">
            <a:avLst>
              <a:gd name="adj1" fmla="val 33945"/>
              <a:gd name="adj2" fmla="val 33942"/>
              <a:gd name="adj3" fmla="val 16667"/>
              <a:gd name="adj4" fmla="val 6666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рны ли следующие суждения о производителе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Производитель в рыночной экономике заинтересован в снижении ставки процента за креди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. Производитель в рыночной экономике вынужден постоянно увеличивать 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о только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о только 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ы оба 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а суждения невер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треб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ки потребительского повед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дные семьи большую часть средств тратят на самое необходи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ходы на одежду, дорогостоящие предметы, развлечения растут в большей пропорции, чем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енность источников делает потребление более увере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1116000" y="1413000"/>
            <a:ext cx="6769080" cy="1008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т, кто приобретает и использует товары и у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287280" y="71280"/>
            <a:ext cx="8748720" cy="405000"/>
          </a:xfrm>
          <a:prstGeom prst="wedgeRectCallout">
            <a:avLst>
              <a:gd name="adj1" fmla="val 3509"/>
              <a:gd name="adj2" fmla="val 10372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сточник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арплата, трансферты, доход от предпринимательской деятельности, от собств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900000" y="5516640"/>
            <a:ext cx="7488360" cy="7207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н Энге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чем больше доход, тем меньше расход на питани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 больше на товары длительного пользования, рост сбере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бере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Organization Chart 6"/>
          <p:cNvGrpSpPr/>
          <p:nvPr/>
        </p:nvGrpSpPr>
        <p:grpSpPr>
          <a:xfrm>
            <a:off x="1979280" y="1843920"/>
            <a:ext cx="5328360" cy="4205520"/>
            <a:chOff x="1979280" y="1843920"/>
            <a:chExt cx="5328360" cy="4205520"/>
          </a:xfrm>
        </p:grpSpPr>
        <p:cxnSp>
          <p:nvCxnSpPr>
            <p:cNvPr id="305" name="_s5124"/>
            <p:cNvCxnSpPr>
              <a:stCxn id="306" idx="0"/>
              <a:endCxn id="307" idx="3"/>
            </p:cNvCxnSpPr>
            <p:nvPr/>
          </p:nvCxnSpPr>
          <p:spPr>
            <a:xfrm rot="10800000">
              <a:off x="3381120" y="2704320"/>
              <a:ext cx="778680" cy="2185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8" name="_s5125"/>
            <p:cNvCxnSpPr>
              <a:stCxn id="309" idx="0"/>
              <a:endCxn id="307" idx="2"/>
            </p:cNvCxnSpPr>
            <p:nvPr/>
          </p:nvCxnSpPr>
          <p:spPr>
            <a:xfrm rot="10800000">
              <a:off x="3381120" y="2704320"/>
              <a:ext cx="778680" cy="3021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0" name="_s5126"/>
            <p:cNvCxnSpPr>
              <a:stCxn id="311" idx="0"/>
              <a:endCxn id="307" idx="1"/>
            </p:cNvCxnSpPr>
            <p:nvPr/>
          </p:nvCxnSpPr>
          <p:spPr>
            <a:xfrm rot="10800000">
              <a:off x="3381120" y="2704320"/>
              <a:ext cx="778680" cy="1349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2" name="_s5127"/>
            <p:cNvCxnSpPr>
              <a:stCxn id="313" idx="0"/>
              <a:endCxn id="307" idx="0"/>
            </p:cNvCxnSpPr>
            <p:nvPr/>
          </p:nvCxnSpPr>
          <p:spPr>
            <a:xfrm rot="10800000">
              <a:off x="3381120" y="2704320"/>
              <a:ext cx="778680" cy="51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7" name="_s5128"/>
            <p:cNvSpPr/>
            <p:nvPr/>
          </p:nvSpPr>
          <p:spPr>
            <a:xfrm>
              <a:off x="1979280" y="1843920"/>
              <a:ext cx="2802240" cy="860760"/>
            </a:xfrm>
            <a:prstGeom prst="bevel">
              <a:avLst>
                <a:gd name="adj" fmla="val 12500"/>
              </a:avLst>
            </a:prstGeom>
            <a:solidFill>
              <a:srgbClr val="fbdf53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иды сбереж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_s5129"/>
            <p:cNvSpPr/>
            <p:nvPr/>
          </p:nvSpPr>
          <p:spPr>
            <a:xfrm>
              <a:off x="4159800" y="2893680"/>
              <a:ext cx="3147840" cy="647280"/>
            </a:xfrm>
            <a:prstGeom prst="bevel">
              <a:avLst>
                <a:gd name="adj" fmla="val 12500"/>
              </a:avLst>
            </a:prstGeom>
            <a:solidFill>
              <a:srgbClr val="ff9966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чета в банк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5130"/>
            <p:cNvSpPr/>
            <p:nvPr/>
          </p:nvSpPr>
          <p:spPr>
            <a:xfrm>
              <a:off x="4159800" y="3729960"/>
              <a:ext cx="3147840" cy="648360"/>
            </a:xfrm>
            <a:prstGeom prst="bevel">
              <a:avLst>
                <a:gd name="adj" fmla="val 12500"/>
              </a:avLst>
            </a:prstGeom>
            <a:solidFill>
              <a:srgbClr val="ff9966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ценные бумаги (акции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5131"/>
            <p:cNvSpPr/>
            <p:nvPr/>
          </p:nvSpPr>
          <p:spPr>
            <a:xfrm>
              <a:off x="4159800" y="5402160"/>
              <a:ext cx="3075480" cy="647280"/>
            </a:xfrm>
            <a:prstGeom prst="bevel">
              <a:avLst>
                <a:gd name="adj" fmla="val 12500"/>
              </a:avLst>
            </a:prstGeom>
            <a:solidFill>
              <a:srgbClr val="ff9966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рах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_s5132"/>
            <p:cNvSpPr/>
            <p:nvPr/>
          </p:nvSpPr>
          <p:spPr>
            <a:xfrm>
              <a:off x="4159800" y="4564800"/>
              <a:ext cx="3147840" cy="648360"/>
            </a:xfrm>
            <a:prstGeom prst="bevel">
              <a:avLst>
                <a:gd name="adj" fmla="val 12500"/>
              </a:avLst>
            </a:prstGeom>
            <a:solidFill>
              <a:srgbClr val="ff9966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едвижим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житочный миним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24000" y="1413000"/>
            <a:ext cx="8496000" cy="1368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нимальная сумма денежных средств, достаточная для удовлетворения необходимых потреб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250920" y="3357720"/>
            <a:ext cx="8569080" cy="934920"/>
          </a:xfrm>
          <a:prstGeom prst="wedgeRectCallout">
            <a:avLst>
              <a:gd name="adj1" fmla="val -20787"/>
              <a:gd name="adj2" fmla="val -10687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имость минимального необходимого количества продуктов в меся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граница бед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4284720" y="4581360"/>
            <a:ext cx="485640" cy="576360"/>
          </a:xfrm>
          <a:prstGeom prst="downArrow">
            <a:avLst>
              <a:gd name="adj1" fmla="val 50000"/>
              <a:gd name="adj2" fmla="val 2967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7"/>
          <p:cNvSpPr/>
          <p:nvPr/>
        </p:nvSpPr>
        <p:spPr>
          <a:xfrm>
            <a:off x="3419640" y="5300640"/>
            <a:ext cx="2160360" cy="1244520"/>
          </a:xfrm>
          <a:prstGeom prst="verticalScroll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н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пе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вень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324000" y="1413000"/>
            <a:ext cx="8496000" cy="1368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ень благосостояния населения, степень удовлетворения основных жизненных потреб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21"/>
          <p:cNvGrpSpPr/>
          <p:nvPr/>
        </p:nvGrpSpPr>
        <p:grpSpPr>
          <a:xfrm>
            <a:off x="457200" y="2997360"/>
            <a:ext cx="8229600" cy="3447720"/>
            <a:chOff x="457200" y="2997360"/>
            <a:chExt cx="8229600" cy="3447720"/>
          </a:xfrm>
        </p:grpSpPr>
        <p:sp>
          <p:nvSpPr>
            <p:cNvPr id="322" name="Rectangle 10"/>
            <p:cNvSpPr/>
            <p:nvPr/>
          </p:nvSpPr>
          <p:spPr>
            <a:xfrm>
              <a:off x="457200" y="5500800"/>
              <a:ext cx="822960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развитие образования, здравоохранения, социального обеспеч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457200" y="4875120"/>
              <a:ext cx="82296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беспеченность жиль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457200" y="4248000"/>
              <a:ext cx="82296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реальные доходы насе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7"/>
            <p:cNvSpPr/>
            <p:nvPr/>
          </p:nvSpPr>
          <p:spPr>
            <a:xfrm>
              <a:off x="457200" y="3622680"/>
              <a:ext cx="8229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отребление на душу насе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6"/>
            <p:cNvSpPr/>
            <p:nvPr/>
          </p:nvSpPr>
          <p:spPr>
            <a:xfrm>
              <a:off x="457200" y="2997360"/>
              <a:ext cx="8229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оказатели уровня жизн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1"/>
            <p:cNvSpPr/>
            <p:nvPr/>
          </p:nvSpPr>
          <p:spPr>
            <a:xfrm>
              <a:off x="457200" y="299736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2"/>
            <p:cNvSpPr/>
            <p:nvPr/>
          </p:nvSpPr>
          <p:spPr>
            <a:xfrm>
              <a:off x="457200" y="36226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3"/>
            <p:cNvSpPr/>
            <p:nvPr/>
          </p:nvSpPr>
          <p:spPr>
            <a:xfrm>
              <a:off x="457200" y="42480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4"/>
            <p:cNvSpPr/>
            <p:nvPr/>
          </p:nvSpPr>
          <p:spPr>
            <a:xfrm>
              <a:off x="457200" y="48751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5"/>
            <p:cNvSpPr/>
            <p:nvPr/>
          </p:nvSpPr>
          <p:spPr>
            <a:xfrm>
              <a:off x="457200" y="5500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6"/>
            <p:cNvSpPr/>
            <p:nvPr/>
          </p:nvSpPr>
          <p:spPr>
            <a:xfrm>
              <a:off x="457200" y="644508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7"/>
            <p:cNvSpPr/>
            <p:nvPr/>
          </p:nvSpPr>
          <p:spPr>
            <a:xfrm>
              <a:off x="457200" y="2997360"/>
              <a:ext cx="0" cy="3447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8"/>
            <p:cNvSpPr/>
            <p:nvPr/>
          </p:nvSpPr>
          <p:spPr>
            <a:xfrm>
              <a:off x="8686800" y="2997360"/>
              <a:ext cx="0" cy="3447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требительская корз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2189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сумма затрат на обеспечение среднестатистического потребления человека (семьи) в определенный период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ексация дох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1296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номинальных доходов в зависимости от роста ц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рны ли следующие суждения о доходах потребителя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Один из способов сохранения доходов потребителя – приобретение ценных бума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. Собственность – один из источников доходов потреб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о только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о только 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ы оба 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а суждения невер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туральное и товарное произ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4338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0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уральное производ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ное производ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удовлетворения собственных потребносте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ано на рынок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черты: замкнутость, консерватизм, ручной труд, медленные темпы развит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черты: динамичность, использование техники, механизированный характе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мерители экономическ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468360" y="1773360"/>
            <a:ext cx="3743280" cy="136836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ь объем конеч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ства товаров и усл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кономике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4572000" y="1773360"/>
            <a:ext cx="4032360" cy="1368360"/>
          </a:xfrm>
          <a:prstGeom prst="flowChartAlternate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В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ь объем конеч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ства товаров и усл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8"/>
          <p:cNvSpPr/>
          <p:nvPr/>
        </p:nvSpPr>
        <p:spPr>
          <a:xfrm>
            <a:off x="611280" y="3860640"/>
            <a:ext cx="3095640" cy="1872000"/>
          </a:xfrm>
          <a:prstGeom prst="flowChartPunchedCard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циональны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П за выч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ортизацио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ис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0"/>
          <p:cNvSpPr/>
          <p:nvPr/>
        </p:nvSpPr>
        <p:spPr>
          <a:xfrm>
            <a:off x="4067280" y="3573360"/>
            <a:ext cx="4465440" cy="2592360"/>
          </a:xfrm>
          <a:custGeom>
            <a:avLst/>
            <a:gdLst>
              <a:gd name="textAreaLeft" fmla="*/ 938880 w 4465440"/>
              <a:gd name="textAreaRight" fmla="*/ 3526560 w 4465440"/>
              <a:gd name="textAreaTop" fmla="*/ 545040 h 2592360"/>
              <a:gd name="textAreaBottom" fmla="*/ 204732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84" y="11571"/>
                </a:lnTo>
                <a:lnTo>
                  <a:pt x="198" y="12861"/>
                </a:lnTo>
                <a:lnTo>
                  <a:pt x="2293" y="13239"/>
                </a:lnTo>
                <a:lnTo>
                  <a:pt x="786" y="14846"/>
                </a:lnTo>
                <a:lnTo>
                  <a:pt x="2986" y="14955"/>
                </a:lnTo>
                <a:lnTo>
                  <a:pt x="1742" y="16682"/>
                </a:lnTo>
                <a:lnTo>
                  <a:pt x="3922" y="16369"/>
                </a:lnTo>
                <a:lnTo>
                  <a:pt x="3163" y="18437"/>
                </a:lnTo>
                <a:lnTo>
                  <a:pt x="5111" y="17579"/>
                </a:lnTo>
                <a:lnTo>
                  <a:pt x="4761" y="19754"/>
                </a:lnTo>
                <a:lnTo>
                  <a:pt x="6509" y="18540"/>
                </a:lnTo>
                <a:lnTo>
                  <a:pt x="6580" y="20741"/>
                </a:lnTo>
                <a:lnTo>
                  <a:pt x="8213" y="19263"/>
                </a:lnTo>
                <a:lnTo>
                  <a:pt x="8555" y="21364"/>
                </a:lnTo>
                <a:lnTo>
                  <a:pt x="9875" y="19602"/>
                </a:lnTo>
                <a:lnTo>
                  <a:pt x="10800" y="21600"/>
                </a:lnTo>
                <a:lnTo>
                  <a:pt x="11571" y="19616"/>
                </a:lnTo>
                <a:lnTo>
                  <a:pt x="12861" y="21402"/>
                </a:lnTo>
                <a:lnTo>
                  <a:pt x="13239" y="19307"/>
                </a:lnTo>
                <a:lnTo>
                  <a:pt x="14846" y="20814"/>
                </a:lnTo>
                <a:lnTo>
                  <a:pt x="14955" y="18614"/>
                </a:lnTo>
                <a:lnTo>
                  <a:pt x="16682" y="19858"/>
                </a:lnTo>
                <a:lnTo>
                  <a:pt x="16369" y="17678"/>
                </a:lnTo>
                <a:lnTo>
                  <a:pt x="18437" y="18437"/>
                </a:lnTo>
                <a:lnTo>
                  <a:pt x="17579" y="16489"/>
                </a:lnTo>
                <a:lnTo>
                  <a:pt x="19754" y="16839"/>
                </a:lnTo>
                <a:lnTo>
                  <a:pt x="18540" y="15091"/>
                </a:lnTo>
                <a:lnTo>
                  <a:pt x="20741" y="15020"/>
                </a:lnTo>
                <a:lnTo>
                  <a:pt x="19263" y="13387"/>
                </a:lnTo>
                <a:lnTo>
                  <a:pt x="21364" y="13045"/>
                </a:lnTo>
                <a:lnTo>
                  <a:pt x="19602" y="11725"/>
                </a:lnTo>
                <a:lnTo>
                  <a:pt x="21600" y="10800"/>
                </a:lnTo>
                <a:lnTo>
                  <a:pt x="19616" y="10029"/>
                </a:lnTo>
                <a:lnTo>
                  <a:pt x="21402" y="8739"/>
                </a:lnTo>
                <a:lnTo>
                  <a:pt x="19307" y="8361"/>
                </a:lnTo>
                <a:lnTo>
                  <a:pt x="20814" y="6754"/>
                </a:lnTo>
                <a:lnTo>
                  <a:pt x="18614" y="6645"/>
                </a:lnTo>
                <a:lnTo>
                  <a:pt x="19858" y="4918"/>
                </a:lnTo>
                <a:lnTo>
                  <a:pt x="17678" y="5231"/>
                </a:lnTo>
                <a:lnTo>
                  <a:pt x="18437" y="3163"/>
                </a:lnTo>
                <a:lnTo>
                  <a:pt x="16489" y="4021"/>
                </a:lnTo>
                <a:lnTo>
                  <a:pt x="16839" y="1846"/>
                </a:lnTo>
                <a:lnTo>
                  <a:pt x="15091" y="3060"/>
                </a:lnTo>
                <a:lnTo>
                  <a:pt x="15020" y="859"/>
                </a:lnTo>
                <a:lnTo>
                  <a:pt x="13387" y="2337"/>
                </a:lnTo>
                <a:lnTo>
                  <a:pt x="13045" y="236"/>
                </a:lnTo>
                <a:lnTo>
                  <a:pt x="11725" y="1998"/>
                </a:lnTo>
                <a:lnTo>
                  <a:pt x="10800" y="0"/>
                </a:lnTo>
                <a:lnTo>
                  <a:pt x="10029" y="1984"/>
                </a:lnTo>
                <a:lnTo>
                  <a:pt x="8739" y="198"/>
                </a:lnTo>
                <a:lnTo>
                  <a:pt x="8361" y="2293"/>
                </a:lnTo>
                <a:lnTo>
                  <a:pt x="6754" y="786"/>
                </a:lnTo>
                <a:lnTo>
                  <a:pt x="6645" y="2986"/>
                </a:lnTo>
                <a:lnTo>
                  <a:pt x="4918" y="1742"/>
                </a:lnTo>
                <a:lnTo>
                  <a:pt x="5231" y="3922"/>
                </a:lnTo>
                <a:lnTo>
                  <a:pt x="3163" y="3163"/>
                </a:lnTo>
                <a:lnTo>
                  <a:pt x="4021" y="5111"/>
                </a:lnTo>
                <a:lnTo>
                  <a:pt x="1846" y="4761"/>
                </a:lnTo>
                <a:lnTo>
                  <a:pt x="3060" y="6509"/>
                </a:lnTo>
                <a:lnTo>
                  <a:pt x="859" y="6580"/>
                </a:lnTo>
                <a:lnTo>
                  <a:pt x="2337" y="8213"/>
                </a:lnTo>
                <a:lnTo>
                  <a:pt x="236" y="8555"/>
                </a:lnTo>
                <a:lnTo>
                  <a:pt x="1998" y="9875"/>
                </a:lnTo>
                <a:lnTo>
                  <a:pt x="0" y="108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циональный до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НП за выч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венных нал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ческие цик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"/>
          <p:cNvSpPr/>
          <p:nvPr/>
        </p:nvSpPr>
        <p:spPr>
          <a:xfrm>
            <a:off x="4356000" y="222120"/>
            <a:ext cx="4537080" cy="349560"/>
          </a:xfrm>
          <a:prstGeom prst="wedgeRectCallout">
            <a:avLst>
              <a:gd name="adj1" fmla="val -28587"/>
              <a:gd name="adj2" fmla="val 8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иод от одного кризиса до друг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900000" y="0"/>
            <a:ext cx="2376720" cy="620640"/>
          </a:xfrm>
          <a:prstGeom prst="cloudCallout">
            <a:avLst>
              <a:gd name="adj1" fmla="val 51000"/>
              <a:gd name="adj2" fmla="val 6534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57, 1900-1901, 1929-1933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457200" y="1600200"/>
          <a:ext cx="8229600" cy="4643280"/>
        </p:xfrm>
        <a:graphic>
          <a:graphicData uri="http://schemas.openxmlformats.org/drawingml/2006/table">
            <a:tbl>
              <a:tblPr/>
              <a:tblGrid>
                <a:gridCol w="3394080"/>
                <a:gridCol w="4835520"/>
              </a:tblGrid>
              <a:tr h="125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за кризи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 сбыта товаров, уменьшение прибыли, банкротство предприятий и банков, безработица, инфляц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за депресс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ий, но стабильный уровень производства, высокий уровень безработиц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за ожи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ой рост производства, снижение уровня безработицы, постепенный рост спрос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за подъ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производства превосходит прежний цикл, быстро растут цены, сокращается безработиц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ческий р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люс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ост национального богатст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лучшение условий труд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дъем жизненного уровня насел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ост престижа стран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озможные минус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ост затрат и интенсификация труд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блема сбыта товар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счерпывание ресурс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худшение экологической ситуа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3419640" y="34920"/>
            <a:ext cx="5040000" cy="609480"/>
          </a:xfrm>
          <a:prstGeom prst="wedgeRectCallout">
            <a:avLst>
              <a:gd name="adj1" fmla="val -38944"/>
              <a:gd name="adj2" fmla="val 6406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енное увеличение и качественное совершенствование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ми измерителями экономики страны являютс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быль, рента, валовой внутренний проду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нт, национальный доход, валовые капиталов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быль, валовой национальный продукт, валовой об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овой внутренний продукт, национальный доход, валовой национальный проду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нятость и безработ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нят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трудовая деятельность трудоспособных граж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езработиц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ложение в экономике, при котором часть способных трудиться не могут найти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395280" y="1341360"/>
            <a:ext cx="8229600" cy="1440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ынок тру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бщественные механизмы, которые дают возможность одним людям найти работу, а другим нанять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322800"/>
                <a:gridCol w="49068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труктур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ана с упадком старых отраслей и появления новых, отмиранием одних профессий и появлением друг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Цикличес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езультате циклического спада в развитии рыночной эконом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Фрикцион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ана с переходом с одного места работы на другое («между двумя работами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чес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словлена внедрением новых технолог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7200" y="1600200"/>
          <a:ext cx="8229600" cy="4705200"/>
        </p:xfrm>
        <a:graphic>
          <a:graphicData uri="http://schemas.openxmlformats.org/drawingml/2006/table">
            <a:tbl>
              <a:tblPr/>
              <a:tblGrid>
                <a:gridCol w="3322800"/>
                <a:gridCol w="490680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зон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ана с осуществлением некоторых видов работ в определенное время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нужден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и, готовые работать за более низкую зарплату, чем та, которую получают занятые, все равно не могут найти рабо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ово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ых работников не устраивает уровень зарплаты или характер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рыт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лишние работники используются в производстве, реально требующем меньшего колич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395280" y="1341360"/>
            <a:ext cx="8229600" cy="1440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ьное вознаграждение за труд, получаемое работником в соответствии с затратами и результатами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324000" y="3068640"/>
            <a:ext cx="3887640" cy="1150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ьная з/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вары и услуги, приобрет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номинальную з/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4427640" y="3068640"/>
            <a:ext cx="4392360" cy="1150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минальная з/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 благ, которые могут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бретены на з/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зар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ременная (зависит от количества отработанных час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дельная (определяется количеством произведенных рабо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ша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работица, возникшая в результате перехода работника с одного места на другое, называетс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икцио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зо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кличе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че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   е   н   ь   г  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цен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ственная стоимость соответствует номиналь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меха, скот, золото, серебр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олноцен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кусственная денежная система, которая предполагает отказ от золотого станд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4"/>
          <p:cNvSpPr/>
          <p:nvPr/>
        </p:nvSpPr>
        <p:spPr>
          <a:xfrm>
            <a:off x="1908000" y="222120"/>
            <a:ext cx="6985080" cy="327240"/>
          </a:xfrm>
          <a:prstGeom prst="wedgeRectCallout">
            <a:avLst>
              <a:gd name="adj1" fmla="val -33134"/>
              <a:gd name="adj2" fmla="val 9417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общий эквивалент, выражающий стоимость тов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755640" y="1197000"/>
            <a:ext cx="2065320" cy="576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а сто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х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3348000" y="1197000"/>
            <a:ext cx="2065320" cy="576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6012000" y="1197000"/>
            <a:ext cx="2065320" cy="576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о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хнические ре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232560">
              <a:spcBef>
                <a:spcPts val="55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3300"/>
                </a:solidFill>
                <a:latin typeface="Arial"/>
              </a:rPr>
              <a:t>НЕОЛИТИЧЕСКА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cc3300"/>
                </a:solidFill>
                <a:latin typeface="Arial"/>
              </a:rPr>
              <a:t>(переход от присваивающего к производящему хозяйств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23256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ПРОМЫШЛЕННАЯ</a:t>
            </a:r>
            <a:r>
              <a:rPr b="0" lang="ru-RU" sz="2200" spc="-1" strike="noStrike">
                <a:solidFill>
                  <a:srgbClr val="0000cc"/>
                </a:solidFill>
                <a:latin typeface="Arial"/>
              </a:rPr>
              <a:t> (переход от мануфактуры к фабричному производств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232560">
              <a:spcBef>
                <a:spcPts val="5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6600"/>
                </a:solidFill>
                <a:latin typeface="Arial"/>
              </a:rPr>
              <a:t>НАУЧНО-ТЕХНИЧЕСКА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996600"/>
                </a:solidFill>
                <a:latin typeface="Arial"/>
              </a:rPr>
              <a:t>(переход к постиндустриальному обществ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1476360" y="5668920"/>
            <a:ext cx="53388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индустри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1476360" y="5186520"/>
            <a:ext cx="5338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устри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476360" y="4703760"/>
            <a:ext cx="5338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грарно-ремесл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476360" y="4221000"/>
            <a:ext cx="5338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ваива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1476360" y="3716280"/>
            <a:ext cx="5338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ы в развитии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27"/>
          <p:cNvGrpSpPr/>
          <p:nvPr/>
        </p:nvGrpSpPr>
        <p:grpSpPr>
          <a:xfrm>
            <a:off x="1476360" y="3716280"/>
            <a:ext cx="5338800" cy="2433600"/>
            <a:chOff x="1476360" y="3716280"/>
            <a:chExt cx="5338800" cy="2433600"/>
          </a:xfrm>
        </p:grpSpPr>
        <p:sp>
          <p:nvSpPr>
            <p:cNvPr id="77" name="Line 10"/>
            <p:cNvSpPr/>
            <p:nvPr/>
          </p:nvSpPr>
          <p:spPr>
            <a:xfrm>
              <a:off x="1476360" y="3716280"/>
              <a:ext cx="5338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1476360" y="4221000"/>
              <a:ext cx="533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1476360" y="4703760"/>
              <a:ext cx="533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1476360" y="5186520"/>
              <a:ext cx="533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1476360" y="5668920"/>
              <a:ext cx="533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>
              <a:off x="1476360" y="6149880"/>
              <a:ext cx="5338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6"/>
            <p:cNvSpPr/>
            <p:nvPr/>
          </p:nvSpPr>
          <p:spPr>
            <a:xfrm>
              <a:off x="1476360" y="3716280"/>
              <a:ext cx="0" cy="243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7"/>
            <p:cNvSpPr/>
            <p:nvPr/>
          </p:nvSpPr>
          <p:spPr>
            <a:xfrm>
              <a:off x="6815160" y="3716280"/>
              <a:ext cx="0" cy="243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5" name="AutoShape 29"/>
          <p:cNvCxnSpPr>
            <a:stCxn id="70" idx="0"/>
          </p:cNvCxnSpPr>
          <p:nvPr/>
        </p:nvCxnSpPr>
        <p:spPr>
          <a:xfrm flipH="1" rot="16200000">
            <a:off x="4022640" y="1942560"/>
            <a:ext cx="3456720" cy="2107440"/>
          </a:xfrm>
          <a:prstGeom prst="curvedConnector5">
            <a:avLst>
              <a:gd name="adj1" fmla="val -2062"/>
              <a:gd name="adj2" fmla="val 100973"/>
              <a:gd name="adj3" fmla="val -2062"/>
            </a:avLst>
          </a:prstGeom>
          <a:ln w="9360">
            <a:solidFill>
              <a:srgbClr val="cc3300"/>
            </a:solidFill>
            <a:miter/>
            <a:headEnd len="med" type="oval" w="med"/>
            <a:tailEnd len="lg" type="stealth" w="lg"/>
          </a:ln>
        </p:spPr>
      </p:cxnSp>
      <p:cxnSp>
        <p:nvCxnSpPr>
          <p:cNvPr id="86" name="AutoShape 30"/>
          <p:cNvCxnSpPr>
            <a:stCxn id="70" idx="1"/>
            <a:endCxn id="80" idx="0"/>
          </p:cNvCxnSpPr>
          <p:nvPr/>
        </p:nvCxnSpPr>
        <p:spPr>
          <a:xfrm>
            <a:off x="250920" y="2290680"/>
            <a:ext cx="1226160" cy="2896560"/>
          </a:xfrm>
          <a:prstGeom prst="curvedConnector5">
            <a:avLst>
              <a:gd name="adj1" fmla="val 49985"/>
              <a:gd name="adj2" fmla="val 49558"/>
              <a:gd name="adj3" fmla="val 49985"/>
            </a:avLst>
          </a:prstGeom>
          <a:ln w="9360">
            <a:solidFill>
              <a:srgbClr val="0000cc"/>
            </a:solidFill>
            <a:miter/>
            <a:headEnd len="med" type="oval" w="med"/>
            <a:tailEnd len="lg" type="stealth" w="lg"/>
          </a:ln>
        </p:spPr>
      </p:cxnSp>
      <p:cxnSp>
        <p:nvCxnSpPr>
          <p:cNvPr id="87" name="AutoShape 32"/>
          <p:cNvCxnSpPr/>
          <p:nvPr/>
        </p:nvCxnSpPr>
        <p:spPr>
          <a:xfrm>
            <a:off x="3850920" y="3141720"/>
            <a:ext cx="3026520" cy="2520000"/>
          </a:xfrm>
          <a:prstGeom prst="curvedConnector5">
            <a:avLst>
              <a:gd name="adj1" fmla="val 143587"/>
              <a:gd name="adj2" fmla="val 49992"/>
              <a:gd name="adj3" fmla="val 143587"/>
            </a:avLst>
          </a:prstGeom>
          <a:ln w="9360">
            <a:solidFill>
              <a:srgbClr val="996600"/>
            </a:solidFill>
            <a:miter/>
            <a:headEnd len="med" type="oval" w="med"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квидность ден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395280" y="1341360"/>
            <a:ext cx="8229600" cy="1079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пособность денег быть обращенными в наличные и истраченными на товары и у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2556000" y="3141720"/>
            <a:ext cx="3600360" cy="2735280"/>
          </a:xfrm>
          <a:prstGeom prst="upArrowCallout">
            <a:avLst>
              <a:gd name="adj1" fmla="val 32910"/>
              <a:gd name="adj2" fmla="val 32907"/>
              <a:gd name="adj3" fmla="val 16667"/>
              <a:gd name="adj4" fmla="val 6666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ьшей ликвид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ладают наличные деньг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ели деньг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ходящиеся в бан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ля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инфля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ренная (ползучая) – 10% в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лопирующая – 100-150% в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инфляция – до 1000% в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ая (никем не сдерживаем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авленная (государство искусственно контролирует це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1908000" y="222120"/>
            <a:ext cx="6985080" cy="327240"/>
          </a:xfrm>
          <a:prstGeom prst="wedgeRectCallout">
            <a:avLst>
              <a:gd name="adj1" fmla="val -5703"/>
              <a:gd name="adj2" fmla="val 9417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вление «лишних» денег ведет к их обесцени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чины инфля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ежная эмиссия (масса денег растет, а масса товаров сокращаетс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расходов на военные и социальные нуж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вые кризисы (сырьевой, энергетическ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фицит бюдж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шибки правительства в экономической поли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вальвация и деномин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вальвац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официальное обесценивание национальной валюты, снижение ее курса по отношению к иностранным валютам, международным денежным едини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омин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крепление национальной денежной единицы путем обмена по установленному соотношению старых денежных знаков на н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е суждение верно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Ликвидность денег – это их способность быть обращенными в наличные и истраченными на товар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Инфляция – это появление лишних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но только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но только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ны оба су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а суждения невер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государства в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билизация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а прав собств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ование денежного обра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ка фундаментальной на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распределение до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ование отношений между работодателями и наемными рабоч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внешнеэкономической деятель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государственной экономической поли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билизацио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задача – оздоровление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ет в себя бюджетно-налоговую (фискальную) и кредитно-денежную (монетарную) полит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задача – поддержание сбалансированного развития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: поддержка особо важных отраслей, приватизация, содействие конкуренции, ограничение деятельности монопо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ямое и косвенное воздействие государства на экономи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ям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у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ет преимущественно административные методы (законы, госзаказы, развитие госсектора в экономи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све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у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 методы кредитно-денежной и бюджетно-налогов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о степени вмешательства государства в экономи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етаристы (Фридме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о освободить экономику от вмешательства государства, сократить налоги, госрасходы, активно использовать рыночную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ейнсианцы (Кейн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нок не в состоянии решить проблемы в экономике, поэтому необходимо активное вмешательство государства, но в основном с помощью косвенных мет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ажите правильный 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Государственное регулирование экономики – это целенаправленное воздействие государства на экономику, направленное на эффективное функционирование национальной эконом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. Государственное регулирование экономики – это система мер законодательного, исполнительного и контролирующего характера, осуществляемых государством в целях стабилизации и приспособления экономики к изменяющимся услов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о только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о только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ы оба су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а суждения невер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7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89" name="Organization Chart 39"/>
          <p:cNvGrpSpPr/>
          <p:nvPr/>
        </p:nvGrpSpPr>
        <p:grpSpPr>
          <a:xfrm>
            <a:off x="431640" y="2328840"/>
            <a:ext cx="8208360" cy="1397160"/>
            <a:chOff x="431640" y="2328840"/>
            <a:chExt cx="8208360" cy="1397160"/>
          </a:xfrm>
        </p:grpSpPr>
        <p:cxnSp>
          <p:nvCxnSpPr>
            <p:cNvPr id="90" name="_s1028"/>
            <p:cNvCxnSpPr>
              <a:stCxn id="91" idx="0"/>
              <a:endCxn id="92" idx="2"/>
            </p:cNvCxnSpPr>
            <p:nvPr/>
          </p:nvCxnSpPr>
          <p:spPr>
            <a:xfrm flipV="1" rot="16200000">
              <a:off x="5858280" y="1461960"/>
              <a:ext cx="229320" cy="2876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029"/>
            <p:cNvCxnSpPr>
              <a:stCxn id="94" idx="0"/>
              <a:endCxn id="92" idx="2"/>
            </p:cNvCxnSpPr>
            <p:nvPr/>
          </p:nvCxnSpPr>
          <p:spPr>
            <a:xfrm flipV="1" rot="16200000">
              <a:off x="4421160" y="2898360"/>
              <a:ext cx="229320" cy="3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030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2984760" y="1464480"/>
              <a:ext cx="229320" cy="2871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031"/>
            <p:cNvSpPr/>
            <p:nvPr/>
          </p:nvSpPr>
          <p:spPr>
            <a:xfrm>
              <a:off x="1567800" y="2328840"/>
              <a:ext cx="5934240" cy="457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лавные вопросы эконом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31640" y="3014640"/>
              <a:ext cx="2462400" cy="71136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Что производить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3"/>
            <p:cNvSpPr/>
            <p:nvPr/>
          </p:nvSpPr>
          <p:spPr>
            <a:xfrm>
              <a:off x="3304800" y="3014640"/>
              <a:ext cx="2462400" cy="71136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34"/>
            <p:cNvSpPr/>
            <p:nvPr/>
          </p:nvSpPr>
          <p:spPr>
            <a:xfrm>
              <a:off x="6178320" y="3014640"/>
              <a:ext cx="2461680" cy="71136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ля к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изводить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1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ишите слово, пропущенное в схем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сударственный бюдж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дии бюджетного процесса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ение проекта правитель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ние проекта Госдумой, Советом Федерации и Счетной пала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ждение бюджета, принятие закона о бюджете Федеральным Собранием, подписание его президен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ение бюджета органами исполнительной власти с 1 января по 31 декаб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ение отчета об исполнении бюджета и его утверждение в течение 5 меся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95280" y="1341360"/>
            <a:ext cx="8229600" cy="1295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й финансовый план государства на год, объединяющий главные доходы и расходы государства и имеющий силу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государственного бюдж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ная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уется за счет налогов и зай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34196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ходная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ет затраты, возникающие у государства при выполнении им экономических, политических, социальных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3492360" y="2133720"/>
            <a:ext cx="5183280" cy="3456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группы расхо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ходы на содержание госаппа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енны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ирование науки, куль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я, здравоохран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ирование отдельных отрас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ходы на субсидии и кредиты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луживание государственного дол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нешнего и внутренне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108000" y="5734080"/>
            <a:ext cx="4392720" cy="69228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иц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ходы превышают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 flipH="1">
            <a:off x="4641840" y="5734080"/>
            <a:ext cx="4392720" cy="692280"/>
          </a:xfrm>
          <a:custGeom>
            <a:avLst/>
            <a:gdLst>
              <a:gd name="textAreaLeft" fmla="*/ 360 w 4392720"/>
              <a:gd name="textAreaRight" fmla="*/ 4393440 w 439272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фиц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ходы превышают 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ти преодоления дефицита бюдж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кращение расходов (секвестировани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иск дополнительных источников доходов (изменение системы налогообложен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миссия денег (дополнительный выпуск бумажных денег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ем у населения и у других ст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 налог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скальная (формируется доходная часть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ующая (стимулирование или сдерживание темпов производст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еделительная (распределение результатов производства между различными сферами и группами насел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95280" y="1341360"/>
            <a:ext cx="8229600" cy="1008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ые платежи, взимаемые государством с физических и юридических л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нал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826920" y="1557360"/>
            <a:ext cx="3457800" cy="1150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ые 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авли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средств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оход или иму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4859280" y="1557360"/>
            <a:ext cx="3457800" cy="1366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авли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овары и услу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лачиваемые в их цен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енные в тари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7"/>
          <p:cNvSpPr/>
          <p:nvPr/>
        </p:nvSpPr>
        <p:spPr>
          <a:xfrm>
            <a:off x="1258920" y="3141720"/>
            <a:ext cx="5977080" cy="934920"/>
          </a:xfrm>
          <a:prstGeom prst="wedgeRectCallout">
            <a:avLst>
              <a:gd name="adj1" fmla="val 36930"/>
              <a:gd name="adj2" fmla="val -7292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и на добавленную стоимость (НД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изы (добавка в цене на отдельные това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оженные пош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8"/>
          <p:cNvSpPr/>
          <p:nvPr/>
        </p:nvSpPr>
        <p:spPr>
          <a:xfrm>
            <a:off x="2195640" y="4365720"/>
            <a:ext cx="4608360" cy="1800000"/>
          </a:xfrm>
          <a:prstGeom prst="verticalScroll">
            <a:avLst>
              <a:gd name="adj" fmla="val 1869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Налоговому кодексу РФ 2000 г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публикан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прямым налогам относят нало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обавленную сто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иму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моженные сб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ци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ый рынок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мешанная эконом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четание рыночного механизма и государственного регул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ование рынка на уровне комп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маркетинга – деятельности по продвижению товаров и услуг на рынке, изучению запросов и потребностей покуп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актный характер рынка (компании производят для известных им потребителей в соответствии с заключенными договор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250920" y="1341360"/>
            <a:ext cx="8642160" cy="1295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национальных хозяйств, объединенных международным разделением труда, торговыми, производственными и другими экономическими связ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5"/>
          <p:cNvSpPr/>
          <p:nvPr/>
        </p:nvSpPr>
        <p:spPr>
          <a:xfrm>
            <a:off x="2541600" y="42840"/>
            <a:ext cx="4824360" cy="663480"/>
          </a:xfrm>
          <a:prstGeom prst="borderCallout2">
            <a:avLst>
              <a:gd name="adj1" fmla="val 18750"/>
              <a:gd name="adj2" fmla="val -8333"/>
              <a:gd name="adj3" fmla="val 17226"/>
              <a:gd name="adj4" fmla="val -10597"/>
              <a:gd name="adj5" fmla="val 272250"/>
              <a:gd name="adj6" fmla="val -1961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ециализация отдельных стран по производству отдельных видов проду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Organization Chart 8"/>
          <p:cNvGrpSpPr/>
          <p:nvPr/>
        </p:nvGrpSpPr>
        <p:grpSpPr>
          <a:xfrm>
            <a:off x="431640" y="3363840"/>
            <a:ext cx="8208360" cy="2006640"/>
            <a:chOff x="431640" y="3363840"/>
            <a:chExt cx="8208360" cy="2006640"/>
          </a:xfrm>
        </p:grpSpPr>
        <p:cxnSp>
          <p:nvCxnSpPr>
            <p:cNvPr id="448" name="_s6148"/>
            <p:cNvCxnSpPr>
              <a:stCxn id="449" idx="0"/>
              <a:endCxn id="450" idx="2"/>
            </p:cNvCxnSpPr>
            <p:nvPr/>
          </p:nvCxnSpPr>
          <p:spPr>
            <a:xfrm flipV="1" rot="16200000">
              <a:off x="4953600" y="3402000"/>
              <a:ext cx="229320" cy="1065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1" name="_s6149"/>
            <p:cNvCxnSpPr>
              <a:stCxn id="452" idx="0"/>
              <a:endCxn id="450" idx="2"/>
            </p:cNvCxnSpPr>
            <p:nvPr/>
          </p:nvCxnSpPr>
          <p:spPr>
            <a:xfrm flipV="1" rot="16200000">
              <a:off x="6017760" y="2337840"/>
              <a:ext cx="229320" cy="3193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3" name="_s6150"/>
            <p:cNvCxnSpPr>
              <a:stCxn id="454" idx="0"/>
              <a:endCxn id="450" idx="2"/>
            </p:cNvCxnSpPr>
            <p:nvPr/>
          </p:nvCxnSpPr>
          <p:spPr>
            <a:xfrm flipH="1" flipV="1" rot="5400000">
              <a:off x="3889800" y="3403440"/>
              <a:ext cx="229320" cy="1063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5" name="_s6151"/>
            <p:cNvCxnSpPr>
              <a:stCxn id="456" idx="0"/>
              <a:endCxn id="450" idx="2"/>
            </p:cNvCxnSpPr>
            <p:nvPr/>
          </p:nvCxnSpPr>
          <p:spPr>
            <a:xfrm flipH="1" flipV="1" rot="5400000">
              <a:off x="2825640" y="2338920"/>
              <a:ext cx="229320" cy="3192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50" name="_s6152"/>
            <p:cNvSpPr/>
            <p:nvPr/>
          </p:nvSpPr>
          <p:spPr>
            <a:xfrm>
              <a:off x="3426480" y="3363840"/>
              <a:ext cx="2218680" cy="457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ировой рын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_s6153"/>
            <p:cNvSpPr/>
            <p:nvPr/>
          </p:nvSpPr>
          <p:spPr>
            <a:xfrm>
              <a:off x="431640" y="4049640"/>
              <a:ext cx="1823760" cy="132084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ров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овар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 услу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_s6154"/>
            <p:cNvSpPr/>
            <p:nvPr/>
          </p:nvSpPr>
          <p:spPr>
            <a:xfrm>
              <a:off x="2559960" y="4049640"/>
              <a:ext cx="1823760" cy="132084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ров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апита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6155"/>
            <p:cNvSpPr/>
            <p:nvPr/>
          </p:nvSpPr>
          <p:spPr>
            <a:xfrm>
              <a:off x="6816240" y="4049640"/>
              <a:ext cx="1823760" cy="132084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ров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инансов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6156"/>
            <p:cNvSpPr/>
            <p:nvPr/>
          </p:nvSpPr>
          <p:spPr>
            <a:xfrm>
              <a:off x="4688280" y="4049640"/>
              <a:ext cx="1823400" cy="132084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ров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абоч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и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AutoShape 18"/>
          <p:cNvSpPr/>
          <p:nvPr/>
        </p:nvSpPr>
        <p:spPr>
          <a:xfrm>
            <a:off x="6443640" y="5589720"/>
            <a:ext cx="2700360" cy="976320"/>
          </a:xfrm>
          <a:prstGeom prst="downArrow">
            <a:avLst>
              <a:gd name="adj1" fmla="val 53611"/>
              <a:gd name="adj2" fmla="val 4504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2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ыночная экономика в современной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250920" y="1844640"/>
            <a:ext cx="3744720" cy="1008000"/>
          </a:xfrm>
          <a:prstGeom prst="bevel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ндно-администра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6"/>
          <p:cNvSpPr/>
          <p:nvPr/>
        </p:nvSpPr>
        <p:spPr>
          <a:xfrm>
            <a:off x="4932360" y="1844640"/>
            <a:ext cx="3745080" cy="1008000"/>
          </a:xfrm>
          <a:prstGeom prst="bevel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но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AutoShape 7"/>
          <p:cNvCxnSpPr>
            <a:stCxn id="459" idx="0"/>
            <a:endCxn id="460" idx="0"/>
          </p:cNvCxnSpPr>
          <p:nvPr/>
        </p:nvCxnSpPr>
        <p:spPr>
          <a:xfrm>
            <a:off x="3995640" y="2349000"/>
            <a:ext cx="937440" cy="1080"/>
          </a:xfrm>
          <a:prstGeom prst="straightConnector1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2" name="Text Box 8"/>
          <p:cNvSpPr/>
          <p:nvPr/>
        </p:nvSpPr>
        <p:spPr>
          <a:xfrm>
            <a:off x="3997080" y="19890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ч. 1990-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9"/>
          <p:cNvSpPr/>
          <p:nvPr/>
        </p:nvSpPr>
        <p:spPr>
          <a:xfrm>
            <a:off x="324000" y="3213000"/>
            <a:ext cx="8135640" cy="647640"/>
          </a:xfrm>
          <a:prstGeom prst="rightArrowCallout">
            <a:avLst>
              <a:gd name="adj1" fmla="val 31864"/>
              <a:gd name="adj2" fmla="val 25000"/>
              <a:gd name="adj3" fmla="val -100658"/>
              <a:gd name="adj4" fmla="val 8300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атиз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редача государственной 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астную соб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1"/>
          <p:cNvSpPr/>
          <p:nvPr/>
        </p:nvSpPr>
        <p:spPr>
          <a:xfrm>
            <a:off x="755640" y="4508640"/>
            <a:ext cx="6769080" cy="1800000"/>
          </a:xfrm>
          <a:prstGeom prst="verticalScroll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титуция Р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образие форм соб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частная, государственная, муниципальная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500"/>
                            </p:stCondLst>
                            <p:childTnLst>
                              <p:par>
                                <p:cTn id="1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едствия экономической рефор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ю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вление коммерческих банков, товарных бирж, рынка ценных бумаг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частного сектора в эконом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квидация дефицита потребительских тов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тановление дееспособности ден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ращение покупательского спроса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редоточение экономической власти в руках 4-5% росси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модернизации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уровня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ая поляризация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безрабо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2340000" y="1413000"/>
            <a:ext cx="4319640" cy="1042920"/>
          </a:xfrm>
          <a:prstGeom prst="bevel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ТРУ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человеческие ресурс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ие и умственные ус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24000" y="2637000"/>
            <a:ext cx="3421080" cy="792000"/>
          </a:xfrm>
          <a:prstGeom prst="rect">
            <a:avLst/>
          </a:prstGeom>
          <a:solidFill>
            <a:srgbClr val="fbdf5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ительность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1"/>
          <p:cNvSpPr/>
          <p:nvPr/>
        </p:nvSpPr>
        <p:spPr>
          <a:xfrm>
            <a:off x="2843280" y="3284640"/>
            <a:ext cx="3313080" cy="1130040"/>
          </a:xfrm>
          <a:prstGeom prst="diamond">
            <a:avLst/>
          </a:prstGeom>
          <a:solidFill>
            <a:srgbClr val="fbdf5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нсивность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6084720" y="2565360"/>
            <a:ext cx="2664000" cy="1150920"/>
          </a:xfrm>
          <a:prstGeom prst="flowChartMultidocument">
            <a:avLst/>
          </a:prstGeom>
          <a:solidFill>
            <a:srgbClr val="fbdf5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5"/>
          <p:cNvSpPr/>
          <p:nvPr/>
        </p:nvSpPr>
        <p:spPr>
          <a:xfrm>
            <a:off x="468360" y="4508640"/>
            <a:ext cx="1942920" cy="1512720"/>
          </a:xfrm>
          <a:prstGeom prst="wedgeRectCallout">
            <a:avLst>
              <a:gd name="adj1" fmla="val 83"/>
              <a:gd name="adj2" fmla="val -1197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произведенных за единицу времени проду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>
            <a:off x="3635280" y="4941720"/>
            <a:ext cx="2232000" cy="1513080"/>
          </a:xfrm>
          <a:prstGeom prst="wedgeRectCallout">
            <a:avLst>
              <a:gd name="adj1" fmla="val 5759"/>
              <a:gd name="adj2" fmla="val -91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расхода умственной и физической энергии в единицу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>
            <a:off x="6659640" y="4508640"/>
            <a:ext cx="2160360" cy="936360"/>
          </a:xfrm>
          <a:prstGeom prst="wedgeRectCallout">
            <a:avLst>
              <a:gd name="adj1" fmla="val -47796"/>
              <a:gd name="adj2" fmla="val -1352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а, выплачиваемая за 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чески первой формой международных связей бы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говые соглашения и договоры между стра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нснациональные корпо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324000" y="3716280"/>
            <a:ext cx="3456000" cy="21607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й капит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ания, станки, оборудова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используютс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чение ряда лет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раты возмеща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еп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1547640" y="1341360"/>
            <a:ext cx="5616720" cy="1440000"/>
          </a:xfrm>
          <a:custGeom>
            <a:avLst/>
            <a:gdLst>
              <a:gd name="textAreaLeft" fmla="*/ 1404000 w 5616720"/>
              <a:gd name="textAreaRight" fmla="*/ 4212720 w 5616720"/>
              <a:gd name="textAreaTop" fmla="*/ 0 h 1440000"/>
              <a:gd name="textAreaBottom" fmla="*/ 1260000 h 1440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КАПИТ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аши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менты, зд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4067280" y="3645000"/>
            <a:ext cx="4787640" cy="216036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ротный капит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рье, материал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ергоресурсы, кото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ходуются за один цикл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раты возмещаются пос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и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346560" y="2781360"/>
            <a:ext cx="21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иды капит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AutoShape 17"/>
          <p:cNvCxnSpPr>
            <a:stCxn id="112" idx="1"/>
            <a:endCxn id="108" idx="0"/>
          </p:cNvCxnSpPr>
          <p:nvPr/>
        </p:nvCxnSpPr>
        <p:spPr>
          <a:xfrm flipV="1" rot="10800000">
            <a:off x="2052000" y="2979360"/>
            <a:ext cx="1296000" cy="737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AutoShape 19"/>
          <p:cNvCxnSpPr>
            <a:stCxn id="112" idx="3"/>
            <a:endCxn id="111" idx="0"/>
          </p:cNvCxnSpPr>
          <p:nvPr/>
        </p:nvCxnSpPr>
        <p:spPr>
          <a:xfrm>
            <a:off x="5466960" y="2979720"/>
            <a:ext cx="994680" cy="66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AutoShape 20"/>
          <p:cNvSpPr/>
          <p:nvPr/>
        </p:nvSpPr>
        <p:spPr>
          <a:xfrm>
            <a:off x="2050920" y="6058080"/>
            <a:ext cx="5185080" cy="466560"/>
          </a:xfrm>
          <a:custGeom>
            <a:avLst/>
            <a:gdLst>
              <a:gd name="textAreaLeft" fmla="*/ 70560 w 5185080"/>
              <a:gd name="textAreaRight" fmla="*/ 5114520 w 5185080"/>
              <a:gd name="textAreaTop" fmla="*/ 70560 h 466560"/>
              <a:gd name="textAreaBottom" fmla="*/ 396000 h 466560"/>
            </a:gdLst>
            <a:ahLst/>
            <a:rect l="textAreaLeft" t="textAreaTop" r="textAreaRight" b="textAreaBottom"/>
            <a:pathLst>
              <a:path w="239882" h="21600">
                <a:moveTo>
                  <a:pt x="4629" y="0"/>
                </a:moveTo>
                <a:arcTo wR="4629" hR="4629" stAng="0" swAng="5400000"/>
                <a:lnTo>
                  <a:pt x="0" y="16971"/>
                </a:lnTo>
                <a:arcTo wR="4629" hR="4629" stAng="16200000" swAng="5400000"/>
                <a:lnTo>
                  <a:pt x="235253" y="21600"/>
                </a:lnTo>
                <a:arcTo wR="4629" hR="4629" stAng="10800000" swAng="5400000"/>
                <a:lnTo>
                  <a:pt x="239882" y="4629"/>
                </a:lnTo>
                <a:arcTo wR="4629" hR="4629" stAng="5400000" swAng="5400000"/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лата за использование капи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38:09Z</dcterms:created>
  <dc:creator>Сергей</dc:creator>
  <dc:description/>
  <dc:language>en-US</dc:language>
  <cp:lastModifiedBy>Шуваева</cp:lastModifiedBy>
  <dcterms:modified xsi:type="dcterms:W3CDTF">2002-12-19T21:08:16Z</dcterms:modified>
  <cp:revision>52</cp:revision>
  <dc:subject/>
  <dc:title>ЭКОНОМИКА</dc:title>
</cp:coreProperties>
</file>