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media/image11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643B-045D-4AE1-A922-03FD639D05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C364-C519-42F3-9CC6-A2F26EBCC06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93A0-D30C-416E-9B82-09C924977C3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D8C9-FF5B-44B9-885C-11EBCCA1114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FC5C-96A7-4CCE-9E22-C93B08CBA8B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1A7F-4F0E-4541-A3F3-5C9EA06463D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3FD2-77C1-4F73-AA35-BD811B79B2D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6C8B-68D8-4CC8-A7AA-74FC2FCFACD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ECA9-B93F-4EEB-A604-95806800FFA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4636-00F7-4432-B350-4CC9F7C2DE7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988C-C81D-4757-9C39-B2F10AB5FF2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1689-406F-4973-99BB-6FD1BFE0E18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0936-D9AE-48AA-8EB2-B13488284F8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8E7F-A12F-49AB-AAF5-66523820644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6FEC-4B7E-43FA-93B9-50BDA09C32B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593FA-EA70-493D-8C9F-D8915354D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B061C-DC61-4111-BD09-6E48AD26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260AB9-D67F-4E85-91C1-BCED8EBE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7318D0-D47C-49C5-AB53-4C673AA4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5264F5-B7B6-42F6-A7FB-13BA0773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CD9BB5-A47F-49B9-8819-ADA2649F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850DFF-0B71-46FE-B099-D1BAC232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1FF623-AD92-4341-880C-1CD03E84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0394E3-25D3-4E18-973B-46D160B01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75C4D9-4643-4EEA-ADD7-1D8E647C5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14B078-0849-477F-BB99-62FC6833D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5013B6-0483-4E87-A101-656B7AB40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F8343-B733-4685-B873-84802A7BC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983253B-1BEF-4E37-9605-423C1432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D6B3A5-7857-444F-80F1-B6A324C0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071128-33EA-4820-A1ED-747ED34B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498BF4-BB60-4D32-B3BC-13810744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3B78EF-CFE3-4FCE-9F77-E289C6B5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DD475E-9925-46AF-A910-11D97F2A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0AC2B9-497E-472E-A14F-E189C829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A05AF9-44BD-4666-8FE4-D13ADFD2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51D1296-0D05-4711-B896-60411AA6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496FEA-2BAF-4FDE-82D0-1B044E195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AE698-3A17-4598-9CCF-92A56A1AC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646E84-6243-409E-B85E-D23600CDB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BE54EA-F904-454B-AC28-4B53BCEB6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4F0AC2C-89B4-4548-9072-6C4C5DD3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CAC7514-33AE-4DB3-9237-0506C459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DBDF4B6-4ACA-4144-81A1-37A490B9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8B18C4B-09C2-4B24-B642-29DF8A06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7D00A86-C9F6-4435-8572-4592D9F7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60E89B3-C086-4891-8436-B2820780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E63AED1-652F-4BA4-9F9B-2B4D452D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0FD12BA-6730-447B-B769-8B2B832F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CABF-A633-4257-9A06-F1B5C3C52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6F68AB6-D13F-46F3-92BD-A7903B2A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D21F1BF-1F56-49F4-8907-8114C601D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5B8BCA4-A6BD-4234-BEBB-0EBFFC9B3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068EF81-D0C2-46F3-BD10-1C195E2A0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79C5F4B-42A3-4C2D-8342-6E363336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F2D9AE0-E942-4BE3-9B1E-5494D54F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3A4680F-5142-4541-B204-46BB1846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6037AB3-DA8E-4011-8953-14AAC870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56EBA05-C503-47BF-BD1F-B82333CB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EE0AAD2-DD56-46FA-9BF4-B85660BB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B4728-713F-4569-BCF2-A0F0457E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9E91A4A-0D7C-423F-825B-F98A04BE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36BBC2D-7723-4CBD-9435-B38E052C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391B619-3CC3-4667-A2D3-41145EFD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1519B68-3774-464F-8C64-30C4F2DE8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78F7DFD-A424-4B0B-B974-8BF370F08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8D57-D290-47BD-B74A-F7722F0D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08B3-BDF5-4707-A80E-B4DE22EF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817F-F436-400B-AF85-61FC052A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11BF-751D-4D78-BA78-9A7B6764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EFBB-9D1F-43FC-991B-336316BF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97CAB-0504-4D20-A896-1A7B3CA9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C034-0D16-4DFE-9527-261178CC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341A-EBF7-47FE-A7EB-45E1C094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7FF5-8B0A-4847-B201-8A2D0E4D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9174-F3A8-490F-B8F0-076898F68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F2A1-C625-43AF-916B-4DA7AC2F1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80B075-C085-4A0E-80C2-D4950C463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70F6AF-1446-44E9-A757-D093B3EA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46C42D-DDF9-4ED9-9846-C42792D0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A6292B-AEC1-471E-A5E4-BBCD9351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F5A07B-64F4-495C-9755-9559BA2B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8347F-7465-4CB0-B85C-DC839F1B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6D9B0C-5605-444B-843F-88CA2514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AC6CF0-9096-4880-830F-59D5F999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6C1A1C-0AA8-4ACF-BC69-CA152DD7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9D14FF-C754-438E-898A-6AD33555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B23803-A22A-4827-B9AF-E7739E2E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5C96D2-1B27-4E10-8230-B63B8DA11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4180C8-7077-4BF5-9AB2-AE3AF46C9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4D32FF-B8A9-4AE9-B569-8E80B2B05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D110BF-FFD7-484B-A3D3-44D9DCD8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836768-80A0-4865-82C4-64FEF70C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2449A-6239-44CD-AB7E-C265676E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0914B7-C34D-4FAF-9B4B-CC0E45B1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3C1ABF-3EFE-4119-89A9-55BBA7A0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021847-4DB0-41A5-934A-9780D01A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9FE02B-DDD7-4A32-AE6A-2CF8E217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311DE6-D116-418D-AB02-02936A2F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8AA3C0-80E5-46BC-B608-F8616B84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C845FD-DCE5-4179-9226-BAA481B8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16A13B-7B55-4ED9-85AD-B41C45BD2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8129BD-A71C-4069-97B1-FBFDA67F1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F84CDE-1E1B-49C4-A120-3E56F15D0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9B236-DEB2-4CB0-83D9-58BC7872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A242E0-9798-49E8-AA0A-C43AA965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595B57-2EA8-4F53-AEC1-DCBFE9FA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AD4EE7-A43D-491A-B3E8-C46ABDD3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B426F4-7CF8-40B2-A4F4-1552381E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C693E7-F7D8-40EB-8B9F-1047B701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CCB543-A270-4E64-B09A-49F29BC9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5ABB77-5FF5-40BB-9C1A-71ADD403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FEF7E4-4867-4938-BBB2-2B61DB7C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772CFA-C19F-423D-B48F-34AABA82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C1BF2E-CED1-4950-BCBD-63B78AB6D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1070C-ABB4-4A27-BE1C-0E67F43B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CFFB9B-E644-4296-A17B-80B0F88D3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6428B2-EC88-4839-B587-B591BF810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BC0504-68A1-4DE8-9A96-1AD5242B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FACDC8-FDAE-466E-99E2-F9D4A0E6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E74D3A-5B7C-42C2-895F-78F947EC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AC4985-E99D-4233-90F2-A2965BEE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9F2D15-DE8E-455D-B2ED-71A3FC8F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CAE744-4172-4926-B5D5-AD81AD19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F8288B-8366-4113-8C66-E97034A8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0C1552-507C-4975-A035-33709FB2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A75D0-C40C-41D5-87EC-D9AA4C7D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4BFADA-9AD6-4215-B13D-E94E3FE5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042F47-32C6-4B0D-BB2D-C176279A6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656F6D-31AA-494C-B91F-657ABE175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FFA30A-581C-475E-A680-5A2156075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D1241D-11BC-4F2C-8E44-FAC4670E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4CE5FA-61EF-47F4-A36D-55F80AF4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1B4C03-6BC9-423C-8205-A3C4E68B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10705B-F9F4-45FF-A736-514B9DA3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7C6754-666F-4AD1-A5B8-197CEE1C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6F8AC6-8EFA-4B0F-B593-62CF2FEE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825C9-F47E-460E-8FDA-00968BBC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3C5EA4-89C8-437D-8BEA-4A82A872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D40640-546F-4FDB-AB3D-59865090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416F99-E061-4819-A2F3-FA1782CF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11BA73-1B0B-4B8F-A30A-C84154BD2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768870-A5E1-4BB8-A8E2-D3902DFAA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C1FF56-C1AB-4F41-B766-9C7D8E11D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7BC0F2-73FF-4E92-A2DC-56433EA9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100B6C-7610-4913-8684-F74E967D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A8B148-2034-486A-9E95-B7C58824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088F2E-5E91-4187-BAD4-AB29B9A2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8D004-091E-46CA-8903-45730A28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12DDDA-56C6-45D6-9CFB-47FBB415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F3D2C3-1AED-49AF-A1A9-C90BEC2B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87C9BD-1B70-4FC9-84D4-2B64C6A0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19C0D3-1889-4BC3-B67C-58BF450A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127F27-F0CC-45AF-9D3E-06CCA711D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6ED3A7-2A24-48DF-B166-A17172129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8F35DA-5D8A-419C-9FB5-EBAA6DA77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2A0D66-9E2E-48B4-BB19-2B0E08A4A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01F4C5-8109-4AAB-9C67-6946B7FD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07B579-132D-414B-865C-0D04B521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C17C-D4E2-4CB4-B315-F03ACB3F62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350E-ADCC-49B2-BC65-88D4347AA0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ftr" idx="30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47C2-A90E-49A8-9612-CFD51E9733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5665-8BEB-4870-9043-5A3D17E94BA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ftr" idx="3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558C-D8BE-4932-8450-21112C76C1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AA30-B140-49BC-91B1-73C5B9575D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D0BD-C2E8-487E-8025-77BA27ED99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3681-C25C-4823-93CF-64A4C8469D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0073-E49C-4CA8-8F80-DC80EA2BDE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8A27-D11C-4807-A6A3-5C99954C90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A9EF-82B9-4931-9FBB-8A566CADD2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D331-42DE-49B2-8148-78194FA1AB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11280" y="1916280"/>
            <a:ext cx="7772400" cy="28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100" spc="-1" strike="noStrike">
                <a:solidFill>
                  <a:srgbClr val="ffff00"/>
                </a:solidFill>
                <a:latin typeface="Monotype Corsiva"/>
              </a:rPr>
              <a:t>Эволюция покровов тела.</a:t>
            </a:r>
            <a:endParaRPr b="1" lang="en-US" sz="131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Пресмыкающиес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539" name="Picture 5" descr="Пресмык"/>
          <p:cNvPicPr/>
          <p:nvPr/>
        </p:nvPicPr>
        <p:blipFill>
          <a:blip r:embed="rId1"/>
          <a:stretch/>
        </p:blipFill>
        <p:spPr>
          <a:xfrm>
            <a:off x="179280" y="950760"/>
            <a:ext cx="3529080" cy="3095640"/>
          </a:xfrm>
          <a:prstGeom prst="rect">
            <a:avLst/>
          </a:prstGeom>
          <a:ln w="0">
            <a:noFill/>
          </a:ln>
        </p:spPr>
      </p:pic>
      <p:pic>
        <p:nvPicPr>
          <p:cNvPr id="540" name="Рисунок 1" descr=""/>
          <p:cNvPicPr/>
          <p:nvPr/>
        </p:nvPicPr>
        <p:blipFill>
          <a:blip r:embed="rId2"/>
          <a:srcRect l="4812" t="21113" r="5054" b="11741"/>
          <a:stretch/>
        </p:blipFill>
        <p:spPr>
          <a:xfrm>
            <a:off x="1332000" y="3760920"/>
            <a:ext cx="765324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Птиц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542" name="Picture 4" descr="Птицы"/>
          <p:cNvPicPr/>
          <p:nvPr/>
        </p:nvPicPr>
        <p:blipFill>
          <a:blip r:embed="rId1"/>
          <a:stretch/>
        </p:blipFill>
        <p:spPr>
          <a:xfrm>
            <a:off x="1403280" y="911160"/>
            <a:ext cx="5832720" cy="56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Млекопитающ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544" name="Picture 5" descr="Koja"/>
          <p:cNvPicPr/>
          <p:nvPr/>
        </p:nvPicPr>
        <p:blipFill>
          <a:blip r:embed="rId1"/>
          <a:stretch/>
        </p:blipFill>
        <p:spPr>
          <a:xfrm>
            <a:off x="539640" y="1700280"/>
            <a:ext cx="831708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Garamond"/>
              </a:rPr>
              <a:t>Вывод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Эволюция покровов тела, шла по пути увеличения числа их слоёв, а так же появления в них всё новых и новых образований: ресничек, желёз, чешуй, перьев и волос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2195640" y="3284640"/>
            <a:ext cx="4464000" cy="20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§</a:t>
            </a: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 36, таблица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8" name="WordArt 4" descr=""/>
          <p:cNvPicPr/>
          <p:nvPr/>
        </p:nvPicPr>
        <p:blipFill>
          <a:blip r:embed="rId1"/>
          <a:stretch/>
        </p:blipFill>
        <p:spPr>
          <a:xfrm>
            <a:off x="249120" y="2316240"/>
            <a:ext cx="78519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Garamond"/>
              </a:rPr>
              <a:t>Функции покровов: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4216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редохраняют организм от проникновения в него инородных тел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Защищают организм от механических повреждений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редохраняют организм от потери воды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Участвуют в поддержании температуры тел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Участвуют в обмене веществ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893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Беспозвоночные</a:t>
            </a: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  Позвоночные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Оболочка, эпителий,                 Кож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              </a:t>
            </a: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кутикул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3200" spc="-1" strike="noStrike">
                <a:solidFill>
                  <a:srgbClr val="ffff00"/>
                </a:solidFill>
                <a:latin typeface="Garamond"/>
              </a:rPr>
              <a:t>Собственно       Эпидерми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Garamond"/>
              </a:rPr>
              <a:t>       </a:t>
            </a:r>
            <a:r>
              <a:rPr b="0" lang="ru-RU" sz="3200" spc="-1" strike="noStrike">
                <a:solidFill>
                  <a:srgbClr val="ffff00"/>
                </a:solidFill>
                <a:latin typeface="Garamond"/>
              </a:rPr>
              <a:t>кожа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1" name="Line 4"/>
          <p:cNvSpPr/>
          <p:nvPr/>
        </p:nvSpPr>
        <p:spPr>
          <a:xfrm>
            <a:off x="2484360" y="191628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2" name="Line 5"/>
          <p:cNvSpPr/>
          <p:nvPr/>
        </p:nvSpPr>
        <p:spPr>
          <a:xfrm>
            <a:off x="6804000" y="184464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3" name="Line 6"/>
          <p:cNvSpPr/>
          <p:nvPr/>
        </p:nvSpPr>
        <p:spPr>
          <a:xfrm flipH="1">
            <a:off x="5435640" y="3357720"/>
            <a:ext cx="72072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4" name="Line 7"/>
          <p:cNvSpPr/>
          <p:nvPr/>
        </p:nvSpPr>
        <p:spPr>
          <a:xfrm>
            <a:off x="7380360" y="3284640"/>
            <a:ext cx="71892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67" descr="Безымянный"/>
          <p:cNvPicPr/>
          <p:nvPr/>
        </p:nvPicPr>
        <p:blipFill>
          <a:blip r:embed="rId1"/>
          <a:stretch/>
        </p:blipFill>
        <p:spPr>
          <a:xfrm>
            <a:off x="539640" y="836640"/>
            <a:ext cx="806472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Простейш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527" name="Picture 4" descr="Простейшие"/>
          <p:cNvPicPr/>
          <p:nvPr/>
        </p:nvPicPr>
        <p:blipFill>
          <a:blip r:embed="rId1"/>
          <a:stretch/>
        </p:blipFill>
        <p:spPr>
          <a:xfrm>
            <a:off x="1835280" y="907920"/>
            <a:ext cx="522288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Плоские черв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529" name="Picture 4" descr="Плоские черви"/>
          <p:cNvPicPr/>
          <p:nvPr/>
        </p:nvPicPr>
        <p:blipFill>
          <a:blip r:embed="rId1"/>
          <a:stretch/>
        </p:blipFill>
        <p:spPr>
          <a:xfrm>
            <a:off x="250920" y="1773360"/>
            <a:ext cx="864072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Членистоног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531" name="Picture 4" descr="Членистоногие"/>
          <p:cNvPicPr/>
          <p:nvPr/>
        </p:nvPicPr>
        <p:blipFill>
          <a:blip r:embed="rId1"/>
          <a:stretch/>
        </p:blipFill>
        <p:spPr>
          <a:xfrm>
            <a:off x="395280" y="1989000"/>
            <a:ext cx="84247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Garamond"/>
              </a:rPr>
              <a:t>Рыбы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533" name="Picture 4" descr="Рыбы"/>
          <p:cNvPicPr/>
          <p:nvPr/>
        </p:nvPicPr>
        <p:blipFill>
          <a:blip r:embed="rId1"/>
          <a:srcRect l="5264" t="7758" r="0" b="14678"/>
          <a:stretch/>
        </p:blipFill>
        <p:spPr>
          <a:xfrm>
            <a:off x="2263680" y="1143000"/>
            <a:ext cx="4638600" cy="2664000"/>
          </a:xfrm>
          <a:prstGeom prst="rect">
            <a:avLst/>
          </a:prstGeom>
          <a:ln w="0">
            <a:noFill/>
          </a:ln>
        </p:spPr>
      </p:pic>
      <p:pic>
        <p:nvPicPr>
          <p:cNvPr id="534" name="Рисунок 1" descr=""/>
          <p:cNvPicPr/>
          <p:nvPr/>
        </p:nvPicPr>
        <p:blipFill>
          <a:blip r:embed="rId2"/>
          <a:stretch/>
        </p:blipFill>
        <p:spPr>
          <a:xfrm>
            <a:off x="4211640" y="4508640"/>
            <a:ext cx="4762440" cy="2019240"/>
          </a:xfrm>
          <a:prstGeom prst="rect">
            <a:avLst/>
          </a:prstGeom>
          <a:ln w="0">
            <a:noFill/>
          </a:ln>
        </p:spPr>
      </p:pic>
      <p:sp>
        <p:nvSpPr>
          <p:cNvPr id="535" name="Прямоугольник 2"/>
          <p:cNvSpPr/>
          <p:nvPr/>
        </p:nvSpPr>
        <p:spPr>
          <a:xfrm>
            <a:off x="0" y="4491000"/>
            <a:ext cx="417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1 — богатый железистыми клетками эпидермис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2 — костная чешуя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3 — соединительнотканный сло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964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Земноводны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537" name="Picture 4" descr="Земноводные"/>
          <p:cNvPicPr/>
          <p:nvPr/>
        </p:nvPicPr>
        <p:blipFill>
          <a:blip r:embed="rId1"/>
          <a:stretch/>
        </p:blipFill>
        <p:spPr>
          <a:xfrm>
            <a:off x="1763640" y="620640"/>
            <a:ext cx="547236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12:09:23Z</dcterms:created>
  <dc:creator>Серёга</dc:creator>
  <dc:description/>
  <dc:language>en-US</dc:language>
  <cp:lastModifiedBy>Liudmila Delarova</cp:lastModifiedBy>
  <dcterms:modified xsi:type="dcterms:W3CDTF">2020-04-10T09:55:32Z</dcterms:modified>
  <cp:revision>15</cp:revision>
  <dc:subject/>
  <dc:title>Эволюция покровов тела</dc:title>
</cp:coreProperties>
</file>