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34AA-9849-4714-A79C-09DE91FFCB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2B00-94AC-4E92-A38F-41B94DCE7D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9E20-F470-4A91-BFA0-0AD5CA9C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55AC-93AF-4FB8-9A90-2278D895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24BC-B0FE-4D7B-93F4-82D5D5EB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7980-06AF-462F-8D73-32D10E1F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953A-3443-47AA-98B0-EE337799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B2DE-A93B-4D2D-82BD-BB9C7913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74EF-044A-4167-A478-C51DB3BC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A056-FCF0-4079-A210-A55662B7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AE51-6947-4DB8-BB91-01FFB19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08CA-F52F-4B5E-BFDA-A097BFD9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1C10-1A54-4187-965C-27C43707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C48C-2BA7-4072-B970-1585D37C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15AC-3DBC-4972-86B1-6FC35DC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24A4-D3F6-40D2-AC22-C2F0E0A9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FD1D-BEB7-43D1-843D-DD383FFA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0FC3-C929-4E28-B493-DE812592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ED8-E8E1-41BA-8929-05F1BFF6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9035-12ED-4F40-99DE-BC52BA70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D015-7082-4D24-B8E2-3B1593A3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3FC3-8DEC-45CF-84E3-F9D9518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062D-86AB-4EE1-8714-EA03733C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E730-752A-4A84-B9D2-FC2A121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ADCF-52F2-41F1-9D91-20F0A772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B8F7-789F-4690-97E8-BB7315E5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BB69-F304-4A10-A2B9-5A576079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51D3-C585-4F2D-AEB4-1163EF2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0394-FF14-4CEC-BC6E-2E3A4AB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EFE0-1814-49A9-B271-E497DB64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7F2C-373B-463C-9F56-701E1E30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C7A7-8FDE-4E95-B989-10E8897B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C877-DFD7-4C06-8E5E-F9C509E7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A20A-30E3-47B2-8E75-EDEB27F0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E297-AB9B-4FFC-A71D-DD73699D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BC77-73DC-417C-90E2-A94BC83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8602-A02F-4E35-A6B4-2E7BC48D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F73A-BD31-4BD4-9FBD-D93A588A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2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E30-1E30-4447-A4A7-FF9ED53BE9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2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CA34-6D2A-4502-897D-BFFC2A424F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2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350-BAB3-43CF-9063-1DB6600E8E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6"/>
          <p:cNvSpPr txBox="1"/>
          <p:nvPr/>
        </p:nvSpPr>
        <p:spPr>
          <a:xfrm>
            <a:off x="2987640" y="1628640"/>
            <a:ext cx="4969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 rot="424200">
            <a:off x="1262160" y="3885480"/>
            <a:ext cx="2536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d4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ccccd4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ccccd4"/>
                </a:solidFill>
                <a:latin typeface="Arial"/>
              </a:rPr>
              <a:t>SO</a:t>
            </a:r>
            <a:r>
              <a:rPr b="1" lang="en-US" sz="4800" spc="-1" strike="noStrike" baseline="-25000">
                <a:solidFill>
                  <a:srgbClr val="ccccd4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95280" y="213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 rot="21069600">
            <a:off x="257760" y="2923560"/>
            <a:ext cx="187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492360" y="5157720"/>
            <a:ext cx="208764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Ca</a:t>
            </a:r>
            <a:r>
              <a:rPr b="1" lang="en-US" sz="4800" spc="-1" strike="noStrike">
                <a:solidFill>
                  <a:srgbClr val="ffc000"/>
                </a:solidFill>
                <a:latin typeface="Arial"/>
              </a:rPr>
              <a:t>SO</a:t>
            </a:r>
            <a:r>
              <a:rPr b="1" lang="ru-RU" sz="4400" spc="-1" strike="noStrike" baseline="-25000">
                <a:solidFill>
                  <a:srgbClr val="ffc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843280" y="90792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Генетическа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связ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 rot="946200">
            <a:off x="7668360" y="2492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 rot="21120600">
            <a:off x="6424200" y="310320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Ca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 rot="917400">
            <a:off x="5404680" y="404964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ccd4"/>
                </a:solidFill>
                <a:latin typeface="Arial"/>
              </a:rPr>
              <a:t>Ca(OH)</a:t>
            </a:r>
            <a:r>
              <a:rPr b="1" lang="ru-RU" sz="2800" spc="-1" strike="noStrike">
                <a:solidFill>
                  <a:srgbClr val="ccccd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900000" y="184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(OH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Прямая со стрелкой 3"/>
          <p:cNvCxnSpPr/>
          <p:nvPr/>
        </p:nvCxnSpPr>
        <p:spPr>
          <a:xfrm>
            <a:off x="2484000" y="2133720"/>
            <a:ext cx="648360" cy="21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92" name="TextBox 4"/>
          <p:cNvSpPr/>
          <p:nvPr/>
        </p:nvSpPr>
        <p:spPr>
          <a:xfrm>
            <a:off x="3564000" y="17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Прямая со стрелкой 6"/>
          <p:cNvCxnSpPr/>
          <p:nvPr/>
        </p:nvCxnSpPr>
        <p:spPr>
          <a:xfrm>
            <a:off x="4427640" y="2060640"/>
            <a:ext cx="576360" cy="216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94" name="TextBox 7"/>
          <p:cNvSpPr/>
          <p:nvPr/>
        </p:nvSpPr>
        <p:spPr>
          <a:xfrm>
            <a:off x="5364000" y="1700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5" name="Прямая со стрелкой 9"/>
          <p:cNvCxnSpPr/>
          <p:nvPr/>
        </p:nvCxnSpPr>
        <p:spPr>
          <a:xfrm>
            <a:off x="6659280" y="1988640"/>
            <a:ext cx="57708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96" name="TextBox 10"/>
          <p:cNvSpPr/>
          <p:nvPr/>
        </p:nvSpPr>
        <p:spPr>
          <a:xfrm>
            <a:off x="752472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270036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4643280" y="17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3"/>
          <p:cNvSpPr/>
          <p:nvPr/>
        </p:nvSpPr>
        <p:spPr>
          <a:xfrm>
            <a:off x="6804000" y="162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5"/>
          <p:cNvSpPr/>
          <p:nvPr/>
        </p:nvSpPr>
        <p:spPr>
          <a:xfrm>
            <a:off x="971640" y="2708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) Fe(OH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=  FeO + H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9"/>
          <p:cNvSpPr/>
          <p:nvPr/>
        </p:nvSpPr>
        <p:spPr>
          <a:xfrm>
            <a:off x="971640" y="3573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) FeO  +  H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= Fe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+ H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971640" y="4581360"/>
            <a:ext cx="57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) Fe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+ Mg  =  Fe  + MgSO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214200" y="60958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5977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a50021"/>
                </a:solidFill>
                <a:latin typeface="Arial"/>
              </a:rPr>
              <a:t>Простое веществ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7" descr="MCj04339190000[1]"/>
          <p:cNvPicPr/>
          <p:nvPr/>
        </p:nvPicPr>
        <p:blipFill>
          <a:blip r:embed="rId1"/>
          <a:stretch/>
        </p:blipFill>
        <p:spPr>
          <a:xfrm>
            <a:off x="971640" y="5013360"/>
            <a:ext cx="2736720" cy="17254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468360" y="1628640"/>
            <a:ext cx="367200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Мета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Na, Fe, 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Твердые вещества (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ов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Электропровод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Имеют металлический бле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4284720" y="1484280"/>
            <a:ext cx="3887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та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, 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ые, газообразные, жидкие ве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лектропровод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уп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меют металлического бл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11" descr="sulfur01"/>
          <p:cNvPicPr/>
          <p:nvPr/>
        </p:nvPicPr>
        <p:blipFill>
          <a:blip r:embed="rId2"/>
          <a:stretch/>
        </p:blipFill>
        <p:spPr>
          <a:xfrm>
            <a:off x="4572000" y="4797360"/>
            <a:ext cx="3095640" cy="1927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7"/>
          <p:cNvSpPr/>
          <p:nvPr/>
        </p:nvSpPr>
        <p:spPr>
          <a:xfrm>
            <a:off x="142920" y="6093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2"/>
          <p:cNvSpPr/>
          <p:nvPr/>
        </p:nvSpPr>
        <p:spPr>
          <a:xfrm>
            <a:off x="1763640" y="1197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2268360" y="242100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§ 3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упр. 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( а,б,е,з) стр.1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5" descr="j0299125"/>
          <p:cNvPicPr/>
          <p:nvPr/>
        </p:nvPicPr>
        <p:blipFill>
          <a:blip r:embed="rId1"/>
          <a:stretch/>
        </p:blipFill>
        <p:spPr>
          <a:xfrm>
            <a:off x="179280" y="2276640"/>
            <a:ext cx="2592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155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1155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4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6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74516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ссификация неорганических соедин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029760" y="166860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971640" y="2421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536400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250920" y="34671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мета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2050920" y="35002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немета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4143240" y="314316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окс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4929120" y="443700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6286680" y="30812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7286760" y="4143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2"/>
          <p:cNvSpPr/>
          <p:nvPr/>
        </p:nvSpPr>
        <p:spPr>
          <a:xfrm>
            <a:off x="1835280" y="22050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3"/>
          <p:cNvSpPr/>
          <p:nvPr/>
        </p:nvSpPr>
        <p:spPr>
          <a:xfrm>
            <a:off x="826920" y="285264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44"/>
          <p:cNvSpPr/>
          <p:nvPr/>
        </p:nvSpPr>
        <p:spPr>
          <a:xfrm>
            <a:off x="183528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6588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 flipV="1">
            <a:off x="4429080" y="2852640"/>
            <a:ext cx="35006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8"/>
          <p:cNvSpPr/>
          <p:nvPr/>
        </p:nvSpPr>
        <p:spPr>
          <a:xfrm>
            <a:off x="8269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49"/>
          <p:cNvSpPr/>
          <p:nvPr/>
        </p:nvSpPr>
        <p:spPr>
          <a:xfrm>
            <a:off x="2987640" y="28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0"/>
          <p:cNvSpPr/>
          <p:nvPr/>
        </p:nvSpPr>
        <p:spPr>
          <a:xfrm flipH="1">
            <a:off x="4429080" y="292896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1"/>
          <p:cNvSpPr/>
          <p:nvPr/>
        </p:nvSpPr>
        <p:spPr>
          <a:xfrm flipH="1">
            <a:off x="5857920" y="2857680"/>
            <a:ext cx="7128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52"/>
          <p:cNvSpPr/>
          <p:nvPr/>
        </p:nvSpPr>
        <p:spPr>
          <a:xfrm>
            <a:off x="7072200" y="2857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3"/>
          <p:cNvSpPr/>
          <p:nvPr/>
        </p:nvSpPr>
        <p:spPr>
          <a:xfrm>
            <a:off x="7929720" y="28576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250920" y="3284640"/>
            <a:ext cx="1866960" cy="648720"/>
            <a:chOff x="250920" y="3284640"/>
            <a:chExt cx="1866960" cy="648720"/>
          </a:xfrm>
        </p:grpSpPr>
        <p:sp>
          <p:nvSpPr>
            <p:cNvPr id="209" name="Rectangle 3"/>
            <p:cNvSpPr/>
            <p:nvPr/>
          </p:nvSpPr>
          <p:spPr>
            <a:xfrm>
              <a:off x="250920" y="33192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87440" y="328464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5"/>
          <p:cNvGrpSpPr/>
          <p:nvPr/>
        </p:nvGrpSpPr>
        <p:grpSpPr>
          <a:xfrm>
            <a:off x="250920" y="2565360"/>
            <a:ext cx="1868400" cy="648720"/>
            <a:chOff x="250920" y="2565360"/>
            <a:chExt cx="1868400" cy="648720"/>
          </a:xfrm>
        </p:grpSpPr>
        <p:sp>
          <p:nvSpPr>
            <p:cNvPr id="212" name="Rectangle 6"/>
            <p:cNvSpPr/>
            <p:nvPr/>
          </p:nvSpPr>
          <p:spPr>
            <a:xfrm>
              <a:off x="250920" y="260028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357120" y="256536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250920" y="1844640"/>
            <a:ext cx="1866960" cy="609120"/>
            <a:chOff x="250920" y="1844640"/>
            <a:chExt cx="1866960" cy="609120"/>
          </a:xfrm>
        </p:grpSpPr>
        <p:sp>
          <p:nvSpPr>
            <p:cNvPr id="215" name="Rectangle 9"/>
            <p:cNvSpPr/>
            <p:nvPr/>
          </p:nvSpPr>
          <p:spPr>
            <a:xfrm>
              <a:off x="250920" y="187452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658800" y="18446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B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250920" y="4005360"/>
            <a:ext cx="1868400" cy="605880"/>
            <a:chOff x="250920" y="4005360"/>
            <a:chExt cx="1868400" cy="605880"/>
          </a:xfrm>
        </p:grpSpPr>
        <p:sp>
          <p:nvSpPr>
            <p:cNvPr id="218" name="Rectangle 12"/>
            <p:cNvSpPr/>
            <p:nvPr/>
          </p:nvSpPr>
          <p:spPr>
            <a:xfrm>
              <a:off x="250920" y="403200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430200" y="400536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g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250920" y="5445000"/>
            <a:ext cx="1866960" cy="606240"/>
            <a:chOff x="250920" y="5445000"/>
            <a:chExt cx="1866960" cy="606240"/>
          </a:xfrm>
        </p:grpSpPr>
        <p:sp>
          <p:nvSpPr>
            <p:cNvPr id="221" name="Rectangle 15"/>
            <p:cNvSpPr/>
            <p:nvPr/>
          </p:nvSpPr>
          <p:spPr>
            <a:xfrm>
              <a:off x="250920" y="547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415800" y="544500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250920" y="4724280"/>
            <a:ext cx="1866960" cy="648720"/>
            <a:chOff x="250920" y="4724280"/>
            <a:chExt cx="1866960" cy="648720"/>
          </a:xfrm>
        </p:grpSpPr>
        <p:sp>
          <p:nvSpPr>
            <p:cNvPr id="224" name="Rectangle 18"/>
            <p:cNvSpPr/>
            <p:nvPr/>
          </p:nvSpPr>
          <p:spPr>
            <a:xfrm>
              <a:off x="250920" y="47433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487440" y="472428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20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227" name="Rectangle 21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2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3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7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30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31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32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33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34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35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36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37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39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40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WordArt 41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Text Box 42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оксидов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0.29966 -0.04467 E">
                                      <p:cBhvr>
                                        <p:cTn id="6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0.51216 0.03982 E">
                                      <p:cBhvr>
                                        <p:cTn id="7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903 L 0.29966 0.12477 E">
                                      <p:cBhvr>
                                        <p:cTn id="78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96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97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5"/>
          <p:cNvGrpSpPr/>
          <p:nvPr/>
        </p:nvGrpSpPr>
        <p:grpSpPr>
          <a:xfrm>
            <a:off x="250920" y="1916280"/>
            <a:ext cx="1866960" cy="648720"/>
            <a:chOff x="250920" y="1916280"/>
            <a:chExt cx="1866960" cy="648720"/>
          </a:xfrm>
        </p:grpSpPr>
        <p:sp>
          <p:nvSpPr>
            <p:cNvPr id="250" name="Rectangle 26"/>
            <p:cNvSpPr/>
            <p:nvPr/>
          </p:nvSpPr>
          <p:spPr>
            <a:xfrm>
              <a:off x="250920" y="195084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27"/>
            <p:cNvSpPr/>
            <p:nvPr/>
          </p:nvSpPr>
          <p:spPr>
            <a:xfrm>
              <a:off x="487440" y="191628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28"/>
          <p:cNvGrpSpPr/>
          <p:nvPr/>
        </p:nvGrpSpPr>
        <p:grpSpPr>
          <a:xfrm>
            <a:off x="270000" y="2635200"/>
            <a:ext cx="1868400" cy="648720"/>
            <a:chOff x="270000" y="2635200"/>
            <a:chExt cx="1868400" cy="648720"/>
          </a:xfrm>
        </p:grpSpPr>
        <p:sp>
          <p:nvSpPr>
            <p:cNvPr id="253" name="Rectangle 29"/>
            <p:cNvSpPr/>
            <p:nvPr/>
          </p:nvSpPr>
          <p:spPr>
            <a:xfrm>
              <a:off x="270000" y="267012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30"/>
            <p:cNvSpPr/>
            <p:nvPr/>
          </p:nvSpPr>
          <p:spPr>
            <a:xfrm>
              <a:off x="376200" y="263520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31"/>
          <p:cNvGrpSpPr/>
          <p:nvPr/>
        </p:nvGrpSpPr>
        <p:grpSpPr>
          <a:xfrm>
            <a:off x="270000" y="3325680"/>
            <a:ext cx="1866600" cy="648720"/>
            <a:chOff x="270000" y="3325680"/>
            <a:chExt cx="1866600" cy="648720"/>
          </a:xfrm>
        </p:grpSpPr>
        <p:sp>
          <p:nvSpPr>
            <p:cNvPr id="256" name="Rectangle 32"/>
            <p:cNvSpPr/>
            <p:nvPr/>
          </p:nvSpPr>
          <p:spPr>
            <a:xfrm>
              <a:off x="270000" y="3355920"/>
              <a:ext cx="18666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33"/>
            <p:cNvSpPr/>
            <p:nvPr/>
          </p:nvSpPr>
          <p:spPr>
            <a:xfrm>
              <a:off x="677520" y="3325680"/>
              <a:ext cx="107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Group 34"/>
          <p:cNvGrpSpPr/>
          <p:nvPr/>
        </p:nvGrpSpPr>
        <p:grpSpPr>
          <a:xfrm>
            <a:off x="270000" y="4049640"/>
            <a:ext cx="1868400" cy="606600"/>
            <a:chOff x="270000" y="4049640"/>
            <a:chExt cx="1868400" cy="606600"/>
          </a:xfrm>
        </p:grpSpPr>
        <p:sp>
          <p:nvSpPr>
            <p:cNvPr id="259" name="Rectangle 35"/>
            <p:cNvSpPr/>
            <p:nvPr/>
          </p:nvSpPr>
          <p:spPr>
            <a:xfrm>
              <a:off x="270000" y="40766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6"/>
            <p:cNvSpPr/>
            <p:nvPr/>
          </p:nvSpPr>
          <p:spPr>
            <a:xfrm>
              <a:off x="449280" y="404964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7"/>
          <p:cNvGrpSpPr/>
          <p:nvPr/>
        </p:nvGrpSpPr>
        <p:grpSpPr>
          <a:xfrm>
            <a:off x="270000" y="4768920"/>
            <a:ext cx="1866600" cy="606240"/>
            <a:chOff x="270000" y="4768920"/>
            <a:chExt cx="1866600" cy="606240"/>
          </a:xfrm>
        </p:grpSpPr>
        <p:sp>
          <p:nvSpPr>
            <p:cNvPr id="262" name="Rectangle 38"/>
            <p:cNvSpPr/>
            <p:nvPr/>
          </p:nvSpPr>
          <p:spPr>
            <a:xfrm>
              <a:off x="270000" y="479592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39"/>
            <p:cNvSpPr/>
            <p:nvPr/>
          </p:nvSpPr>
          <p:spPr>
            <a:xfrm>
              <a:off x="434520" y="476892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40"/>
          <p:cNvGrpSpPr/>
          <p:nvPr/>
        </p:nvGrpSpPr>
        <p:grpSpPr>
          <a:xfrm>
            <a:off x="270000" y="5497560"/>
            <a:ext cx="1866600" cy="648720"/>
            <a:chOff x="270000" y="5497560"/>
            <a:chExt cx="1866600" cy="648720"/>
          </a:xfrm>
        </p:grpSpPr>
        <p:sp>
          <p:nvSpPr>
            <p:cNvPr id="265" name="Rectangle 41"/>
            <p:cNvSpPr/>
            <p:nvPr/>
          </p:nvSpPr>
          <p:spPr>
            <a:xfrm>
              <a:off x="270000" y="551664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2"/>
            <p:cNvSpPr/>
            <p:nvPr/>
          </p:nvSpPr>
          <p:spPr>
            <a:xfrm>
              <a:off x="506160" y="5497560"/>
              <a:ext cx="143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43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268" name="Rectangle 2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3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5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5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6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7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9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0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21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2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23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24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WordArt 44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Text Box 45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кислот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0.29966 0.15487 E">
                                      <p:cBhvr>
                                        <p:cTn id="12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L 0.51007 0.03334 E">
                                      <p:cBhvr>
                                        <p:cTn id="125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29757 0.0118 E">
                                      <p:cBhvr>
                                        <p:cTn id="13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36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37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48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1"/>
          <p:cNvGrpSpPr/>
          <p:nvPr/>
        </p:nvGrpSpPr>
        <p:grpSpPr>
          <a:xfrm>
            <a:off x="250920" y="1916280"/>
            <a:ext cx="1944720" cy="648720"/>
            <a:chOff x="250920" y="1916280"/>
            <a:chExt cx="1944720" cy="648720"/>
          </a:xfrm>
        </p:grpSpPr>
        <p:sp>
          <p:nvSpPr>
            <p:cNvPr id="291" name="Rectangle 3"/>
            <p:cNvSpPr/>
            <p:nvPr/>
          </p:nvSpPr>
          <p:spPr>
            <a:xfrm>
              <a:off x="250920" y="19512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4"/>
            <p:cNvSpPr/>
            <p:nvPr/>
          </p:nvSpPr>
          <p:spPr>
            <a:xfrm>
              <a:off x="324000" y="1916280"/>
              <a:ext cx="18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(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)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5"/>
          <p:cNvGrpSpPr/>
          <p:nvPr/>
        </p:nvGrpSpPr>
        <p:grpSpPr>
          <a:xfrm>
            <a:off x="270000" y="2635200"/>
            <a:ext cx="1868400" cy="648720"/>
            <a:chOff x="270000" y="2635200"/>
            <a:chExt cx="1868400" cy="648720"/>
          </a:xfrm>
        </p:grpSpPr>
        <p:sp>
          <p:nvSpPr>
            <p:cNvPr id="294" name="Rectangle 6"/>
            <p:cNvSpPr/>
            <p:nvPr/>
          </p:nvSpPr>
          <p:spPr>
            <a:xfrm>
              <a:off x="270000" y="267012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376200" y="263520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8"/>
          <p:cNvGrpSpPr/>
          <p:nvPr/>
        </p:nvGrpSpPr>
        <p:grpSpPr>
          <a:xfrm>
            <a:off x="270000" y="3325680"/>
            <a:ext cx="1866600" cy="609840"/>
            <a:chOff x="270000" y="3325680"/>
            <a:chExt cx="1866600" cy="609840"/>
          </a:xfrm>
        </p:grpSpPr>
        <p:sp>
          <p:nvSpPr>
            <p:cNvPr id="297" name="Rectangle 9"/>
            <p:cNvSpPr/>
            <p:nvPr/>
          </p:nvSpPr>
          <p:spPr>
            <a:xfrm>
              <a:off x="270000" y="3355920"/>
              <a:ext cx="18666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677520" y="33256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11"/>
          <p:cNvGrpSpPr/>
          <p:nvPr/>
        </p:nvGrpSpPr>
        <p:grpSpPr>
          <a:xfrm>
            <a:off x="270000" y="4049640"/>
            <a:ext cx="1868400" cy="606600"/>
            <a:chOff x="270000" y="4049640"/>
            <a:chExt cx="1868400" cy="606600"/>
          </a:xfrm>
        </p:grpSpPr>
        <p:sp>
          <p:nvSpPr>
            <p:cNvPr id="300" name="Rectangle 12"/>
            <p:cNvSpPr/>
            <p:nvPr/>
          </p:nvSpPr>
          <p:spPr>
            <a:xfrm>
              <a:off x="270000" y="40766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449280" y="404964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u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Group 42"/>
          <p:cNvGrpSpPr/>
          <p:nvPr/>
        </p:nvGrpSpPr>
        <p:grpSpPr>
          <a:xfrm>
            <a:off x="270000" y="4768920"/>
            <a:ext cx="1866600" cy="648720"/>
            <a:chOff x="270000" y="4768920"/>
            <a:chExt cx="1866600" cy="648720"/>
          </a:xfrm>
        </p:grpSpPr>
        <p:sp>
          <p:nvSpPr>
            <p:cNvPr id="303" name="Rectangle 15"/>
            <p:cNvSpPr/>
            <p:nvPr/>
          </p:nvSpPr>
          <p:spPr>
            <a:xfrm>
              <a:off x="270000" y="479592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434880" y="4768920"/>
              <a:ext cx="1616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N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17"/>
          <p:cNvGrpSpPr/>
          <p:nvPr/>
        </p:nvGrpSpPr>
        <p:grpSpPr>
          <a:xfrm>
            <a:off x="270000" y="5497560"/>
            <a:ext cx="1866600" cy="598320"/>
            <a:chOff x="270000" y="5497560"/>
            <a:chExt cx="1866600" cy="598320"/>
          </a:xfrm>
        </p:grpSpPr>
        <p:sp>
          <p:nvSpPr>
            <p:cNvPr id="306" name="Rectangle 18"/>
            <p:cNvSpPr/>
            <p:nvPr/>
          </p:nvSpPr>
          <p:spPr>
            <a:xfrm>
              <a:off x="270000" y="5516640"/>
              <a:ext cx="18666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19"/>
            <p:cNvSpPr/>
            <p:nvPr/>
          </p:nvSpPr>
          <p:spPr>
            <a:xfrm>
              <a:off x="506160" y="5497560"/>
              <a:ext cx="143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20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309" name="Rectangle 21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22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3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24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25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26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27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8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9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30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31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32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3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4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35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36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37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38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39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40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WordArt 43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Text Box 44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оснований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L 0.51007 0.03334 E">
                                      <p:cBhvr>
                                        <p:cTn id="172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29757 0.0118 E">
                                      <p:cBhvr>
                                        <p:cTn id="17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7407E-006 L 0.29549 0.15487 E">
                                      <p:cBhvr>
                                        <p:cTn id="2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13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250920" y="3284640"/>
            <a:ext cx="1866960" cy="648720"/>
            <a:chOff x="250920" y="3284640"/>
            <a:chExt cx="1866960" cy="648720"/>
          </a:xfrm>
        </p:grpSpPr>
        <p:sp>
          <p:nvSpPr>
            <p:cNvPr id="332" name="Rectangle 3"/>
            <p:cNvSpPr/>
            <p:nvPr/>
          </p:nvSpPr>
          <p:spPr>
            <a:xfrm>
              <a:off x="250920" y="33192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"/>
            <p:cNvSpPr/>
            <p:nvPr/>
          </p:nvSpPr>
          <p:spPr>
            <a:xfrm>
              <a:off x="487440" y="328464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5"/>
          <p:cNvGrpSpPr/>
          <p:nvPr/>
        </p:nvGrpSpPr>
        <p:grpSpPr>
          <a:xfrm>
            <a:off x="250920" y="2565360"/>
            <a:ext cx="1868400" cy="648720"/>
            <a:chOff x="250920" y="2565360"/>
            <a:chExt cx="1868400" cy="648720"/>
          </a:xfrm>
        </p:grpSpPr>
        <p:sp>
          <p:nvSpPr>
            <p:cNvPr id="335" name="Rectangle 6"/>
            <p:cNvSpPr/>
            <p:nvPr/>
          </p:nvSpPr>
          <p:spPr>
            <a:xfrm>
              <a:off x="250920" y="260028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7"/>
            <p:cNvSpPr/>
            <p:nvPr/>
          </p:nvSpPr>
          <p:spPr>
            <a:xfrm>
              <a:off x="357120" y="2565360"/>
              <a:ext cx="158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СО</a:t>
              </a:r>
              <a:r>
                <a:rPr b="1" lang="ru-RU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8"/>
          <p:cNvGrpSpPr/>
          <p:nvPr/>
        </p:nvGrpSpPr>
        <p:grpSpPr>
          <a:xfrm>
            <a:off x="250920" y="1844640"/>
            <a:ext cx="1866960" cy="648720"/>
            <a:chOff x="250920" y="1844640"/>
            <a:chExt cx="1866960" cy="648720"/>
          </a:xfrm>
        </p:grpSpPr>
        <p:sp>
          <p:nvSpPr>
            <p:cNvPr id="338" name="Rectangle 9"/>
            <p:cNvSpPr/>
            <p:nvPr/>
          </p:nvSpPr>
          <p:spPr>
            <a:xfrm>
              <a:off x="250920" y="187452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658800" y="1844640"/>
              <a:ext cx="107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11"/>
          <p:cNvGrpSpPr/>
          <p:nvPr/>
        </p:nvGrpSpPr>
        <p:grpSpPr>
          <a:xfrm>
            <a:off x="250920" y="4005360"/>
            <a:ext cx="1868400" cy="648720"/>
            <a:chOff x="250920" y="4005360"/>
            <a:chExt cx="1868400" cy="648720"/>
          </a:xfrm>
        </p:grpSpPr>
        <p:sp>
          <p:nvSpPr>
            <p:cNvPr id="341" name="Rectangle 12"/>
            <p:cNvSpPr/>
            <p:nvPr/>
          </p:nvSpPr>
          <p:spPr>
            <a:xfrm>
              <a:off x="250920" y="4032000"/>
              <a:ext cx="18684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430200" y="4005360"/>
              <a:ext cx="144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KNO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4"/>
          <p:cNvGrpSpPr/>
          <p:nvPr/>
        </p:nvGrpSpPr>
        <p:grpSpPr>
          <a:xfrm>
            <a:off x="250920" y="5445000"/>
            <a:ext cx="1866960" cy="606240"/>
            <a:chOff x="250920" y="5445000"/>
            <a:chExt cx="1866960" cy="606240"/>
          </a:xfrm>
        </p:grpSpPr>
        <p:sp>
          <p:nvSpPr>
            <p:cNvPr id="344" name="Rectangle 15"/>
            <p:cNvSpPr/>
            <p:nvPr/>
          </p:nvSpPr>
          <p:spPr>
            <a:xfrm>
              <a:off x="250920" y="547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6"/>
            <p:cNvSpPr/>
            <p:nvPr/>
          </p:nvSpPr>
          <p:spPr>
            <a:xfrm>
              <a:off x="415800" y="544500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7"/>
          <p:cNvGrpSpPr/>
          <p:nvPr/>
        </p:nvGrpSpPr>
        <p:grpSpPr>
          <a:xfrm>
            <a:off x="250920" y="4724280"/>
            <a:ext cx="1866960" cy="648720"/>
            <a:chOff x="250920" y="4724280"/>
            <a:chExt cx="1866960" cy="648720"/>
          </a:xfrm>
        </p:grpSpPr>
        <p:sp>
          <p:nvSpPr>
            <p:cNvPr id="347" name="Rectangle 18"/>
            <p:cNvSpPr/>
            <p:nvPr/>
          </p:nvSpPr>
          <p:spPr>
            <a:xfrm>
              <a:off x="250920" y="47433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9"/>
            <p:cNvSpPr/>
            <p:nvPr/>
          </p:nvSpPr>
          <p:spPr>
            <a:xfrm>
              <a:off x="487440" y="4724280"/>
              <a:ext cx="1439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Cl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0"/>
          <p:cNvGrpSpPr/>
          <p:nvPr/>
        </p:nvGrpSpPr>
        <p:grpSpPr>
          <a:xfrm>
            <a:off x="2787480" y="1403280"/>
            <a:ext cx="6121440" cy="4765680"/>
            <a:chOff x="2787480" y="1403280"/>
            <a:chExt cx="6121440" cy="4765680"/>
          </a:xfrm>
        </p:grpSpPr>
        <p:sp>
          <p:nvSpPr>
            <p:cNvPr id="350" name="Rectangle 21"/>
            <p:cNvSpPr/>
            <p:nvPr/>
          </p:nvSpPr>
          <p:spPr>
            <a:xfrm>
              <a:off x="7040520" y="1531800"/>
              <a:ext cx="514440" cy="96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22"/>
            <p:cNvSpPr/>
            <p:nvPr/>
          </p:nvSpPr>
          <p:spPr>
            <a:xfrm>
              <a:off x="6975360" y="1403280"/>
              <a:ext cx="644760" cy="320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23"/>
            <p:cNvSpPr/>
            <p:nvPr/>
          </p:nvSpPr>
          <p:spPr>
            <a:xfrm>
              <a:off x="4913280" y="558936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4"/>
            <p:cNvSpPr/>
            <p:nvPr/>
          </p:nvSpPr>
          <p:spPr>
            <a:xfrm>
              <a:off x="6846840" y="558936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25"/>
            <p:cNvSpPr/>
            <p:nvPr/>
          </p:nvSpPr>
          <p:spPr>
            <a:xfrm>
              <a:off x="298296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26"/>
            <p:cNvSpPr/>
            <p:nvPr/>
          </p:nvSpPr>
          <p:spPr>
            <a:xfrm>
              <a:off x="588168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27"/>
            <p:cNvSpPr/>
            <p:nvPr/>
          </p:nvSpPr>
          <p:spPr>
            <a:xfrm>
              <a:off x="3948120" y="494496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8"/>
            <p:cNvSpPr/>
            <p:nvPr/>
          </p:nvSpPr>
          <p:spPr>
            <a:xfrm>
              <a:off x="3819600" y="36576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9"/>
            <p:cNvSpPr/>
            <p:nvPr/>
          </p:nvSpPr>
          <p:spPr>
            <a:xfrm>
              <a:off x="6846840" y="4302000"/>
              <a:ext cx="18669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30"/>
            <p:cNvSpPr/>
            <p:nvPr/>
          </p:nvSpPr>
          <p:spPr>
            <a:xfrm>
              <a:off x="5751360" y="3657600"/>
              <a:ext cx="186876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31"/>
            <p:cNvSpPr/>
            <p:nvPr/>
          </p:nvSpPr>
          <p:spPr>
            <a:xfrm>
              <a:off x="6846840" y="3012840"/>
              <a:ext cx="186696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32"/>
            <p:cNvSpPr/>
            <p:nvPr/>
          </p:nvSpPr>
          <p:spPr>
            <a:xfrm>
              <a:off x="4913280" y="3012840"/>
              <a:ext cx="1868400" cy="5796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33"/>
            <p:cNvSpPr/>
            <p:nvPr/>
          </p:nvSpPr>
          <p:spPr>
            <a:xfrm>
              <a:off x="7813800" y="4944960"/>
              <a:ext cx="90144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34"/>
            <p:cNvSpPr/>
            <p:nvPr/>
          </p:nvSpPr>
          <p:spPr>
            <a:xfrm>
              <a:off x="7684920" y="3657600"/>
              <a:ext cx="103032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35"/>
            <p:cNvSpPr/>
            <p:nvPr/>
          </p:nvSpPr>
          <p:spPr>
            <a:xfrm>
              <a:off x="2982960" y="4944960"/>
              <a:ext cx="90000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36"/>
            <p:cNvSpPr/>
            <p:nvPr/>
          </p:nvSpPr>
          <p:spPr>
            <a:xfrm>
              <a:off x="2982960" y="3657600"/>
              <a:ext cx="769680" cy="57924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37"/>
            <p:cNvSpPr/>
            <p:nvPr/>
          </p:nvSpPr>
          <p:spPr>
            <a:xfrm>
              <a:off x="2787480" y="1466640"/>
              <a:ext cx="6121440" cy="1481040"/>
            </a:xfrm>
            <a:prstGeom prst="triangle">
              <a:avLst>
                <a:gd name="adj" fmla="val 5000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8"/>
            <p:cNvSpPr/>
            <p:nvPr/>
          </p:nvSpPr>
          <p:spPr>
            <a:xfrm rot="5400000">
              <a:off x="6251040" y="3858840"/>
              <a:ext cx="2641680" cy="1933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9"/>
            <p:cNvSpPr/>
            <p:nvPr/>
          </p:nvSpPr>
          <p:spPr>
            <a:xfrm rot="5400000">
              <a:off x="6604920" y="4408200"/>
              <a:ext cx="1997280" cy="965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40"/>
            <p:cNvSpPr/>
            <p:nvPr/>
          </p:nvSpPr>
          <p:spPr>
            <a:xfrm rot="16200000">
              <a:off x="8261280" y="465696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1159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WordArt 41"/>
          <p:cNvSpPr txBox="1"/>
          <p:nvPr/>
        </p:nvSpPr>
        <p:spPr>
          <a:xfrm>
            <a:off x="1908000" y="42840"/>
            <a:ext cx="633600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классы неорганических соедин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1547640" y="40464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моги построить домик. Найди кирпичики на которых формулы солей. Не ошибайся. Твои ошибки увидят вс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0.29966 -0.04467 E">
                                      <p:cBhvr>
                                        <p:cTn id="2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0.51216 0.03982 E">
                                      <p:cBhvr>
                                        <p:cTn id="2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903 L 0.29966 0.12477 E">
                                      <p:cBhvr>
                                        <p:cTn id="23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53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900000" y="1268280"/>
            <a:ext cx="78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H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S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NaCl,   Ba(OH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)2,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  H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O,    S,     BaO,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,    S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HN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 BaSO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,       MgO,      K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755640" y="32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Прямая со стрелкой 4"/>
          <p:cNvCxnSpPr/>
          <p:nvPr/>
        </p:nvCxnSpPr>
        <p:spPr>
          <a:xfrm>
            <a:off x="1547640" y="3499920"/>
            <a:ext cx="72144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75" name="TextBox 8"/>
          <p:cNvSpPr/>
          <p:nvPr/>
        </p:nvSpPr>
        <p:spPr>
          <a:xfrm>
            <a:off x="2484360" y="3213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" name="Прямая со стрелкой 10"/>
          <p:cNvCxnSpPr/>
          <p:nvPr/>
        </p:nvCxnSpPr>
        <p:spPr>
          <a:xfrm>
            <a:off x="3564000" y="3499920"/>
            <a:ext cx="72144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77" name="TextBox 11"/>
          <p:cNvSpPr/>
          <p:nvPr/>
        </p:nvSpPr>
        <p:spPr>
          <a:xfrm>
            <a:off x="4572000" y="321300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Ba(OH)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8" name="Прямая со стрелкой 13"/>
          <p:cNvCxnSpPr/>
          <p:nvPr/>
        </p:nvCxnSpPr>
        <p:spPr>
          <a:xfrm>
            <a:off x="6156000" y="3428640"/>
            <a:ext cx="864360" cy="1447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79" name="TextBox 14"/>
          <p:cNvSpPr/>
          <p:nvPr/>
        </p:nvSpPr>
        <p:spPr>
          <a:xfrm>
            <a:off x="7308720" y="3500280"/>
            <a:ext cx="11368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  <a:ea typeface="Arial"/>
              </a:rPr>
              <a:t>BaSO</a:t>
            </a:r>
            <a:r>
              <a:rPr b="1" lang="ru-RU" sz="1600" spc="-1" strike="noStrike">
                <a:solidFill>
                  <a:srgbClr val="00004d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6"/>
          <p:cNvSpPr/>
          <p:nvPr/>
        </p:nvSpPr>
        <p:spPr>
          <a:xfrm>
            <a:off x="75564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Прямая со стрелкой 18"/>
          <p:cNvCxnSpPr/>
          <p:nvPr/>
        </p:nvCxnSpPr>
        <p:spPr>
          <a:xfrm>
            <a:off x="1547640" y="4076280"/>
            <a:ext cx="72144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82" name="TextBox 19"/>
          <p:cNvSpPr/>
          <p:nvPr/>
        </p:nvSpPr>
        <p:spPr>
          <a:xfrm>
            <a:off x="2556000" y="378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SO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Прямая со стрелкой 21"/>
          <p:cNvCxnSpPr/>
          <p:nvPr/>
        </p:nvCxnSpPr>
        <p:spPr>
          <a:xfrm>
            <a:off x="3492000" y="4076280"/>
            <a:ext cx="793080" cy="252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sp>
        <p:nvSpPr>
          <p:cNvPr id="384" name="TextBox 22"/>
          <p:cNvSpPr/>
          <p:nvPr/>
        </p:nvSpPr>
        <p:spPr>
          <a:xfrm>
            <a:off x="4643280" y="3789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H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SO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5" name="Прямая со стрелкой 25"/>
          <p:cNvCxnSpPr/>
          <p:nvPr/>
        </p:nvCxnSpPr>
        <p:spPr>
          <a:xfrm flipV="1">
            <a:off x="6227280" y="3860280"/>
            <a:ext cx="793080" cy="1454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Генетический ряд -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Arial"/>
              </a:rPr>
              <a:t>это ряд веществ, содержащих в своем составе один и тот химический элем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19280" y="1052280"/>
            <a:ext cx="7345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Генетический ряд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ростое вещество</a:t>
            </a:r>
            <a:r>
              <a:rPr b="1" i="1" lang="ru-RU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оксид  </a:t>
            </a:r>
            <a:r>
              <a:rPr b="1" i="1" lang="ru-RU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гидроксид  </a:t>
            </a:r>
            <a:r>
              <a:rPr b="1" i="1" lang="ru-RU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соль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еталл</a:t>
            </a:r>
            <a:r>
              <a:rPr b="1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сновный оксид</a:t>
            </a:r>
            <a:r>
              <a:rPr b="1" lang="ru-R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снование</a:t>
            </a:r>
            <a:r>
              <a:rPr b="1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тный окси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та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5:01:50Z</dcterms:created>
  <dc:creator>1</dc:creator>
  <dc:description/>
  <dc:language>en-US</dc:language>
  <cp:lastModifiedBy>By_Lex</cp:lastModifiedBy>
  <dcterms:modified xsi:type="dcterms:W3CDTF">2014-11-06T10:10:38Z</dcterms:modified>
  <cp:revision>61</cp:revision>
  <dc:subject/>
  <dc:title>Слайд 1</dc:title>
</cp:coreProperties>
</file>