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EA8-41C7-422C-9895-CD5FCC848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A323-9DAB-4297-A4F1-E5090BEBC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6082-DBD3-472B-9810-A505C044E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378B-9432-413A-81A3-7EAEAB4AE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FB97-7F85-4EF8-8B98-0890024EF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5F8-D775-49F8-BE1D-9DBE4BCAE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5009-7D1F-47CE-A4BE-0004F6AA2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A82B-1077-44B9-AD89-9BC0C0D9E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D3B4-52E6-49C2-85BF-9726080B7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F17-20F0-4579-90CF-751672E8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B78-023A-4DC9-8D72-E9929CF9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623-1C8F-4E38-84A2-760DB9A6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862-C6D1-483A-B833-AB93F8A9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CD4-1606-46A0-B134-163FBC0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16F-283D-4A67-AF0E-98FDFD4D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665-3945-42E8-9038-45E3A489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8E0-C899-4AFB-A810-AC6077FC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A3D-833A-47F8-A0FB-3CCC3AF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EC7-5F26-4A3C-A7BC-5EBE573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1EB-964A-44AE-820B-4B14FF2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7F7-F311-44D9-B095-4890BB0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393E-C2D4-47A9-942E-B8E2AE28C4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933480" y="212760"/>
            <a:ext cx="8101080" cy="24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00100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85840" y="564372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оспитатель: Колесникова Д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D:\РАЗНЫЕ КАРТИНКИ\открытки\9 мая\9may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еоргиевская лента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– это лента от ордена св. Георгия, утверждённого в начале 18-ого века, как ордена за доблесть, проявленную в реальном бою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D:\РАЗНЫЕ КАРТИНКИ\открытки\9 мая\л.jpg"/>
          <p:cNvPicPr/>
          <p:nvPr/>
        </p:nvPicPr>
        <p:blipFill>
          <a:blip r:embed="rId1"/>
          <a:stretch/>
        </p:blipFill>
        <p:spPr>
          <a:xfrm>
            <a:off x="285840" y="4214880"/>
            <a:ext cx="5643360" cy="238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РАЗНЫЕ КАРТИНКИ\открытки\9 мая\орден.jpg"/>
          <p:cNvPicPr/>
          <p:nvPr/>
        </p:nvPicPr>
        <p:blipFill>
          <a:blip r:embed="rId2"/>
          <a:stretch/>
        </p:blipFill>
        <p:spPr>
          <a:xfrm>
            <a:off x="6072120" y="2643120"/>
            <a:ext cx="29005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0080" y="7858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ео́ргиевская ле́нта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— двухцветная лента к ордену Святого Георгия, Георгиевскому кресту, Георгиевской медали. Также георгиевские ленты на бескозырке носили матросы гвардейского экипажа корабля, награжденного Георгиевским флагом. Со временем появились Георгиевские петлицы, штандарты, трубы и т.д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D:\РАЗНЫЕ КАРТИНКИ\открытки\9 мая\1 степень.jpg"/>
          <p:cNvPicPr/>
          <p:nvPr/>
        </p:nvPicPr>
        <p:blipFill>
          <a:blip r:embed="rId1"/>
          <a:stretch/>
        </p:blipFill>
        <p:spPr>
          <a:xfrm>
            <a:off x="214200" y="21420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D:\РАЗНЫЕ КАРТИНКИ\открытки\9 мая\2 степень.jpg"/>
          <p:cNvPicPr/>
          <p:nvPr/>
        </p:nvPicPr>
        <p:blipFill>
          <a:blip r:embed="rId2"/>
          <a:stretch/>
        </p:blipFill>
        <p:spPr>
          <a:xfrm>
            <a:off x="2786040" y="214200"/>
            <a:ext cx="2000160" cy="34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:\РАЗНЫЕ КАРТИНКИ\открытки\9 мая\3 степень.jpg"/>
          <p:cNvPicPr/>
          <p:nvPr/>
        </p:nvPicPr>
        <p:blipFill>
          <a:blip r:embed="rId3"/>
          <a:stretch/>
        </p:blipFill>
        <p:spPr>
          <a:xfrm>
            <a:off x="4929120" y="214200"/>
            <a:ext cx="2143080" cy="190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D:\РАЗНЫЕ КАРТИНКИ\открытки\9 мая\4 степень.jpg"/>
          <p:cNvPicPr/>
          <p:nvPr/>
        </p:nvPicPr>
        <p:blipFill>
          <a:blip r:embed="rId4"/>
          <a:stretch/>
        </p:blipFill>
        <p:spPr>
          <a:xfrm>
            <a:off x="7143840" y="214200"/>
            <a:ext cx="178596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:\РАЗНЫЕ КАРТИНКИ\открытки\9 мая\геор медаль за храбрость 1913 г.jpg"/>
          <p:cNvPicPr/>
          <p:nvPr/>
        </p:nvPicPr>
        <p:blipFill>
          <a:blip r:embed="rId5"/>
          <a:stretch/>
        </p:blipFill>
        <p:spPr>
          <a:xfrm>
            <a:off x="357120" y="3786120"/>
            <a:ext cx="177804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РАЗНЫЕ КАРТИНКИ\открытки\9 мая\sg_roz.jpg"/>
          <p:cNvPicPr/>
          <p:nvPr/>
        </p:nvPicPr>
        <p:blipFill>
          <a:blip r:embed="rId6"/>
          <a:stretch/>
        </p:blipFill>
        <p:spPr>
          <a:xfrm>
            <a:off x="2928960" y="4071960"/>
            <a:ext cx="54291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D:\РАЗНЫЕ КАРТИНКИ\открытки\9 мая\g_lent1.jpg"/>
          <p:cNvPicPr/>
          <p:nvPr/>
        </p:nvPicPr>
        <p:blipFill>
          <a:blip r:embed="rId1"/>
          <a:stretch/>
        </p:blipFill>
        <p:spPr>
          <a:xfrm>
            <a:off x="5467320" y="285840"/>
            <a:ext cx="3676680" cy="311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714400"/>
            <a:ext cx="842976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Цвета ленты — чёрный и жёлто-оранжевый — означают «дым и пламя»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и  являются знаком личной доблести солдата на поле бо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Группа 6"/>
          <p:cNvGrpSpPr/>
          <p:nvPr/>
        </p:nvGrpSpPr>
        <p:grpSpPr>
          <a:xfrm>
            <a:off x="428760" y="5072040"/>
            <a:ext cx="8429400" cy="1357200"/>
            <a:chOff x="428760" y="5072040"/>
            <a:chExt cx="8429400" cy="1357200"/>
          </a:xfrm>
        </p:grpSpPr>
        <p:pic>
          <p:nvPicPr>
            <p:cNvPr id="64" name="Picture 2" descr="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28098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"/>
            <p:cNvPicPr/>
            <p:nvPr/>
          </p:nvPicPr>
          <p:blipFill>
            <a:blip r:embed="rId3"/>
            <a:stretch/>
          </p:blipFill>
          <p:spPr>
            <a:xfrm>
              <a:off x="3238560" y="5072040"/>
              <a:ext cx="28098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"/>
            <p:cNvPicPr/>
            <p:nvPr/>
          </p:nvPicPr>
          <p:blipFill>
            <a:blip r:embed="rId4"/>
            <a:stretch/>
          </p:blipFill>
          <p:spPr>
            <a:xfrm>
              <a:off x="6048360" y="5072040"/>
              <a:ext cx="2809800" cy="13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858160" cy="63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 годы Великой Отечественной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ойны, продолжая боевые традиции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русской армии, 8 ноября 1943 года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 был учрежден орден Славы трех степеней. Его статут так же, как и желто-черная расцветка ленты, напоминали о Георгиевском кресте. Затем 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РАЗНЫЕ КАРТИНКИ\открытки\9 мая\4-31271328027.jpg"/>
          <p:cNvPicPr/>
          <p:nvPr/>
        </p:nvPicPr>
        <p:blipFill>
          <a:blip r:embed="rId2"/>
          <a:stretch/>
        </p:blipFill>
        <p:spPr>
          <a:xfrm>
            <a:off x="6134040" y="428760"/>
            <a:ext cx="2795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71280" y="71280"/>
            <a:ext cx="900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первые весной 2005 года на улицах российских городов появилась «Георгиевская ленточка». Акция, задуманная и осуществленная  РИА Новости и «Студенческой общиной» в год 60-летия Победы, объединила в дни празднования людей разного возраста и социаль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ция родилась стихийно, выросла из интернет-проекта «Наша Победа» , на котором в течение года публиковались «народные» истории о том, как ту или иную семью коснулась Великая Отечественная война, о фронтовиках, партизанах, тружениках тыла, о фронтовых романах и неизвестных подвига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целью акции, так же как и сайта «Наша победа» стало стремление во что бы то ни стало не дать забыть новым поколениям, кто и какой ценой выиграл самую страшную войну прошлого века, чьими наследниками мы остаемся, чем и кем должны гордиться, о ком пом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592956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 канун празднования Дня Победы проведения акции каждый участник надевает себе на лацкан одежды, руку, сумку или антенну автомобиля Георгиевскую ленточку в знак памяти о героическом прошлом, выражая уважение к ветеранам, отдавая дань памяти павшим на поле боя, благодарность людям, отдавшим всё для фронта в годы Великой отечественной вой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:\РАЗНЫЕ КАРТИНКИ\открытки\9 мая\big_20090505075910.jpg"/>
          <p:cNvPicPr/>
          <p:nvPr/>
        </p:nvPicPr>
        <p:blipFill>
          <a:blip r:embed="rId1"/>
          <a:stretch/>
        </p:blipFill>
        <p:spPr>
          <a:xfrm>
            <a:off x="6215040" y="285840"/>
            <a:ext cx="278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48:35Z</dcterms:created>
  <dc:creator>ДАНКОВ</dc:creator>
  <dc:description/>
  <dc:language>en-US</dc:language>
  <cp:lastModifiedBy>351</cp:lastModifiedBy>
  <dcterms:modified xsi:type="dcterms:W3CDTF">2020-04-10T17:00:03Z</dcterms:modified>
  <cp:revision>23</cp:revision>
  <dc:subject/>
  <dc:title>Слайд 1</dc:title>
</cp:coreProperties>
</file>