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D97F-3619-4787-AB42-0BBC1AE8F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D1E1-263D-439C-8202-7EAF17D5F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EA5C-5BDC-4C63-8E9F-11166E4B9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9372-C50B-487F-B750-CBCBEC44E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E496-FD90-4148-90A2-5FFE426DA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C9FD-D84A-46AF-943E-D2198C0FD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7A2F-344E-4E82-9C92-FBCBC6995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4E5B-58B4-4819-911B-CB21F788C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BD61-83A2-49D6-9000-A71CFC0F7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07D-F201-4722-BE74-3C15B0A9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700-4266-42D8-8B59-43933A9A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574-E1B9-4530-98F7-19D973FA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44F-8608-44D9-BDDE-31CC1F8E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269-5AD1-446D-BF06-C3703CC0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498-BE01-4EE0-B7FA-4DB2FB2E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057-D1EF-4E1E-8DD3-D97384DC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C16-6536-49D4-9486-9547CFF8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CE1-6460-4937-BFC6-22BF1E05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25F-E54E-4ED4-AB95-3970883E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6C6-3A25-4B25-B8DF-4B8E434E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4B5-1969-4755-843A-3113B96D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E830-DF37-42E4-92D5-C53C1BA49D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933480" y="212760"/>
            <a:ext cx="8101080" cy="242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28760" y="2143080"/>
            <a:ext cx="8001000" cy="3233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85840" y="564372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оспитатель: Колесникова Д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 «Б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D:\РАЗНЫЕ КАРТИНКИ\открытки\9 мая\9may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Георгиевская лента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– это лента от ордена св. Георгия, утверждённого в начале 18-ого века, как ордена за доблесть, проявленную в реальном бою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D:\РАЗНЫЕ КАРТИНКИ\открытки\9 мая\л.jpg"/>
          <p:cNvPicPr/>
          <p:nvPr/>
        </p:nvPicPr>
        <p:blipFill>
          <a:blip r:embed="rId1"/>
          <a:stretch/>
        </p:blipFill>
        <p:spPr>
          <a:xfrm>
            <a:off x="285840" y="4214880"/>
            <a:ext cx="5643360" cy="238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:\РАЗНЫЕ КАРТИНКИ\открытки\9 мая\орден.jpg"/>
          <p:cNvPicPr/>
          <p:nvPr/>
        </p:nvPicPr>
        <p:blipFill>
          <a:blip r:embed="rId2"/>
          <a:stretch/>
        </p:blipFill>
        <p:spPr>
          <a:xfrm>
            <a:off x="6072120" y="2643120"/>
            <a:ext cx="29005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0080" y="7858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Гео́ргиевская ле́нта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— двухцветная лента к ордену Святого Георгия, Георгиевскому кресту, Георгиевской медали. Также георгиевские ленты на бескозырке носили матросы гвардейского экипажа корабля, награжденного Георгиевским флагом. Со временем появились Георгиевские петлицы, штандарты, трубы и т.д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D:\РАЗНЫЕ КАРТИНКИ\открытки\9 мая\1 степень.jpg"/>
          <p:cNvPicPr/>
          <p:nvPr/>
        </p:nvPicPr>
        <p:blipFill>
          <a:blip r:embed="rId1"/>
          <a:stretch/>
        </p:blipFill>
        <p:spPr>
          <a:xfrm>
            <a:off x="214200" y="214200"/>
            <a:ext cx="242568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D:\РАЗНЫЕ КАРТИНКИ\открытки\9 мая\2 степень.jpg"/>
          <p:cNvPicPr/>
          <p:nvPr/>
        </p:nvPicPr>
        <p:blipFill>
          <a:blip r:embed="rId2"/>
          <a:stretch/>
        </p:blipFill>
        <p:spPr>
          <a:xfrm>
            <a:off x="2786040" y="214200"/>
            <a:ext cx="2000160" cy="344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D:\РАЗНЫЕ КАРТИНКИ\открытки\9 мая\3 степень.jpg"/>
          <p:cNvPicPr/>
          <p:nvPr/>
        </p:nvPicPr>
        <p:blipFill>
          <a:blip r:embed="rId3"/>
          <a:stretch/>
        </p:blipFill>
        <p:spPr>
          <a:xfrm>
            <a:off x="4929120" y="214200"/>
            <a:ext cx="2143080" cy="190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D:\РАЗНЫЕ КАРТИНКИ\открытки\9 мая\4 степень.jpg"/>
          <p:cNvPicPr/>
          <p:nvPr/>
        </p:nvPicPr>
        <p:blipFill>
          <a:blip r:embed="rId4"/>
          <a:stretch/>
        </p:blipFill>
        <p:spPr>
          <a:xfrm>
            <a:off x="7143840" y="214200"/>
            <a:ext cx="178596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D:\РАЗНЫЕ КАРТИНКИ\открытки\9 мая\геор медаль за храбрость 1913 г.jpg"/>
          <p:cNvPicPr/>
          <p:nvPr/>
        </p:nvPicPr>
        <p:blipFill>
          <a:blip r:embed="rId5"/>
          <a:stretch/>
        </p:blipFill>
        <p:spPr>
          <a:xfrm>
            <a:off x="357120" y="3786120"/>
            <a:ext cx="177804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D:\РАЗНЫЕ КАРТИНКИ\открытки\9 мая\sg_roz.jpg"/>
          <p:cNvPicPr/>
          <p:nvPr/>
        </p:nvPicPr>
        <p:blipFill>
          <a:blip r:embed="rId6"/>
          <a:stretch/>
        </p:blipFill>
        <p:spPr>
          <a:xfrm>
            <a:off x="2928960" y="4071960"/>
            <a:ext cx="54291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D:\РАЗНЫЕ КАРТИНКИ\открытки\9 мая\g_lent1.jpg"/>
          <p:cNvPicPr/>
          <p:nvPr/>
        </p:nvPicPr>
        <p:blipFill>
          <a:blip r:embed="rId1"/>
          <a:stretch/>
        </p:blipFill>
        <p:spPr>
          <a:xfrm>
            <a:off x="5467320" y="285840"/>
            <a:ext cx="3676680" cy="311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2714400"/>
            <a:ext cx="842976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Цвета ленты — чёрный и жёлто-оранжевый — означают «дым и пламя»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и  являются знаком личной доблести солдата на поле бо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Группа 6"/>
          <p:cNvGrpSpPr/>
          <p:nvPr/>
        </p:nvGrpSpPr>
        <p:grpSpPr>
          <a:xfrm>
            <a:off x="428760" y="5072040"/>
            <a:ext cx="8429400" cy="1357200"/>
            <a:chOff x="428760" y="5072040"/>
            <a:chExt cx="8429400" cy="1357200"/>
          </a:xfrm>
        </p:grpSpPr>
        <p:pic>
          <p:nvPicPr>
            <p:cNvPr id="64" name="Picture 2" descr="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280980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"/>
            <p:cNvPicPr/>
            <p:nvPr/>
          </p:nvPicPr>
          <p:blipFill>
            <a:blip r:embed="rId3"/>
            <a:stretch/>
          </p:blipFill>
          <p:spPr>
            <a:xfrm>
              <a:off x="3238560" y="5072040"/>
              <a:ext cx="280980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"/>
            <p:cNvPicPr/>
            <p:nvPr/>
          </p:nvPicPr>
          <p:blipFill>
            <a:blip r:embed="rId4"/>
            <a:stretch/>
          </p:blipFill>
          <p:spPr>
            <a:xfrm>
              <a:off x="6048360" y="5072040"/>
              <a:ext cx="2809800" cy="13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858160" cy="634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 годы Великой Отечественной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ойны, продолжая боевые традиции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русской армии, 8 ноября 1943 года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был учрежден орден Славы трех степеней. Его статут так же, как и желто-черная расцветка ленты, напоминали о Георгиевском кресте. Затем георгиевская лента, подтверждая традиционные цвета российской воинской доблести, украсила многие солдатские и современные российские наградные медали и знаки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РАЗНЫЕ КАРТИНКИ\открытки\9 мая\4-31271328027.jpg"/>
          <p:cNvPicPr/>
          <p:nvPr/>
        </p:nvPicPr>
        <p:blipFill>
          <a:blip r:embed="rId2"/>
          <a:stretch/>
        </p:blipFill>
        <p:spPr>
          <a:xfrm>
            <a:off x="6134040" y="428760"/>
            <a:ext cx="27957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71280" y="71280"/>
            <a:ext cx="900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первые весной 2005 года на улицах российских городов появилась «Георгиевская ленточка». Акция, задуманная и осуществленная  РИА Новости и «Студенческой общиной» в год 60-летия Победы, объединила в дни празднования людей разного возраста и социальны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ция родилась стихийно, выросла из интернет-проекта «Наша Победа» , на котором в течение года публиковались «народные» истории о том, как ту или иную семью коснулась Великая Отечественная война, о фронтовиках, партизанах, тружениках тыла, о фронтовых романах и неизвестных подвигах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целью акции, так же как и сайта «Наша победа» стало стремление во что бы то ни стало не дать забыть новым поколениям, кто и какой ценой выиграл самую страшную войну прошлого века, чьими наследниками мы остаемся, чем и кем должны гордиться, о ком пом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592956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 канун празднования Дня Победы проведения акции каждый участник надевает себе на лацкан одежды, руку, сумку или антенну автомобиля Георгиевскую ленточку в знак памяти о героическом прошлом, выражая уважение к ветеранам, отдавая дань памяти павшим на поле боя, благодарность людям, отдавшим всё для фронта в годы Великой отечественной вой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D:\РАЗНЫЕ КАРТИНКИ\открытки\9 мая\big_20090505075910.jpg"/>
          <p:cNvPicPr/>
          <p:nvPr/>
        </p:nvPicPr>
        <p:blipFill>
          <a:blip r:embed="rId1"/>
          <a:stretch/>
        </p:blipFill>
        <p:spPr>
          <a:xfrm>
            <a:off x="6215040" y="285840"/>
            <a:ext cx="278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3:48:35Z</dcterms:created>
  <dc:creator>ДАНКОВ</dc:creator>
  <dc:description/>
  <dc:language>en-US</dc:language>
  <cp:lastModifiedBy>351</cp:lastModifiedBy>
  <dcterms:modified xsi:type="dcterms:W3CDTF">2020-04-10T17:00:03Z</dcterms:modified>
  <cp:revision>23</cp:revision>
  <dc:subject/>
  <dc:title>Слайд 1</dc:title>
</cp:coreProperties>
</file>