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411-2DBD-4C7A-BE19-C1B551A5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EB9-33DA-46EF-AD06-2E06A53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ADA90-7F09-4E82-8A55-A2F1E16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7D9D1-E968-41DA-B035-815505B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53B4E-A078-407C-A4D3-2B095AC8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3BDA-8F16-4391-9B36-991F914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233B-D82F-4767-A48E-876E088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8D133-4E79-471E-A89D-F6A3971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78E4E-82F6-4C39-939A-ACC8BBB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27A8D-6373-4779-96C0-4D376556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55B86-DCF7-4CF9-89B4-AED22B4E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583-2D3B-4FB8-A5A4-FC0CAE2B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AB1-23DE-4DBB-B94B-820C2F53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C27-F747-45A7-89DA-EFFC50CA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CC6-1A0A-4990-BC20-1D571B69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838F-ADD4-4190-8FFC-95855546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89C-EFE4-4354-A563-1819FD80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94E-7880-426E-B5E9-D8F6741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1D5-13D4-4F0D-B3BA-A51B309B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A9A-D751-4436-98D2-46BE3DA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858-9938-43CD-B26D-1AFD0859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1D4-7187-47A0-81FD-2A4A1A5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C651-6DCB-4BF9-8430-ADCD7AB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3EF1-AA7F-4C0C-A937-21B49E7F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902-329A-4C00-94F3-54477E20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BA0-70D6-45AF-A141-3F7A7583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A2C1-1AF6-49BB-BAA0-64E280F2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C714-27C2-42A5-92AA-9BD5BAC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AEEE-564E-4724-BBFB-7874E4C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646D-C242-4107-B599-2C286579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3627-3E44-4858-94A4-FFCE9A82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85B-06B8-4ECC-A32B-477AFBA1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F2F8-6BDF-4115-8D1B-F9F7B4E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3916F-9048-46C7-AA8A-518DE5AC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8D6B-3417-487A-9ED5-D04B00D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6496-8811-4EC0-B80A-998A592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B29F-573B-4036-BD75-E31709F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C9C7-0DA7-44A1-AB4B-21405AEF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DAA6-A48B-430F-8D4B-1B4B7777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67CE-CE90-4CEB-9901-59F7409B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25AC-83C5-4641-AFF9-4DC70FA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FAEA-C811-46F7-8FAA-379B1FA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E64-0C3B-4001-81D8-B4C2A9C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0055-477C-4EB6-A4D3-0B58CFD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37E4-ABA5-4706-80ED-D095515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319C-D5F5-45A8-BAFA-3CFF8A60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A2FE-7146-45A9-9876-F984143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39FF-AAD3-4CB2-A173-B7328DC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D191-0C5A-40DF-8683-10B3C4E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291F-1B6C-4F8B-A3EA-04C0BBE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38C6-A8EC-4CF9-9271-4BDE7D8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5275-8400-4C93-9CF3-AF152738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2A03-FF80-41E1-88CE-FA0A648A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C3E-377F-458A-9E51-6E088EF2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083A-372D-478E-815E-61575D0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EE0F-AE5D-4A06-9ABC-7D870F00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E4A2-A2E4-4018-8030-46FA44C7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BDE7-8B86-4269-AAC4-F3EBAB9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29D4-9B02-4646-B9E2-70FBC0A6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A156-EA50-4993-9C75-EAD5F67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75C7-82A9-4877-BDB9-4760779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563D-0289-40FC-9F05-C880AE81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7496-9987-42EC-BD7F-F543BE56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A017-82EF-47EA-89BB-348015C7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EFF-EA3D-45F8-8A89-D5F009A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8B1D-8967-4402-8129-D7BB9E91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E7B4-44C7-4DB3-9945-FF5CE69D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B2BC3-8BD7-4C26-B28A-8BE53A0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68915-2511-4C34-93BF-19D1FD4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3362-F035-4F9E-8D84-DD24B5B8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232F-D5A9-4398-AF79-C603D8E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9CFB-4D2C-448B-9936-678B9EE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AFAD-04A0-469E-904B-6822FB2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18D3-5B62-4E16-A8FC-20D04D8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40B7-5CD6-404E-8B9A-3CCADC3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6CB-DDAE-43D1-A3EB-18BF475D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4C2B-00DD-40DA-886E-24CFB46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DF6B-A15B-4E8A-AEA4-6D50DB58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6A86-251B-49A5-9B20-22B5E5F7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3F03-FD4A-4D40-AFF3-4A479A38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AAE9C-48DD-449C-B9CC-F2C32648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019E-686C-441D-91F3-B9144BC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617B-A712-48C0-9CE4-85F846A1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5174-ABC6-4CE3-BA77-B2DDB9CD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06F3F-DED0-46FA-8C20-F81AEB5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03EC4-6D07-469F-A185-4397834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7BB-6423-4C22-93F9-3CE639D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10F1-9F19-4A2F-8821-C4943AD0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37447-6702-42EC-B70C-B1AD209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8B73-31B1-4BDC-AADD-D18B5FD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B4D21-6C19-41A6-BA8B-A8876F7F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5783A-A5C3-4AF5-8911-B52A0055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C074-A0FA-4FA5-9A24-26785EDD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1E73-7DC0-483F-8AB9-DB203817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0A66-21AC-4E17-B192-09A5C42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1875-01EB-4334-A523-2768B4E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AA9F-A903-4C5D-A916-91B1ECF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CBB-1E2D-4CE7-BD5C-FF57D504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8F84-EDCA-4D42-84EA-C9DE31C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70E7-2401-4B49-B3C7-E21520A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C75E-E770-4585-A54B-B247B763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8F59-B8B7-46C2-8BE7-6C5D562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C318-6700-4469-9478-91165271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D374-03D1-407B-A201-392B7866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4123D-62B6-4285-944A-9E480C74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036F-928D-4B19-8E60-A8EB1DD3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58D52-F75F-4988-AD9C-32FF7B5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CF0C5-B72C-423B-AAEA-9BA68C9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689040" y="1042920"/>
            <a:ext cx="11502720" cy="17640"/>
            <a:chOff x="689040" y="1042920"/>
            <a:chExt cx="1150272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91920" y="1042920"/>
              <a:ext cx="11499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2251-E0FE-4D9A-97E6-AFA7923E22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689040" y="1042920"/>
            <a:ext cx="11502720" cy="17640"/>
            <a:chOff x="689040" y="1042920"/>
            <a:chExt cx="1150272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91920" y="1042920"/>
              <a:ext cx="11499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689040" y="1054080"/>
            <a:ext cx="11502720" cy="12600"/>
            <a:chOff x="689040" y="1054080"/>
            <a:chExt cx="1150272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91920" y="1054080"/>
              <a:ext cx="11499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90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689040" y="5346720"/>
            <a:ext cx="11502720" cy="11160"/>
            <a:chOff x="689040" y="5346720"/>
            <a:chExt cx="1150272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5346720"/>
              <a:ext cx="11499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90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54D5-3542-4895-91D1-9FA7F44763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689040" y="1042920"/>
            <a:ext cx="11502720" cy="17640"/>
            <a:chOff x="689040" y="1042920"/>
            <a:chExt cx="1150272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691920" y="1042920"/>
              <a:ext cx="11499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689040" y="1042920"/>
            <a:ext cx="11502720" cy="17640"/>
            <a:chOff x="689040" y="1042920"/>
            <a:chExt cx="1150272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691920" y="1042920"/>
              <a:ext cx="11499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90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689040" y="1054080"/>
            <a:ext cx="11502720" cy="12600"/>
            <a:chOff x="689040" y="1054080"/>
            <a:chExt cx="1150272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691920" y="1054080"/>
              <a:ext cx="11499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90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109-D749-4F27-AE27-4B3099CCC1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689040" y="3438360"/>
            <a:ext cx="11502720" cy="11160"/>
            <a:chOff x="689040" y="3438360"/>
            <a:chExt cx="1150272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3438360"/>
              <a:ext cx="11499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890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7A3-E6B4-41B5-AD9F-3E63794B73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689040" y="6016680"/>
            <a:ext cx="11502720" cy="12600"/>
            <a:chOff x="689040" y="6016680"/>
            <a:chExt cx="115027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6016680"/>
              <a:ext cx="11499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90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72C-E4F4-4463-8E01-2970A2EC96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9FF7-E15B-4D19-95AE-E1B943D4D2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689040" y="5846760"/>
            <a:ext cx="11502720" cy="11160"/>
            <a:chOff x="689040" y="5846760"/>
            <a:chExt cx="1150272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691920" y="5846760"/>
              <a:ext cx="11499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90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7BA-6C9E-4EBC-A572-A000E0F1A8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2496-9AE5-4675-9D7B-E87D30F8B3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E6C4-9755-437E-BB88-E1E1A678D1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ÐÐµÐ½ÑÐ°"/>
          <p:cNvPicPr/>
          <p:nvPr/>
        </p:nvPicPr>
        <p:blipFill>
          <a:blip r:embed="rId1"/>
          <a:stretch/>
        </p:blipFill>
        <p:spPr>
          <a:xfrm>
            <a:off x="0" y="0"/>
            <a:ext cx="12192120" cy="5334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246240" y="6224760"/>
            <a:ext cx="116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воспитатель МКДОУ ЦРР детский сад № 18   Тищенко Т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ÐÐ¾ÑÐ¾Ð´Ð° - Ð³ÐµÑÐ¾Ð¸ - ÐÑÐµÐ·ÐµÐ½ÑÐ°ÑÐ¸Ñ 96298-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ÐÑÑÐ¼Ð°Ð½ÑÐ°Ð½ Ð¿ÑÐ¸Ð³Ð»Ð°ÑÐ°ÑÑ Ð½Ð° Ð¼Ð°ÑÑ-Ð±ÑÐ¾ÑÐ¾Ðº Ð¿Ð¾ Ð³Ð¾ÑÐ¾Ð´Ð°Ð¼-Ð³ÐµÑÐ¾ÑÐ¼"/>
          <p:cNvPicPr/>
          <p:nvPr/>
        </p:nvPicPr>
        <p:blipFill>
          <a:blip r:embed="rId1"/>
          <a:stretch/>
        </p:blipFill>
        <p:spPr>
          <a:xfrm>
            <a:off x="546120" y="0"/>
            <a:ext cx="11020320" cy="51307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546120" y="5403960"/>
            <a:ext cx="11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на. Она оставила свой след в истории каждой семьи, каждого дома, каждой деревеньки, каждого города нашей родины. На сегодняшний день 45 городов являются городами воинской славы. А есть еще и 13 Городов Героев. Это высшая степень отличия за героическую оборону в годы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2" descr="пискаревское-кладбище-в-санкт-петербурге"/>
          <p:cNvPicPr/>
          <p:nvPr/>
        </p:nvPicPr>
        <p:blipFill>
          <a:blip r:embed="rId1"/>
          <a:stretch/>
        </p:blipFill>
        <p:spPr>
          <a:xfrm>
            <a:off x="0" y="0"/>
            <a:ext cx="3301920" cy="26575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"/>
          <p:cNvSpPr/>
          <p:nvPr/>
        </p:nvSpPr>
        <p:spPr>
          <a:xfrm>
            <a:off x="130320" y="2657520"/>
            <a:ext cx="30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уя «Матери Род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4" descr="мамаев-курган-в-волгограде"/>
          <p:cNvPicPr/>
          <p:nvPr/>
        </p:nvPicPr>
        <p:blipFill>
          <a:blip r:embed="rId2"/>
          <a:stretch/>
        </p:blipFill>
        <p:spPr>
          <a:xfrm>
            <a:off x="4084560" y="0"/>
            <a:ext cx="3421080" cy="2657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4624560" y="2657520"/>
            <a:ext cx="20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ев ку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6" descr="памятник-солдату-и-матросу-в-севастополе"/>
          <p:cNvPicPr/>
          <p:nvPr/>
        </p:nvPicPr>
        <p:blipFill>
          <a:blip r:embed="rId3"/>
          <a:stretch/>
        </p:blipFill>
        <p:spPr>
          <a:xfrm>
            <a:off x="8391600" y="0"/>
            <a:ext cx="3800520" cy="26575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8391600" y="2673360"/>
            <a:ext cx="38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умент «Солдат и Мат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8" descr="памятник-танк-в-минске"/>
          <p:cNvPicPr/>
          <p:nvPr/>
        </p:nvPicPr>
        <p:blipFill>
          <a:blip r:embed="rId4"/>
          <a:stretch/>
        </p:blipFill>
        <p:spPr>
          <a:xfrm>
            <a:off x="0" y="3414600"/>
            <a:ext cx="3301920" cy="25909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9"/>
          <p:cNvSpPr/>
          <p:nvPr/>
        </p:nvSpPr>
        <p:spPr>
          <a:xfrm>
            <a:off x="130320" y="6143760"/>
            <a:ext cx="30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амятник- Тан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10" descr="памятник-скорбящей-матери-в-смоленске"/>
          <p:cNvPicPr/>
          <p:nvPr/>
        </p:nvPicPr>
        <p:blipFill>
          <a:blip r:embed="rId5"/>
          <a:stretch/>
        </p:blipFill>
        <p:spPr>
          <a:xfrm>
            <a:off x="4059360" y="3414600"/>
            <a:ext cx="3471840" cy="25909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1"/>
          <p:cNvSpPr/>
          <p:nvPr/>
        </p:nvSpPr>
        <p:spPr>
          <a:xfrm>
            <a:off x="4084560" y="603720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амятник скорбящей 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12" descr="памятник-неизвестному-матросу-в-одессе"/>
          <p:cNvPicPr/>
          <p:nvPr/>
        </p:nvPicPr>
        <p:blipFill>
          <a:blip r:embed="rId6"/>
          <a:stretch/>
        </p:blipFill>
        <p:spPr>
          <a:xfrm>
            <a:off x="8391600" y="3414600"/>
            <a:ext cx="3800520" cy="25909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3"/>
          <p:cNvSpPr/>
          <p:nvPr/>
        </p:nvSpPr>
        <p:spPr>
          <a:xfrm>
            <a:off x="8391600" y="6005520"/>
            <a:ext cx="36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амятник неизвестному матр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1" descr="ÐÐ°Ð¼ÑÑÐ¸ Ð¿Ð°Ð²ÑÐ¸Ñ Ð² ÐÐµÐ»Ð¸ÐºÐ¾Ð¹ ÐÑÐµÑÐµÑÑÐ²ÐµÐ½Ð½Ð¾Ð¹ Ð²Ð¾Ð¹Ð½Ðµ (Ð¢Ð°Ð½Ð¸ÑÐ° Ð¢Ð°ÑÐ°ÑÐ¾Ð²Ð°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Ð¢ÐÐ ÐÐ ÐÐ ÐÐÐÐ¢ Ð£Ð§ÐÐ¡Ð¢ÐÐ Ð ÐÐÐ¦ÐÐ &quot;ÐÐ« ÐÐÐÐÐÐ&quot; &quot; ÐÐ´Ð¼Ð¸Ð½Ð¸ÑÑÑÐ°ÑÐ¸Ñ Ð³Ð¾Ñ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dc:language>en-US</dc:language>
  <cp:lastModifiedBy>user</cp:lastModifiedBy>
  <dcterms:modified xsi:type="dcterms:W3CDTF">2020-04-09T08:46:54Z</dcterms:modified>
  <cp:revision>10</cp:revision>
  <dc:subject/>
  <dc:title>Record a Presentation</dc:title>
</cp:coreProperties>
</file>