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27A-7A62-43E1-966F-BF515147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6F2-FE9E-4DB2-A321-DAB9FE16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A0B-283B-49B6-9655-2F45DA01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240-22E9-4E03-B1B3-44D1CE1A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9870-362A-43C1-BF59-9F190115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C39A-9FC2-47BC-BE12-7CCAA399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8E87-9B67-4493-8832-A5C8CC75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7EB2-92DB-4D21-8F18-E28B5A3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C2A3-4E08-4E93-A689-588AEF1D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9310-F903-49B9-A8D7-FB7A09DD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5B34-4792-4B4E-B8A7-1040001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342-A5EC-4D5F-9116-1C2E102E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12F-BCA5-4607-B89B-B94ADF9C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8537-CD9A-4BE0-A527-6D5BA47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EBF9-C3EE-4AB6-8FD9-0A61316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17DF-4119-4C49-9294-002B6F9E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7EAE-1C10-4FD0-BA7D-32E0E224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554E-C29A-4096-B371-0B9E5587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98722-339A-4901-B43B-0AABEA3A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D9660-DD98-4D07-AA8A-A7C07650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184C-006E-4A2D-8B0F-0C248D4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462E-850B-40C8-B0C2-8A1810CC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A95-5E71-4258-A2BA-B82047A3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BDAA-2B46-4C1B-82DC-E3DB7B27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3AD2-1A6A-4EDB-A768-CAF61273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29B2-B58D-4E67-92B9-C6921C04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8E02-B35D-4CA2-85E6-CB9DC870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08D6-E162-4153-BF8D-F97898A8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FE77-38DA-4ACD-9A6A-F245FA8C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D7AC-87AD-47D6-B35B-9EC5F337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A69E-5735-4F74-ABCE-B41ECF94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39A59-55C6-4478-BFF8-DE8E314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B311-AA41-455E-8110-22C15C31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7C5-D9A2-4CE5-8691-E606B320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BAFF-A386-4C2B-85A9-5B586D02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9E34F-FC6F-43B1-B331-BE99E657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D9EB-2BEC-4F29-91A5-F5134C15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FD39-3B64-4F5C-9318-AAEED6A1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2D68-4090-4586-A97B-28CF94AB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FF2D-F385-4F66-9247-7B8E88F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8EB9-9719-45A2-B086-2E10004E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DB7D-A2C6-4623-887C-2EAF34E8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718D-B82D-4923-99E4-14713562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D1E2-E942-4532-859C-D18C10FA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880-E7E0-4BB4-8290-46F8C018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8B1D-A926-4BB5-BE06-0337F69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ED73-3FB9-426D-B053-7F48766A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9EA57-4F3D-4532-9ED3-59C7E67F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465FA-E407-4928-9028-BBC77124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66941-925B-4EEB-ADE4-7B5CB2D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8E467-717B-43D0-8C3B-054DE68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5B187-40B3-4717-82ED-C61667D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718F9-1C1D-4113-8C8A-60D00B1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B82B-C907-4400-BFAE-C6018982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05B70-038E-47D8-86FA-A39C7918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D85-B793-4009-A39D-9E367E5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3B887-FB11-41BE-A895-E5BDCFFF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DB3B-7B5E-4BA5-854D-20FE28D7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0CCC5-8A0D-4B45-A0E7-03EEA1F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A5446-387C-4E59-A448-17A8CBF7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141E-B76E-4B6B-AEC8-315AEF9B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8CEC1-9F63-4B19-9BF0-970EC543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A8DCD-55A4-4BA4-B966-5B5D2EAA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D7AA0-34CA-4B0E-8CE4-2013237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6B73E-5546-41B6-8C71-ED596CA9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F6D3-5F3A-43A8-94C0-C620EF5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222-3C28-47D6-93D0-E88A211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07C53-9D16-4A43-81A8-376F522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547DF-3085-4565-A80D-4DFC2DBD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6ADB-AC2C-4E3A-B393-210D7359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2435A-9EF3-4E5C-B85A-969D0C13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63DE-5CCA-4510-9B33-6B1E9251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244E-4D9C-41DE-B946-3F9BA43B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DCF1C-CF1D-4686-A27E-D7312E95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1C9C-5BF6-4BB3-83DB-7CABB636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4315E-15F8-4A83-8FB2-38B595A6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DD0D-39A5-4BAF-ABFD-E3926445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BE4-0D00-4B74-9752-73F89BB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9AEF1-657D-4055-842F-9EC307F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958EE-1135-43FA-B178-41088C5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D694-FA71-4C13-BC98-143A1A12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C9465-067D-4DF0-97E4-4CC65EE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123A-B94E-47CC-AC55-EBE3BD41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156-4011-4C6B-9486-54069123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/>
            <a:ahLst/>
            <a:rect l="l" t="t" r="r" b="b"/>
            <a:pathLst>
              <a:path w="2184401" h="1638300">
                <a:moveTo>
                  <a:pt x="2184401" y="819150"/>
                </a:moveTo>
                <a:cubicBezTo>
                  <a:pt x="2184401" y="1077069"/>
                  <a:pt x="2022436" y="1319925"/>
                  <a:pt x="1747262" y="1474616"/>
                </a:cubicBezTo>
                <a:cubicBezTo>
                  <a:pt x="1558115" y="1580946"/>
                  <a:pt x="1328077" y="1638382"/>
                  <a:pt x="1091695" y="1638300"/>
                </a:cubicBezTo>
                <a:cubicBezTo>
                  <a:pt x="1091864" y="1365250"/>
                  <a:pt x="1092032" y="1092200"/>
                  <a:pt x="1092201" y="819150"/>
                </a:cubicBezTo>
                <a:lnTo>
                  <a:pt x="21844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8440" y="963720"/>
            <a:ext cx="1397160" cy="1309680"/>
            <a:chOff x="298440" y="963720"/>
            <a:chExt cx="1397160" cy="130968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8440" y="963720"/>
              <a:ext cx="1397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C903-7524-4503-A62B-CF18F10F0A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/>
            <a:ahLst/>
            <a:rect l="l" t="t" r="r" b="b"/>
            <a:pathLst>
              <a:path w="2184401" h="1638300">
                <a:moveTo>
                  <a:pt x="2184401" y="819150"/>
                </a:moveTo>
                <a:cubicBezTo>
                  <a:pt x="2184401" y="1077069"/>
                  <a:pt x="2022436" y="1319925"/>
                  <a:pt x="1747262" y="1474616"/>
                </a:cubicBezTo>
                <a:cubicBezTo>
                  <a:pt x="1558115" y="1580946"/>
                  <a:pt x="1328077" y="1638382"/>
                  <a:pt x="1091695" y="1638300"/>
                </a:cubicBezTo>
                <a:cubicBezTo>
                  <a:pt x="1091864" y="1365250"/>
                  <a:pt x="1092032" y="1092200"/>
                  <a:pt x="1092201" y="819150"/>
                </a:cubicBezTo>
                <a:lnTo>
                  <a:pt x="21844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8440" y="963720"/>
            <a:ext cx="1397160" cy="1309680"/>
            <a:chOff x="298440" y="963720"/>
            <a:chExt cx="1397160" cy="130968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8440" y="963720"/>
              <a:ext cx="1397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31920" y="1414440"/>
            <a:ext cx="285840" cy="212760"/>
            <a:chOff x="1231920" y="1414440"/>
            <a:chExt cx="28584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31920" y="1414440"/>
              <a:ext cx="285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628-B778-4583-A97D-64157D0698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95480" y="2816280"/>
            <a:ext cx="285840" cy="212760"/>
            <a:chOff x="2895480" y="2816280"/>
            <a:chExt cx="2858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95480" y="2816280"/>
              <a:ext cx="285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307B-4BDD-4B6B-BE29-4D7D2BBE48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BE99-F449-4DA1-A179-2CB014375F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9AD7-B0C2-4C27-AE9C-D07BA1AB41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3F17-29B3-4583-A306-FDA30B3354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7920" y="974880"/>
            <a:ext cx="6321600" cy="4797360"/>
            <a:chOff x="907920" y="974880"/>
            <a:chExt cx="632160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7920" y="974880"/>
              <a:ext cx="632160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988-998F-481B-BEB8-0F537FA11A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53760" y="536040"/>
            <a:ext cx="888372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я профессиональная карье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7065720" y="4408560"/>
            <a:ext cx="5126040" cy="2449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Хусяинова Диа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БОУ «Пожарская СОШ»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4205160" y="2668680"/>
            <a:ext cx="433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ХГАЛ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минус бухгалтер – 14 (www.petamusic.ru).mp3" descr=""/>
          <p:cNvPicPr/>
          <p:nvPr/>
        </p:nvPicPr>
        <p:blipFill>
          <a:blip r:embed="rId1"/>
          <a:stretch/>
        </p:blipFill>
        <p:spPr>
          <a:xfrm>
            <a:off x="438120" y="611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47760" y="694800"/>
            <a:ext cx="96012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Минусы професс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60560" y="1976400"/>
            <a:ext cx="991224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ые изменения и противоречия в законодательств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общение с представителями государственных органов, особенно с налоговой инспекци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бухгалтера жестко регламентирована и не оставляет пространства для творчеств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бухгалтера приводят к санкциям, штрафам и т.п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4" descr="Картинки по запросу иконка  минус"/>
          <p:cNvPicPr/>
          <p:nvPr/>
        </p:nvPicPr>
        <p:blipFill>
          <a:blip r:embed="rId1"/>
          <a:stretch/>
        </p:blipFill>
        <p:spPr>
          <a:xfrm>
            <a:off x="9912240" y="274680"/>
            <a:ext cx="204804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можно получить профессию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жский государственно-педагогический университет (ВГИПУ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городский государственный инженерно-экономический университет (НГИЭУ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городская государственная сельскохозяйственная академия (НГСХ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Зарплата бухгалте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36480" y="1719000"/>
            <a:ext cx="1014876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алтер по учету заработной платы работников предприятия в Москве получает от 68 200 до 84 000 рублей, аналогичный специалист в Санкт-Петербурге – 52 500 – 69 000 денежных знаков, в Казани – 24 000 – 33 000. Работодатели Нижнего Новгорода готовы предоставлять посредственным бухгалтерам зарплату в сумме 28 500 – 41 100 денежных единиц, самарские работники могут рассчитывать на 27 000 – 39 200 рублей в 2017 г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остребованность професс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Рисунок 4" descr=""/>
          <p:cNvPicPr/>
          <p:nvPr/>
        </p:nvPicPr>
        <p:blipFill>
          <a:blip r:embed="rId1"/>
          <a:stretch/>
        </p:blipFill>
        <p:spPr>
          <a:xfrm>
            <a:off x="4233960" y="2944800"/>
            <a:ext cx="5087880" cy="36482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5" descr=""/>
          <p:cNvPicPr/>
          <p:nvPr/>
        </p:nvPicPr>
        <p:blipFill>
          <a:blip r:embed="rId2"/>
          <a:stretch/>
        </p:blipFill>
        <p:spPr>
          <a:xfrm>
            <a:off x="7518240" y="1133640"/>
            <a:ext cx="4673880" cy="395100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3" descr=""/>
          <p:cNvPicPr/>
          <p:nvPr/>
        </p:nvPicPr>
        <p:blipFill>
          <a:blip r:embed="rId3"/>
          <a:stretch/>
        </p:blipFill>
        <p:spPr>
          <a:xfrm>
            <a:off x="0" y="1206360"/>
            <a:ext cx="4552920" cy="40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0360" y="52236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то такой бухгалтер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42560" y="1611000"/>
            <a:ext cx="71866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алтер (нем. Buchhalter, Buch — книга, Halter - держатель)  - это специалист в области бухгалтерии.   В настоящее время профессия является важной, без неё не обходится ни одно предприятие!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Картинки по запросу бухгалтер фото"/>
          <p:cNvPicPr/>
          <p:nvPr/>
        </p:nvPicPr>
        <p:blipFill>
          <a:blip r:embed="rId1"/>
          <a:stretch/>
        </p:blipFill>
        <p:spPr>
          <a:xfrm>
            <a:off x="8142120" y="436680"/>
            <a:ext cx="3646800" cy="2334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Картинки по запросу бухгалтер фото"/>
          <p:cNvPicPr/>
          <p:nvPr/>
        </p:nvPicPr>
        <p:blipFill>
          <a:blip r:embed="rId2"/>
          <a:stretch/>
        </p:blipFill>
        <p:spPr>
          <a:xfrm>
            <a:off x="8205840" y="4073400"/>
            <a:ext cx="3333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53760" y="506520"/>
            <a:ext cx="9223560" cy="13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емного истор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390320" y="1606680"/>
            <a:ext cx="9280440" cy="33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бухгалтер» возникло в Германии. Первоначально лиц, занимающихся ведением учетных книг, называли-писцами С 1498 года по велению императора Максимилиана 1 их стали называть – бухгалтера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133640" y="614520"/>
            <a:ext cx="71784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ньше рабочее место бухгалтера было оснащено конторскими счетами и микрокалькуляторами, а ее труд был чисто ручным и малопроизводительным, то сегодня трудно представить себе бухгалтерию без высокопроизводительных компьютеров, ксероксов и другой оргтехники, облегчающей и облагораживающей труд бухгалте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Картинки по запросу бухгалтер фото"/>
          <p:cNvPicPr/>
          <p:nvPr/>
        </p:nvPicPr>
        <p:blipFill>
          <a:blip r:embed="rId1"/>
          <a:stretch/>
        </p:blipFill>
        <p:spPr>
          <a:xfrm>
            <a:off x="8474040" y="3094200"/>
            <a:ext cx="3176640" cy="31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Герб бухгалтер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35240" y="2022120"/>
            <a:ext cx="625464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 интернациональной эмблемой счетных работник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м изображены: солнце, весы, кривая Бернулли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з: Наука,Совесть, Независимость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Картинки по запросу герб бухгал"/>
          <p:cNvPicPr/>
          <p:nvPr/>
        </p:nvPicPr>
        <p:blipFill>
          <a:blip r:embed="rId1"/>
          <a:stretch/>
        </p:blipFill>
        <p:spPr>
          <a:xfrm>
            <a:off x="8126280" y="2533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Когда отмечается день бухгалтер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Большинство бухгалтеров традиционно отмечают этот праздник </a:t>
            </a:r>
            <a:r>
              <a:rPr b="1" lang="ru-RU" sz="32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21 ноября,</a:t>
            </a:r>
            <a:r>
              <a:rPr b="0" lang="ru-RU" sz="32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в день, когда президентом России Борисом Ельциным в 1996 году был подписан Закон «О бухгалтерском учете»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117440" y="9172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алтерское дело очень нужное и важное. Если не вести учет доходов и расходов, то порядка в работе организации не будет! Кроме того, без бухгалтерского учета государство не могло бы контролировать работу предприят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2" descr="Картинки по запросу бухгалтер фото"/>
          <p:cNvPicPr/>
          <p:nvPr/>
        </p:nvPicPr>
        <p:blipFill>
          <a:blip r:embed="rId1"/>
          <a:stretch/>
        </p:blipFill>
        <p:spPr>
          <a:xfrm>
            <a:off x="7872480" y="2908440"/>
            <a:ext cx="2886120" cy="288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Картинки по запросу бухгалтер фото"/>
          <p:cNvPicPr/>
          <p:nvPr/>
        </p:nvPicPr>
        <p:blipFill>
          <a:blip r:embed="rId2"/>
          <a:stretch/>
        </p:blipFill>
        <p:spPr>
          <a:xfrm>
            <a:off x="2670120" y="3232080"/>
            <a:ext cx="377676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95280" y="732960"/>
            <a:ext cx="96012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000000"/>
                </a:solidFill>
                <a:uFillTx/>
                <a:latin typeface="Helvetica Neue"/>
              </a:rPr>
              <a:t>Личные качества бухгалте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95280" y="1950840"/>
            <a:ext cx="96012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дчивость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ст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е способност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к монотонной работ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соустойчивость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утомляемость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ая обучаемост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9104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люсы професс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98520" y="1520640"/>
            <a:ext cx="593424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ребованность на рынке труд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енно нормированный рабочий ден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иметь дополнительный заработок, например, помогать с ведением бухгалтерии мелким предпринимателя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ьерный рост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Картинки по запросу плюс"/>
          <p:cNvPicPr/>
          <p:nvPr/>
        </p:nvPicPr>
        <p:blipFill>
          <a:blip r:embed="rId1"/>
          <a:stretch/>
        </p:blipFill>
        <p:spPr>
          <a:xfrm>
            <a:off x="7785000" y="2076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19:00:25Z</dcterms:created>
  <dc:creator>al</dc:creator>
  <dc:description/>
  <dc:language>en-US</dc:language>
  <cp:lastModifiedBy>user</cp:lastModifiedBy>
  <dcterms:modified xsi:type="dcterms:W3CDTF">2019-03-13T08:18:48Z</dcterms:modified>
  <cp:revision>4</cp:revision>
  <dc:subject/>
  <dc:title>Моя профессиональная карьера</dc:title>
</cp:coreProperties>
</file>