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CBF-23BF-40E8-8FBB-8098DB50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557-772C-45A6-9315-6990A883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F8E-456E-4430-B0B6-BC6C6EC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9F8-0509-4DDB-8D99-2017F949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8C9-2D23-430F-8841-FFE1158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9DB-C3EA-4EDB-8462-B825832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2C1-D422-4DDC-A689-8B39AB5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1CB-0E15-4F11-B8DF-626B6952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380-0F22-48FE-9F64-53DE4E1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FE7-A13D-4D93-B32C-178CBB6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FB2-A779-4FB7-825E-2EFD2E7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1C4-F0FF-4A39-B0FC-6FB1CBB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adf"/>
            </a:gs>
            <a:gs pos="100000">
              <a:srgbClr val="f6eb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ECE-6797-4BF7-BBBB-D60188EA7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42" name="Line 4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WordArt 8"/>
          <p:cNvSpPr txBox="1"/>
          <p:nvPr/>
        </p:nvSpPr>
        <p:spPr>
          <a:xfrm>
            <a:off x="1600200" y="1943280"/>
            <a:ext cx="621036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582c00"/>
                  </a:solidFill>
                  <a:miter/>
                </a:ln>
                <a:solidFill>
                  <a:srgbClr val="e4c9a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25560">
                <a:solidFill>
                  <a:srgbClr val="582c00"/>
                </a:solidFill>
                <a:miter/>
              </a:ln>
              <a:solidFill>
                <a:srgbClr val="e4c9a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762120" y="838080"/>
            <a:ext cx="7848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ое апр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числительн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ланета  зна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лонение порядковых числ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4880"/>
          <a:ext cx="8001000" cy="13971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3440"/>
                <a:gridCol w="1333440"/>
                <a:gridCol w="1333440"/>
              </a:tblGrid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95280" y="3962520"/>
          <a:ext cx="7696440" cy="131580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306800"/>
                <a:gridCol w="1307880"/>
                <a:gridCol w="1233720"/>
                <a:gridCol w="1379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идесят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пятидеся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840400" y="-366480"/>
            <a:ext cx="416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Times New Roman"/>
              </a:rPr>
              <a:t>Самостояте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38080" y="2514600"/>
            <a:ext cx="784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ница 75 , упражнение 207устно, прочитать материал    « ключика». Просклонять одно сложное числ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47" name="Line 7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8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5" descr="1227126675_buratino2.jpg"/>
          <p:cNvPicPr/>
          <p:nvPr/>
        </p:nvPicPr>
        <p:blipFill>
          <a:blip r:embed="rId1"/>
          <a:stretch/>
        </p:blipFill>
        <p:spPr>
          <a:xfrm>
            <a:off x="-7632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4800600" y="1752480"/>
            <a:ext cx="3200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с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знаю два удивительных русских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 одинаковых глас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334120" y="3809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я        семь-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52880" y="458136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рок одинаковых глас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4952880" y="55627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0а              сорок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мальвина.jpg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0" y="30492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отыскала в русском языке четыре слова более удивительных. В каждом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то одинаковых соглас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одном слове два «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440" y="264168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л             сто-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н             сто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г              сто-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п             сто-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 2 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подвал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143000"/>
          <a:ext cx="8229600" cy="33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ядк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</a:tr>
              <a:tr h="158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ают количество предметов при счё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c9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ают порядок предметов при сч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c9ae"/>
                    </a:solidFill>
                  </a:tcPr>
                </a:tc>
              </a:tr>
              <a:tr h="60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? (который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8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82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824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4648320"/>
          <a:ext cx="8076960" cy="23619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5619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 числ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51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c9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оста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c9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ло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c9ae"/>
                    </a:solidFill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, пятнадц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82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ьдес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82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дцать п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824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184320" y="1332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онение единиц (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515880"/>
          <a:ext cx="8839440" cy="6248520"/>
        </p:xfrm>
        <a:graphic>
          <a:graphicData uri="http://schemas.openxmlformats.org/drawingml/2006/table">
            <a:tbl>
              <a:tblPr/>
              <a:tblGrid>
                <a:gridCol w="1309680"/>
                <a:gridCol w="1349640"/>
                <a:gridCol w="1531800"/>
                <a:gridCol w="1447920"/>
                <a:gridCol w="1582560"/>
                <a:gridCol w="16178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, од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 одн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а, дву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дв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, т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т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, четы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ь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четырё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 п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ш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с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е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ь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ь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е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ем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ьм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вось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я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девя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62120" y="1219320"/>
          <a:ext cx="7924680" cy="4473360"/>
        </p:xfrm>
        <a:graphic>
          <a:graphicData uri="http://schemas.openxmlformats.org/drawingml/2006/table">
            <a:tbl>
              <a:tblPr/>
              <a:tblGrid>
                <a:gridCol w="1295280"/>
                <a:gridCol w="1523880"/>
                <a:gridCol w="1295640"/>
                <a:gridCol w="1371600"/>
                <a:gridCol w="1143000"/>
                <a:gridCol w="1295280"/>
              </a:tblGrid>
              <a:tr h="98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</a:tr>
              <a:tr h="101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И.,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ё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ё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И.,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ь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ё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И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ь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3" name="Group 4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64" name="Line 48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9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102"/>
          <p:cNvSpPr/>
          <p:nvPr/>
        </p:nvSpPr>
        <p:spPr>
          <a:xfrm>
            <a:off x="641520" y="12132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онение единиц (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45400" y="228600"/>
            <a:ext cx="75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Прочитайте вслух, объяснит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фразеологизмов, определите падеж числитель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9480" y="155412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1f00"/>
                </a:solidFill>
                <a:latin typeface="Arial"/>
              </a:rPr>
              <a:t>Без 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9120" y="246852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1f00"/>
                </a:solidFill>
                <a:latin typeface="Arial"/>
              </a:rPr>
              <a:t>В 2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06600" y="3306600"/>
            <a:ext cx="46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1f00"/>
                </a:solidFill>
                <a:latin typeface="Arial"/>
              </a:rPr>
              <a:t>Заблудиться в 3 сос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2560" y="422100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1f00"/>
                </a:solidFill>
                <a:latin typeface="Arial"/>
              </a:rPr>
              <a:t>7 одного  печа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9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73" name="Line 10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-65880" y="19728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онение десятков (10-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229520" y="5869080"/>
            <a:ext cx="192096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яно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876920" y="5869080"/>
            <a:ext cx="23526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яно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429080" y="5869080"/>
            <a:ext cx="447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514600" y="5869080"/>
            <a:ext cx="191448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яно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57200" y="5869080"/>
            <a:ext cx="20574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вяно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7000" y="5869080"/>
            <a:ext cx="4302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7229520" y="5327640"/>
            <a:ext cx="19209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ь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876920" y="5327640"/>
            <a:ext cx="23526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429080" y="5327640"/>
            <a:ext cx="44784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514600" y="5327640"/>
            <a:ext cx="1914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ь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57200" y="5327640"/>
            <a:ext cx="20574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ь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7000" y="5327640"/>
            <a:ext cx="4302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7229520" y="4786200"/>
            <a:ext cx="19209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876920" y="4786200"/>
            <a:ext cx="23526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4429080" y="4786200"/>
            <a:ext cx="44784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2514600" y="4786200"/>
            <a:ext cx="1914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57200" y="4786200"/>
            <a:ext cx="20574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27000" y="4786200"/>
            <a:ext cx="4302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7229520" y="4243320"/>
            <a:ext cx="19209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876920" y="4243320"/>
            <a:ext cx="235260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с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4429080" y="4243320"/>
            <a:ext cx="4478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514600" y="4243320"/>
            <a:ext cx="19144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457200" y="4243320"/>
            <a:ext cx="205740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с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27000" y="4243320"/>
            <a:ext cx="43020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7229520" y="3701880"/>
            <a:ext cx="19209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876920" y="3701880"/>
            <a:ext cx="23526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429080" y="3701880"/>
            <a:ext cx="44784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2514600" y="3701880"/>
            <a:ext cx="1914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57200" y="3701880"/>
            <a:ext cx="20574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27000" y="3701880"/>
            <a:ext cx="4302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6"/>
          <p:cNvSpPr/>
          <p:nvPr/>
        </p:nvSpPr>
        <p:spPr>
          <a:xfrm>
            <a:off x="7229520" y="3160800"/>
            <a:ext cx="192096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4876920" y="3160800"/>
            <a:ext cx="23526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4429080" y="3160800"/>
            <a:ext cx="447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9"/>
          <p:cNvSpPr/>
          <p:nvPr/>
        </p:nvSpPr>
        <p:spPr>
          <a:xfrm>
            <a:off x="2514600" y="3160800"/>
            <a:ext cx="191448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457200" y="3160800"/>
            <a:ext cx="20574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27000" y="3160800"/>
            <a:ext cx="43020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7229520" y="2619360"/>
            <a:ext cx="19209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3"/>
          <p:cNvSpPr/>
          <p:nvPr/>
        </p:nvSpPr>
        <p:spPr>
          <a:xfrm>
            <a:off x="4876920" y="2619360"/>
            <a:ext cx="23526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дца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"/>
          <p:cNvSpPr/>
          <p:nvPr/>
        </p:nvSpPr>
        <p:spPr>
          <a:xfrm>
            <a:off x="4429080" y="2619360"/>
            <a:ext cx="44784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2514600" y="2619360"/>
            <a:ext cx="1914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457200" y="2619360"/>
            <a:ext cx="20574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27000" y="2619360"/>
            <a:ext cx="4302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7229520" y="2101680"/>
            <a:ext cx="192096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876920" y="2101680"/>
            <a:ext cx="235260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дца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4429080" y="2101680"/>
            <a:ext cx="44784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2514600" y="2101680"/>
            <a:ext cx="191448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457200" y="2101680"/>
            <a:ext cx="205740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дца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27000" y="2101680"/>
            <a:ext cx="43020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7229520" y="1568520"/>
            <a:ext cx="1920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4876920" y="1568520"/>
            <a:ext cx="2352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6"/>
          <p:cNvSpPr/>
          <p:nvPr/>
        </p:nvSpPr>
        <p:spPr>
          <a:xfrm>
            <a:off x="4429080" y="1568520"/>
            <a:ext cx="447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2514600" y="1568520"/>
            <a:ext cx="1914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8"/>
          <p:cNvSpPr/>
          <p:nvPr/>
        </p:nvSpPr>
        <p:spPr>
          <a:xfrm>
            <a:off x="457200" y="1568520"/>
            <a:ext cx="2057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ят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27000" y="1568520"/>
            <a:ext cx="43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0"/>
          <p:cNvSpPr/>
          <p:nvPr/>
        </p:nvSpPr>
        <p:spPr>
          <a:xfrm>
            <a:off x="7229520" y="838080"/>
            <a:ext cx="192096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4876920" y="838080"/>
            <a:ext cx="235260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4429080" y="838080"/>
            <a:ext cx="44784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2514600" y="838080"/>
            <a:ext cx="191448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457200" y="838080"/>
            <a:ext cx="205740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5"/>
          <p:cNvSpPr/>
          <p:nvPr/>
        </p:nvSpPr>
        <p:spPr>
          <a:xfrm>
            <a:off x="27000" y="838080"/>
            <a:ext cx="430200" cy="730440"/>
          </a:xfrm>
          <a:prstGeom prst="rect">
            <a:avLst/>
          </a:prstGeom>
          <a:solidFill>
            <a:srgbClr val="c48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>
            <a:off x="27000" y="838080"/>
            <a:ext cx="9123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>
            <a:off x="27000" y="156852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27000" y="210168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27000" y="261936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0"/>
          <p:cNvSpPr/>
          <p:nvPr/>
        </p:nvSpPr>
        <p:spPr>
          <a:xfrm>
            <a:off x="27000" y="316080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1"/>
          <p:cNvSpPr/>
          <p:nvPr/>
        </p:nvSpPr>
        <p:spPr>
          <a:xfrm>
            <a:off x="27000" y="370188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2"/>
          <p:cNvSpPr/>
          <p:nvPr/>
        </p:nvSpPr>
        <p:spPr>
          <a:xfrm>
            <a:off x="27000" y="424332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3"/>
          <p:cNvSpPr/>
          <p:nvPr/>
        </p:nvSpPr>
        <p:spPr>
          <a:xfrm>
            <a:off x="27000" y="478620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4"/>
          <p:cNvSpPr/>
          <p:nvPr/>
        </p:nvSpPr>
        <p:spPr>
          <a:xfrm>
            <a:off x="27000" y="532764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5"/>
          <p:cNvSpPr/>
          <p:nvPr/>
        </p:nvSpPr>
        <p:spPr>
          <a:xfrm>
            <a:off x="27000" y="5869080"/>
            <a:ext cx="912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6"/>
          <p:cNvSpPr/>
          <p:nvPr/>
        </p:nvSpPr>
        <p:spPr>
          <a:xfrm>
            <a:off x="27000" y="6410160"/>
            <a:ext cx="9123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7"/>
          <p:cNvSpPr/>
          <p:nvPr/>
        </p:nvSpPr>
        <p:spPr>
          <a:xfrm>
            <a:off x="27000" y="838080"/>
            <a:ext cx="0" cy="5572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8"/>
          <p:cNvSpPr/>
          <p:nvPr/>
        </p:nvSpPr>
        <p:spPr>
          <a:xfrm>
            <a:off x="457200" y="838080"/>
            <a:ext cx="0" cy="55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9"/>
          <p:cNvSpPr/>
          <p:nvPr/>
        </p:nvSpPr>
        <p:spPr>
          <a:xfrm>
            <a:off x="2514600" y="838080"/>
            <a:ext cx="0" cy="55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0"/>
          <p:cNvSpPr/>
          <p:nvPr/>
        </p:nvSpPr>
        <p:spPr>
          <a:xfrm>
            <a:off x="4429080" y="838080"/>
            <a:ext cx="0" cy="55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1"/>
          <p:cNvSpPr/>
          <p:nvPr/>
        </p:nvSpPr>
        <p:spPr>
          <a:xfrm>
            <a:off x="4876920" y="838080"/>
            <a:ext cx="0" cy="55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2"/>
          <p:cNvSpPr/>
          <p:nvPr/>
        </p:nvSpPr>
        <p:spPr>
          <a:xfrm>
            <a:off x="7229520" y="838080"/>
            <a:ext cx="0" cy="55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>
            <a:off x="9150480" y="838080"/>
            <a:ext cx="0" cy="5572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1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1ffe1"/>
                                      </p:to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62120" y="1143000"/>
          <a:ext cx="7924680" cy="4673520"/>
        </p:xfrm>
        <a:graphic>
          <a:graphicData uri="http://schemas.openxmlformats.org/drawingml/2006/table">
            <a:tbl>
              <a:tblPr/>
              <a:tblGrid>
                <a:gridCol w="1295280"/>
                <a:gridCol w="1523880"/>
                <a:gridCol w="1295640"/>
                <a:gridCol w="1371600"/>
                <a:gridCol w="1143000"/>
                <a:gridCol w="1295280"/>
              </a:tblGrid>
              <a:tr h="99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884c"/>
                    </a:solidFill>
                  </a:tcPr>
                </a:tc>
              </a:tr>
              <a:tr h="101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0-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 части склоняются одинак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,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5" name="Group 93"/>
          <p:cNvGrpSpPr/>
          <p:nvPr/>
        </p:nvGrpSpPr>
        <p:grpSpPr>
          <a:xfrm>
            <a:off x="152280" y="380880"/>
            <a:ext cx="8763120" cy="6400800"/>
            <a:chOff x="152280" y="380880"/>
            <a:chExt cx="8763120" cy="6400800"/>
          </a:xfrm>
        </p:grpSpPr>
        <p:sp>
          <p:nvSpPr>
            <p:cNvPr id="156" name="Line 94"/>
            <p:cNvSpPr/>
            <p:nvPr/>
          </p:nvSpPr>
          <p:spPr>
            <a:xfrm>
              <a:off x="304920" y="38088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95"/>
            <p:cNvSpPr/>
            <p:nvPr/>
          </p:nvSpPr>
          <p:spPr>
            <a:xfrm>
              <a:off x="152280" y="662940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96"/>
          <p:cNvSpPr/>
          <p:nvPr/>
        </p:nvSpPr>
        <p:spPr>
          <a:xfrm>
            <a:off x="623160" y="27360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онение десятков (10-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4-10T09:08:13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