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C13-AB78-46D6-9C46-B932870E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FEF-422B-4E8B-A55B-1C8A096D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316-E23E-4322-86D3-6A112613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18A-92BE-48CB-9F64-3774ACCD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DB8C-E424-445D-B993-392149B6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086F-B33D-4819-89AF-154B0139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6C8F-B968-4F38-8E64-B4F7B61D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1C11-C6A9-465C-9FAB-24FC0CC8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2F78-67DD-432C-ABB1-5BA1E48F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B4EE-A8D2-4EC9-B401-64C3B145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CA4F-BB3F-4C87-939A-6194FEB9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6C0-81F7-4166-8B6B-71AF54A1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F043-AD22-4D07-A9D8-2DD60EC4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330A-C050-4395-86EC-25F4C40B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94F5-4DBA-47BB-AC23-F3FA0BD4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773F-27BA-4494-ADAC-9B3C879E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FF74-3680-4A4E-83A4-ACFA09E9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EE5-8F32-429C-AC37-7B33CA50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065-48D8-44B8-AC8B-16ACEF53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FB4-9532-4819-AE4F-F5E4B297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917A-8032-4857-918D-1AF6B144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B8E-A6B2-49DC-91F5-8B16BE93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377-DFF4-458A-A15C-59682CEC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962-5D0C-41CC-A604-2D333019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D11C-CFFC-4216-8034-46C85D4AB5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F4BD-F54B-41DC-A934-8A8670BC86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headlife.ru/delovoe-obshchenie/" TargetMode="External"/><Relationship Id="rId2" Type="http://schemas.openxmlformats.org/officeDocument/2006/relationships/hyperlink" Target="https://headlife.ru/delovoe-obshchenie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c.academic.ru/dic.nsf/ruwiki/6255" TargetMode="External"/><Relationship Id="rId2" Type="http://schemas.openxmlformats.org/officeDocument/2006/relationships/hyperlink" Target="https://dic.academic.ru/dic.nsf/ruwiki/6165" TargetMode="External"/><Relationship Id="rId3" Type="http://schemas.openxmlformats.org/officeDocument/2006/relationships/hyperlink" Target="https://dic.academic.ru/dic.nsf/ruwiki/420609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как писать реферат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имер оформления электронного источника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 algn="just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еловое профессиональное общение: основы и правила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RL: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s://headlife.ru/delovoe-obshchenie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/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та обращения: 10.03.19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Рефера́т (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нем.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 </a:t>
            </a:r>
            <a:r>
              <a:rPr b="1" i="1" lang="de-DE" sz="2400" spc="-1" strike="noStrike">
                <a:solidFill>
                  <a:srgbClr val="006666"/>
                </a:solidFill>
                <a:latin typeface="Arial"/>
              </a:rPr>
              <a:t>Referat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, от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лат.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refere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 — 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докладывать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, 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ообщать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)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ый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доклад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или выступление в рамках определённой темы, в котором собрана информация из одного или не-скольких источников. Рефераты могут являться изложением содержания научной работы, художественной книги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рядок работы над реферато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ставить план рефера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обрать литературу для работы и бегло ее просмотре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корректировать план (при необходимости - согласовать его с преподавателем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робно изучить подобранную литературу и написать черновик основной части рефера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читать написанный материал и составить к нему непротиворечивое введение и выво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читать весь черновик реферата, исправить опечатки и ляпы, проверить нумерацию параграфов и снос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ставить содержание и титульный лист в строгом соответствии с ГОСТ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форматировать текст согласно ГОСТу и методическим указаниям (оформлять нужно и учитывая пожелания проверяющего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Требования к написанию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ферат должен основываться на многих источниках, а не на 2-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е является сборником цитат из литератур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 должен четко решать поставленную в теме пробле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уктура реферата прописывается как ГОСТами, так и методическими указаниями – она не должна наруша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ные источники должны оформляться согласно правилам библиографии, с указанием всех необходимых выходных данных, включая страницы, на которых расположена нужная информац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иль изложения возможен только научны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Структура реферата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итульный лис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одерж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вед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сновная ча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Заклю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писок литератур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илож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50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держание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Шрифт, размер, междустрочный интервал и цвет - аналогичны титульному лист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оля отличаются от титульного листа тем, что правый отступ равен 1 с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 самом верху страницы по центру пишется "Содержание". Разрешается использовать термин "Оглавление". Точка после слова "Содержание" ("Оглавление") не ставитс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Каждый структурный элемент оформляется с нового абзац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се структурные элементы нумеруются обычными (арабскими) цифрами по типу "1.,2.,3." и так далее. Подразделы - "1.1, 1.2, 1.3" (для подразделов делается отступ еще в 1 см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Интервал между абзацами должен быть равен единиц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Требования к оформлению библиографии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спользованная литература приводится в алфавитном порядк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ервой указывается русскоязычная литература, после нее – литература на других языках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сточники, находящиеся в интернете, оформляются отдельным списко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имер правила оформления обычной литера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Афанасьев И.С. Все о заповедниках / И.С.Афанасьев. - М.: Наука, 2019 - 260 с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9T14:40:01Z</dcterms:created>
  <dc:creator>Юлианна</dc:creator>
  <dc:description/>
  <dc:language>en-US</dc:language>
  <cp:lastModifiedBy>Юлианна</cp:lastModifiedBy>
  <dcterms:modified xsi:type="dcterms:W3CDTF">2020-04-09T14:58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