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EDB8-D20F-4356-BE74-470958608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D431-B2AB-43DF-8485-C355E27E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BB15-D8EA-4446-BE48-CAC0BA753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16D1-E322-4A1C-A076-8BFB3730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092F-100C-4FCE-871A-AFD318C2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9DB4-FDAA-46C0-8D44-F7502BF9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2172-C5A3-498B-8517-8416E166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7C2D-B17D-409C-9B3F-BC84D08F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3304-D4E1-4C60-883B-A98DC862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47C8-7C5D-4D4E-9E65-DEAF3701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58D8-EEA6-4A7F-AA6F-B3CB29CC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260F-714F-4DF9-81F1-90DCF39E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5888-C1D8-4433-997F-90FD1BF8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400C-2DCA-4BDA-86AC-E9714349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BE2B-1E04-4F8D-B573-D93CE952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5978-A4F3-492A-94E7-1CA0271E6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50F1-7174-4622-97D5-BDFE9FF07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76E4-4157-4C77-B95E-68793BB9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0C48-2958-49F6-BEA0-7DB7B695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C74A-32B9-4A2F-9110-F1EEE126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354F-669C-4DB3-81BA-40494021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0C70-B5E8-4EFF-A6D5-761F7E51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9E70-2763-4042-BECE-8588986A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1A35-8BEF-4D3F-B2A3-913F7AA7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BE8C-69B2-4743-A861-C583CABD177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0B42-4C80-4E8F-9920-8A94E5E5F0A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headlife.ru/delovoe-obshchenie/" TargetMode="External"/><Relationship Id="rId2" Type="http://schemas.openxmlformats.org/officeDocument/2006/relationships/hyperlink" Target="https://headlife.ru/delovoe-obshchenie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dic.academic.ru/dic.nsf/ruwiki/6255" TargetMode="External"/><Relationship Id="rId2" Type="http://schemas.openxmlformats.org/officeDocument/2006/relationships/hyperlink" Target="https://dic.academic.ru/dic.nsf/ruwiki/6165" TargetMode="External"/><Relationship Id="rId3" Type="http://schemas.openxmlformats.org/officeDocument/2006/relationships/hyperlink" Target="https://dic.academic.ru/dic.nsf/ruwiki/420609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как писать реферат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Пример оформления электронного источника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 algn="just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еловое профессиональное общение: основы и правила.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RL: 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s://headlife.ru/delovoe-obshchenie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/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ата обращения: 10.03.19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Рефера́т (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нем.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 </a:t>
            </a:r>
            <a:r>
              <a:rPr b="1" i="1" lang="de-DE" sz="2400" spc="-1" strike="noStrike">
                <a:solidFill>
                  <a:srgbClr val="006666"/>
                </a:solidFill>
                <a:latin typeface="Arial"/>
              </a:rPr>
              <a:t>Referat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, от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лат.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 </a:t>
            </a: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refere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 — </a:t>
            </a: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докладывать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, </a:t>
            </a: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сообщать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)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исьменный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доклад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или выступление в рамках определённой темы, в котором собрана информация из одного или не-скольких источников. Рефераты могут являться изложением содержания научной работы, художественной книги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орядок работы над рефератом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ставить план рефера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обрать литературу для работы и бегло ее просмотре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корректировать план (при необходимости - согласовать его с преподавателем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робно изучить подобранную литературу и написать черновик основной части рефера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читать написанный материал и составить к нему непротиворечивое введение и выво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читать весь черновик реферата, исправить опечатки и ляпы, проверить нумерацию параграфов и сноск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ставить содержание и титульный лист в строгом соответствии с ГОСТ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форматировать текст согласно ГОСТу и методическим указаниям (оформлять нужно и учитывая пожелания проверяющего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Требования к написанию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ферат должен основываться на многих источниках, а не на 2-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бота не является сборником цитат из литератур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н должен четко решать поставленную в теме проблем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руктура реферата прописывается как ГОСТами, так и методическими указаниями – она не должна наруша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пользованные источники должны оформляться согласно правилам библиографии, с указанием всех необходимых выходных данных, включая страницы, на которых расположена нужная информац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иль изложения возможен только научны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Структура реферата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Титульный лис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Содержа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Введе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Основная част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Заключе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Список литературы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риложе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303640" y="0"/>
            <a:ext cx="500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Содержание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Шрифт, размер, междустрочный интервал и цвет - аналогичны титульному листу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Поля отличаются от титульного листа тем, что правый отступ равен 1 см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В самом верху страницы по центру пишется "Содержание". Разрешается использовать термин "Оглавление". Точка после слова "Содержание" ("Оглавление") не ставитс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Каждый структурный элемент оформляется с нового абзац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Все структурные элементы нумеруются обычными (арабскими) цифрами по типу "1.,2.,3." и так далее. Подразделы - "1.1, 1.2, 1.3" (для подразделов делается отступ еще в 1 см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Интервал между абзацами должен быть равен единице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Требования к оформлению библиографии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Использованная литература приводится в алфавитном порядк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ервой указывается русскоязычная литература, после нее – литература на других языках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Источники, находящиеся в интернете, оформляются отдельным списком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Пример правила оформления обычной литературы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Афанасьев И.С. Все о заповедниках / И.С.Афанасьев. - М.: Наука, 2019 - 260 с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9T14:40:01Z</dcterms:created>
  <dc:creator>Юлианна</dc:creator>
  <dc:description/>
  <dc:language>en-US</dc:language>
  <cp:lastModifiedBy>Юлианна</cp:lastModifiedBy>
  <dcterms:modified xsi:type="dcterms:W3CDTF">2020-04-09T14:58:3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