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E30-C19A-4BC3-A163-629ED4E1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549-2AEA-442B-8373-F4EAD7AD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F49-0875-4CEF-B2FC-755A66D6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9729-D21F-4809-AF76-9CE91505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C69-955D-4F75-BF36-1517EE8D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1BA-9B5C-434A-884B-C3B55249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8F5A-D53F-4E68-A65A-4FDD9C78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F6A-E10C-4DF0-A5E8-2C57697E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19F-C1D3-4076-82CB-0FC312BE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66DA-8DF1-486E-99C3-D4A94711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6171-E312-448C-BE90-006BA1EE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419A-B4FB-4F26-B2E7-B31A0B87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88D5-1740-4709-8777-42714890D9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ого берут в космонав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КЛАСС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освященный первому поле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человека в косм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Невесом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58920" y="1268280"/>
            <a:ext cx="403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ая "чистая" невесомость возникает в самолёте. В самолете Ту- 104 создали «летающую лабораторию», в которой можно свободно "плавать" и отрабатывать элементы полётного задания, но невесомость длится не более 20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Космонавт тренируется в состоянии невесомости перед полётом в косомос."/>
          <p:cNvPicPr/>
          <p:nvPr/>
        </p:nvPicPr>
        <p:blipFill>
          <a:blip r:embed="rId1"/>
          <a:stretch/>
        </p:blipFill>
        <p:spPr>
          <a:xfrm>
            <a:off x="250920" y="1628640"/>
            <a:ext cx="460836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Гидробасс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4968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000" y="4869000"/>
            <a:ext cx="8362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я невесомость в воде сильно отличается от невесомости в космосе, испытатель может находиться в ней практически неограниченное время и свободно перемещаться в любом направл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Астронавт М. Фоэль в гидробассейне."/>
          <p:cNvPicPr/>
          <p:nvPr/>
        </p:nvPicPr>
        <p:blipFill>
          <a:blip r:embed="rId1"/>
          <a:stretch/>
        </p:blipFill>
        <p:spPr>
          <a:xfrm>
            <a:off x="2050920" y="1341360"/>
            <a:ext cx="516096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Гидролабора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92360" y="1600200"/>
            <a:ext cx="3600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Центре подготовки космонавтов построили гидробассейн и создали гидролабораторию. Бассейн представляет собой цилиндр диаметром 23 м и высотой 12 м с вмонтированными в него иллюминато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Тренировка в гидробассейне."/>
          <p:cNvPicPr/>
          <p:nvPr/>
        </p:nvPicPr>
        <p:blipFill>
          <a:blip r:embed="rId1"/>
          <a:stretch/>
        </p:blipFill>
        <p:spPr>
          <a:xfrm>
            <a:off x="395280" y="2276640"/>
            <a:ext cx="51577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Научная подготов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92360" y="1600200"/>
            <a:ext cx="5975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00" y="508428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жна не только физическая подготовка, хотя на неё отводится почти половина времени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дидаты в космонавты изучают различные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06"/>
          <p:cNvPicPr/>
          <p:nvPr/>
        </p:nvPicPr>
        <p:blipFill>
          <a:blip r:embed="rId2"/>
          <a:stretch/>
        </p:blipFill>
        <p:spPr>
          <a:xfrm>
            <a:off x="1835280" y="1413000"/>
            <a:ext cx="568944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Экзаме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32000" y="1341000"/>
            <a:ext cx="3754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мере усложнения космической техники и осуществляемых на орбите работ, исследований и экспериментов расширяется и объём подготовки. Космонавты, сдавая 101-й экзамен, ворчали: "Безобразие, отбирали по здоровью, а спрашивают по уму!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Сдача экзаменов."/>
          <p:cNvPicPr/>
          <p:nvPr/>
        </p:nvPicPr>
        <p:blipFill>
          <a:blip r:embed="rId2"/>
          <a:stretch/>
        </p:blipFill>
        <p:spPr>
          <a:xfrm>
            <a:off x="611280" y="1700280"/>
            <a:ext cx="41702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Таких берут в космонав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0560" y="1599840"/>
            <a:ext cx="496908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4000" y="5084640"/>
            <a:ext cx="84960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чив обучение, кандидаты в космонавты сдают государственный экзамен, и выдержавшим его присваивается квалификация "космонавт-испытатель" или "космонавт-исследователь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Сдача госэкзаменов в академии имени Н. Е. Жуковского."/>
          <p:cNvPicPr/>
          <p:nvPr/>
        </p:nvPicPr>
        <p:blipFill>
          <a:blip r:embed="rId2"/>
          <a:stretch/>
        </p:blipFill>
        <p:spPr>
          <a:xfrm>
            <a:off x="2124000" y="1268280"/>
            <a:ext cx="495936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42591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путствие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Юрия Гагар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997000"/>
            <a:ext cx="84358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рий Гагарин, обращаясь к ребятам 5 мая 1961 года, сказал: «Помните, друзья, что путь в космос начинается здесь, на Земле. Он пролегает через хорошее сочинение по литературе, через отличную контрольную по математике… Играйте в футбол, занимайтесь в кружках, помогайте младшим – словом занимайтесь своими обычными делами. Но всегда и во всем стремитесь к большой цели, тренируйте свою волю, не отступайте ни перед чем, что кажется трудным. И Родина доверит вам самое почетное задание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19396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01"/>
          <p:cNvPicPr/>
          <p:nvPr/>
        </p:nvPicPr>
        <p:blipFill>
          <a:blip r:embed="rId1"/>
          <a:stretch/>
        </p:blipFill>
        <p:spPr>
          <a:xfrm>
            <a:off x="4932360" y="404640"/>
            <a:ext cx="36162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Список использованных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циклопедия для детей, Т. 25: Космонавтика/ вед. Ред. А. Ростоцкая. М.: Аванта+, 2004.- 447 с.: цв. ил +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ловек открывает вселенну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56000" y="1628280"/>
            <a:ext cx="4330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 апреля 1961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рий Гагар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космическом корабле «Восток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ервые в истории человечества совершил полет в косм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ь мир в этот день отмеч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ь космонав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4" descr="Гагарин"/>
          <p:cNvPicPr/>
          <p:nvPr/>
        </p:nvPicPr>
        <p:blipFill>
          <a:blip r:embed="rId1"/>
          <a:stretch/>
        </p:blipFill>
        <p:spPr>
          <a:xfrm>
            <a:off x="755640" y="1557360"/>
            <a:ext cx="3186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Кто же может стать космонавтом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4797000"/>
            <a:ext cx="8713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дущий космонавт должен быть здоровым человеком, способным выдерживать большие нагрузки. Чтобы это выяснить, проводятся испытания, для которых используются специальные приб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123640" y="1600200"/>
            <a:ext cx="504036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01"/>
          <p:cNvPicPr/>
          <p:nvPr/>
        </p:nvPicPr>
        <p:blipFill>
          <a:blip r:embed="rId2"/>
          <a:stretch/>
        </p:blipFill>
        <p:spPr>
          <a:xfrm>
            <a:off x="2268360" y="1628640"/>
            <a:ext cx="45990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ЦЕНТРИФУГА: ТРЕНИРОВКИ НА ПЕРЕГРУЗК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82915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моделирования перегрузок используется специальная быстро вращающаяся центрифуга, внешне напоминающая огромную гантел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340000" y="1599840"/>
            <a:ext cx="518472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Центрифуга."/>
          <p:cNvPicPr/>
          <p:nvPr/>
        </p:nvPicPr>
        <p:blipFill>
          <a:blip r:embed="rId1"/>
          <a:stretch/>
        </p:blipFill>
        <p:spPr>
          <a:xfrm>
            <a:off x="2627280" y="1557360"/>
            <a:ext cx="46245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ЕСТИБУЛЯРНЫЕ ТРЕНИРОВ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640" y="1600200"/>
            <a:ext cx="54720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5280" y="5661000"/>
            <a:ext cx="82915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ка к пребыванию в невесомости называется вестибулярной трениров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В. Быковский на кресле Барани и В. Терешкова на качелях Хилова."/>
          <p:cNvPicPr/>
          <p:nvPr/>
        </p:nvPicPr>
        <p:blipFill>
          <a:blip r:embed="rId1"/>
          <a:stretch/>
        </p:blipFill>
        <p:spPr>
          <a:xfrm>
            <a:off x="2050920" y="1413000"/>
            <a:ext cx="5391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80"/>
                </a:solidFill>
                <a:latin typeface="Arial"/>
              </a:rPr>
              <a:t>БАРОКАМЕ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797000"/>
            <a:ext cx="84358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монавтов "поднимают на высоту" 5000 м без кислородной маски, чтобы определить, как они переносят кислородное голодание. В таких ситуациях очень хорошо выявляются и скрытые болезни, и резервные возможности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979640" y="1600200"/>
            <a:ext cx="5184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Космонавты в барокамере."/>
          <p:cNvPicPr/>
          <p:nvPr/>
        </p:nvPicPr>
        <p:blipFill>
          <a:blip r:embed="rId1"/>
          <a:stretch/>
        </p:blipFill>
        <p:spPr>
          <a:xfrm>
            <a:off x="2124000" y="1197000"/>
            <a:ext cx="496584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ТЕРМОКАМЕ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4720" y="1599840"/>
            <a:ext cx="4402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 устойчивости кандидата в космонавты к воздействию высоких температур проводится в термокаме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ытания проводятся при температуре 60° и большой влажности воздуха в течение одного ч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Кандидаты в космонавты проходят всестороннее медицинское обследование."/>
          <p:cNvPicPr/>
          <p:nvPr/>
        </p:nvPicPr>
        <p:blipFill>
          <a:blip r:embed="rId1"/>
          <a:stretch/>
        </p:blipFill>
        <p:spPr>
          <a:xfrm>
            <a:off x="611280" y="1628640"/>
            <a:ext cx="34876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Arial"/>
              </a:rPr>
              <a:t>СУРДОКАМЕ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3313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бывание в замкнутом помещении при осознании полной оторванности от Земли - серьёзная психическая нагрузка. Были случаи, когда некоторые кандидаты в космонавты его не выдержив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В. Быковский в сурдокамере."/>
          <p:cNvPicPr/>
          <p:nvPr/>
        </p:nvPicPr>
        <p:blipFill>
          <a:blip r:embed="rId1"/>
          <a:stretch/>
        </p:blipFill>
        <p:spPr>
          <a:xfrm>
            <a:off x="3708360" y="1628640"/>
            <a:ext cx="48150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ОДГОТОВКА К РАБОТАМ В ОТКРЫТОМ КОСМО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3640" y="5229000"/>
            <a:ext cx="8569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ка космонавтов к работе в открытом космосе, вероятно, самая сложная. Ведь на Земле практически невозможно создать длительную - более нескольких десятков секунд - невесом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Тренировка американских астронавтов в невесомости."/>
          <p:cNvPicPr/>
          <p:nvPr/>
        </p:nvPicPr>
        <p:blipFill>
          <a:blip r:embed="rId1"/>
          <a:stretch/>
        </p:blipFill>
        <p:spPr>
          <a:xfrm>
            <a:off x="1835280" y="1557360"/>
            <a:ext cx="52545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06:37:25Z</dcterms:created>
  <dc:creator>мир</dc:creator>
  <dc:description/>
  <dc:language>en-US</dc:language>
  <cp:lastModifiedBy>Наташа</cp:lastModifiedBy>
  <dcterms:modified xsi:type="dcterms:W3CDTF">2020-04-10T08:49:56Z</dcterms:modified>
  <cp:revision>36</cp:revision>
  <dc:subject/>
  <dc:title>Слайд 1</dc:title>
</cp:coreProperties>
</file>