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20A-84FB-4961-9E7A-DF72267D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6FD-2CDE-4F88-BF98-99C73DC4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B34-6C46-478C-8151-674930E6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1ED-6F5E-4DFD-BF61-FCF372E5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91F-3ABC-4740-884F-E7A18295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A1C-6313-4669-8254-700655BA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331-95B4-432E-8C0B-25D4793F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3A4-B5E9-49DD-8557-C249B956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00C-6FED-478E-844B-66BF99E2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765-537E-432D-8963-793F1393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BA8-3ECF-44D8-9D18-A249AF2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9D4-7508-40FF-B05F-728958E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5328-95A7-4BB9-9D2A-846FEB3B5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го берут в космонав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КЛАСС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священный первому пол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еловека в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Невесом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8920" y="1268280"/>
            <a:ext cx="403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"чистая" невесомость возникает в самолёте. В самолете Ту- 104 создали «летающую лабораторию», в которой можно свободно "плавать" и отрабатывать элементы полётного задания, но невесомость длится не более 2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осмонавт тренируется в состоянии невесомости перед полётом в косомос."/>
          <p:cNvPicPr/>
          <p:nvPr/>
        </p:nvPicPr>
        <p:blipFill>
          <a:blip r:embed="rId1"/>
          <a:stretch/>
        </p:blipFill>
        <p:spPr>
          <a:xfrm>
            <a:off x="250920" y="1628640"/>
            <a:ext cx="46083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идробасс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4968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00" y="4869000"/>
            <a:ext cx="8362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невесомость в воде сильно отличается от невесомости в космосе, испытатель может находиться в ней практически неограниченное время и свободно перемещаться в любом направл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Астронавт М. Фоэль в гидробассейне."/>
          <p:cNvPicPr/>
          <p:nvPr/>
        </p:nvPicPr>
        <p:blipFill>
          <a:blip r:embed="rId1"/>
          <a:stretch/>
        </p:blipFill>
        <p:spPr>
          <a:xfrm>
            <a:off x="2050920" y="1341360"/>
            <a:ext cx="51609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Гидро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92360" y="1600200"/>
            <a:ext cx="3600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Центре подготовки космонавтов построили гидробассейн и создали гидролабораторию. Бассейн представляет собой цилиндр диаметром 23 м и высотой 12 м с вмонтированными в него иллюминат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Тренировка в гидробассейне."/>
          <p:cNvPicPr/>
          <p:nvPr/>
        </p:nvPicPr>
        <p:blipFill>
          <a:blip r:embed="rId1"/>
          <a:stretch/>
        </p:blipFill>
        <p:spPr>
          <a:xfrm>
            <a:off x="395280" y="2276640"/>
            <a:ext cx="51577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Научная подгото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360" y="1600200"/>
            <a:ext cx="5975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00" y="508428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а не только физическая подготовка, хотя на неё отводится почти половина времени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дидаты в космонавты изучают различны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06"/>
          <p:cNvPicPr/>
          <p:nvPr/>
        </p:nvPicPr>
        <p:blipFill>
          <a:blip r:embed="rId2"/>
          <a:stretch/>
        </p:blipFill>
        <p:spPr>
          <a:xfrm>
            <a:off x="1835280" y="1413000"/>
            <a:ext cx="56894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Экзам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32000" y="1341000"/>
            <a:ext cx="3754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мере усложнения космической техники и осуществляемых на орбите работ, исследований и экспериментов расширяется и объём подготовки. Космонавты, сдавая 101-й экзамен, ворчали: "Безобразие, отбирали по здоровью, а спрашивают по уму!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Сдача экзаменов."/>
          <p:cNvPicPr/>
          <p:nvPr/>
        </p:nvPicPr>
        <p:blipFill>
          <a:blip r:embed="rId2"/>
          <a:stretch/>
        </p:blipFill>
        <p:spPr>
          <a:xfrm>
            <a:off x="611280" y="1700280"/>
            <a:ext cx="41702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Таких берут в космонав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496908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000" y="5084640"/>
            <a:ext cx="84960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чив обучение, кандидаты в космонавты сдают государственный экзамен, и выдержавшим его присваивается квалификация "космонавт-испытатель" или "космонавт-исследователь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Сдача госэкзаменов в академии имени Н. Е. Жуковского."/>
          <p:cNvPicPr/>
          <p:nvPr/>
        </p:nvPicPr>
        <p:blipFill>
          <a:blip r:embed="rId2"/>
          <a:stretch/>
        </p:blipFill>
        <p:spPr>
          <a:xfrm>
            <a:off x="2124000" y="1268280"/>
            <a:ext cx="495936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4259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путствие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Юрия Гага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997000"/>
            <a:ext cx="8435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й Гагарин, обращаясь к ребятам 5 мая 1961 года, сказал: «Помните, друзья, что путь в космос начинается здесь, на Земле. Он пролегает через хорошее сочинение по литературе, через отличную контрольную по математике… Играйте в футбол, занимайтесь в кружках, помогайте младшим – словом занимайтесь своими обычными делами. Но всегда и во всем стремитесь к большой цели, тренируйте свою волю, не отступайте ни перед чем, что кажется трудным. И Родина доверит вам самое почетное задание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19396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01"/>
          <p:cNvPicPr/>
          <p:nvPr/>
        </p:nvPicPr>
        <p:blipFill>
          <a:blip r:embed="rId1"/>
          <a:stretch/>
        </p:blipFill>
        <p:spPr>
          <a:xfrm>
            <a:off x="4932360" y="404640"/>
            <a:ext cx="3616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Список использованных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циклопедия для детей, Т. 25: Космонавтика/ вед. Ред. А. Ростоцкая. М.: Аванта+, 2004.- 447 с.: цв. ил +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овек открывает вселен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56000" y="1628280"/>
            <a:ext cx="433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апреля 196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й Гагар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осмическом корабле «Восто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вые в истории человечества совершил полет в кос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ь мир в этот день отме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ь космонав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Гагарин"/>
          <p:cNvPicPr/>
          <p:nvPr/>
        </p:nvPicPr>
        <p:blipFill>
          <a:blip r:embed="rId1"/>
          <a:stretch/>
        </p:blipFill>
        <p:spPr>
          <a:xfrm>
            <a:off x="755640" y="1557360"/>
            <a:ext cx="318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Кто же может стать космонавтом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ущий космонавт должен быть здоровым человеком, способным выдерживать большие нагрузки. Чтобы это выяснить, проводятся испытания, для которых используются специальные приб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23640" y="1600200"/>
            <a:ext cx="5040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1"/>
          <p:cNvPicPr/>
          <p:nvPr/>
        </p:nvPicPr>
        <p:blipFill>
          <a:blip r:embed="rId2"/>
          <a:stretch/>
        </p:blipFill>
        <p:spPr>
          <a:xfrm>
            <a:off x="2268360" y="1628640"/>
            <a:ext cx="45990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ЦЕНТРИФУГА: ТРЕНИРОВКИ НА ПЕРЕГРУЗ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моделирования перегрузок используется специальная быстро вращающаяся центрифуга, внешне напоминающая огромную гант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340000" y="1599840"/>
            <a:ext cx="51847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Центрифуга."/>
          <p:cNvPicPr/>
          <p:nvPr/>
        </p:nvPicPr>
        <p:blipFill>
          <a:blip r:embed="rId1"/>
          <a:stretch/>
        </p:blipFill>
        <p:spPr>
          <a:xfrm>
            <a:off x="2627280" y="1557360"/>
            <a:ext cx="46245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СТИБУЛЯРНЫЕ ТРЕНИРОВ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54720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5280" y="5661000"/>
            <a:ext cx="8291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к пребыванию в невесомости называется вестибулярной трениров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В. Быковский на кресле Барани и В. Терешкова на качелях Хилова."/>
          <p:cNvPicPr/>
          <p:nvPr/>
        </p:nvPicPr>
        <p:blipFill>
          <a:blip r:embed="rId1"/>
          <a:stretch/>
        </p:blipFill>
        <p:spPr>
          <a:xfrm>
            <a:off x="2050920" y="1413000"/>
            <a:ext cx="5391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Arial"/>
              </a:rPr>
              <a:t>БАРОКАМЕ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79700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онавтов "поднимают на высоту" 5000 м без кислородной маски, чтобы определить, как они переносят кислородное голодание. В таких ситуациях очень хорошо выявляются и скрытые болезни, и резервные возможност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979640" y="1600200"/>
            <a:ext cx="5184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Космонавты в барокамере."/>
          <p:cNvPicPr/>
          <p:nvPr/>
        </p:nvPicPr>
        <p:blipFill>
          <a:blip r:embed="rId1"/>
          <a:stretch/>
        </p:blipFill>
        <p:spPr>
          <a:xfrm>
            <a:off x="2124000" y="1197000"/>
            <a:ext cx="496584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ТЕРМОКАМЕ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устойчивости кандидата в космонавты к воздействию высоких температур проводится в термокаме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ытания проводятся при температуре 60° и большой влажности воздуха в течение одного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ндидаты в космонавты проходят всестороннее медицинское обследование."/>
          <p:cNvPicPr/>
          <p:nvPr/>
        </p:nvPicPr>
        <p:blipFill>
          <a:blip r:embed="rId1"/>
          <a:stretch/>
        </p:blipFill>
        <p:spPr>
          <a:xfrm>
            <a:off x="611280" y="1628640"/>
            <a:ext cx="34876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Arial"/>
              </a:rPr>
              <a:t>СУРДОКАМЕ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3313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бывание в замкнутом помещении при осознании полной оторванности от Земли - серьёзная психическая нагрузка. Были случаи, когда некоторые кандидаты в космонавты его не выдержив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В. Быковский в сурдокамере."/>
          <p:cNvPicPr/>
          <p:nvPr/>
        </p:nvPicPr>
        <p:blipFill>
          <a:blip r:embed="rId1"/>
          <a:stretch/>
        </p:blipFill>
        <p:spPr>
          <a:xfrm>
            <a:off x="3708360" y="1628640"/>
            <a:ext cx="48150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ДГОТОВКА К РАБОТАМ В ОТКРЫТОМ КОСМО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522900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космонавтов к работе в открытом космосе, вероятно, самая сложная. Ведь на Земле практически невозможно создать длительную - более нескольких десятков секунд - невесо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Тренировка американских астронавтов в невесомости."/>
          <p:cNvPicPr/>
          <p:nvPr/>
        </p:nvPicPr>
        <p:blipFill>
          <a:blip r:embed="rId1"/>
          <a:stretch/>
        </p:blipFill>
        <p:spPr>
          <a:xfrm>
            <a:off x="1835280" y="1557360"/>
            <a:ext cx="5254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6:37:25Z</dcterms:created>
  <dc:creator>мир</dc:creator>
  <dc:description/>
  <dc:language>en-US</dc:language>
  <cp:lastModifiedBy>Наташа</cp:lastModifiedBy>
  <dcterms:modified xsi:type="dcterms:W3CDTF">2020-04-10T08:49:56Z</dcterms:modified>
  <cp:revision>36</cp:revision>
  <dc:subject/>
  <dc:title>Слайд 1</dc:title>
</cp:coreProperties>
</file>