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C70-B4F4-48BA-B8B7-63416654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6FC-EA83-4B6C-A1A3-DD4AB547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82D-FA2D-489D-8A27-E91EED08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A49-AA44-4260-A247-D0E5E41C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069-EB62-4B74-A85D-0D6AAFB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01C-B389-4F04-8601-F6336C6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575-8AC7-4CA5-9B62-A46BEFC3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F0A-0FD2-43C7-A022-FB24B376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9E7-757B-4413-B2B1-57554BFF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0A1-491C-4094-81EB-6E0CB65E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F76-5A95-41C8-801D-6F9F0A4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6D5-81A3-4276-9BA6-BB71D66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884F-F33F-490C-902A-0E1E06B731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s://ds04.infourok.ru/uploads/ex/115d/000b6f84-f22b0271/img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673360" y="5791320"/>
            <a:ext cx="81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воспитатель МКДОУ ЦРР детский сад № 18   Тищенко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https://ds04.infourok.ru/uploads/ex/04fa/0003ae79-b1e2f0fc/img13.jpg"/>
          <p:cNvPicPr/>
          <p:nvPr/>
        </p:nvPicPr>
        <p:blipFill>
          <a:blip r:embed="rId1"/>
          <a:stretch/>
        </p:blipFill>
        <p:spPr>
          <a:xfrm>
            <a:off x="0" y="0"/>
            <a:ext cx="1210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https://im0-tub-ru.yandex.net/i?id=134004277ed7ab8b9295679276e4cffb-l&amp;n=13"/>
          <p:cNvPicPr/>
          <p:nvPr/>
        </p:nvPicPr>
        <p:blipFill>
          <a:blip r:embed="rId1"/>
          <a:stretch/>
        </p:blipFill>
        <p:spPr>
          <a:xfrm>
            <a:off x="0" y="0"/>
            <a:ext cx="1207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s://avatars.mds.yandex.net/get-pdb/1813491/aef039c3-9c35-44f4-8e9d-a6d9b26ef942/s1200?webp=false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https://ds03.infourok.ru/uploads/ex/0289/00061d08-3581c6d3/img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s://ds03.infourok.ru/uploads/ex/0289/00061d08-3581c6d3/img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https://ds03.infourok.ru/uploads/ex/0289/00061d08-3581c6d3/img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s://ds04.infourok.ru/uploads/ex/0ab2/0001a4d9-87bde372/img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dc:language>en-US</dc:language>
  <cp:lastModifiedBy>user</cp:lastModifiedBy>
  <dcterms:modified xsi:type="dcterms:W3CDTF">2020-04-09T09:18:25Z</dcterms:modified>
  <cp:revision>8</cp:revision>
  <dc:subject/>
  <dc:title>Record a Presentation</dc:title>
</cp:coreProperties>
</file>