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491-C92A-4EAE-80A7-4262415E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2B4-C4A2-439F-91A7-68DFC8FE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70D-D3C8-49C5-901D-B9611F98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77E-38D5-4083-95D2-2E1F7B5E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2CF-A867-4CB9-8DB0-BBF0A36E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A0B-0C92-42AD-81DD-C939C583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639-E91B-4558-AB59-30D3D36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6F3-54C2-4C1A-A621-9163B0D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0CE-6159-4602-8E93-3CD12E9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198-0A59-4C18-BA41-2D89B71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4CE-BE0A-49E7-980E-83843DD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764-6E7A-476D-9871-E806AF8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A6B7-518C-4CB7-A348-C2F63C222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ed-kopilka.ru/upload/blogs/9293_1e813d34dcaf629cc035b751c5cedb23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ped-kopilka.ru/upload/blogs/9293_2fb4ec8010e6cf4a8037698e8c6110e5.jpg.jpg"/>
          <p:cNvPicPr/>
          <p:nvPr/>
        </p:nvPicPr>
        <p:blipFill>
          <a:blip r:embed="rId1"/>
          <a:stretch/>
        </p:blipFill>
        <p:spPr>
          <a:xfrm>
            <a:off x="500040" y="35712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ped-kopilka.ru/upload/blogs/9293_ddcbc654c86eaeb7e88ad2a138f11256.jpg.jpg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ped-kopilka.ru/upload/blogs/9293_25f76a3f0a7b123bce2eb60abf44ffca.jpg.jpg"/>
          <p:cNvPicPr/>
          <p:nvPr/>
        </p:nvPicPr>
        <p:blipFill>
          <a:blip r:embed="rId1"/>
          <a:srcRect l="39805" t="7094" r="19271" b="45145"/>
          <a:stretch/>
        </p:blipFill>
        <p:spPr>
          <a:xfrm>
            <a:off x="571680" y="500040"/>
            <a:ext cx="7878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ped-kopilka.ru/upload/blogs/9293_2e1b826b08239350f7e0ff0d0e621191.jpg.jpg"/>
          <p:cNvPicPr/>
          <p:nvPr/>
        </p:nvPicPr>
        <p:blipFill>
          <a:blip r:embed="rId1"/>
          <a:srcRect l="0" t="33444" r="0" b="0"/>
          <a:stretch/>
        </p:blipFill>
        <p:spPr>
          <a:xfrm>
            <a:off x="1357200" y="428760"/>
            <a:ext cx="6858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ped-kopilka.ru/upload/blogs/9293_0a337ac0776bd624b23cf0c31b60e905.jpg.jpg"/>
          <p:cNvPicPr/>
          <p:nvPr/>
        </p:nvPicPr>
        <p:blipFill>
          <a:blip r:embed="rId1"/>
          <a:stretch/>
        </p:blipFill>
        <p:spPr>
          <a:xfrm>
            <a:off x="500040" y="35712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ed-kopilka.ru/upload/blogs/9293_3847c206c3655136f0e239046a9fe000.jpg.jpg"/>
          <p:cNvPicPr/>
          <p:nvPr/>
        </p:nvPicPr>
        <p:blipFill>
          <a:blip r:embed="rId1"/>
          <a:stretch/>
        </p:blipFill>
        <p:spPr>
          <a:xfrm>
            <a:off x="571680" y="35712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ped-kopilka.ru/upload/blogs/9293_f94e4413e0c409615739ffa83a6c7608.jpg.jpg"/>
          <p:cNvPicPr/>
          <p:nvPr/>
        </p:nvPicPr>
        <p:blipFill>
          <a:blip r:embed="rId1"/>
          <a:stretch/>
        </p:blipFill>
        <p:spPr>
          <a:xfrm>
            <a:off x="500040" y="357120"/>
            <a:ext cx="807264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ed-kopilka.ru/upload/blogs/9293_bd876adc3c1b3f5ca819371d35d10e23.jpg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ped-kopilka.ru/upload/blogs/9293_28367dff9b940c0e7890d15e0143c269.jpg.jpg"/>
          <p:cNvPicPr/>
          <p:nvPr/>
        </p:nvPicPr>
        <p:blipFill>
          <a:blip r:embed="rId1"/>
          <a:stretch/>
        </p:blipFill>
        <p:spPr>
          <a:xfrm>
            <a:off x="500040" y="357120"/>
            <a:ext cx="8096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ped-kopilka.ru/upload/blogs/9293_ccdfd63452f0bd187c4af8f0bae047a3.jpg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ped-kopilka.ru/upload/blogs/9293_d46013f510dc4763086531e5c1e7a6b6.jpg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5T15:43:22Z</dcterms:created>
  <dc:creator>1</dc:creator>
  <dc:description/>
  <dc:language>en-US</dc:language>
  <cp:lastModifiedBy>Пользователь Windows</cp:lastModifiedBy>
  <dcterms:modified xsi:type="dcterms:W3CDTF">2020-04-06T11:49:20Z</dcterms:modified>
  <cp:revision>13</cp:revision>
  <dc:subject/>
  <dc:title>Слайд 1</dc:title>
</cp:coreProperties>
</file>