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38C85-26E5-4ACA-A30A-2248721914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53CBD-8E58-4FA7-A77B-E44AB3A0EF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F130B-9A9F-49B0-9B87-3E7E7DEE4B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F4171-E382-4615-A84B-BF7B345373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9D3-31E2-4D8C-BE49-50F6E0F3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A7D-A8D0-4D32-B2A3-248C1474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2A1-7F4C-4A9C-8EA1-D7A2B28D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07A-80A4-4D65-8436-DEA03E32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D12A-596A-4CD8-ABB0-E4E1728A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7C68-6573-44E9-8AB3-B9250EA0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D54-835B-4DD6-AB0E-F2C1B8D0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EDAA-0974-4F69-9481-D1625AA5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3EE-518D-4F05-8463-45626C03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F37-54D9-4011-B3E2-A542BB36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2EE7-BEE8-4AFD-8781-881E3711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F87-5F09-4434-9117-D36E85D5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9ECFFD-BBF1-4B44-BACE-1BD155F76A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3" descr=""/>
          <p:cNvPicPr/>
          <p:nvPr/>
        </p:nvPicPr>
        <p:blipFill>
          <a:blip r:embed="rId2"/>
          <a:stretch/>
        </p:blipFill>
        <p:spPr>
          <a:xfrm>
            <a:off x="1987560" y="407880"/>
            <a:ext cx="4552920" cy="1238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80000" y="6372360"/>
            <a:ext cx="3168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озова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76360" y="1332000"/>
          <a:ext cx="8496360" cy="5608440"/>
        </p:xfrm>
        <a:graphic>
          <a:graphicData uri="http://schemas.openxmlformats.org/drawingml/2006/table">
            <a:tbl>
              <a:tblPr/>
              <a:tblGrid>
                <a:gridCol w="1654200"/>
                <a:gridCol w="1709640"/>
                <a:gridCol w="1709640"/>
                <a:gridCol w="1712880"/>
                <a:gridCol w="1710000"/>
              </a:tblGrid>
              <a:tr h="1489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9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9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9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3960"/>
            <a:ext cx="100807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казывая числа по порядку, досчитать до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" name="AutoShape 2"/>
          <p:cNvCxnSpPr/>
          <p:nvPr/>
        </p:nvCxnSpPr>
        <p:spPr>
          <a:xfrm>
            <a:off x="2447640" y="1619280"/>
            <a:ext cx="5329800" cy="302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AutoShape 3"/>
          <p:cNvCxnSpPr/>
          <p:nvPr/>
        </p:nvCxnSpPr>
        <p:spPr>
          <a:xfrm flipV="1">
            <a:off x="1223640" y="1547280"/>
            <a:ext cx="5329800" cy="3169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Прямая соединительная линия 10"/>
          <p:cNvSpPr/>
          <p:nvPr/>
        </p:nvSpPr>
        <p:spPr>
          <a:xfrm flipH="1">
            <a:off x="2447640" y="1547640"/>
            <a:ext cx="41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7"/>
          <p:cNvSpPr/>
          <p:nvPr/>
        </p:nvSpPr>
        <p:spPr>
          <a:xfrm>
            <a:off x="2448000" y="399564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2448000" y="1547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27"/>
          <p:cNvSpPr/>
          <p:nvPr/>
        </p:nvSpPr>
        <p:spPr>
          <a:xfrm>
            <a:off x="6553080" y="1547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30"/>
          <p:cNvSpPr/>
          <p:nvPr/>
        </p:nvSpPr>
        <p:spPr>
          <a:xfrm flipH="1">
            <a:off x="1224000" y="1547640"/>
            <a:ext cx="122400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32"/>
          <p:cNvSpPr/>
          <p:nvPr/>
        </p:nvSpPr>
        <p:spPr>
          <a:xfrm>
            <a:off x="6553080" y="1547640"/>
            <a:ext cx="122400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719280" y="249480"/>
            <a:ext cx="86421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читай треугольники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2"/>
          <p:cNvSpPr/>
          <p:nvPr/>
        </p:nvSpPr>
        <p:spPr>
          <a:xfrm>
            <a:off x="503280" y="1474920"/>
            <a:ext cx="936720" cy="9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720080" y="253800"/>
            <a:ext cx="5316840" cy="8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ри бусы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"/>
          <p:cNvSpPr/>
          <p:nvPr/>
        </p:nvSpPr>
        <p:spPr>
          <a:xfrm>
            <a:off x="936720" y="2340000"/>
            <a:ext cx="934920" cy="93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"/>
          <p:cNvSpPr/>
          <p:nvPr/>
        </p:nvSpPr>
        <p:spPr>
          <a:xfrm>
            <a:off x="1800360" y="2916360"/>
            <a:ext cx="934920" cy="93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"/>
          <p:cNvSpPr/>
          <p:nvPr/>
        </p:nvSpPr>
        <p:spPr>
          <a:xfrm>
            <a:off x="2519280" y="3635280"/>
            <a:ext cx="936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"/>
          <p:cNvSpPr/>
          <p:nvPr/>
        </p:nvSpPr>
        <p:spPr>
          <a:xfrm>
            <a:off x="3311640" y="2987640"/>
            <a:ext cx="93636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"/>
          <p:cNvSpPr/>
          <p:nvPr/>
        </p:nvSpPr>
        <p:spPr>
          <a:xfrm>
            <a:off x="4032360" y="2340000"/>
            <a:ext cx="936360" cy="93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"/>
          <p:cNvSpPr/>
          <p:nvPr/>
        </p:nvSpPr>
        <p:spPr>
          <a:xfrm>
            <a:off x="4896000" y="1692360"/>
            <a:ext cx="936360" cy="93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"/>
          <p:cNvSpPr/>
          <p:nvPr/>
        </p:nvSpPr>
        <p:spPr>
          <a:xfrm>
            <a:off x="5688000" y="1116000"/>
            <a:ext cx="936720" cy="93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"/>
          <p:cNvSpPr/>
          <p:nvPr/>
        </p:nvSpPr>
        <p:spPr>
          <a:xfrm>
            <a:off x="6264360" y="1979640"/>
            <a:ext cx="936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"/>
          <p:cNvSpPr/>
          <p:nvPr/>
        </p:nvSpPr>
        <p:spPr>
          <a:xfrm>
            <a:off x="6912000" y="2700360"/>
            <a:ext cx="936720" cy="93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863640" y="427320"/>
            <a:ext cx="70563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й скороговорок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55"/>
          <p:cNvPicPr/>
          <p:nvPr/>
        </p:nvPicPr>
        <p:blipFill>
          <a:blip r:embed="rId1"/>
          <a:stretch/>
        </p:blipFill>
        <p:spPr>
          <a:xfrm>
            <a:off x="936720" y="1844640"/>
            <a:ext cx="78120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2950200" y="611280"/>
            <a:ext cx="43945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капитан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Копия Рисунок3"/>
          <p:cNvPicPr/>
          <p:nvPr/>
        </p:nvPicPr>
        <p:blipFill>
          <a:blip r:embed="rId1"/>
          <a:stretch/>
        </p:blipFill>
        <p:spPr>
          <a:xfrm>
            <a:off x="1584360" y="1187280"/>
            <a:ext cx="65149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576360" y="70200"/>
            <a:ext cx="83516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 слово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472000" y="4643280"/>
          <a:ext cx="3456000" cy="1622520"/>
        </p:xfrm>
        <a:graphic>
          <a:graphicData uri="http://schemas.openxmlformats.org/drawingml/2006/table">
            <a:tbl>
              <a:tblPr/>
              <a:tblGrid>
                <a:gridCol w="524160"/>
                <a:gridCol w="560160"/>
                <a:gridCol w="417600"/>
                <a:gridCol w="415800"/>
                <a:gridCol w="560520"/>
                <a:gridCol w="417600"/>
                <a:gridCol w="560160"/>
              </a:tblGrid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68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03280" y="4788000"/>
          <a:ext cx="3600360" cy="1655640"/>
        </p:xfrm>
        <a:graphic>
          <a:graphicData uri="http://schemas.openxmlformats.org/drawingml/2006/table">
            <a:tbl>
              <a:tblPr/>
              <a:tblGrid>
                <a:gridCol w="428760"/>
                <a:gridCol w="455400"/>
                <a:gridCol w="455760"/>
                <a:gridCol w="455400"/>
                <a:gridCol w="455760"/>
                <a:gridCol w="684000"/>
                <a:gridCol w="567000"/>
                <a:gridCol w="98280"/>
              </a:tblGrid>
              <a:tr h="1892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2"/>
          <p:cNvSpPr/>
          <p:nvPr/>
        </p:nvSpPr>
        <p:spPr>
          <a:xfrm>
            <a:off x="431640" y="992880"/>
            <a:ext cx="936180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=       м                                  5 + 2 =     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=       ы                                  4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=      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5 =       л                                   6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=      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=       д                                   7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=     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+ 0 =       о                                   9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=       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=       ц                                   4 + 5 =     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       о                                   4 + 4 =      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503280" y="5796000"/>
            <a:ext cx="576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2303640" y="5796000"/>
            <a:ext cx="576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2808360" y="5796000"/>
            <a:ext cx="576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3456000" y="5796000"/>
            <a:ext cx="576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1368360" y="5796000"/>
            <a:ext cx="576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1800360" y="5796000"/>
            <a:ext cx="576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936720" y="5796000"/>
            <a:ext cx="5745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7416720" y="5651640"/>
            <a:ext cx="576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6912000" y="5651640"/>
            <a:ext cx="576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6480000" y="5651640"/>
            <a:ext cx="576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5977080" y="5651640"/>
            <a:ext cx="576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5400720" y="5651640"/>
            <a:ext cx="576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8"/>
          <p:cNvSpPr/>
          <p:nvPr/>
        </p:nvSpPr>
        <p:spPr>
          <a:xfrm>
            <a:off x="8353440" y="5651640"/>
            <a:ext cx="5745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9"/>
          <p:cNvSpPr/>
          <p:nvPr/>
        </p:nvSpPr>
        <p:spPr>
          <a:xfrm>
            <a:off x="7920000" y="5651640"/>
            <a:ext cx="576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511280" y="324000"/>
            <a:ext cx="65530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ри фигуру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2" descr=""/>
          <p:cNvPicPr/>
          <p:nvPr/>
        </p:nvPicPr>
        <p:blipFill>
          <a:blip r:embed="rId1"/>
          <a:srcRect l="11558" t="16332" r="12828" b="8784"/>
          <a:stretch/>
        </p:blipFill>
        <p:spPr>
          <a:xfrm>
            <a:off x="2160720" y="1022400"/>
            <a:ext cx="48956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9" descr="0_147ad_e64fd4a5_XS"/>
          <p:cNvPicPr/>
          <p:nvPr/>
        </p:nvPicPr>
        <p:blipFill>
          <a:blip r:embed="rId1"/>
          <a:stretch/>
        </p:blipFill>
        <p:spPr>
          <a:xfrm>
            <a:off x="287280" y="1474920"/>
            <a:ext cx="94582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0:41:27Z</dcterms:created>
  <dc:creator/>
  <dc:description/>
  <dc:language>en-US</dc:language>
  <cp:lastModifiedBy>DELL</cp:lastModifiedBy>
  <dcterms:modified xsi:type="dcterms:W3CDTF">2020-04-10T17:22:42Z</dcterms:modified>
  <cp:revision>11</cp:revision>
  <dc:subject/>
  <dc:title>Слайд 1</dc:title>
</cp:coreProperties>
</file>