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EE006-9D13-4257-94E4-BEB41BE938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E9959-75DF-4B44-BCF8-425147DA80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1453D-D762-41B1-B220-FEB0ED2EB0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8BE54-02C6-449E-82A3-9C3DAE7F27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22A-E45E-4CE8-BBA7-FE5201E2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57A-039B-4541-BA87-81A36F04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49D-4425-4FFC-A6A5-B1EC99DF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2DF-0BEF-4691-9C81-2249FCB2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B43-B900-41D4-A182-BAC06511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089-6263-4D38-B607-1C41F218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A24-C050-44D4-9E52-09B89F89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F9D-9AE4-475B-9B1B-35A2F209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3A5-49B4-467B-9A6A-B29DD44E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65A-5838-43B6-B53D-48200C5D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129-4F4D-4572-A5A7-96D8EDB1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9CB-3E1A-40F7-8D45-C68A519D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9CEBAF-72F4-4D3C-B221-54192185D6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1987560" y="407880"/>
            <a:ext cx="4552920" cy="1238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80000" y="6372360"/>
            <a:ext cx="3168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ова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76360" y="1332000"/>
          <a:ext cx="8496360" cy="5608440"/>
        </p:xfrm>
        <a:graphic>
          <a:graphicData uri="http://schemas.openxmlformats.org/drawingml/2006/table">
            <a:tbl>
              <a:tblPr/>
              <a:tblGrid>
                <a:gridCol w="1654200"/>
                <a:gridCol w="1709640"/>
                <a:gridCol w="1709640"/>
                <a:gridCol w="1712880"/>
                <a:gridCol w="1710000"/>
              </a:tblGrid>
              <a:tr h="1489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3960"/>
            <a:ext cx="10080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ывая числа по порядку, досчитать до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" name="AutoShape 2"/>
          <p:cNvCxnSpPr/>
          <p:nvPr/>
        </p:nvCxnSpPr>
        <p:spPr>
          <a:xfrm>
            <a:off x="2447640" y="1619280"/>
            <a:ext cx="5329800" cy="302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AutoShape 3"/>
          <p:cNvCxnSpPr/>
          <p:nvPr/>
        </p:nvCxnSpPr>
        <p:spPr>
          <a:xfrm flipV="1">
            <a:off x="1223640" y="1547280"/>
            <a:ext cx="5329800" cy="316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Прямая соединительная линия 10"/>
          <p:cNvSpPr/>
          <p:nvPr/>
        </p:nvSpPr>
        <p:spPr>
          <a:xfrm flipH="1">
            <a:off x="2447640" y="1547640"/>
            <a:ext cx="41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2448000" y="3995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2448000" y="1547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7"/>
          <p:cNvSpPr/>
          <p:nvPr/>
        </p:nvSpPr>
        <p:spPr>
          <a:xfrm>
            <a:off x="6553080" y="1547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0"/>
          <p:cNvSpPr/>
          <p:nvPr/>
        </p:nvSpPr>
        <p:spPr>
          <a:xfrm flipH="1">
            <a:off x="1224000" y="1547640"/>
            <a:ext cx="122400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2"/>
          <p:cNvSpPr/>
          <p:nvPr/>
        </p:nvSpPr>
        <p:spPr>
          <a:xfrm>
            <a:off x="6553080" y="1547640"/>
            <a:ext cx="122400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19280" y="249480"/>
            <a:ext cx="8642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 треугольник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2"/>
          <p:cNvSpPr/>
          <p:nvPr/>
        </p:nvSpPr>
        <p:spPr>
          <a:xfrm>
            <a:off x="503280" y="1474920"/>
            <a:ext cx="936720" cy="9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720080" y="253800"/>
            <a:ext cx="5316840" cy="8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бусы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"/>
          <p:cNvSpPr/>
          <p:nvPr/>
        </p:nvSpPr>
        <p:spPr>
          <a:xfrm>
            <a:off x="936720" y="2340000"/>
            <a:ext cx="93492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1800360" y="2916360"/>
            <a:ext cx="93492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"/>
          <p:cNvSpPr/>
          <p:nvPr/>
        </p:nvSpPr>
        <p:spPr>
          <a:xfrm>
            <a:off x="2519280" y="363528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"/>
          <p:cNvSpPr/>
          <p:nvPr/>
        </p:nvSpPr>
        <p:spPr>
          <a:xfrm>
            <a:off x="3311640" y="2987640"/>
            <a:ext cx="9363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"/>
          <p:cNvSpPr/>
          <p:nvPr/>
        </p:nvSpPr>
        <p:spPr>
          <a:xfrm>
            <a:off x="4032360" y="2340000"/>
            <a:ext cx="93636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"/>
          <p:cNvSpPr/>
          <p:nvPr/>
        </p:nvSpPr>
        <p:spPr>
          <a:xfrm>
            <a:off x="4896000" y="1692360"/>
            <a:ext cx="93636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"/>
          <p:cNvSpPr/>
          <p:nvPr/>
        </p:nvSpPr>
        <p:spPr>
          <a:xfrm>
            <a:off x="5688000" y="1116000"/>
            <a:ext cx="93672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"/>
          <p:cNvSpPr/>
          <p:nvPr/>
        </p:nvSpPr>
        <p:spPr>
          <a:xfrm>
            <a:off x="6264360" y="197964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"/>
          <p:cNvSpPr/>
          <p:nvPr/>
        </p:nvSpPr>
        <p:spPr>
          <a:xfrm>
            <a:off x="6912000" y="2700360"/>
            <a:ext cx="93672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863640" y="427320"/>
            <a:ext cx="70563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й скороговорок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55"/>
          <p:cNvPicPr/>
          <p:nvPr/>
        </p:nvPicPr>
        <p:blipFill>
          <a:blip r:embed="rId1"/>
          <a:stretch/>
        </p:blipFill>
        <p:spPr>
          <a:xfrm>
            <a:off x="936720" y="1844640"/>
            <a:ext cx="7812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950200" y="611280"/>
            <a:ext cx="43945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капитан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Копия Рисунок3"/>
          <p:cNvPicPr/>
          <p:nvPr/>
        </p:nvPicPr>
        <p:blipFill>
          <a:blip r:embed="rId1"/>
          <a:stretch/>
        </p:blipFill>
        <p:spPr>
          <a:xfrm>
            <a:off x="1584360" y="1187280"/>
            <a:ext cx="65149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576360" y="70200"/>
            <a:ext cx="83516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 слово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472000" y="4643280"/>
          <a:ext cx="3456000" cy="1622520"/>
        </p:xfrm>
        <a:graphic>
          <a:graphicData uri="http://schemas.openxmlformats.org/drawingml/2006/table">
            <a:tbl>
              <a:tblPr/>
              <a:tblGrid>
                <a:gridCol w="524160"/>
                <a:gridCol w="560160"/>
                <a:gridCol w="417600"/>
                <a:gridCol w="415800"/>
                <a:gridCol w="560520"/>
                <a:gridCol w="417600"/>
                <a:gridCol w="560160"/>
              </a:tblGrid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6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03280" y="4788000"/>
          <a:ext cx="3600360" cy="1655640"/>
        </p:xfrm>
        <a:graphic>
          <a:graphicData uri="http://schemas.openxmlformats.org/drawingml/2006/table">
            <a:tbl>
              <a:tblPr/>
              <a:tblGrid>
                <a:gridCol w="428760"/>
                <a:gridCol w="455400"/>
                <a:gridCol w="455760"/>
                <a:gridCol w="455400"/>
                <a:gridCol w="455760"/>
                <a:gridCol w="684000"/>
                <a:gridCol w="567000"/>
                <a:gridCol w="98280"/>
              </a:tblGrid>
              <a:tr h="1892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2"/>
          <p:cNvSpPr/>
          <p:nvPr/>
        </p:nvSpPr>
        <p:spPr>
          <a:xfrm>
            <a:off x="431640" y="992880"/>
            <a:ext cx="936180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=       м                                  5 + 2 =    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      ы                                  4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    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5 =       л                                   6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    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      д                                   7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=   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 0 =       о                                   9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     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=       ц                                   4 + 5 =    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      о                                   4 + 4 =      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503280" y="579600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2303640" y="5796000"/>
            <a:ext cx="576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2808360" y="579600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3456000" y="579600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368360" y="579600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800360" y="5796000"/>
            <a:ext cx="576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936720" y="5796000"/>
            <a:ext cx="574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416720" y="565164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6912000" y="565164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6480000" y="565164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5977080" y="5651640"/>
            <a:ext cx="576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5400720" y="565164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8353440" y="5651640"/>
            <a:ext cx="574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9"/>
          <p:cNvSpPr/>
          <p:nvPr/>
        </p:nvSpPr>
        <p:spPr>
          <a:xfrm>
            <a:off x="7920000" y="5651640"/>
            <a:ext cx="57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511280" y="324000"/>
            <a:ext cx="65530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фигуру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1"/>
          <a:srcRect l="11558" t="16332" r="12828" b="8784"/>
          <a:stretch/>
        </p:blipFill>
        <p:spPr>
          <a:xfrm>
            <a:off x="2160720" y="1022400"/>
            <a:ext cx="4895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0_147ad_e64fd4a5_XS"/>
          <p:cNvPicPr/>
          <p:nvPr/>
        </p:nvPicPr>
        <p:blipFill>
          <a:blip r:embed="rId1"/>
          <a:stretch/>
        </p:blipFill>
        <p:spPr>
          <a:xfrm>
            <a:off x="287280" y="1474920"/>
            <a:ext cx="94582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41:27Z</dcterms:created>
  <dc:creator/>
  <dc:description/>
  <dc:language>en-US</dc:language>
  <cp:lastModifiedBy>DELL</cp:lastModifiedBy>
  <dcterms:modified xsi:type="dcterms:W3CDTF">2020-04-10T17:22:42Z</dcterms:modified>
  <cp:revision>11</cp:revision>
  <dc:subject/>
  <dc:title>Слайд 1</dc:title>
</cp:coreProperties>
</file>