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e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5E2AF-33B9-4C98-8117-C9B4B751AB9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B36C1-2CA9-47DA-A2CD-3F08007EECA5}" type="slidenum">
              <a:rPr b="0" lang="ru-RU" sz="1200" spc="-1" strike="noStrike">
                <a:solidFill>
                  <a:srgbClr val="8e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C5001-C5F1-47FE-BABF-C3E53737129B}" type="slidenum">
              <a:rPr b="0" lang="ru-RU" sz="1200" spc="-1" strike="noStrike">
                <a:solidFill>
                  <a:srgbClr val="8e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826D-7F82-4F7B-8359-DBDE0BA53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CBB3-BE98-410A-9CE4-AC4B3EC18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ADCB-99D3-4922-B104-DDB4D8778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931A-D576-49C6-99FB-8C23BF568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EAF6-01DF-4B07-86C9-01D4FEF3B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B47F-487E-49B4-8D56-CC3C575EF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CA48-3F8A-4385-AAD8-F13F2868E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46BA-3A86-4EE8-A39A-132390939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EA52-C7D6-4C76-965F-7C788FF71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E993-18D3-44C6-BD57-C82DB5A89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E83B-B69F-457B-86DB-95EB4B2F0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A4B0-D779-4A42-9C19-EFB15F898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e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8e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e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8e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8e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8e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3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2C89D-16AE-440C-9F2E-E05619816A14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3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3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C9078-1F5A-4913-8D1B-596FEF39F79E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691920"/>
            <a:ext cx="821844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200" spc="-1" strike="noStrike">
              <a:solidFill>
                <a:srgbClr val="7030a0"/>
              </a:solidFill>
              <a:latin typeface="Times New Roman"/>
              <a:ea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e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f0369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«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спользование мнемотехники </a:t>
            </a: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 познавательно- речевом  </a:t>
            </a: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азвитии дошкольников»</a:t>
            </a: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Calibri"/>
              </a:rPr>
              <a:t>              </a:t>
            </a:r>
            <a:r>
              <a:rPr b="1" lang="ru-RU" sz="1800" spc="-1" strike="noStrike">
                <a:solidFill>
                  <a:srgbClr val="cc0066"/>
                </a:solidFill>
                <a:latin typeface="Calibri"/>
              </a:rPr>
              <a:t>Подготовила: воспитатель </a:t>
            </a:r>
            <a:endParaRPr b="0" lang="en-US" sz="1800" spc="-1" strike="noStrike">
              <a:solidFill>
                <a:srgbClr val="8e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Calibri"/>
              </a:rPr>
              <a:t>второй ранней </a:t>
            </a:r>
            <a:endParaRPr b="0" lang="en-US" sz="1800" spc="-1" strike="noStrike">
              <a:solidFill>
                <a:srgbClr val="8e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Calibri"/>
              </a:rPr>
              <a:t>группы </a:t>
            </a:r>
            <a:endParaRPr b="0" lang="en-US" sz="1800" spc="-1" strike="noStrike">
              <a:solidFill>
                <a:srgbClr val="8e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Calibri"/>
              </a:rPr>
              <a:t>Левина Настасья Владимировна</a:t>
            </a:r>
            <a:endParaRPr b="0" lang="en-US" sz="1800" spc="-1" strike="noStrike">
              <a:solidFill>
                <a:srgbClr val="8e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EC2C7-CA70-44D5-8C9F-C378C8FC941A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81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8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B4850-477A-4597-ACEB-C827AA2E8336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83" name="Рисунок 4" descr="https://ds02.infourok.ru/uploads/ex/0f2d/00035704-376db8b6/hello_html_273d5819.jpg"/>
          <p:cNvPicPr/>
          <p:nvPr/>
        </p:nvPicPr>
        <p:blipFill>
          <a:blip r:embed="rId1"/>
          <a:stretch/>
        </p:blipFill>
        <p:spPr>
          <a:xfrm>
            <a:off x="684360" y="765000"/>
            <a:ext cx="784836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4619520" cy="540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немотаблица  –  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это схема, в которую заложена определенная  информация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уть мнемосхем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заключается в следующем: на каждое слово или маленькое словосочетание придумывается картинка (изображение); таким образом, весь текст зарисовывается схематично. Глядя на эти схемы – рисунки ребёнок легко воспроизводит текстовую информацию.</a:t>
            </a:r>
            <a:br>
              <a:rPr sz="2400"/>
            </a:b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85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D34E4-5101-48A4-9D0F-197B1F39E471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8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87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D0109-DACF-4771-9E0A-0BFF5FF96134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5003640" y="1341360"/>
            <a:ext cx="37213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23617-C72A-4455-9738-AA4606D223D0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90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9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78E4A-11FE-4C2D-B75B-578CD1605FBA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92" name="Содержимое 5" descr="C:\Users\Александр\Desktop\к занятию\105390197.jpg"/>
          <p:cNvPicPr/>
          <p:nvPr/>
        </p:nvPicPr>
        <p:blipFill>
          <a:blip r:embed="rId1"/>
          <a:srcRect l="0" t="0" r="0" b="2238"/>
          <a:stretch/>
        </p:blipFill>
        <p:spPr>
          <a:xfrm>
            <a:off x="468360" y="836640"/>
            <a:ext cx="4543200" cy="465624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6"/>
          <p:cNvSpPr/>
          <p:nvPr/>
        </p:nvSpPr>
        <p:spPr>
          <a:xfrm>
            <a:off x="5003640" y="981000"/>
            <a:ext cx="3456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ля детей </a:t>
            </a:r>
            <a:r>
              <a:rPr b="1" lang="ru-RU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ладшего </a:t>
            </a:r>
            <a:r>
              <a:rPr b="0" lang="ru-RU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ошкольного  </a:t>
            </a:r>
            <a:endParaRPr b="0" lang="en-US" sz="2200" spc="-1" strike="noStrike">
              <a:solidFill>
                <a:srgbClr val="8e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озраста   необходимо  </a:t>
            </a:r>
            <a:endParaRPr b="0" lang="en-US" sz="2200" spc="-1" strike="noStrike">
              <a:solidFill>
                <a:srgbClr val="8e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авать цветные </a:t>
            </a:r>
            <a:endParaRPr b="0" lang="en-US" sz="2200" spc="-1" strike="noStrike">
              <a:solidFill>
                <a:srgbClr val="8e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немотаблицы, так как в  </a:t>
            </a:r>
            <a:endParaRPr b="0" lang="en-US" sz="2200" spc="-1" strike="noStrike">
              <a:solidFill>
                <a:srgbClr val="8e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амяти у детей  быстрее  </a:t>
            </a:r>
            <a:endParaRPr b="0" lang="en-US" sz="2200" spc="-1" strike="noStrike">
              <a:solidFill>
                <a:srgbClr val="8e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стаются отдельные  </a:t>
            </a:r>
            <a:endParaRPr b="0" lang="en-US" sz="2200" spc="-1" strike="noStrike">
              <a:solidFill>
                <a:srgbClr val="8e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бразы: </a:t>
            </a:r>
            <a:endParaRPr b="0" lang="en-US" sz="2200" spc="-1" strike="noStrike">
              <a:solidFill>
                <a:srgbClr val="8e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лиса- рыжая, мышка-  </a:t>
            </a:r>
            <a:endParaRPr b="0" lang="en-US" sz="2200" spc="-1" strike="noStrike">
              <a:solidFill>
                <a:srgbClr val="8e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ерая, ёлочка- зелёная.</a:t>
            </a:r>
            <a:endParaRPr b="0" lang="en-US" sz="22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29C3E-3E84-48AA-860B-884F616FD0F0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95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9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48A56-279E-4E29-AE86-0632FEAC46D7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97" name="Содержимое 5" descr="C:\Users\Александр\Desktop\мнемотаблицы. сказки\ss36.jpg"/>
          <p:cNvPicPr/>
          <p:nvPr/>
        </p:nvPicPr>
        <p:blipFill>
          <a:blip r:embed="rId1"/>
          <a:stretch/>
        </p:blipFill>
        <p:spPr>
          <a:xfrm>
            <a:off x="755640" y="907920"/>
            <a:ext cx="3905280" cy="527688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6"/>
          <p:cNvSpPr/>
          <p:nvPr/>
        </p:nvSpPr>
        <p:spPr>
          <a:xfrm>
            <a:off x="4859280" y="907920"/>
            <a:ext cx="3384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ля детей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таршего возраста 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хемы желательно рисовать в одном цвете, чтобы не привлекать внимание на яркость символических изображений. </a:t>
            </a:r>
            <a:endParaRPr b="0" lang="en-US" sz="28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115640" y="981000"/>
            <a:ext cx="6769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e0000"/>
                </a:solidFill>
                <a:latin typeface="Times New Roman"/>
                <a:ea typeface="Times New Roman"/>
              </a:rPr>
              <a:t>Где  можно  использовать  мнемосхемы?</a:t>
            </a:r>
            <a:endParaRPr b="0" lang="en-US" sz="36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богащение словарного запаса</a:t>
            </a:r>
            <a:endParaRPr b="0" lang="en-US" sz="36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бучение пересказу</a:t>
            </a:r>
            <a:endParaRPr b="0" lang="en-US" sz="36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оставление рассказов</a:t>
            </a:r>
            <a:endParaRPr b="0" lang="en-US" sz="36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азучивание стихотворений,  скороговорок, чистоговорок</a:t>
            </a:r>
            <a:endParaRPr b="0" lang="en-US" sz="36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тгадывание загадок</a:t>
            </a:r>
            <a:endParaRPr b="0" lang="en-US" sz="3600" spc="-1" strike="noStrike">
              <a:solidFill>
                <a:srgbClr val="8e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e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2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ЕРЕСКАЗ    СКАЗКИ</a:t>
            </a:r>
            <a:br>
              <a:rPr sz="4400"/>
            </a:b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01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B588A-BC08-412A-A40A-CC0E9D0167A9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0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0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D207F-1033-43B8-944F-45B8FFE4E4DE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104" name="Объект 7" descr="http://images.myshared.ru/10/982398/slide_15.jpg"/>
          <p:cNvPicPr/>
          <p:nvPr/>
        </p:nvPicPr>
        <p:blipFill>
          <a:blip r:embed="rId1"/>
          <a:stretch/>
        </p:blipFill>
        <p:spPr>
          <a:xfrm>
            <a:off x="900000" y="1413000"/>
            <a:ext cx="7632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26D7A-8034-4806-852A-4A4C55E3B7D1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06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0BB5D-D8F0-4BD7-9B74-A300B572FCDC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108" name="Рисунок 4" descr="https://presentacii.ru/documents_2/291fdf8d65332583246603b8a962df1d/img16.jpg"/>
          <p:cNvPicPr/>
          <p:nvPr/>
        </p:nvPicPr>
        <p:blipFill>
          <a:blip r:embed="rId1"/>
          <a:stretch/>
        </p:blipFill>
        <p:spPr>
          <a:xfrm>
            <a:off x="684360" y="836640"/>
            <a:ext cx="7704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73D1E-7EC9-4514-9252-EB812E08A5E1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10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75338-8A89-4173-8617-1D9BA84D7AA5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112" name="Рисунок 4" descr="http://dou51.ru/sites/default/files/field/image/mnemotablicy_po_skazkam_1_28195254.jpg"/>
          <p:cNvPicPr/>
          <p:nvPr/>
        </p:nvPicPr>
        <p:blipFill>
          <a:blip r:embed="rId1"/>
          <a:stretch/>
        </p:blipFill>
        <p:spPr>
          <a:xfrm>
            <a:off x="684360" y="907920"/>
            <a:ext cx="770400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B8416-E228-46C4-A9AC-06A4C8259EA8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14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556F7-931C-435B-9256-9B6D1E611C2B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116" name="Рисунок 4" descr="https://ds03.infourok.ru/uploads/ex/083e/0003157d-32580dda/1/img23.jpg"/>
          <p:cNvPicPr/>
          <p:nvPr/>
        </p:nvPicPr>
        <p:blipFill>
          <a:blip r:embed="rId1"/>
          <a:stretch/>
        </p:blipFill>
        <p:spPr>
          <a:xfrm>
            <a:off x="755640" y="907920"/>
            <a:ext cx="763272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9640" y="836280"/>
            <a:ext cx="8064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УЧИВАНИЕ   СТИХОТВОРЕНИЙ</a:t>
            </a:r>
            <a:r>
              <a:rPr b="0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      </a:t>
            </a:r>
            <a:endParaRPr b="0" lang="en-US" sz="40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e0000"/>
                </a:solidFill>
                <a:latin typeface="Times New Roman"/>
                <a:ea typeface="Times New Roman"/>
              </a:rPr>
              <a:t>В руки овощи берем,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e0000"/>
                </a:solidFill>
                <a:latin typeface="Times New Roman"/>
                <a:ea typeface="Times New Roman"/>
              </a:rPr>
              <a:t>Овощи на стол кладем,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e0000"/>
                </a:solidFill>
                <a:latin typeface="Times New Roman"/>
                <a:ea typeface="Times New Roman"/>
              </a:rPr>
              <a:t>Лук, морковка, кабачок,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e0000"/>
                </a:solidFill>
                <a:latin typeface="Times New Roman"/>
                <a:ea typeface="Times New Roman"/>
              </a:rPr>
              <a:t>Помидор, горох, лучок.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18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33D3C-9D4C-4682-B9BA-F91F5851ED7F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19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2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F90FB-B75A-413C-A8B5-E2AE195C59A8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121" name="Рисунок 5" descr="http://omel.ucoz.ru/stichi/owochi.png"/>
          <p:cNvPicPr/>
          <p:nvPr/>
        </p:nvPicPr>
        <p:blipFill>
          <a:blip r:embed="rId1"/>
          <a:stretch/>
        </p:blipFill>
        <p:spPr>
          <a:xfrm>
            <a:off x="5148360" y="2205000"/>
            <a:ext cx="37004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C595A-6044-4894-9249-00BE80C2569E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51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5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1A781-7284-4708-B63C-0E38436B547C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53" name="Рисунок 4" descr="https://ds02.infourok.ru/uploads/ex/0082/00032149-04214c09/1/img0.jpg"/>
          <p:cNvPicPr/>
          <p:nvPr/>
        </p:nvPicPr>
        <p:blipFill>
          <a:blip r:embed="rId1"/>
          <a:stretch/>
        </p:blipFill>
        <p:spPr>
          <a:xfrm>
            <a:off x="755640" y="907920"/>
            <a:ext cx="770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e0000"/>
                </a:solidFill>
                <a:latin typeface="Calibri"/>
              </a:rPr>
              <a:t>Составление рассказов</a:t>
            </a: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2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741E5-F0D4-4E11-8F3D-49736A6864E6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24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2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E5DAE-C573-4304-8A81-2E9E8C00ABA0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126" name="Объект 6" descr="http://yunail.ru/yunail/images/71083831.png"/>
          <p:cNvPicPr/>
          <p:nvPr/>
        </p:nvPicPr>
        <p:blipFill>
          <a:blip r:embed="rId1"/>
          <a:stretch/>
        </p:blipFill>
        <p:spPr>
          <a:xfrm>
            <a:off x="900000" y="1916280"/>
            <a:ext cx="7559640" cy="42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3280" y="44280"/>
            <a:ext cx="81835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e0000"/>
                </a:solidFill>
                <a:latin typeface="Calibri"/>
              </a:rPr>
              <a:t>                   </a:t>
            </a: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има</a:t>
            </a:r>
            <a:endParaRPr b="0" lang="en-US" sz="4000" spc="-1" strike="noStrike">
              <a:solidFill>
                <a:srgbClr val="8e0000"/>
              </a:solidFill>
              <a:latin typeface="Calibri"/>
            </a:endParaRPr>
          </a:p>
        </p:txBody>
      </p:sp>
      <p:pic>
        <p:nvPicPr>
          <p:cNvPr id="128" name="Объект 3" descr="tabl-3"/>
          <p:cNvPicPr/>
          <p:nvPr/>
        </p:nvPicPr>
        <p:blipFill>
          <a:blip r:embed="rId1"/>
          <a:stretch/>
        </p:blipFill>
        <p:spPr>
          <a:xfrm>
            <a:off x="611280" y="620640"/>
            <a:ext cx="6553080" cy="4032360"/>
          </a:xfrm>
          <a:prstGeom prst="rect">
            <a:avLst/>
          </a:prstGeom>
          <a:ln w="0">
            <a:noFill/>
          </a:ln>
        </p:spPr>
      </p:pic>
      <p:sp>
        <p:nvSpPr>
          <p:cNvPr id="129" name="Прямоугольник 4"/>
          <p:cNvSpPr/>
          <p:nvPr/>
        </p:nvSpPr>
        <p:spPr>
          <a:xfrm>
            <a:off x="250920" y="5013360"/>
            <a:ext cx="7561080" cy="13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e0000"/>
                </a:solidFill>
                <a:latin typeface="Times New Roman"/>
                <a:ea typeface="Times New Roman"/>
              </a:rPr>
              <a:t>Наступила зима. Небо закрыто серыми темными тучами. Часто идет холодный снег. Девочки и мальчики идут гулять на улицу. Они лепят из снега снежки и снежную бабу. Зимой ребята катаются на санках и коньках</a:t>
            </a:r>
            <a:r>
              <a:rPr b="0" lang="ru-RU" sz="1800" spc="-1" strike="noStrike">
                <a:solidFill>
                  <a:srgbClr val="8e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35160" y="115560"/>
            <a:ext cx="634680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e0000"/>
                </a:solidFill>
                <a:latin typeface="Calibri"/>
              </a:rPr>
              <a:t>               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ето</a:t>
            </a: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pic>
        <p:nvPicPr>
          <p:cNvPr id="131" name="Объект 3" descr="tabl-4"/>
          <p:cNvPicPr/>
          <p:nvPr/>
        </p:nvPicPr>
        <p:blipFill>
          <a:blip r:embed="rId1"/>
          <a:stretch/>
        </p:blipFill>
        <p:spPr>
          <a:xfrm>
            <a:off x="611280" y="692280"/>
            <a:ext cx="6553080" cy="388908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4"/>
          <p:cNvSpPr/>
          <p:nvPr/>
        </p:nvSpPr>
        <p:spPr>
          <a:xfrm>
            <a:off x="395280" y="4581360"/>
            <a:ext cx="698508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000" spc="-1" strike="noStrike">
                <a:solidFill>
                  <a:srgbClr val="8e0000"/>
                </a:solidFill>
                <a:latin typeface="Times New Roman"/>
                <a:ea typeface="Times New Roman"/>
              </a:rPr>
              <a:t>Наступило лето. Солнце светит ярко и греет. Мальчики и девочки купаются в речке. Играют в мяч и бадминтон. Из песка строят башни, замки. Летом поспевают вкусные фрукты, ягоды и полезные овощи.</a:t>
            </a:r>
            <a:endParaRPr b="0" lang="en-US" sz="20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14240" y="115560"/>
            <a:ext cx="634680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e0000"/>
                </a:solidFill>
                <a:latin typeface="Calibri"/>
              </a:rPr>
              <a:t>                  </a:t>
            </a:r>
            <a:r>
              <a:rPr b="1" lang="ru-RU" sz="4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Осень</a:t>
            </a: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pic>
        <p:nvPicPr>
          <p:cNvPr id="134" name="Объект 3" descr="tabl-1"/>
          <p:cNvPicPr/>
          <p:nvPr/>
        </p:nvPicPr>
        <p:blipFill>
          <a:blip r:embed="rId1"/>
          <a:stretch/>
        </p:blipFill>
        <p:spPr>
          <a:xfrm>
            <a:off x="611280" y="776160"/>
            <a:ext cx="7489800" cy="394812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4"/>
          <p:cNvSpPr/>
          <p:nvPr/>
        </p:nvSpPr>
        <p:spPr>
          <a:xfrm>
            <a:off x="250920" y="4724280"/>
            <a:ext cx="7416720" cy="13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e0000"/>
                </a:solidFill>
                <a:latin typeface="Times New Roman"/>
                <a:ea typeface="Times New Roman"/>
              </a:rPr>
              <a:t>Наступила осень. Солнце светит мало и не греет. Оно скрыто за серыми тучами. Часто идет дождь. Мы идем в детский сад под зонтом. Дует сильный ветер. И с деревьев слетает листва. Листья покрывают все вокруг красивым, красочным ковром.</a:t>
            </a:r>
            <a:endParaRPr b="0" lang="en-US" sz="20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  детей:</a:t>
            </a:r>
            <a:endParaRPr b="0" lang="en-US" sz="18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030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асширяется круг знаний об окружающем мире; </a:t>
            </a:r>
            <a:endParaRPr b="0" lang="en-US" sz="18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030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является желание пересказывать тексты, придумывать интересные    </a:t>
            </a:r>
            <a:endParaRPr b="0" lang="en-US" sz="18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стории; </a:t>
            </a:r>
            <a:endParaRPr b="0" lang="en-US" sz="18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030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является интерес к заучиванию стихов и потешек, скороговорок,  </a:t>
            </a:r>
            <a:endParaRPr b="0" lang="en-US" sz="18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гадок; </a:t>
            </a:r>
            <a:endParaRPr b="0" lang="en-US" sz="18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030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ловарный запас выходит на более высокий уровень; </a:t>
            </a:r>
            <a:endParaRPr b="0" lang="en-US" sz="18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030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ети преодолевают робость, застенчивость, учатся свободно держаться   </a:t>
            </a:r>
            <a:endParaRPr b="0" lang="en-US" sz="18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еред  аудиторией.</a:t>
            </a:r>
            <a:endParaRPr b="0" lang="en-US" sz="18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3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2E19F-EE66-4252-83AB-84E68EFE5FF4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38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3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7244C-CF8E-425B-BA84-4B3C03598EDC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14600" y="464760"/>
            <a:ext cx="4114800" cy="952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зультаты.</a:t>
            </a:r>
            <a:endParaRPr b="0" lang="en-US" sz="3500" spc="-1" strike="noStrike">
              <a:solidFill>
                <a:srgbClr val="8e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84360" y="1773000"/>
            <a:ext cx="77040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8000" spc="-1" strike="noStrike">
              <a:solidFill>
                <a:srgbClr val="8e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8e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4000" y="620280"/>
            <a:ext cx="813564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онстантин Дмитриевич Ушинский писал:</a:t>
            </a: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e0000"/>
                </a:solidFill>
                <a:latin typeface="Times New Roman"/>
                <a:ea typeface="Times New Roman"/>
              </a:rPr>
              <a:t>«Учите  ребёнка  каким-нибудь  неизвестным  ему  пяти словам  - он  будет  долго  и  напрасно  мучиться,  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e0000"/>
                </a:solidFill>
                <a:latin typeface="Times New Roman"/>
                <a:ea typeface="Times New Roman"/>
              </a:rPr>
              <a:t>но  свяжите двадцать  таких  слов  с  картинками, 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e0000"/>
                </a:solidFill>
                <a:latin typeface="Times New Roman"/>
                <a:ea typeface="Times New Roman"/>
              </a:rPr>
              <a:t>и  он  их  усвоит  на  лету».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</p:txBody>
      </p:sp>
      <p:pic>
        <p:nvPicPr>
          <p:cNvPr id="55" name="Рисунок 3" descr="https://ds02.infourok.ru/uploads/ex/04cf/000680f6-a64ad23d/hello_html_2ab55505.jpg"/>
          <p:cNvPicPr/>
          <p:nvPr/>
        </p:nvPicPr>
        <p:blipFill>
          <a:blip r:embed="rId1"/>
          <a:stretch/>
        </p:blipFill>
        <p:spPr>
          <a:xfrm>
            <a:off x="684360" y="2924280"/>
            <a:ext cx="547200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52AEF-DAE9-4E81-905C-429E06AD856C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57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5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E6824-991D-4B48-AF5A-648E4721E889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59" name="Рисунок 4" descr="http://mdou124lip.ru/files/2016/20161006/02.jpg"/>
          <p:cNvPicPr/>
          <p:nvPr/>
        </p:nvPicPr>
        <p:blipFill>
          <a:blip r:embed="rId1"/>
          <a:stretch/>
        </p:blipFill>
        <p:spPr>
          <a:xfrm>
            <a:off x="826920" y="981000"/>
            <a:ext cx="7525080" cy="53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Мнемотехника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</a:rPr>
              <a:t> - в переводе с греческого  - «искусство запоминания».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Мнемотехника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</a:rPr>
              <a:t> - это система методов и приёмов, обеспечивающих эффективное запоминание, сохранение и воспроизведение информации.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Мнемотехника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</a:rPr>
              <a:t> – помогает развивать: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</a:rPr>
              <a:t>ассоциативное  мышление 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</a:rPr>
              <a:t>зрительную и слуховую память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</a:rPr>
              <a:t>зрительное и слуховое внимание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</a:rPr>
              <a:t>воображение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</a:rPr>
              <a:t>связную речь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</a:rPr>
              <a:t>мелкую моторику рук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61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110E8-49F8-4F2D-9371-1725C6F706FB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62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6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D12A8-FC81-4DAD-8045-84DF1A697E02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29437-195C-4D8C-A836-17C71BF1BE6A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65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6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B80D9-FE03-4FEC-A883-4B549EC673B0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67" name="Рисунок 4" descr="http://mypresentation.ru/documents_2/796f8e4bbe6bab226fbfc76e5ea73732/img7.jpg"/>
          <p:cNvPicPr/>
          <p:nvPr/>
        </p:nvPicPr>
        <p:blipFill>
          <a:blip r:embed="rId1"/>
          <a:stretch/>
        </p:blipFill>
        <p:spPr>
          <a:xfrm>
            <a:off x="684360" y="907920"/>
            <a:ext cx="777528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BD606-BAAB-42ED-8A71-8957945CD2CE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69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7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9FC46-C41A-4951-B61F-BF64E0586109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71" name="Рисунок 4" descr="http://hnu.docdat.com/pars_docs/refs/200/199390/img8.jpg"/>
          <p:cNvPicPr/>
          <p:nvPr/>
        </p:nvPicPr>
        <p:blipFill>
          <a:blip r:embed="rId1"/>
          <a:stretch/>
        </p:blipFill>
        <p:spPr>
          <a:xfrm>
            <a:off x="684360" y="907920"/>
            <a:ext cx="777528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DFF48-8A6D-4BFF-8DC8-01D07600717E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73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7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4A466-BFFE-41F0-9785-6A16D76A7B06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75" name="Рисунок 4" descr="https://ds03.infourok.ru/uploads/ex/0194/00008a4b-bef9ad47/img4.jpg"/>
          <p:cNvPicPr/>
          <p:nvPr/>
        </p:nvPicPr>
        <p:blipFill>
          <a:blip r:embed="rId1"/>
          <a:stretch/>
        </p:blipFill>
        <p:spPr>
          <a:xfrm>
            <a:off x="611280" y="765000"/>
            <a:ext cx="792144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F6F18-4723-40D4-8C8B-C158BB7EAEDE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77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7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D3E93-AEE4-4090-8B8C-545FEBA6ECA4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79" name="Рисунок 4" descr="https://ds03.infourok.ru/uploads/ex/0194/00008a4b-bef9ad47/img5.jpg"/>
          <p:cNvPicPr/>
          <p:nvPr/>
        </p:nvPicPr>
        <p:blipFill>
          <a:blip r:embed="rId1"/>
          <a:stretch/>
        </p:blipFill>
        <p:spPr>
          <a:xfrm>
            <a:off x="684360" y="692280"/>
            <a:ext cx="77752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3:48:44Z</dcterms:created>
  <dc:creator>NFS</dc:creator>
  <dc:description>http://aida.ucoz.ru</dc:description>
  <dc:language>en-US</dc:language>
  <cp:lastModifiedBy>admin</cp:lastModifiedBy>
  <dcterms:modified xsi:type="dcterms:W3CDTF">2020-03-23T09:16:42Z</dcterms:modified>
  <cp:revision>77</cp:revision>
  <dc:subject/>
  <dc:title>РАЗВИТИЕ ОБРАЗНОЙ РЕЧИ ДЕТЕЙ ДОШКОЛЬНИК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a330000000000010243100207f6000400038000</vt:lpwstr>
  </property>
</Properties>
</file>