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e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DB30-20CC-46D2-A613-118007BF19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F36F-5C79-4A17-B9AA-EC4009F66E15}" type="slidenum">
              <a:rPr b="0" lang="ru-RU" sz="1200" spc="-1" strike="noStrike">
                <a:solidFill>
                  <a:srgbClr val="8e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4F85-6A4B-4A2F-BE03-EDB436714436}" type="slidenum">
              <a:rPr b="0" lang="ru-RU" sz="1200" spc="-1" strike="noStrike">
                <a:solidFill>
                  <a:srgbClr val="8e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71A-A3B7-48C6-932E-C915DA63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8639-E69D-4977-8F08-F7B9C655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A8EA-04B3-4948-96CD-CDE85840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B27-D17A-4EA8-A11A-85C42096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BB50-F7BC-4723-AF81-7BF76A11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68F3-F641-4914-8802-DF1A52FB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C279-3D1B-462C-A46C-CBF5FDCE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3FA9-7C5C-43D1-B0C2-7D104DED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7142-708A-42E0-959F-E316F26A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C711-E18D-4287-A7BD-57CB976D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F858-B3C6-4FE3-88DD-19E1B9E9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1B2F-ED46-4297-BE37-9D457F73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e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A417-767F-41D6-9621-EE6349E506A1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ABD2-632A-4957-93C5-8D319B7F6D96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f036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пользование мнемотехники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познавательно- речевом  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витии дошкольников»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Calibri"/>
              </a:rPr>
              <a:t>              </a:t>
            </a:r>
            <a:r>
              <a:rPr b="1" lang="ru-RU" sz="1800" spc="-1" strike="noStrike">
                <a:solidFill>
                  <a:srgbClr val="cc0066"/>
                </a:solidFill>
                <a:latin typeface="Calibri"/>
              </a:rPr>
              <a:t>Подготовила: воспитатель 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Calibri"/>
              </a:rPr>
              <a:t>второй ранней 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Calibri"/>
              </a:rPr>
              <a:t>группы 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Calibri"/>
              </a:rPr>
              <a:t>Левина Настасья Владимировна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CB71-6305-49C5-AD71-A85D1BF269CF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1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0DDE-1E0D-469C-8AB0-6CBE035806D1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83" name="Рисунок 4" descr="https://ds02.infourok.ru/uploads/ex/0f2d/00035704-376db8b6/hello_html_273d5819.jpg"/>
          <p:cNvPicPr/>
          <p:nvPr/>
        </p:nvPicPr>
        <p:blipFill>
          <a:blip r:embed="rId1"/>
          <a:stretch/>
        </p:blipFill>
        <p:spPr>
          <a:xfrm>
            <a:off x="684360" y="765000"/>
            <a:ext cx="7848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461952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немотаблица  – 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то схема, в которую заложена определенная  информация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уть мнемосхем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заключается в следующем: на каждое слово или маленькое словосочетание придумывается картинка (изображение); таким образом, весь текст зарисовывается схематично. Глядя на эти схемы – рисунки ребёнок легко воспроизводит текстовую информацию.</a:t>
            </a: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2EBA-ED5B-4A89-AC2B-B1E80FD9ED3D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2652-434E-438F-813B-227BDB6406BF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37213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9AB0-EAD8-4CEC-AB38-4199480E6E8F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5D94-1CDD-4AB1-9EF1-CF4B0D28E212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92" name="Содержимое 5" descr="C:\Users\Александр\Desktop\к занятию\105390197.jpg"/>
          <p:cNvPicPr/>
          <p:nvPr/>
        </p:nvPicPr>
        <p:blipFill>
          <a:blip r:embed="rId1"/>
          <a:srcRect l="0" t="0" r="0" b="2238"/>
          <a:stretch/>
        </p:blipFill>
        <p:spPr>
          <a:xfrm>
            <a:off x="468360" y="836640"/>
            <a:ext cx="4543200" cy="46562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6"/>
          <p:cNvSpPr/>
          <p:nvPr/>
        </p:nvSpPr>
        <p:spPr>
          <a:xfrm>
            <a:off x="5003640" y="981000"/>
            <a:ext cx="3456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детей </a:t>
            </a: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ладшего 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школьного  </a:t>
            </a:r>
            <a:endParaRPr b="0" lang="en-US" sz="2200" spc="-1" strike="noStrike">
              <a:solidFill>
                <a:srgbClr val="8e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зраста   необходимо  </a:t>
            </a:r>
            <a:endParaRPr b="0" lang="en-US" sz="2200" spc="-1" strike="noStrike">
              <a:solidFill>
                <a:srgbClr val="8e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авать цветные </a:t>
            </a:r>
            <a:endParaRPr b="0" lang="en-US" sz="2200" spc="-1" strike="noStrike">
              <a:solidFill>
                <a:srgbClr val="8e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немотаблицы, так как в  </a:t>
            </a:r>
            <a:endParaRPr b="0" lang="en-US" sz="2200" spc="-1" strike="noStrike">
              <a:solidFill>
                <a:srgbClr val="8e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амяти у детей  быстрее  </a:t>
            </a:r>
            <a:endParaRPr b="0" lang="en-US" sz="2200" spc="-1" strike="noStrike">
              <a:solidFill>
                <a:srgbClr val="8e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таются отдельные  </a:t>
            </a:r>
            <a:endParaRPr b="0" lang="en-US" sz="2200" spc="-1" strike="noStrike">
              <a:solidFill>
                <a:srgbClr val="8e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разы: </a:t>
            </a:r>
            <a:endParaRPr b="0" lang="en-US" sz="2200" spc="-1" strike="noStrike">
              <a:solidFill>
                <a:srgbClr val="8e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иса- рыжая, мышка-  </a:t>
            </a:r>
            <a:endParaRPr b="0" lang="en-US" sz="2200" spc="-1" strike="noStrike">
              <a:solidFill>
                <a:srgbClr val="8e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ерая, ёлочка- зелёная.</a:t>
            </a:r>
            <a:endParaRPr b="0" lang="en-US" sz="2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9A18-76B1-449B-94AF-3C8081560E1E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1FEA-6B47-4439-9EA8-329FBA55EA70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97" name="Содержимое 5" descr="C:\Users\Александр\Desktop\мнемотаблицы. сказки\ss36.jpg"/>
          <p:cNvPicPr/>
          <p:nvPr/>
        </p:nvPicPr>
        <p:blipFill>
          <a:blip r:embed="rId1"/>
          <a:stretch/>
        </p:blipFill>
        <p:spPr>
          <a:xfrm>
            <a:off x="755640" y="907920"/>
            <a:ext cx="3905280" cy="52768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6"/>
          <p:cNvSpPr/>
          <p:nvPr/>
        </p:nvSpPr>
        <p:spPr>
          <a:xfrm>
            <a:off x="4859280" y="907920"/>
            <a:ext cx="338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детей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аршего возраста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хемы желательно рисовать в одном цвете, чтобы не привлекать внимание на яркость символических изображений. 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15640" y="981000"/>
            <a:ext cx="676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Где  можно  использовать  мнемосхемы?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огащение словарного запаса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учение пересказу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ставление рассказов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учивание стихотворений,  скороговорок, чистоговорок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гадывание загадок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ЕСКАЗ    СКАЗКИ</a:t>
            </a:r>
            <a:br>
              <a:rPr sz="4400"/>
            </a:b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6A99-3D4B-4E82-B706-FAB8307D5468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AFFD-B9BE-4B4A-AB7F-7F8445465CA7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04" name="Объект 7" descr="http://images.myshared.ru/10/982398/slide_15.jpg"/>
          <p:cNvPicPr/>
          <p:nvPr/>
        </p:nvPicPr>
        <p:blipFill>
          <a:blip r:embed="rId1"/>
          <a:stretch/>
        </p:blipFill>
        <p:spPr>
          <a:xfrm>
            <a:off x="900000" y="141300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5A8C-A59C-4E49-BF64-AE43C717DE8C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6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2034-36D2-4C06-90A0-50FAB721F835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08" name="Рисунок 4" descr="https://presentacii.ru/documents_2/291fdf8d65332583246603b8a962df1d/img16.jpg"/>
          <p:cNvPicPr/>
          <p:nvPr/>
        </p:nvPicPr>
        <p:blipFill>
          <a:blip r:embed="rId1"/>
          <a:stretch/>
        </p:blipFill>
        <p:spPr>
          <a:xfrm>
            <a:off x="684360" y="836640"/>
            <a:ext cx="770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78CF-9AAE-4F7E-B86F-BBB7C7DF238E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0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FF5C-0C59-48CC-B4C0-F6387E543203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12" name="Рисунок 4" descr="http://dou51.ru/sites/default/files/field/image/mnemotablicy_po_skazkam_1_28195254.jpg"/>
          <p:cNvPicPr/>
          <p:nvPr/>
        </p:nvPicPr>
        <p:blipFill>
          <a:blip r:embed="rId1"/>
          <a:stretch/>
        </p:blipFill>
        <p:spPr>
          <a:xfrm>
            <a:off x="684360" y="907920"/>
            <a:ext cx="77040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C5F3-2496-4829-9B98-1AC6A0C5E990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4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3B0F-8B6A-4889-A0E1-5708CD85567F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16" name="Рисунок 4" descr="https://ds03.infourok.ru/uploads/ex/083e/0003157d-32580dda/1/img23.jpg"/>
          <p:cNvPicPr/>
          <p:nvPr/>
        </p:nvPicPr>
        <p:blipFill>
          <a:blip r:embed="rId1"/>
          <a:stretch/>
        </p:blipFill>
        <p:spPr>
          <a:xfrm>
            <a:off x="755640" y="907920"/>
            <a:ext cx="76327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9640" y="836280"/>
            <a:ext cx="80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УЧИВАНИЕ   СТИХОТВОРЕНИЙ</a:t>
            </a: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В руки овощи берем,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Овощи на стол кладем,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Лук, морковка, кабачок,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Помидор, горох, лучок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8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2FFA-EBF6-4F94-ADFF-BF336A31879C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2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C840-F2A3-4379-B56D-F67E4FD46BFD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21" name="Рисунок 5" descr="http://omel.ucoz.ru/stichi/owochi.png"/>
          <p:cNvPicPr/>
          <p:nvPr/>
        </p:nvPicPr>
        <p:blipFill>
          <a:blip r:embed="rId1"/>
          <a:stretch/>
        </p:blipFill>
        <p:spPr>
          <a:xfrm>
            <a:off x="5148360" y="2205000"/>
            <a:ext cx="3700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A95A-4B1A-400E-9D48-BCFAA1E3AA77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1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D966-97FD-49DD-BBDD-6A4BC2BBF410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53" name="Рисунок 4" descr="https://ds02.infourok.ru/uploads/ex/0082/00032149-04214c09/1/img0.jpg"/>
          <p:cNvPicPr/>
          <p:nvPr/>
        </p:nvPicPr>
        <p:blipFill>
          <a:blip r:embed="rId1"/>
          <a:stretch/>
        </p:blipFill>
        <p:spPr>
          <a:xfrm>
            <a:off x="755640" y="907920"/>
            <a:ext cx="770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e0000"/>
                </a:solidFill>
                <a:latin typeface="Calibri"/>
              </a:rPr>
              <a:t>Составление рассказов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2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BF66-FC00-414D-8B92-77F521DB1C3A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2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2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0DCE-E8AE-4DBC-9760-523C98A97BE3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26" name="Объект 6" descr="http://yunail.ru/yunail/images/71083831.png"/>
          <p:cNvPicPr/>
          <p:nvPr/>
        </p:nvPicPr>
        <p:blipFill>
          <a:blip r:embed="rId1"/>
          <a:stretch/>
        </p:blipFill>
        <p:spPr>
          <a:xfrm>
            <a:off x="900000" y="1916280"/>
            <a:ext cx="755964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44280"/>
            <a:ext cx="8183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e0000"/>
                </a:solidFill>
                <a:latin typeface="Calibri"/>
              </a:rPr>
              <a:t>                  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има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128" name="Объект 3" descr="tabl-3"/>
          <p:cNvPicPr/>
          <p:nvPr/>
        </p:nvPicPr>
        <p:blipFill>
          <a:blip r:embed="rId1"/>
          <a:stretch/>
        </p:blipFill>
        <p:spPr>
          <a:xfrm>
            <a:off x="611280" y="620640"/>
            <a:ext cx="6553080" cy="403236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4"/>
          <p:cNvSpPr/>
          <p:nvPr/>
        </p:nvSpPr>
        <p:spPr>
          <a:xfrm>
            <a:off x="250920" y="5013360"/>
            <a:ext cx="756108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Наступила зима. Небо закрыто серыми темными тучами. Часто идет холодный снег. Девочки и мальчики идут гулять на улицу. Они лепят из снега снежки и снежную бабу. Зимой ребята катаются на санках и коньках</a:t>
            </a:r>
            <a:r>
              <a:rPr b="0" lang="ru-RU" sz="18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35160" y="11556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e0000"/>
                </a:solidFill>
                <a:latin typeface="Calibri"/>
              </a:rPr>
              <a:t>         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то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131" name="Объект 3" descr="tabl-4"/>
          <p:cNvPicPr/>
          <p:nvPr/>
        </p:nvPicPr>
        <p:blipFill>
          <a:blip r:embed="rId1"/>
          <a:stretch/>
        </p:blipFill>
        <p:spPr>
          <a:xfrm>
            <a:off x="611280" y="692280"/>
            <a:ext cx="6553080" cy="388908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4"/>
          <p:cNvSpPr/>
          <p:nvPr/>
        </p:nvSpPr>
        <p:spPr>
          <a:xfrm>
            <a:off x="395280" y="4581360"/>
            <a:ext cx="698508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Наступило лето. Солнце светит ярко и греет. Мальчики и девочки купаются в речке. Играют в мяч и бадминтон. Из песка строят башни, замки. Летом поспевают вкусные фрукты, ягоды и полезные овощи.</a:t>
            </a:r>
            <a:endParaRPr b="0" lang="en-US" sz="20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4240" y="11556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e0000"/>
                </a:solidFill>
                <a:latin typeface="Calibri"/>
              </a:rPr>
              <a:t>                  </a:t>
            </a: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сень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134" name="Объект 3" descr="tabl-1"/>
          <p:cNvPicPr/>
          <p:nvPr/>
        </p:nvPicPr>
        <p:blipFill>
          <a:blip r:embed="rId1"/>
          <a:stretch/>
        </p:blipFill>
        <p:spPr>
          <a:xfrm>
            <a:off x="611280" y="776160"/>
            <a:ext cx="7489800" cy="394812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250920" y="4724280"/>
            <a:ext cx="741672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Наступила осень. Солнце светит мало и не греет. Оно скрыто за серыми тучами. Часто идет дождь. Мы идем в детский сад под зонтом. Дует сильный ветер. И с деревьев слетает листва. Листья покрывают все вокруг красивым, красочным ковром.</a:t>
            </a:r>
            <a:endParaRPr b="0" lang="en-US" sz="20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  детей: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ширяется круг знаний об окружающем мире; 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является желание пересказывать тексты, придумывать интересные    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тории; 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является интерес к заучиванию стихов и потешек, скороговорок,  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гадок; 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ловарный запас выходит на более высокий уровень; 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ти преодолевают робость, застенчивость, учатся свободно держаться   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ед  аудиторией.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3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03A2-9BC5-40DB-82A8-0DBB5979F16C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3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3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AA36-EA83-4FE2-8F72-5AB455AF1800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14600" y="464760"/>
            <a:ext cx="4114800" cy="95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зультаты.</a:t>
            </a:r>
            <a:endParaRPr b="0" lang="en-US" sz="35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4360" y="1773000"/>
            <a:ext cx="7704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80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000" y="620280"/>
            <a:ext cx="8135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стантин Дмитриевич Ушинский писал: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«Учите  ребёнка  каким-нибудь  неизвестным  ему  пяти словам  - он  будет  долго  и  напрасно  мучиться, 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но  свяжите двадцать  таких  слов  с  картинками,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и  он  их  усвоит  на  лету»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55" name="Рисунок 3" descr="https://ds02.infourok.ru/uploads/ex/04cf/000680f6-a64ad23d/hello_html_2ab55505.jpg"/>
          <p:cNvPicPr/>
          <p:nvPr/>
        </p:nvPicPr>
        <p:blipFill>
          <a:blip r:embed="rId1"/>
          <a:stretch/>
        </p:blipFill>
        <p:spPr>
          <a:xfrm>
            <a:off x="684360" y="2924280"/>
            <a:ext cx="5472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1805-8EDB-43ED-9E4F-4B896834FBF7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7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634F-67D6-46F7-94FC-1060604A1CF3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59" name="Рисунок 4" descr="http://mdou124lip.ru/files/2016/20161006/02.jpg"/>
          <p:cNvPicPr/>
          <p:nvPr/>
        </p:nvPicPr>
        <p:blipFill>
          <a:blip r:embed="rId1"/>
          <a:stretch/>
        </p:blipFill>
        <p:spPr>
          <a:xfrm>
            <a:off x="826920" y="981000"/>
            <a:ext cx="752508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Мнемотехника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- в переводе с греческого  - «искусство запоминания»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Мнемотехника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- это система методов и приёмов, обеспечивающих эффективное запоминание, сохранение и воспроизведение информации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Мнемотехника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– помогает развивать: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ассоциативное  мышление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зрительную и слуховую память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зрительное и слуховое внимание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воображение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связную речь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мелкую моторику рук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1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22B6-9EE1-4C8B-8C5A-90C1D7A4175B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4621-EFD1-4186-8269-D35541214BBD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7A98-CA0D-483F-AC05-0BCC7CEB3A49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5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A74F-5349-4461-B8A9-1D53B2A5C5C0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67" name="Рисунок 4" descr="http://mypresentation.ru/documents_2/796f8e4bbe6bab226fbfc76e5ea73732/img7.jpg"/>
          <p:cNvPicPr/>
          <p:nvPr/>
        </p:nvPicPr>
        <p:blipFill>
          <a:blip r:embed="rId1"/>
          <a:stretch/>
        </p:blipFill>
        <p:spPr>
          <a:xfrm>
            <a:off x="684360" y="907920"/>
            <a:ext cx="77752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FB18-2C9D-4CA9-86F8-1450DF330BAD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8E8F-9710-4953-AC57-BF8897BA3B62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71" name="Рисунок 4" descr="http://hnu.docdat.com/pars_docs/refs/200/199390/img8.jpg"/>
          <p:cNvPicPr/>
          <p:nvPr/>
        </p:nvPicPr>
        <p:blipFill>
          <a:blip r:embed="rId1"/>
          <a:stretch/>
        </p:blipFill>
        <p:spPr>
          <a:xfrm>
            <a:off x="684360" y="907920"/>
            <a:ext cx="77752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ECF2-CBEB-416F-8A6D-0E63DC9FD090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E0E2-E9B3-40D2-A687-3E32D934F9CB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75" name="Рисунок 4" descr="https://ds03.infourok.ru/uploads/ex/0194/00008a4b-bef9ad47/img4.jpg"/>
          <p:cNvPicPr/>
          <p:nvPr/>
        </p:nvPicPr>
        <p:blipFill>
          <a:blip r:embed="rId1"/>
          <a:stretch/>
        </p:blipFill>
        <p:spPr>
          <a:xfrm>
            <a:off x="611280" y="765000"/>
            <a:ext cx="7921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1053-DAD9-4FC7-AA8A-622DEA09D8D0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7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F636-F43B-4926-BA4A-77B5A58C5592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79" name="Рисунок 4" descr="https://ds03.infourok.ru/uploads/ex/0194/00008a4b-bef9ad47/img5.jpg"/>
          <p:cNvPicPr/>
          <p:nvPr/>
        </p:nvPicPr>
        <p:blipFill>
          <a:blip r:embed="rId1"/>
          <a:stretch/>
        </p:blipFill>
        <p:spPr>
          <a:xfrm>
            <a:off x="684360" y="692280"/>
            <a:ext cx="7775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3:48:44Z</dcterms:created>
  <dc:creator>NFS</dc:creator>
  <dc:description>http://aida.ucoz.ru</dc:description>
  <dc:language>en-US</dc:language>
  <cp:lastModifiedBy>admin</cp:lastModifiedBy>
  <dcterms:modified xsi:type="dcterms:W3CDTF">2020-03-23T09:16:42Z</dcterms:modified>
  <cp:revision>77</cp:revision>
  <dc:subject/>
  <dc:title>РАЗВИТИЕ ОБРАЗНОЙ РЕЧИ ДЕТЕЙ ДОШКОЛЬНИК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330000000000010243100207f6000400038000</vt:lpwstr>
  </property>
</Properties>
</file>