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D9D-6C1F-4E45-BDBF-2EF8AE03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EA7-140D-4A72-A6BA-281F5170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5A2-3791-4B3D-B040-A9B9D78B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11E-B745-4B5B-89FE-D8EBF189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FDB-1EFF-4CDD-BC61-87CB7A3C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7B4-DCFB-4517-873C-B83955FA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59C-0276-45DF-A8F2-04ADF5FC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08A-0E32-4C8B-BEA7-1ECC0080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8EE-A65F-4EE3-80FF-7645E6C0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81E-4AE0-4100-9598-85C77F95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6AB-8963-4123-B0BE-17A68E4C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DC6-8066-4B93-938C-2D415840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62A6-159A-4F7B-9E67-974B94DC1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07696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Урок русского языка в 7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2142720"/>
            <a:ext cx="80773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ема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Морфологический                            разбор сою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Синтаксический разбор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85840" y="178596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юбите книги и они если вы захотите могут перестроить всю жизн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Н. Смирнов-Сокольски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РФОЛОГИЧЕСКИЙ РАЗБОР СОЮ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9640" y="907920"/>
            <a:ext cx="8136000" cy="720720"/>
          </a:xfrm>
          <a:prstGeom prst="rect">
            <a:avLst/>
          </a:prstGeom>
          <a:noFill/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бломов всегда ходил дома без галсту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тому что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любил простор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приволье (И.А.Гончар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79280" y="1700280"/>
            <a:ext cx="4464000" cy="345744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РЯДОК РАЗ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I.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Часть речи. Общее значение+сх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II.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Морфологические призна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а) сочинительный - подчинительн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) разряд по значен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) простой – состав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вторяющийся, двой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г) неизменяем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Синтаксическая ро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(не является членом предлож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5076720" y="2133720"/>
            <a:ext cx="3743280" cy="360360"/>
          </a:xfrm>
          <a:prstGeom prst="roundRect">
            <a:avLst>
              <a:gd name="adj" fmla="val 16667"/>
            </a:avLst>
          </a:prstGeom>
          <a:solidFill>
            <a:srgbClr val="ffe6cd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БРАЗЕЦ РАЗ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 rot="10800000">
            <a:off x="4211280" y="2491920"/>
            <a:ext cx="4932360" cy="3961080"/>
          </a:xfrm>
          <a:prstGeom prst="verticalScroll">
            <a:avLst>
              <a:gd name="adj" fmla="val 12500"/>
            </a:avLst>
          </a:prstGeom>
          <a:solidFill>
            <a:srgbClr val="ffe6cd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ому что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- союз, соедин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части сложноподчин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II.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Морфологические призна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а) подчинительн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) причинн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) состав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г) неизменяемое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III.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Не является чле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201-20071006-211842"/>
          <p:cNvPicPr/>
          <p:nvPr/>
        </p:nvPicPr>
        <p:blipFill>
          <a:blip r:embed="rId1"/>
          <a:stretch/>
        </p:blipFill>
        <p:spPr>
          <a:xfrm>
            <a:off x="2195640" y="4869000"/>
            <a:ext cx="1562040" cy="184464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8"/>
          <p:cNvSpPr/>
          <p:nvPr/>
        </p:nvSpPr>
        <p:spPr>
          <a:xfrm rot="10800000">
            <a:off x="4500720" y="2491920"/>
            <a:ext cx="4643280" cy="3961080"/>
          </a:xfrm>
          <a:prstGeom prst="verticalScroll">
            <a:avLst>
              <a:gd name="adj" fmla="val 12500"/>
            </a:avLst>
          </a:prstGeom>
          <a:solidFill>
            <a:srgbClr val="ffe6cd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- союз, соедин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нородные чл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II.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Морфологические призна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а) сочинительн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) соединительн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) прост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г) неизменяемое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III.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Не является чле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к вечеру поднималась пурга начинали звонить церковные колоко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61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шите предложение, расставьте знаки препинания, сделайте морфологический разбор сою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250920" y="2205000"/>
            <a:ext cx="151128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362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шите предложение, расставьте знаки препинания, сделайте морфологический разбор союз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ынче в пять часов утра  когда я открыл окно, моя комната наполнилась запахом цветов, растущих в скромном палисадн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6156360" y="1700280"/>
            <a:ext cx="129528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643280" y="3213000"/>
            <a:ext cx="35942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ки цветущих черешен смотрят мне в окно  и ветер иногда усыпает мой письменный стол их белыми лепест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3059280" y="1413000"/>
            <a:ext cx="50472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857760" y="2714760"/>
            <a:ext cx="3450960" cy="34509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539640" y="11592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шите предложение, расставьте знаки препинания, сделайте морфологический разбор сою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пишите текст, расставляя знаки препинания, выделите союз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2560" y="1774800"/>
            <a:ext cx="86439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 XII веке  на деревянных табличках углём изображались  человеческий череп и  скрещенные кости а сам знак обозначал угрозу жизни.   В сказках такой элемент  превратился в символ смерти от рук чудища невиданного или  разбойников. На самом  деле это было предупреждение либо о горных обрывах либо  о боло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Arial"/>
              </a:rPr>
              <a:t>Проверьте себя. Выполните морфологический разбор любого из н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2560" y="1774800"/>
            <a:ext cx="86439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 XII веке  на деревянных табличках углём изображались  человеческий череп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крещенные кост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ам знак обозначал угрозу жизни.   В сказках такой элемент  превратился в символ смерти от рук чудища невиданног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разбойников. На самом  деле это было предупреждени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иб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 горных обрывах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иб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 боло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8:32:57Z</dcterms:created>
  <dc:creator>User</dc:creator>
  <dc:description/>
  <dc:language>en-US</dc:language>
  <cp:lastModifiedBy>Артбук</cp:lastModifiedBy>
  <dcterms:modified xsi:type="dcterms:W3CDTF">2020-04-10T08:07:33Z</dcterms:modified>
  <cp:revision>20</cp:revision>
  <dc:subject/>
  <dc:title>Слайд 1</dc:title>
</cp:coreProperties>
</file>