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622F90-E4F1-4BF8-A4E2-3AEBC72A0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9215B23-D26C-4BA5-9A9C-2A50279DCC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https://www.youtube.com/embed/1XsxmCFd_-w" TargetMode="External"/><Relationship Id="rId2" Type="http://schemas.microsoft.com/office/2007/relationships/media" Target="https://www.youtube.com/embed/1XsxmCFd_-w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1700640"/>
            <a:ext cx="3870000" cy="48240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«Учите русский-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ды  к ряду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душой,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сердием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 у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ас ждёт великая награда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та награда- в нём самом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бир Абдулл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02240" y="115920"/>
            <a:ext cx="4217760" cy="61923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«Если вы хотите, чтобы жизнь улыбалась вам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одарите ей сначала свое хорошее настроение»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Monotype Corsiva"/>
                <a:ea typeface="Arial"/>
              </a:rPr>
              <a:t>Бенедикт Спиноз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owl"/>
          <p:cNvPicPr/>
          <p:nvPr/>
        </p:nvPicPr>
        <p:blipFill>
          <a:blip r:embed="rId1"/>
          <a:stretch/>
        </p:blipFill>
        <p:spPr>
          <a:xfrm>
            <a:off x="1116000" y="71280"/>
            <a:ext cx="2015640" cy="173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5867280" y="115920"/>
            <a:ext cx="172836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468360" y="2349360"/>
            <a:ext cx="3526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ремя</a:t>
            </a: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Сегодня, утром,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319640" y="174960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м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Здесь, вдалеке, вниз, изда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755640" y="620640"/>
            <a:ext cx="7129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an00790_"/>
          <p:cNvPicPr/>
          <p:nvPr/>
        </p:nvPicPr>
        <p:blipFill>
          <a:blip r:embed="rId1"/>
          <a:stretch/>
        </p:blipFill>
        <p:spPr>
          <a:xfrm>
            <a:off x="1403280" y="4365720"/>
            <a:ext cx="1939680" cy="2022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24360" y="40100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, которые указывают на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БР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ак? 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едленно, быстро, наскоро, отлично, хорошо, плохо, блестяще, тихо,громко, нпряжё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Виды наречий - Наречие в русском языке"/>
          <p:cNvPicPr/>
          <p:nvPr/>
        </p:nvPicPr>
        <p:blipFill>
          <a:blip r:embed="rId1"/>
          <a:stretch/>
        </p:blipFill>
        <p:spPr>
          <a:xfrm>
            <a:off x="539640" y="1773360"/>
            <a:ext cx="7754400" cy="460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900000" y="620640"/>
            <a:ext cx="69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Разряды наречий по значению - русский язык, презентации"/>
          <p:cNvPicPr/>
          <p:nvPr/>
        </p:nvPicPr>
        <p:blipFill>
          <a:blip r:embed="rId1"/>
          <a:stretch/>
        </p:blipFill>
        <p:spPr>
          <a:xfrm>
            <a:off x="1547640" y="1844640"/>
            <a:ext cx="6095520" cy="4571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835280" y="620640"/>
            <a:ext cx="5328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зряды наречий по их 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Работа по цитатам из различных тек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132000" y="1544760"/>
            <a:ext cx="396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Calibri"/>
              </a:rPr>
              <a:t>Работать спустя рук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68360" y="836640"/>
            <a:ext cx="81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мените фразеологизм одним словом – нареч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560480" y="1914480"/>
            <a:ext cx="165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(НЕБРЕЖ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разеологизм - Спустя рукава."/>
          <p:cNvPicPr/>
          <p:nvPr/>
        </p:nvPicPr>
        <p:blipFill>
          <a:blip r:embed="rId1"/>
          <a:stretch/>
        </p:blipFill>
        <p:spPr>
          <a:xfrm>
            <a:off x="3132000" y="2652840"/>
            <a:ext cx="5567040" cy="2522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249120" y="4375080"/>
            <a:ext cx="284436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Работать спустя рукава». Фразеологизмы для детей — скачать и ..."/>
          <p:cNvPicPr/>
          <p:nvPr/>
        </p:nvPicPr>
        <p:blipFill>
          <a:blip r:embed="rId3"/>
          <a:stretch/>
        </p:blipFill>
        <p:spPr>
          <a:xfrm>
            <a:off x="249120" y="1236600"/>
            <a:ext cx="18093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1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484360" y="836640"/>
            <a:ext cx="551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образуются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516720" y="1700280"/>
            <a:ext cx="1695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539640" y="2759040"/>
            <a:ext cx="6318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.От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.От прилагательного(быстрый-быстро; весёлый-весе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.От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72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ь характеристику  предложению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обрать  предложение по членам предложения и по частям реч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етер сильно  раскачив . л  деревья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Синоптики ждут сильный ветер и град в Хакасии | Медиагруппа &quot;Юг ..."/>
          <p:cNvPicPr/>
          <p:nvPr/>
        </p:nvPicPr>
        <p:blipFill>
          <a:blip r:embed="rId1"/>
          <a:stretch/>
        </p:blipFill>
        <p:spPr>
          <a:xfrm>
            <a:off x="1979640" y="2852640"/>
            <a:ext cx="55303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997360"/>
            <a:ext cx="8229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тветьте не вопросы 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, если поясняет глагол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Как найти наречие в тексте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258920" y="476280"/>
            <a:ext cx="7057800" cy="223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Наречие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pic>
        <p:nvPicPr>
          <p:cNvPr id="101" name="Picture 6" descr="0037"/>
          <p:cNvPicPr/>
          <p:nvPr/>
        </p:nvPicPr>
        <p:blipFill>
          <a:blip r:embed="rId1"/>
          <a:srcRect l="1228" t="7385" r="19688" b="1846"/>
          <a:stretch/>
        </p:blipFill>
        <p:spPr>
          <a:xfrm>
            <a:off x="6588000" y="2698920"/>
            <a:ext cx="2360160" cy="18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" y="452520"/>
            <a:ext cx="8519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глагол обозначае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йств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значит наречие будет обознач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изнак этого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Чтобы найти наречие, нужно найти глагол и поставить от него вопрос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еста, времени, образа действ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KEY1"/>
          <p:cNvPicPr/>
          <p:nvPr/>
        </p:nvPicPr>
        <p:blipFill>
          <a:blip r:embed="rId1"/>
          <a:stretch/>
        </p:blipFill>
        <p:spPr>
          <a:xfrm rot="780000">
            <a:off x="5249520" y="2712600"/>
            <a:ext cx="3676320" cy="227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2"/>
          <a:stretch/>
        </p:blipFill>
        <p:spPr>
          <a:xfrm>
            <a:off x="428760" y="2441520"/>
            <a:ext cx="4300200" cy="40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240" cy="186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2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810072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24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изнак, время, место или направление действ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476280"/>
            <a:ext cx="7991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Упражнение 313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Стр. 14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68360" y="2565360"/>
            <a:ext cx="7848360" cy="8632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474720" cy="4462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084560" y="299736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«Русский язык необыкновенно богат наречиями, которые делают нашу речь точной, образной, выразитель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5969160" y="5267160"/>
            <a:ext cx="21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ксим 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OOK2"/>
          <p:cNvPicPr/>
          <p:nvPr/>
        </p:nvPicPr>
        <p:blipFill>
          <a:blip r:embed="rId2"/>
          <a:stretch/>
        </p:blipFill>
        <p:spPr>
          <a:xfrm>
            <a:off x="5924520" y="620640"/>
            <a:ext cx="25506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07160" cy="58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Игра «Наоборо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высоко, а ты ответишь -н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далеко, а ты ответишь - близко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 потолок, а ты ответишь - по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я слово, потерял - ответишь ты - нашёл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ажу тебе я слово трус, ответишь ты - храбрец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пе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ало я скажу, ну, отвечай  - конецдд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Arial"/>
              </a:rPr>
              <a:t>Джон Чиард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659640" y="414972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020000" y="3573360"/>
            <a:ext cx="1584000" cy="35856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020000" y="3068640"/>
            <a:ext cx="158400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020000" y="256536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877080" y="2060640"/>
            <a:ext cx="165708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804000" y="1484280"/>
            <a:ext cx="1512360" cy="36000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9" name="Picture 11" descr="851"/>
          <p:cNvPicPr/>
          <p:nvPr/>
        </p:nvPicPr>
        <p:blipFill>
          <a:blip r:embed="rId1"/>
          <a:stretch/>
        </p:blipFill>
        <p:spPr>
          <a:xfrm>
            <a:off x="2484360" y="4508640"/>
            <a:ext cx="215856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4"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64000" y="1504800"/>
            <a:ext cx="3420720" cy="47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АЧАЛ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Е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ДАВ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РА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КРАС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Ы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ЧИ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3110040" y="2881440"/>
            <a:ext cx="367920" cy="547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а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23" name="Line 14"/>
          <p:cNvCxnSpPr/>
          <p:nvPr/>
        </p:nvCxnSpPr>
        <p:spPr>
          <a:xfrm flipV="1">
            <a:off x="2966760" y="2349360"/>
            <a:ext cx="360720" cy="43200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4" name="Line 15"/>
          <p:cNvCxnSpPr/>
          <p:nvPr/>
        </p:nvCxnSpPr>
        <p:spPr>
          <a:xfrm>
            <a:off x="3335040" y="2376360"/>
            <a:ext cx="219600" cy="4179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25" name="Line 16"/>
          <p:cNvCxnSpPr/>
          <p:nvPr/>
        </p:nvCxnSpPr>
        <p:spPr>
          <a:xfrm flipV="1">
            <a:off x="1858680" y="3638520"/>
            <a:ext cx="864000" cy="71928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6" name="Line 17"/>
          <p:cNvCxnSpPr/>
          <p:nvPr/>
        </p:nvCxnSpPr>
        <p:spPr>
          <a:xfrm>
            <a:off x="1869840" y="305892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27" name="Line 18"/>
          <p:cNvCxnSpPr/>
          <p:nvPr/>
        </p:nvCxnSpPr>
        <p:spPr>
          <a:xfrm>
            <a:off x="1858680" y="213336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28" name="WordArt 19"/>
          <p:cNvSpPr txBox="1"/>
          <p:nvPr/>
        </p:nvSpPr>
        <p:spPr>
          <a:xfrm>
            <a:off x="808200" y="1847880"/>
            <a:ext cx="4330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с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29" name="WordArt 20"/>
          <p:cNvSpPr txBox="1"/>
          <p:nvPr/>
        </p:nvSpPr>
        <p:spPr>
          <a:xfrm>
            <a:off x="727200" y="2770200"/>
            <a:ext cx="674280" cy="572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из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30" name="WordArt 21"/>
          <p:cNvSpPr txBox="1"/>
          <p:nvPr/>
        </p:nvSpPr>
        <p:spPr>
          <a:xfrm>
            <a:off x="779400" y="3925800"/>
            <a:ext cx="622080" cy="642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до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31" name="Line 22"/>
          <p:cNvCxnSpPr/>
          <p:nvPr/>
        </p:nvCxnSpPr>
        <p:spPr>
          <a:xfrm>
            <a:off x="684000" y="1699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2" name="Line 23"/>
          <p:cNvCxnSpPr/>
          <p:nvPr/>
        </p:nvCxnSpPr>
        <p:spPr>
          <a:xfrm>
            <a:off x="1589040" y="171288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3" name="Line 24"/>
          <p:cNvCxnSpPr/>
          <p:nvPr/>
        </p:nvCxnSpPr>
        <p:spPr>
          <a:xfrm>
            <a:off x="652320" y="268740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4" name="Line 25"/>
          <p:cNvCxnSpPr/>
          <p:nvPr/>
        </p:nvCxnSpPr>
        <p:spPr>
          <a:xfrm>
            <a:off x="1589040" y="2707920"/>
            <a:ext cx="360" cy="1450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135" name="Line 26"/>
          <p:cNvCxnSpPr/>
          <p:nvPr/>
        </p:nvCxnSpPr>
        <p:spPr>
          <a:xfrm>
            <a:off x="730080" y="3746160"/>
            <a:ext cx="71964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36" name="Line 27"/>
          <p:cNvCxnSpPr/>
          <p:nvPr/>
        </p:nvCxnSpPr>
        <p:spPr>
          <a:xfrm>
            <a:off x="1409400" y="3746160"/>
            <a:ext cx="360" cy="14508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600" y="236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вописание нареч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720" y="1249200"/>
            <a:ext cx="467316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ЛЕ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РАВ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КРЕПК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ТЕМН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Е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РОСТ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СКОР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Line 39"/>
          <p:cNvCxnSpPr/>
          <p:nvPr/>
        </p:nvCxnSpPr>
        <p:spPr>
          <a:xfrm>
            <a:off x="522000" y="162864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40" name="Line 42"/>
          <p:cNvCxnSpPr/>
          <p:nvPr/>
        </p:nvCxnSpPr>
        <p:spPr>
          <a:xfrm>
            <a:off x="1458720" y="1668240"/>
            <a:ext cx="360" cy="28764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sp>
        <p:nvSpPr>
          <p:cNvPr id="141" name="WordArt 28"/>
          <p:cNvSpPr txBox="1"/>
          <p:nvPr/>
        </p:nvSpPr>
        <p:spPr>
          <a:xfrm>
            <a:off x="3325680" y="2968560"/>
            <a:ext cx="43128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1905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algn="ctr" dir="2700000" dist="35638">
                    <a:srgbClr val="990000"/>
                  </a:outerShdw>
                </a:effectLst>
                <a:latin typeface="Impact"/>
                <a:ea typeface="Arial"/>
              </a:rPr>
              <a:t>о</a:t>
            </a:r>
            <a:endParaRPr b="0" lang="en-US" sz="3600" spc="-1" strike="noStrike">
              <a:ln w="1905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algn="ctr" dir="2700000" dist="35638">
                  <a:srgbClr val="990000"/>
                </a:outerShdw>
              </a:effectLst>
              <a:latin typeface="Arial"/>
            </a:endParaRPr>
          </a:p>
        </p:txBody>
      </p:sp>
      <p:cxnSp>
        <p:nvCxnSpPr>
          <p:cNvPr id="142" name="Line 29"/>
          <p:cNvCxnSpPr/>
          <p:nvPr/>
        </p:nvCxnSpPr>
        <p:spPr>
          <a:xfrm flipV="1">
            <a:off x="3151080" y="2574720"/>
            <a:ext cx="360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3" name="Line 30"/>
          <p:cNvCxnSpPr/>
          <p:nvPr/>
        </p:nvCxnSpPr>
        <p:spPr>
          <a:xfrm>
            <a:off x="3541680" y="2600280"/>
            <a:ext cx="266760" cy="395640"/>
          </a:xfrm>
          <a:prstGeom prst="straightConnector1">
            <a:avLst/>
          </a:prstGeom>
          <a:ln w="38100">
            <a:solidFill>
              <a:srgbClr val="0066ff"/>
            </a:solidFill>
            <a:miter/>
          </a:ln>
        </p:spPr>
      </p:cxnSp>
      <p:cxnSp>
        <p:nvCxnSpPr>
          <p:cNvPr id="144" name="Line 31"/>
          <p:cNvCxnSpPr/>
          <p:nvPr/>
        </p:nvCxnSpPr>
        <p:spPr>
          <a:xfrm flipV="1">
            <a:off x="1820520" y="3703320"/>
            <a:ext cx="864000" cy="71964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5" name="Line 32"/>
          <p:cNvCxnSpPr/>
          <p:nvPr/>
        </p:nvCxnSpPr>
        <p:spPr>
          <a:xfrm>
            <a:off x="1958760" y="3143160"/>
            <a:ext cx="865440" cy="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6" name="Line 33"/>
          <p:cNvCxnSpPr/>
          <p:nvPr/>
        </p:nvCxnSpPr>
        <p:spPr>
          <a:xfrm>
            <a:off x="1707840" y="2157120"/>
            <a:ext cx="792720" cy="432360"/>
          </a:xfrm>
          <a:prstGeom prst="straightConnector1">
            <a:avLst/>
          </a:prstGeom>
          <a:ln w="3810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47" name="WordArt 34"/>
          <p:cNvSpPr txBox="1"/>
          <p:nvPr/>
        </p:nvSpPr>
        <p:spPr>
          <a:xfrm>
            <a:off x="614520" y="1955880"/>
            <a:ext cx="26316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в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8" name="WordArt 35"/>
          <p:cNvSpPr txBox="1"/>
          <p:nvPr/>
        </p:nvSpPr>
        <p:spPr>
          <a:xfrm>
            <a:off x="727200" y="2927520"/>
            <a:ext cx="47592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н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sp>
        <p:nvSpPr>
          <p:cNvPr id="149" name="WordArt 36"/>
          <p:cNvSpPr txBox="1"/>
          <p:nvPr/>
        </p:nvSpPr>
        <p:spPr>
          <a:xfrm>
            <a:off x="746280" y="3954600"/>
            <a:ext cx="45684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ln w="0">
                  <a:noFill/>
                </a:ln>
                <a:solidFill>
                  <a:schemeClr val="tx2"/>
                </a:solidFill>
                <a:effectLst>
                  <a:outerShdw algn="ctr" dir="2700000" dist="35638">
                    <a:srgbClr val="c0c0c0">
                      <a:alpha val="80000"/>
                    </a:srgbClr>
                  </a:outerShdw>
                </a:effectLst>
                <a:latin typeface="Impact"/>
                <a:ea typeface="Arial"/>
              </a:rPr>
              <a:t>за</a:t>
            </a:r>
            <a:endParaRPr b="0" lang="en-US" sz="3600" spc="-1" strike="noStrike">
              <a:ln w="0">
                <a:noFill/>
              </a:ln>
              <a:solidFill>
                <a:schemeClr val="tx2"/>
              </a:solidFill>
              <a:effectLst>
                <a:outerShdw algn="ctr" dir="2700000" dist="35638">
                  <a:srgbClr val="c0c0c0">
                    <a:alpha val="80000"/>
                  </a:srgbClr>
                </a:outerShdw>
              </a:effectLst>
              <a:latin typeface="Arial"/>
            </a:endParaRPr>
          </a:p>
        </p:txBody>
      </p:sp>
      <p:cxnSp>
        <p:nvCxnSpPr>
          <p:cNvPr id="150" name="Line 37"/>
          <p:cNvCxnSpPr/>
          <p:nvPr/>
        </p:nvCxnSpPr>
        <p:spPr>
          <a:xfrm>
            <a:off x="496800" y="3789360"/>
            <a:ext cx="93672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1" name="Line 38"/>
          <p:cNvCxnSpPr/>
          <p:nvPr/>
        </p:nvCxnSpPr>
        <p:spPr>
          <a:xfrm>
            <a:off x="522000" y="2707920"/>
            <a:ext cx="937080" cy="36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2" name="Line 40"/>
          <p:cNvCxnSpPr/>
          <p:nvPr/>
        </p:nvCxnSpPr>
        <p:spPr>
          <a:xfrm>
            <a:off x="1458720" y="380808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  <p:cxnSp>
        <p:nvCxnSpPr>
          <p:cNvPr id="153" name="Line 41"/>
          <p:cNvCxnSpPr/>
          <p:nvPr/>
        </p:nvCxnSpPr>
        <p:spPr>
          <a:xfrm>
            <a:off x="1458720" y="2707920"/>
            <a:ext cx="360" cy="288000"/>
          </a:xfrm>
          <a:prstGeom prst="straightConnector1">
            <a:avLst/>
          </a:prstGeom>
          <a:ln w="381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ая рабо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олг…, набел…, издавн…, влев…, накрепк…, докрасн…, затемн…,  сначал…, наскор…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240" cy="61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Итог уро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С какой частью речи познакомились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узнали о наречии?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все ли вопросы плана ответил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ан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то обозначает наречие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На какие вопросы отвечает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Чем является в предложени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Arial"/>
                <a:ea typeface="Arial"/>
              </a:rPr>
              <a:t>Роль наречий. Зачем они нужны в речи?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Д/З: 1)Подобрать пословицы, в которых есть наречия.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2) Упр. 5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EDGEHG2"/>
          <p:cNvPicPr/>
          <p:nvPr/>
        </p:nvPicPr>
        <p:blipFill>
          <a:blip r:embed="rId1"/>
          <a:stretch/>
        </p:blipFill>
        <p:spPr>
          <a:xfrm>
            <a:off x="6684840" y="2276640"/>
            <a:ext cx="245880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тер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интересно было на уроке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творческие работы вы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выполняли 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вы научились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61"/>
              </a:spcBef>
              <a:buClr>
                <a:srgbClr val="ff0000"/>
              </a:buClr>
              <a:buFont typeface="Symbol" charset="2"/>
              <a:buChar char=""/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в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сегодняшний урок прине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Литератур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1.Пушкин А.С. Отрывок  из поэмы «Руслан и Людмил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2.Бальмонт К.Д. Отрывок из стихотворения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3.Мари Гардэ. Отрывок из стихотворения «Сорока и ворона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4.Джон Чиарди «Наоборот»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5.Сабир Абдулла «Учите Русский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6.</a:t>
            </a:r>
            <a:r>
              <a:rPr b="0" lang="ru-RU" sz="1600" spc="-1" strike="noStrike">
                <a:solidFill>
                  <a:schemeClr val="accent2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Н.М. Бетенькова. «Хорошо, красиво, ладно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7. Бенедикт Спиноза. Афоризмы. «Если вы хотите…»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8.Учебник «Русский язык. 4 класс. Часть 2». Автор Канакина В.П., Горецкий В.Г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2"/>
                </a:solidFill>
                <a:latin typeface="Arial"/>
                <a:ea typeface="Arial"/>
              </a:rPr>
              <a:t>9. Рисунки из ресурсов Интернет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3284640"/>
            <a:ext cx="4103280" cy="36316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«Хорошо, красиво, ладно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сторожно, аккурат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чисто, ласково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жн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бодро, холодн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нежно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ихо, близко, дале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ыстро, весело, легко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Знали вы или не знали</a:t>
            </a:r>
            <a:br>
              <a:rPr sz="2000"/>
            </a:b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     Ч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 читали?» </a:t>
            </a:r>
            <a:br>
              <a:rPr sz="2400"/>
            </a:br>
            <a:r>
              <a:rPr b="0" lang="ru-RU" sz="2400" spc="-1" strike="noStrike">
                <a:solidFill>
                  <a:schemeClr val="accent2"/>
                </a:solidFill>
                <a:latin typeface="Arial"/>
                <a:ea typeface="Arial"/>
              </a:rPr>
              <a:t>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Н.М. Бетень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547640" y="765000"/>
            <a:ext cx="6248160" cy="172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algn="ctr" dir="2021404" dist="45429">
                    <a:srgbClr val="b2b2b2">
                      <a:alpha val="80000"/>
                    </a:srgbClr>
                  </a:outerShdw>
                </a:effectLst>
                <a:latin typeface="Times New Roman"/>
                <a:ea typeface="Arial"/>
              </a:rPr>
              <a:t>Наречие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algn="ctr" dir="2021404" dist="45429">
                  <a:srgbClr val="b2b2b2">
                    <a:alpha val="80000"/>
                  </a:srgbClr>
                </a:outerShdw>
              </a:effectLst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352760" y="2494080"/>
            <a:ext cx="4571640" cy="257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n00790_"/>
          <p:cNvPicPr/>
          <p:nvPr/>
        </p:nvPicPr>
        <p:blipFill>
          <a:blip r:embed="rId4"/>
          <a:stretch/>
        </p:blipFill>
        <p:spPr>
          <a:xfrm>
            <a:off x="81000" y="1262160"/>
            <a:ext cx="1939680" cy="20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>
                                  <p:childTnLst>
                                    <p:cmd type="call" cmd="">
                                      <p:cBhvr>
                                        <p:cTn id="77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Вставьте, пропущенные слова!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46080" cy="175716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«Ид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песнь зав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____________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 - сказку говорит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SCHOOL2"/>
          <p:cNvPicPr/>
          <p:nvPr/>
        </p:nvPicPr>
        <p:blipFill>
          <a:blip r:embed="rId1"/>
          <a:stretch/>
        </p:blipFill>
        <p:spPr>
          <a:xfrm>
            <a:off x="457200" y="88920"/>
            <a:ext cx="180000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1692360" y="3789360"/>
            <a:ext cx="4608000" cy="28328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___________, __________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SCHOOL2"/>
          <p:cNvPicPr/>
          <p:nvPr/>
        </p:nvPicPr>
        <p:blipFill>
          <a:blip r:embed="rId2"/>
          <a:stretch/>
        </p:blipFill>
        <p:spPr>
          <a:xfrm>
            <a:off x="4788000" y="3540240"/>
            <a:ext cx="1800000" cy="1512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5"/>
          <p:cNvSpPr/>
          <p:nvPr/>
        </p:nvSpPr>
        <p:spPr>
          <a:xfrm>
            <a:off x="539640" y="765000"/>
            <a:ext cx="4571640" cy="20404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Идё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песнь завод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ле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- сказку говорит.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Там чудеса, там леший бродит,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Русалка на ветвях сидит».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Arial"/>
              </a:rPr>
              <a:t>А.С. Пушкин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24360" y="4221000"/>
            <a:ext cx="4571640" cy="2009880"/>
          </a:xfrm>
          <a:prstGeom prst="rect">
            <a:avLst/>
          </a:prstGeom>
          <a:solidFill>
            <a:srgbClr val="ffff66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«Полночной порою 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В болотной глуши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Чу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ышно</a:t>
            </a: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есшумно</a:t>
            </a:r>
            <a:br>
              <a:rPr sz="1800"/>
            </a:br>
            <a:r>
              <a:rPr b="1" lang="ru-RU" sz="1800" spc="-1" strike="noStrike">
                <a:solidFill>
                  <a:schemeClr val="accent2"/>
                </a:solidFill>
                <a:latin typeface="Arial"/>
                <a:ea typeface="Arial"/>
              </a:rPr>
              <a:t>Шуршат камыш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Константин Дмитриевич Баль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EY1"/>
          <p:cNvPicPr/>
          <p:nvPr/>
        </p:nvPicPr>
        <p:blipFill>
          <a:blip r:embed="rId1"/>
          <a:stretch/>
        </p:blipFill>
        <p:spPr>
          <a:xfrm rot="780000">
            <a:off x="5589360" y="844200"/>
            <a:ext cx="335556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1"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Ворон в одежде при цилиндр чемодана и шляпы изолированный на белой ..."/>
          <p:cNvPicPr/>
          <p:nvPr/>
        </p:nvPicPr>
        <p:blipFill>
          <a:blip r:embed="rId1"/>
          <a:stretch/>
        </p:blipFill>
        <p:spPr>
          <a:xfrm>
            <a:off x="826920" y="189000"/>
            <a:ext cx="3528720" cy="3773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5003640" y="333360"/>
            <a:ext cx="3600000" cy="420444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рока и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покой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дет по пер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 большим чемод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льш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 рядом с в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Чут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зад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бок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е, провожая, шагает со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всё б это  бы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все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хорош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Если б их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авно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не ушел.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onotype Corsiva"/>
                <a:ea typeface="Arial"/>
              </a:rPr>
              <a:t>Мари Гардэ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539640" y="4519440"/>
            <a:ext cx="1760040" cy="1236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2931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9080"/>
            <a:ext cx="8569080" cy="683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ория происхождения наречий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реч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появились в русском языке позже других частей речи. Слово наречие очень старое, оно встречается в древнерусском язык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рен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ечь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как бы связывает его с глаголом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ревние римляне называли эту часть речи «приглаголием».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е грамматисты назвали её точно также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- Вы догадались почему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6732720" y="5300640"/>
            <a:ext cx="1655280" cy="1391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2"/>
          <a:stretch/>
        </p:blipFill>
        <p:spPr>
          <a:xfrm>
            <a:off x="684360" y="19080"/>
            <a:ext cx="187128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579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гра «Подбери наречие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Бежать – быстро, медленно, плох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иде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рыг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Чит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Писать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/>
                </a:solidFill>
                <a:latin typeface="Arial"/>
                <a:ea typeface="Arial"/>
              </a:rPr>
              <a:t>Слушать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218"/>
          <p:cNvPicPr/>
          <p:nvPr/>
        </p:nvPicPr>
        <p:blipFill>
          <a:blip r:embed="rId1"/>
          <a:stretch/>
        </p:blipFill>
        <p:spPr>
          <a:xfrm>
            <a:off x="581040" y="4560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789"/>
          <p:cNvPicPr/>
          <p:nvPr/>
        </p:nvPicPr>
        <p:blipFill>
          <a:blip r:embed="rId2"/>
          <a:stretch/>
        </p:blipFill>
        <p:spPr>
          <a:xfrm>
            <a:off x="3708360" y="47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832"/>
          <p:cNvPicPr/>
          <p:nvPr/>
        </p:nvPicPr>
        <p:blipFill>
          <a:blip r:embed="rId3"/>
          <a:stretch/>
        </p:blipFill>
        <p:spPr>
          <a:xfrm>
            <a:off x="6588000" y="4527720"/>
            <a:ext cx="19443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– неизменяемая часть речи,  обозначающая признак действия или другого признака (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ясно, здесь, всегда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твечает на вопросы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Где? Куда? Когда? Откуда? Как?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едложени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наречие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стоятельств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n00790_"/>
          <p:cNvPicPr/>
          <p:nvPr/>
        </p:nvPicPr>
        <p:blipFill>
          <a:blip r:embed="rId1"/>
          <a:stretch/>
        </p:blipFill>
        <p:spPr>
          <a:xfrm>
            <a:off x="457200" y="115920"/>
            <a:ext cx="1738080" cy="18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2:26Z</dcterms:created>
  <dc:creator>ноутбук</dc:creator>
  <dc:description/>
  <dc:language>en-US</dc:language>
  <cp:lastModifiedBy>KAB-334</cp:lastModifiedBy>
  <dcterms:modified xsi:type="dcterms:W3CDTF">2020-04-10T16:44:00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6</vt:r8>
  </property>
</Properties>
</file>