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91F4DE-A2A4-4DCC-8956-7116C10EA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DC6F172-F055-4FBA-8165-DA6E75F11BB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video" Target="https://www.youtube.com/embed/1XsxmCFd_-w" TargetMode="External"/><Relationship Id="rId2" Type="http://schemas.microsoft.com/office/2007/relationships/media" Target="https://www.youtube.com/embed/1XsxmCFd_-w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3640" y="1700640"/>
            <a:ext cx="3870000" cy="482400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«Учите русский-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Г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оды  к ряду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 душой,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 усердием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 умом!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ас ждёт великая награда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 та награда- в нём самом!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абир Абдулла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02240" y="115920"/>
            <a:ext cx="4217760" cy="619236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txBody>
          <a:bodyPr numCol="1" spcCol="0" anchor="t">
            <a:noAutofit/>
          </a:bodyPr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«Если вы хотите, чтобы жизнь улыбалась вам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подарите ей сначала свое хорошее настроение»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2"/>
                </a:solidFill>
                <a:latin typeface="Monotype Corsiva"/>
                <a:ea typeface="Arial"/>
              </a:rPr>
              <a:t>Бенедикт Спиноза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owl"/>
          <p:cNvPicPr/>
          <p:nvPr/>
        </p:nvPicPr>
        <p:blipFill>
          <a:blip r:embed="rId1"/>
          <a:stretch/>
        </p:blipFill>
        <p:spPr>
          <a:xfrm>
            <a:off x="1116000" y="71280"/>
            <a:ext cx="2015640" cy="17362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"/>
          <p:cNvPicPr/>
          <p:nvPr/>
        </p:nvPicPr>
        <p:blipFill>
          <a:blip r:embed="rId2"/>
          <a:stretch/>
        </p:blipFill>
        <p:spPr>
          <a:xfrm>
            <a:off x="5867280" y="115920"/>
            <a:ext cx="172836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3"/>
          <p:cNvSpPr/>
          <p:nvPr/>
        </p:nvSpPr>
        <p:spPr>
          <a:xfrm>
            <a:off x="468360" y="2349360"/>
            <a:ext cx="3526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, которые указывают на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время</a:t>
            </a:r>
            <a:r>
              <a:rPr b="0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Ког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Сегодня, утром, 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4319640" y="1749600"/>
            <a:ext cx="460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, которые указывают на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мес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Где? Куда? Отку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Здесь, вдалеке, вниз, издал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755640" y="620640"/>
            <a:ext cx="7129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Разряды наречий по их знач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an00790_"/>
          <p:cNvPicPr/>
          <p:nvPr/>
        </p:nvPicPr>
        <p:blipFill>
          <a:blip r:embed="rId1"/>
          <a:stretch/>
        </p:blipFill>
        <p:spPr>
          <a:xfrm>
            <a:off x="1403280" y="4365720"/>
            <a:ext cx="1939680" cy="20221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"/>
          <p:cNvSpPr/>
          <p:nvPr/>
        </p:nvSpPr>
        <p:spPr>
          <a:xfrm>
            <a:off x="3924360" y="4010040"/>
            <a:ext cx="4571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, которые указывают на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ОБРАЗ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Как? Каким образ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едленно, быстро, наскоро, отлично, хорошо, плохо, блестяще, тихо,громко, нпряжё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Виды наречий - Наречие в русском языке"/>
          <p:cNvPicPr/>
          <p:nvPr/>
        </p:nvPicPr>
        <p:blipFill>
          <a:blip r:embed="rId1"/>
          <a:stretch/>
        </p:blipFill>
        <p:spPr>
          <a:xfrm>
            <a:off x="539640" y="1773360"/>
            <a:ext cx="7754400" cy="460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"/>
          <p:cNvSpPr/>
          <p:nvPr/>
        </p:nvSpPr>
        <p:spPr>
          <a:xfrm>
            <a:off x="900000" y="620640"/>
            <a:ext cx="691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Разряды наречий по их зна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Разряды наречий по значению - русский язык, презентации"/>
          <p:cNvPicPr/>
          <p:nvPr/>
        </p:nvPicPr>
        <p:blipFill>
          <a:blip r:embed="rId1"/>
          <a:stretch/>
        </p:blipFill>
        <p:spPr>
          <a:xfrm>
            <a:off x="1547640" y="1844640"/>
            <a:ext cx="6095520" cy="45716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"/>
          <p:cNvSpPr/>
          <p:nvPr/>
        </p:nvSpPr>
        <p:spPr>
          <a:xfrm>
            <a:off x="1835280" y="620640"/>
            <a:ext cx="5328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Разряды наречий по их зна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Работа по цитатам из различных текс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132000" y="1544760"/>
            <a:ext cx="396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Работать спустя рук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468360" y="836640"/>
            <a:ext cx="8165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Замените фразеологизм одним словом – нареч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4560480" y="1914480"/>
            <a:ext cx="1659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Calibri"/>
              </a:rPr>
              <a:t>(НЕБРЕЖ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Фразеологизм - Спустя рукава."/>
          <p:cNvPicPr/>
          <p:nvPr/>
        </p:nvPicPr>
        <p:blipFill>
          <a:blip r:embed="rId1"/>
          <a:stretch/>
        </p:blipFill>
        <p:spPr>
          <a:xfrm>
            <a:off x="3132000" y="2652840"/>
            <a:ext cx="5567040" cy="25221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"/>
          <p:cNvPicPr/>
          <p:nvPr/>
        </p:nvPicPr>
        <p:blipFill>
          <a:blip r:embed="rId2"/>
          <a:stretch/>
        </p:blipFill>
        <p:spPr>
          <a:xfrm>
            <a:off x="249120" y="4375080"/>
            <a:ext cx="2844360" cy="1599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Работать спустя рукава». Фразеологизмы для детей — скачать и ..."/>
          <p:cNvPicPr/>
          <p:nvPr/>
        </p:nvPicPr>
        <p:blipFill>
          <a:blip r:embed="rId3"/>
          <a:stretch/>
        </p:blipFill>
        <p:spPr>
          <a:xfrm>
            <a:off x="249120" y="1236600"/>
            <a:ext cx="180936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0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2"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2484360" y="836640"/>
            <a:ext cx="5511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к образуются нареч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6516720" y="1700280"/>
            <a:ext cx="16952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539640" y="2759040"/>
            <a:ext cx="63180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1.От существ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2.От прилагательного(быстрый-быстро; весёлый-весел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3.От глаг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240" cy="5721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ть характеристику  предложению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обрать  предложение по членам предложения и по частям речи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етер сильно  раскачив . л  деревья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Синоптики ждут сильный ветер и град в Хакасии | Медиагруппа &quot;Юг ..."/>
          <p:cNvPicPr/>
          <p:nvPr/>
        </p:nvPicPr>
        <p:blipFill>
          <a:blip r:embed="rId1"/>
          <a:stretch/>
        </p:blipFill>
        <p:spPr>
          <a:xfrm>
            <a:off x="1979640" y="2852640"/>
            <a:ext cx="553032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2997360"/>
            <a:ext cx="822924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тветьте не вопросы 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Что обозначает наречие, если поясняет глагол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Как найти наречие в тексте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На какие вопросы отвечает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Чем является в предложении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Роль наречий. Зачем они нужны в речи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1258920" y="476280"/>
            <a:ext cx="7057800" cy="2231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ln w="1905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algn="ctr" dir="2700000" dist="35638">
                    <a:srgbClr val="990000"/>
                  </a:outerShdw>
                </a:effectLst>
                <a:latin typeface="Impact"/>
                <a:ea typeface="Arial"/>
              </a:rPr>
              <a:t>Наречие</a:t>
            </a:r>
            <a:endParaRPr b="0" lang="en-US" sz="3600" spc="-1" strike="noStrike">
              <a:ln w="1905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algn="ctr" dir="2700000" dist="35638">
                  <a:srgbClr val="990000"/>
                </a:outerShdw>
              </a:effectLst>
              <a:latin typeface="Arial"/>
            </a:endParaRPr>
          </a:p>
        </p:txBody>
      </p:sp>
      <p:pic>
        <p:nvPicPr>
          <p:cNvPr id="101" name="Picture 6" descr="0037"/>
          <p:cNvPicPr/>
          <p:nvPr/>
        </p:nvPicPr>
        <p:blipFill>
          <a:blip r:embed="rId1"/>
          <a:srcRect l="1228" t="7385" r="19688" b="1846"/>
          <a:stretch/>
        </p:blipFill>
        <p:spPr>
          <a:xfrm>
            <a:off x="6588000" y="2698920"/>
            <a:ext cx="2360160" cy="18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7600" y="452520"/>
            <a:ext cx="8519760" cy="62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глагол обозначае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действ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значит наречие будет обозначать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ризнак этого дей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Чтобы найти наречие, нужно найти глагол и поставить от него вопрос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бстоятельств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места, времени, образа действия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KEY1"/>
          <p:cNvPicPr/>
          <p:nvPr/>
        </p:nvPicPr>
        <p:blipFill>
          <a:blip r:embed="rId1"/>
          <a:stretch/>
        </p:blipFill>
        <p:spPr>
          <a:xfrm rot="780000">
            <a:off x="5249520" y="2712600"/>
            <a:ext cx="3676320" cy="22730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5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6" name="Рисунок 4" descr=""/>
          <p:cNvPicPr/>
          <p:nvPr/>
        </p:nvPicPr>
        <p:blipFill>
          <a:blip r:embed="rId2"/>
          <a:stretch/>
        </p:blipFill>
        <p:spPr>
          <a:xfrm>
            <a:off x="428760" y="2441520"/>
            <a:ext cx="4300200" cy="40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1"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240" cy="1863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Упражнение 312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  <a:ea typeface="Arial"/>
              </a:rPr>
              <a:t>(Стр. 141)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2997360"/>
            <a:ext cx="8100720" cy="36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7" presetSubtype="10"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9"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24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Что обозначает наречие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Признак, время, место или направление действия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476280"/>
            <a:ext cx="79912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Упражнение 313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  <a:ea typeface="Arial"/>
              </a:rPr>
              <a:t>(Стр. 141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68360" y="2565360"/>
            <a:ext cx="7848360" cy="86328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55"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8" presetSubtype="16">
                                  <p:childTnLst>
                                    <p:animEffect filter="diamond(in)" transition="out">
                                      <p:cBhvr additive="repl">
                                        <p:cTn id="27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4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474720" cy="44622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4084560" y="2997360"/>
            <a:ext cx="45716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  <a:ea typeface="Arial"/>
              </a:rPr>
              <a:t>«Русский язык необыкновенно богат наречиями, которые делают нашу речь точной, образной, выразительн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5969160" y="5267160"/>
            <a:ext cx="21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Максим  Гор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BOOK2"/>
          <p:cNvPicPr/>
          <p:nvPr/>
        </p:nvPicPr>
        <p:blipFill>
          <a:blip r:embed="rId2"/>
          <a:stretch/>
        </p:blipFill>
        <p:spPr>
          <a:xfrm>
            <a:off x="5924520" y="620640"/>
            <a:ext cx="25506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507160" cy="58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Игра «Наоборот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я слово высоко, а ты ответишь -низко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я слово далеко, а ты ответишь - близко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я слово потолок, а ты ответишь - пол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я слово, потерял - ответишь ты - нашёл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тебе я слово трус, ответишь ты - храбрец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пер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начало я скажу, ну, отвечай  - конецдд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  <a:ea typeface="Arial"/>
              </a:rPr>
              <a:t>Джон Чиарди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659640" y="4149720"/>
            <a:ext cx="1584000" cy="35856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7020000" y="3573360"/>
            <a:ext cx="1584000" cy="35856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020000" y="3068640"/>
            <a:ext cx="1584000" cy="36000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7020000" y="2565360"/>
            <a:ext cx="1657080" cy="36000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6877080" y="2060640"/>
            <a:ext cx="1657080" cy="36000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6804000" y="1484280"/>
            <a:ext cx="1512360" cy="36000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9" name="Picture 11" descr="851"/>
          <p:cNvPicPr/>
          <p:nvPr/>
        </p:nvPicPr>
        <p:blipFill>
          <a:blip r:embed="rId1"/>
          <a:stretch/>
        </p:blipFill>
        <p:spPr>
          <a:xfrm>
            <a:off x="2484360" y="4508640"/>
            <a:ext cx="2158560" cy="21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7" presetSubtype="10"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равописание наречий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64000" y="1504800"/>
            <a:ext cx="3420720" cy="47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НАЧАЛ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ЛЕВ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ЗДАВН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ПРАВ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КРАСН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СЫ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ЧИ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3110040" y="2881440"/>
            <a:ext cx="367920" cy="5472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1905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algn="ctr" dir="2700000" dist="35638">
                    <a:srgbClr val="990000"/>
                  </a:outerShdw>
                </a:effectLst>
                <a:latin typeface="Impact"/>
                <a:ea typeface="Arial"/>
              </a:rPr>
              <a:t>а</a:t>
            </a:r>
            <a:endParaRPr b="0" lang="en-US" sz="3600" spc="-1" strike="noStrike">
              <a:ln w="1905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algn="ctr" dir="2700000" dist="35638">
                  <a:srgbClr val="990000"/>
                </a:outerShdw>
              </a:effectLst>
              <a:latin typeface="Arial"/>
            </a:endParaRPr>
          </a:p>
        </p:txBody>
      </p:sp>
      <p:cxnSp>
        <p:nvCxnSpPr>
          <p:cNvPr id="123" name="Line 14"/>
          <p:cNvCxnSpPr/>
          <p:nvPr/>
        </p:nvCxnSpPr>
        <p:spPr>
          <a:xfrm flipV="1">
            <a:off x="2966760" y="2349360"/>
            <a:ext cx="360720" cy="432000"/>
          </a:xfrm>
          <a:prstGeom prst="straightConnector1">
            <a:avLst/>
          </a:prstGeom>
          <a:ln w="38100">
            <a:solidFill>
              <a:srgbClr val="0066ff"/>
            </a:solidFill>
            <a:miter/>
          </a:ln>
        </p:spPr>
      </p:cxnSp>
      <p:cxnSp>
        <p:nvCxnSpPr>
          <p:cNvPr id="124" name="Line 15"/>
          <p:cNvCxnSpPr/>
          <p:nvPr/>
        </p:nvCxnSpPr>
        <p:spPr>
          <a:xfrm>
            <a:off x="3335040" y="2376360"/>
            <a:ext cx="219600" cy="417960"/>
          </a:xfrm>
          <a:prstGeom prst="straightConnector1">
            <a:avLst/>
          </a:prstGeom>
          <a:ln w="38100">
            <a:solidFill>
              <a:srgbClr val="0066ff"/>
            </a:solidFill>
            <a:miter/>
          </a:ln>
        </p:spPr>
      </p:cxnSp>
      <p:cxnSp>
        <p:nvCxnSpPr>
          <p:cNvPr id="125" name="Line 16"/>
          <p:cNvCxnSpPr/>
          <p:nvPr/>
        </p:nvCxnSpPr>
        <p:spPr>
          <a:xfrm flipV="1">
            <a:off x="1858680" y="3638520"/>
            <a:ext cx="864000" cy="71928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26" name="Line 17"/>
          <p:cNvCxnSpPr/>
          <p:nvPr/>
        </p:nvCxnSpPr>
        <p:spPr>
          <a:xfrm>
            <a:off x="1869840" y="3058920"/>
            <a:ext cx="865440" cy="36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27" name="Line 18"/>
          <p:cNvCxnSpPr/>
          <p:nvPr/>
        </p:nvCxnSpPr>
        <p:spPr>
          <a:xfrm>
            <a:off x="1858680" y="2133360"/>
            <a:ext cx="792720" cy="43236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28" name="WordArt 19"/>
          <p:cNvSpPr txBox="1"/>
          <p:nvPr/>
        </p:nvSpPr>
        <p:spPr>
          <a:xfrm>
            <a:off x="808200" y="1847880"/>
            <a:ext cx="43308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с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sp>
        <p:nvSpPr>
          <p:cNvPr id="129" name="WordArt 20"/>
          <p:cNvSpPr txBox="1"/>
          <p:nvPr/>
        </p:nvSpPr>
        <p:spPr>
          <a:xfrm>
            <a:off x="727200" y="2770200"/>
            <a:ext cx="674280" cy="572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из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sp>
        <p:nvSpPr>
          <p:cNvPr id="130" name="WordArt 21"/>
          <p:cNvSpPr txBox="1"/>
          <p:nvPr/>
        </p:nvSpPr>
        <p:spPr>
          <a:xfrm>
            <a:off x="779400" y="3925800"/>
            <a:ext cx="622080" cy="6426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до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cxnSp>
        <p:nvCxnSpPr>
          <p:cNvPr id="131" name="Line 22"/>
          <p:cNvCxnSpPr/>
          <p:nvPr/>
        </p:nvCxnSpPr>
        <p:spPr>
          <a:xfrm>
            <a:off x="684000" y="1699920"/>
            <a:ext cx="9370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32" name="Line 23"/>
          <p:cNvCxnSpPr/>
          <p:nvPr/>
        </p:nvCxnSpPr>
        <p:spPr>
          <a:xfrm>
            <a:off x="1589040" y="1712880"/>
            <a:ext cx="360" cy="28764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33" name="Line 24"/>
          <p:cNvCxnSpPr/>
          <p:nvPr/>
        </p:nvCxnSpPr>
        <p:spPr>
          <a:xfrm>
            <a:off x="652320" y="2687400"/>
            <a:ext cx="9370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34" name="Line 25"/>
          <p:cNvCxnSpPr/>
          <p:nvPr/>
        </p:nvCxnSpPr>
        <p:spPr>
          <a:xfrm>
            <a:off x="1589040" y="2707920"/>
            <a:ext cx="360" cy="145080"/>
          </a:xfrm>
          <a:prstGeom prst="straightConnector1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35" name="Line 26"/>
          <p:cNvCxnSpPr/>
          <p:nvPr/>
        </p:nvCxnSpPr>
        <p:spPr>
          <a:xfrm>
            <a:off x="730080" y="3746160"/>
            <a:ext cx="71964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36" name="Line 27"/>
          <p:cNvCxnSpPr/>
          <p:nvPr/>
        </p:nvCxnSpPr>
        <p:spPr>
          <a:xfrm>
            <a:off x="1409400" y="3746160"/>
            <a:ext cx="360" cy="14508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6600" y="2365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равописание наречий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14720" y="1249200"/>
            <a:ext cx="4673160" cy="54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ЛЕВ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ЛЕВ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ПРАВ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КРЕПК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ТЕМН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ОЛГ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БЕЛ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РОСТ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СКОР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Line 39"/>
          <p:cNvCxnSpPr/>
          <p:nvPr/>
        </p:nvCxnSpPr>
        <p:spPr>
          <a:xfrm>
            <a:off x="522000" y="1628640"/>
            <a:ext cx="9370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40" name="Line 42"/>
          <p:cNvCxnSpPr/>
          <p:nvPr/>
        </p:nvCxnSpPr>
        <p:spPr>
          <a:xfrm>
            <a:off x="1458720" y="1668240"/>
            <a:ext cx="360" cy="28764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sp>
        <p:nvSpPr>
          <p:cNvPr id="141" name="WordArt 28"/>
          <p:cNvSpPr txBox="1"/>
          <p:nvPr/>
        </p:nvSpPr>
        <p:spPr>
          <a:xfrm>
            <a:off x="3325680" y="2968560"/>
            <a:ext cx="43128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1905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algn="ctr" dir="2700000" dist="35638">
                    <a:srgbClr val="990000"/>
                  </a:outerShdw>
                </a:effectLst>
                <a:latin typeface="Impact"/>
                <a:ea typeface="Arial"/>
              </a:rPr>
              <a:t>о</a:t>
            </a:r>
            <a:endParaRPr b="0" lang="en-US" sz="3600" spc="-1" strike="noStrike">
              <a:ln w="1905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algn="ctr" dir="2700000" dist="35638">
                  <a:srgbClr val="990000"/>
                </a:outerShdw>
              </a:effectLst>
              <a:latin typeface="Arial"/>
            </a:endParaRPr>
          </a:p>
        </p:txBody>
      </p:sp>
      <p:cxnSp>
        <p:nvCxnSpPr>
          <p:cNvPr id="142" name="Line 29"/>
          <p:cNvCxnSpPr/>
          <p:nvPr/>
        </p:nvCxnSpPr>
        <p:spPr>
          <a:xfrm flipV="1">
            <a:off x="3151080" y="2574720"/>
            <a:ext cx="360720" cy="432360"/>
          </a:xfrm>
          <a:prstGeom prst="straightConnector1">
            <a:avLst/>
          </a:prstGeom>
          <a:ln w="38100">
            <a:solidFill>
              <a:srgbClr val="0066ff"/>
            </a:solidFill>
            <a:miter/>
          </a:ln>
        </p:spPr>
      </p:cxnSp>
      <p:cxnSp>
        <p:nvCxnSpPr>
          <p:cNvPr id="143" name="Line 30"/>
          <p:cNvCxnSpPr/>
          <p:nvPr/>
        </p:nvCxnSpPr>
        <p:spPr>
          <a:xfrm>
            <a:off x="3541680" y="2600280"/>
            <a:ext cx="266760" cy="395640"/>
          </a:xfrm>
          <a:prstGeom prst="straightConnector1">
            <a:avLst/>
          </a:prstGeom>
          <a:ln w="38100">
            <a:solidFill>
              <a:srgbClr val="0066ff"/>
            </a:solidFill>
            <a:miter/>
          </a:ln>
        </p:spPr>
      </p:cxnSp>
      <p:cxnSp>
        <p:nvCxnSpPr>
          <p:cNvPr id="144" name="Line 31"/>
          <p:cNvCxnSpPr/>
          <p:nvPr/>
        </p:nvCxnSpPr>
        <p:spPr>
          <a:xfrm flipV="1">
            <a:off x="1820520" y="3703320"/>
            <a:ext cx="864000" cy="71964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45" name="Line 32"/>
          <p:cNvCxnSpPr/>
          <p:nvPr/>
        </p:nvCxnSpPr>
        <p:spPr>
          <a:xfrm>
            <a:off x="1958760" y="3143160"/>
            <a:ext cx="865440" cy="36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46" name="Line 33"/>
          <p:cNvCxnSpPr/>
          <p:nvPr/>
        </p:nvCxnSpPr>
        <p:spPr>
          <a:xfrm>
            <a:off x="1707840" y="2157120"/>
            <a:ext cx="792720" cy="43236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47" name="WordArt 34"/>
          <p:cNvSpPr txBox="1"/>
          <p:nvPr/>
        </p:nvSpPr>
        <p:spPr>
          <a:xfrm>
            <a:off x="614520" y="1955880"/>
            <a:ext cx="26316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в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sp>
        <p:nvSpPr>
          <p:cNvPr id="148" name="WordArt 35"/>
          <p:cNvSpPr txBox="1"/>
          <p:nvPr/>
        </p:nvSpPr>
        <p:spPr>
          <a:xfrm>
            <a:off x="727200" y="2927520"/>
            <a:ext cx="47592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на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sp>
        <p:nvSpPr>
          <p:cNvPr id="149" name="WordArt 36"/>
          <p:cNvSpPr txBox="1"/>
          <p:nvPr/>
        </p:nvSpPr>
        <p:spPr>
          <a:xfrm>
            <a:off x="746280" y="3954600"/>
            <a:ext cx="45684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за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cxnSp>
        <p:nvCxnSpPr>
          <p:cNvPr id="150" name="Line 37"/>
          <p:cNvCxnSpPr/>
          <p:nvPr/>
        </p:nvCxnSpPr>
        <p:spPr>
          <a:xfrm>
            <a:off x="496800" y="3789360"/>
            <a:ext cx="93672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51" name="Line 38"/>
          <p:cNvCxnSpPr/>
          <p:nvPr/>
        </p:nvCxnSpPr>
        <p:spPr>
          <a:xfrm>
            <a:off x="522000" y="2707920"/>
            <a:ext cx="9370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52" name="Line 40"/>
          <p:cNvCxnSpPr/>
          <p:nvPr/>
        </p:nvCxnSpPr>
        <p:spPr>
          <a:xfrm>
            <a:off x="1458720" y="3808080"/>
            <a:ext cx="360" cy="28800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53" name="Line 41"/>
          <p:cNvCxnSpPr/>
          <p:nvPr/>
        </p:nvCxnSpPr>
        <p:spPr>
          <a:xfrm>
            <a:off x="1458720" y="2707920"/>
            <a:ext cx="360" cy="28800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рактическая работ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олг…, набел…, издавн…, влев…, накрепк…, докрасн…, затемн…,  сначал…, наскор…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240" cy="61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Итог урок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С какой частью речи познакомились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Что узнали о наречии?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На все ли вопросы плана ответили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лан: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Что обозначает наречие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На какие вопросы отвечает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Чем является в предложении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Роль наречий. Зачем они нужны в речи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Д/З: 1)Подобрать пословицы, в которых есть наречия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      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2) Упр. 5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HEDGEHG2"/>
          <p:cNvPicPr/>
          <p:nvPr/>
        </p:nvPicPr>
        <p:blipFill>
          <a:blip r:embed="rId1"/>
          <a:stretch/>
        </p:blipFill>
        <p:spPr>
          <a:xfrm>
            <a:off x="6684840" y="2276640"/>
            <a:ext cx="245880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7" presetSubtype="10"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7" presetSubtype="10"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7640" y="476640"/>
            <a:ext cx="8229240" cy="612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4320" indent="-274320">
              <a:lnSpc>
                <a:spcPct val="100000"/>
              </a:lnSpc>
              <a:spcBef>
                <a:spcPts val="961"/>
              </a:spcBef>
              <a:buClr>
                <a:srgbClr val="ff0000"/>
              </a:buClr>
              <a:buFont typeface="Symbol" charset="2"/>
              <a:buChar char=""/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тере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то интересно было на уроке 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61"/>
              </a:spcBef>
              <a:buClr>
                <a:srgbClr val="ff0000"/>
              </a:buClr>
              <a:buFont typeface="Symbol" charset="2"/>
              <a:buChar char=""/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орче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ие творческие работы вы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выполняли 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61"/>
              </a:spcBef>
              <a:buClr>
                <a:srgbClr val="ff0000"/>
              </a:buClr>
              <a:buFont typeface="Symbol" charset="2"/>
              <a:buChar char=""/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у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ему вы научились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61"/>
              </a:spcBef>
              <a:buClr>
                <a:srgbClr val="ff0000"/>
              </a:buClr>
              <a:buFont typeface="Symbol" charset="2"/>
              <a:buChar char=""/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Г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лав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то сегодняшний урок принес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не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Литература: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1.Пушкин А.С. Отрывок  из поэмы «Руслан и Людмила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2.Бальмонт К.Д. Отрывок из стихотворения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3.Мари Гардэ. Отрывок из стихотворения «Сорока и ворона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4.Джон Чиарди «Наоборот»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5.Сабир Абдулла «Учите Русский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6.</a:t>
            </a:r>
            <a:r>
              <a:rPr b="0" lang="ru-RU" sz="16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Н.М. Бетенькова. «Хорошо, красиво, ладно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7. Бенедикт Спиноза. Афоризмы. «Если вы хотите…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8.Учебник «Русский язык. 4 класс. Часть 2». Автор Канакина В.П., Горецкий В.Г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9. Рисунки из ресурсов Интернет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79280" y="3284640"/>
            <a:ext cx="4103280" cy="36316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«Хорошо, красиво, ладно,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сторожно, аккуратн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чисто, ласково 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ежн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  бодро, холодно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нежно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Тихо, близко, далек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Быстро, весело, легко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Знали вы или не знали</a:t>
            </a:r>
            <a:br>
              <a:rPr sz="2000"/>
            </a:b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     Что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 читали?» </a:t>
            </a:r>
            <a:br>
              <a:rPr sz="2400"/>
            </a:br>
            <a:r>
              <a:rPr b="0" lang="ru-RU" sz="2400" spc="-1" strike="noStrike">
                <a:solidFill>
                  <a:schemeClr val="accent2"/>
                </a:solidFill>
                <a:latin typeface="Arial"/>
                <a:ea typeface="Arial"/>
              </a:rPr>
              <a:t>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Monotype Corsiva"/>
                <a:ea typeface="Arial"/>
              </a:rPr>
              <a:t>Н.М. Бетеньк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1547640" y="765000"/>
            <a:ext cx="6248160" cy="17283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algn="ctr" dir="2021404" dist="45429">
                    <a:srgbClr val="b2b2b2">
                      <a:alpha val="80000"/>
                    </a:srgbClr>
                  </a:outerShdw>
                </a:effectLst>
                <a:latin typeface="Times New Roman"/>
                <a:ea typeface="Arial"/>
              </a:rPr>
              <a:t>Наречие</a:t>
            </a:r>
            <a:endParaRPr b="0" lang="en-US" sz="3600" spc="-1" strike="noStrike">
              <a:ln w="0">
                <a:noFill/>
              </a:ln>
              <a:solidFill>
                <a:srgbClr val="336699"/>
              </a:solidFill>
              <a:effectLst>
                <a:outerShdw algn="ctr" dir="2021404" dist="45429">
                  <a:srgbClr val="b2b2b2">
                    <a:alpha val="80000"/>
                  </a:srgbClr>
                </a:outerShdw>
              </a:effectLst>
              <a:latin typeface="Arial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352760" y="2494080"/>
            <a:ext cx="4571640" cy="2571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an00790_"/>
          <p:cNvPicPr/>
          <p:nvPr/>
        </p:nvPicPr>
        <p:blipFill>
          <a:blip r:embed="rId4"/>
          <a:stretch/>
        </p:blipFill>
        <p:spPr>
          <a:xfrm>
            <a:off x="81000" y="1262160"/>
            <a:ext cx="1939680" cy="20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delay="0" evt="onClick">
                    <p:tgtEl>
                      <p:spTgt spid="54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delay="0"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>
                                  <p:childTnLst>
                                    <p:cmd type="call" cmd="">
                                      <p:cBhvr>
                                        <p:cTn id="77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Вставьте, пропущенные слова!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46080" cy="175716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«Идё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__________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- песнь заводит,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______________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- сказку говорит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Там чудеса, там леший бродит,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Русалка на ветвях сидит»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Monotype Corsiva"/>
                <a:ea typeface="Arial"/>
              </a:rPr>
              <a:t>А.С. Пушкин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SCHOOL2"/>
          <p:cNvPicPr/>
          <p:nvPr/>
        </p:nvPicPr>
        <p:blipFill>
          <a:blip r:embed="rId1"/>
          <a:stretch/>
        </p:blipFill>
        <p:spPr>
          <a:xfrm>
            <a:off x="457200" y="88920"/>
            <a:ext cx="1800000" cy="15141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1692360" y="3789360"/>
            <a:ext cx="4608000" cy="283284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«Полночной порою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 болотной глуши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Чу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___________, ___________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Шуршат камыш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Константин Дмитриевич БальмО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SCHOOL2"/>
          <p:cNvPicPr/>
          <p:nvPr/>
        </p:nvPicPr>
        <p:blipFill>
          <a:blip r:embed="rId2"/>
          <a:stretch/>
        </p:blipFill>
        <p:spPr>
          <a:xfrm>
            <a:off x="4788000" y="3540240"/>
            <a:ext cx="1800000" cy="15123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5"/>
          <p:cNvSpPr/>
          <p:nvPr/>
        </p:nvSpPr>
        <p:spPr>
          <a:xfrm>
            <a:off x="539640" y="765000"/>
            <a:ext cx="4571640" cy="20404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«Идё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прав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- песнь заводи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лев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- сказку говорит.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Там чудеса, там леший бродит,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Русалка на ветвях сидит».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ff0000"/>
                </a:solidFill>
                <a:latin typeface="Monotype Corsiva"/>
                <a:ea typeface="Arial"/>
              </a:rPr>
              <a:t>А.С. Пушкин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3924360" y="4221000"/>
            <a:ext cx="4571640" cy="2009880"/>
          </a:xfrm>
          <a:prstGeom prst="rect">
            <a:avLst/>
          </a:prstGeom>
          <a:solidFill>
            <a:srgbClr val="ffff66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«Полночной порою 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В болотной глуши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Чу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лышно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бесшумно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Шуршат камыш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Константин Дмитриевич Бальмо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KEY1"/>
          <p:cNvPicPr/>
          <p:nvPr/>
        </p:nvPicPr>
        <p:blipFill>
          <a:blip r:embed="rId1"/>
          <a:stretch/>
        </p:blipFill>
        <p:spPr>
          <a:xfrm rot="780000">
            <a:off x="5589360" y="844200"/>
            <a:ext cx="3355560" cy="20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1"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Ворон в одежде при цилиндр чемодана и шляпы изолированный на белой ..."/>
          <p:cNvPicPr/>
          <p:nvPr/>
        </p:nvPicPr>
        <p:blipFill>
          <a:blip r:embed="rId1"/>
          <a:stretch/>
        </p:blipFill>
        <p:spPr>
          <a:xfrm>
            <a:off x="826920" y="189000"/>
            <a:ext cx="3528720" cy="37731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5003640" y="333360"/>
            <a:ext cx="3600000" cy="420444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орока и в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покойно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ва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Идет по перр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С большим чемода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Большая вор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А рядом с воро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Чут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зади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боку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Ее, провожая, шагает со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И всё б это  бы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овсем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хорошо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Если б их пое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Давно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не ушел.</a:t>
            </a: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Мари Гардэ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2"/>
          <a:stretch/>
        </p:blipFill>
        <p:spPr>
          <a:xfrm>
            <a:off x="539640" y="4519440"/>
            <a:ext cx="1760040" cy="12362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"/>
          <p:cNvPicPr/>
          <p:nvPr/>
        </p:nvPicPr>
        <p:blipFill>
          <a:blip r:embed="rId3"/>
          <a:stretch/>
        </p:blipFill>
        <p:spPr>
          <a:xfrm>
            <a:off x="5076720" y="4797360"/>
            <a:ext cx="2931840" cy="19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19080"/>
            <a:ext cx="8569080" cy="6838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История происхождения наречий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 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появились в русском языке позже других частей речи. Слово наречие очень старое, оно встречается в древнерусском языке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Корень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речь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как бы связывает его с глаголом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ревние римляне называли эту часть речи «приглаголием».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Русские грамматисты назвали её точно также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          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- Вы догадались почему?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1"/>
          <a:stretch/>
        </p:blipFill>
        <p:spPr>
          <a:xfrm>
            <a:off x="6732720" y="5300640"/>
            <a:ext cx="1655280" cy="1391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2"/>
          <a:stretch/>
        </p:blipFill>
        <p:spPr>
          <a:xfrm>
            <a:off x="684360" y="19080"/>
            <a:ext cx="1871280" cy="15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240" cy="5792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Игра «Подбери наречие»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Бежать – быстро, медленно, плохо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Сидеть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Прыгать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Читать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Писать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Слушать -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218"/>
          <p:cNvPicPr/>
          <p:nvPr/>
        </p:nvPicPr>
        <p:blipFill>
          <a:blip r:embed="rId1"/>
          <a:stretch/>
        </p:blipFill>
        <p:spPr>
          <a:xfrm>
            <a:off x="581040" y="456084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1789"/>
          <p:cNvPicPr/>
          <p:nvPr/>
        </p:nvPicPr>
        <p:blipFill>
          <a:blip r:embed="rId2"/>
          <a:stretch/>
        </p:blipFill>
        <p:spPr>
          <a:xfrm>
            <a:off x="3708360" y="472428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832"/>
          <p:cNvPicPr/>
          <p:nvPr/>
        </p:nvPicPr>
        <p:blipFill>
          <a:blip r:embed="rId3"/>
          <a:stretch/>
        </p:blipFill>
        <p:spPr>
          <a:xfrm>
            <a:off x="6588000" y="4527720"/>
            <a:ext cx="194436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5"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1" presetSubtype="4"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1" presetSubtype="4"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1" presetSubtype="4"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Наречие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– неизменяемая часть речи,  обозначающая признак действия или другого признака (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ясно, здесь, всегда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твечает на вопросы: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Где? Куда? Когда? Откуда? Как?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 предложени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наречие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являетс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бстоятельством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an00790_"/>
          <p:cNvPicPr/>
          <p:nvPr/>
        </p:nvPicPr>
        <p:blipFill>
          <a:blip r:embed="rId1"/>
          <a:stretch/>
        </p:blipFill>
        <p:spPr>
          <a:xfrm>
            <a:off x="457200" y="115920"/>
            <a:ext cx="1738080" cy="18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  <Paragraphs>1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6:42:26Z</dcterms:created>
  <dc:creator>ноутбук</dc:creator>
  <dc:description/>
  <dc:language>en-US</dc:language>
  <cp:lastModifiedBy>KAB-334</cp:lastModifiedBy>
  <dcterms:modified xsi:type="dcterms:W3CDTF">2020-04-10T17:13:45Z</dcterms:modified>
  <cp:revision>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26</vt:r8>
  </property>
</Properties>
</file>