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EB0B9F-A51A-4F32-A6EE-5D5D819C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A46D7F6-FE95-4E23-A462-10CD8D96C37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https://www.youtube.com/embed/1XsxmCFd_-w" TargetMode="External"/><Relationship Id="rId2" Type="http://schemas.microsoft.com/office/2007/relationships/media" Target="https://www.youtube.com/embed/1XsxmCFd_-w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1700640"/>
            <a:ext cx="3870000" cy="48240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«Учите русский-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Г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ды  к ряду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душой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усердием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умом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ас ждёт великая награда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 та награда- в нём самом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абир Абдулл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02240" y="115920"/>
            <a:ext cx="4217760" cy="61923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«Если вы хотите, чтобы жизнь улыбалась вам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одарите ей сначала свое хорошее настроение»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2"/>
                </a:solidFill>
                <a:latin typeface="Monotype Corsiva"/>
                <a:ea typeface="Arial"/>
              </a:rPr>
              <a:t>Бенедикт Спиноз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owl"/>
          <p:cNvPicPr/>
          <p:nvPr/>
        </p:nvPicPr>
        <p:blipFill>
          <a:blip r:embed="rId1"/>
          <a:stretch/>
        </p:blipFill>
        <p:spPr>
          <a:xfrm>
            <a:off x="1116000" y="71280"/>
            <a:ext cx="2015640" cy="1736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2"/>
          <a:stretch/>
        </p:blipFill>
        <p:spPr>
          <a:xfrm>
            <a:off x="5867280" y="115920"/>
            <a:ext cx="172836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3"/>
          <p:cNvSpPr/>
          <p:nvPr/>
        </p:nvSpPr>
        <p:spPr>
          <a:xfrm>
            <a:off x="468360" y="2349360"/>
            <a:ext cx="3526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ремя</a:t>
            </a: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Сегодня, утром,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4319640" y="1749600"/>
            <a:ext cx="460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мес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Где? Куда? Отку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Здесь, вдалеке, вниз, издал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755640" y="620640"/>
            <a:ext cx="7129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an00790_"/>
          <p:cNvPicPr/>
          <p:nvPr/>
        </p:nvPicPr>
        <p:blipFill>
          <a:blip r:embed="rId1"/>
          <a:stretch/>
        </p:blipFill>
        <p:spPr>
          <a:xfrm>
            <a:off x="1403280" y="4365720"/>
            <a:ext cx="1939680" cy="20221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924360" y="4010040"/>
            <a:ext cx="457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БР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ак? Каким образ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едленно, быстро, наскоро, отлично, хорошо, плохо, блестяще, тихо,громко, нпряжё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Виды наречий - Наречие в русском языке"/>
          <p:cNvPicPr/>
          <p:nvPr/>
        </p:nvPicPr>
        <p:blipFill>
          <a:blip r:embed="rId1"/>
          <a:stretch/>
        </p:blipFill>
        <p:spPr>
          <a:xfrm>
            <a:off x="539640" y="1773360"/>
            <a:ext cx="7754400" cy="460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900000" y="620640"/>
            <a:ext cx="691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Разряды наречий по значению - русский язык, презентации"/>
          <p:cNvPicPr/>
          <p:nvPr/>
        </p:nvPicPr>
        <p:blipFill>
          <a:blip r:embed="rId1"/>
          <a:stretch/>
        </p:blipFill>
        <p:spPr>
          <a:xfrm>
            <a:off x="1547640" y="1844640"/>
            <a:ext cx="6095520" cy="4571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835280" y="620640"/>
            <a:ext cx="5328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бота по цитатам из различных тек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132000" y="1544760"/>
            <a:ext cx="396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Работать спустя рук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468360" y="836640"/>
            <a:ext cx="816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амените фразеологизм одним словом – нареч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560480" y="1914480"/>
            <a:ext cx="165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(НЕБРЕЖ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Фразеологизм - Спустя рукава."/>
          <p:cNvPicPr/>
          <p:nvPr/>
        </p:nvPicPr>
        <p:blipFill>
          <a:blip r:embed="rId1"/>
          <a:stretch/>
        </p:blipFill>
        <p:spPr>
          <a:xfrm>
            <a:off x="3132000" y="2652840"/>
            <a:ext cx="5567040" cy="2522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249120" y="4375080"/>
            <a:ext cx="2844360" cy="159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Работать спустя рукава». Фразеологизмы для детей — скачать и ..."/>
          <p:cNvPicPr/>
          <p:nvPr/>
        </p:nvPicPr>
        <p:blipFill>
          <a:blip r:embed="rId3"/>
          <a:stretch/>
        </p:blipFill>
        <p:spPr>
          <a:xfrm>
            <a:off x="249120" y="1236600"/>
            <a:ext cx="18093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2"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484360" y="836640"/>
            <a:ext cx="5511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 образуются нареч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6516720" y="1700280"/>
            <a:ext cx="1695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539640" y="2759040"/>
            <a:ext cx="6318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1.От сущест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.От прилагательного(быстрый-быстро; весёлый-весе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3.От 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ь характеристику  предложению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обрать  предложение по членам предложения и по частям реч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етер сильно  раскачив . л  деревья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Синоптики ждут сильный ветер и град в Хакасии | Медиагруппа &quot;Юг ..."/>
          <p:cNvPicPr/>
          <p:nvPr/>
        </p:nvPicPr>
        <p:blipFill>
          <a:blip r:embed="rId1"/>
          <a:stretch/>
        </p:blipFill>
        <p:spPr>
          <a:xfrm>
            <a:off x="1979640" y="2852640"/>
            <a:ext cx="55303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997360"/>
            <a:ext cx="82292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тветьте не вопросы 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Что обозначает наречие, если поясняет глагол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Как найти наречие в тексте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На какие вопросы отвечает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Чем является в предложении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Роль наречий. Зачем они нужны в речи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258920" y="476280"/>
            <a:ext cx="7057800" cy="2231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Наречие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pic>
        <p:nvPicPr>
          <p:cNvPr id="101" name="Picture 6" descr="0037"/>
          <p:cNvPicPr/>
          <p:nvPr/>
        </p:nvPicPr>
        <p:blipFill>
          <a:blip r:embed="rId1"/>
          <a:srcRect l="1228" t="7385" r="19688" b="1846"/>
          <a:stretch/>
        </p:blipFill>
        <p:spPr>
          <a:xfrm>
            <a:off x="6588000" y="2698920"/>
            <a:ext cx="2360160" cy="18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" y="452520"/>
            <a:ext cx="8519760" cy="62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глагол обозначае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действ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значит наречие будет обозначат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изнак этого 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Чтобы найти наречие, нужно найти глагол и поставить от него вопрос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стоятельст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еста, времени, образа действ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KEY1"/>
          <p:cNvPicPr/>
          <p:nvPr/>
        </p:nvPicPr>
        <p:blipFill>
          <a:blip r:embed="rId1"/>
          <a:stretch/>
        </p:blipFill>
        <p:spPr>
          <a:xfrm rot="780000">
            <a:off x="5249520" y="2712600"/>
            <a:ext cx="3676320" cy="227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428760" y="2441520"/>
            <a:ext cx="430020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863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Упражнение 312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(Стр. 141)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2997360"/>
            <a:ext cx="810072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24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Что обозначает наречие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ризнак, время, место или направление действия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476280"/>
            <a:ext cx="79912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Упражнение 313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(Стр. 14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68360" y="2565360"/>
            <a:ext cx="7848360" cy="8632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5"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474720" cy="4462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4084560" y="2997360"/>
            <a:ext cx="4571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«Русский язык необыкновенно богат наречиями, которые делают нашу речь точной, образной, выразительн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5969160" y="5267160"/>
            <a:ext cx="21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Максим  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BOOK2"/>
          <p:cNvPicPr/>
          <p:nvPr/>
        </p:nvPicPr>
        <p:blipFill>
          <a:blip r:embed="rId2"/>
          <a:stretch/>
        </p:blipFill>
        <p:spPr>
          <a:xfrm>
            <a:off x="5924520" y="620640"/>
            <a:ext cx="25506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07160" cy="58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Игра «Наоборот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высоко, а ты ответишь -низк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далеко, а ты ответишь - близк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потолок, а ты ответишь - пол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, потерял - ответишь ты - нашёл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тебе я слово трус, ответишь ты - храбрец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пер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чало я скажу, ну, отвечай  - конецдд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Джон Чиарди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659640" y="4149720"/>
            <a:ext cx="1584000" cy="35856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020000" y="3573360"/>
            <a:ext cx="1584000" cy="35856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020000" y="3068640"/>
            <a:ext cx="158400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020000" y="2565360"/>
            <a:ext cx="165708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877080" y="2060640"/>
            <a:ext cx="165708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804000" y="1484280"/>
            <a:ext cx="151236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9" name="Picture 11" descr="851"/>
          <p:cNvPicPr/>
          <p:nvPr/>
        </p:nvPicPr>
        <p:blipFill>
          <a:blip r:embed="rId1"/>
          <a:stretch/>
        </p:blipFill>
        <p:spPr>
          <a:xfrm>
            <a:off x="2484360" y="4508640"/>
            <a:ext cx="2158560" cy="21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вописание наречи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64000" y="1504800"/>
            <a:ext cx="3420720" cy="47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АЧАЛ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Е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ДАВ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РА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КРАС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СЫ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ЧИ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3110040" y="2881440"/>
            <a:ext cx="367920" cy="547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а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cxnSp>
        <p:nvCxnSpPr>
          <p:cNvPr id="123" name="Line 14"/>
          <p:cNvCxnSpPr/>
          <p:nvPr/>
        </p:nvCxnSpPr>
        <p:spPr>
          <a:xfrm flipV="1">
            <a:off x="2966760" y="2349360"/>
            <a:ext cx="360720" cy="43200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24" name="Line 15"/>
          <p:cNvCxnSpPr/>
          <p:nvPr/>
        </p:nvCxnSpPr>
        <p:spPr>
          <a:xfrm>
            <a:off x="3335040" y="2376360"/>
            <a:ext cx="219600" cy="41796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25" name="Line 16"/>
          <p:cNvCxnSpPr/>
          <p:nvPr/>
        </p:nvCxnSpPr>
        <p:spPr>
          <a:xfrm flipV="1">
            <a:off x="1858680" y="3638520"/>
            <a:ext cx="864000" cy="71928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26" name="Line 17"/>
          <p:cNvCxnSpPr/>
          <p:nvPr/>
        </p:nvCxnSpPr>
        <p:spPr>
          <a:xfrm>
            <a:off x="1869840" y="3058920"/>
            <a:ext cx="865440" cy="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27" name="Line 18"/>
          <p:cNvCxnSpPr/>
          <p:nvPr/>
        </p:nvCxnSpPr>
        <p:spPr>
          <a:xfrm>
            <a:off x="1858680" y="2133360"/>
            <a:ext cx="792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28" name="WordArt 19"/>
          <p:cNvSpPr txBox="1"/>
          <p:nvPr/>
        </p:nvSpPr>
        <p:spPr>
          <a:xfrm>
            <a:off x="808200" y="1847880"/>
            <a:ext cx="43308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с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29" name="WordArt 20"/>
          <p:cNvSpPr txBox="1"/>
          <p:nvPr/>
        </p:nvSpPr>
        <p:spPr>
          <a:xfrm>
            <a:off x="727200" y="2770200"/>
            <a:ext cx="674280" cy="572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из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30" name="WordArt 21"/>
          <p:cNvSpPr txBox="1"/>
          <p:nvPr/>
        </p:nvSpPr>
        <p:spPr>
          <a:xfrm>
            <a:off x="779400" y="3925800"/>
            <a:ext cx="622080" cy="642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до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cxnSp>
        <p:nvCxnSpPr>
          <p:cNvPr id="131" name="Line 22"/>
          <p:cNvCxnSpPr/>
          <p:nvPr/>
        </p:nvCxnSpPr>
        <p:spPr>
          <a:xfrm>
            <a:off x="684000" y="169992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2" name="Line 23"/>
          <p:cNvCxnSpPr/>
          <p:nvPr/>
        </p:nvCxnSpPr>
        <p:spPr>
          <a:xfrm>
            <a:off x="1589040" y="1712880"/>
            <a:ext cx="360" cy="287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3" name="Line 24"/>
          <p:cNvCxnSpPr/>
          <p:nvPr/>
        </p:nvCxnSpPr>
        <p:spPr>
          <a:xfrm>
            <a:off x="652320" y="268740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4" name="Line 25"/>
          <p:cNvCxnSpPr/>
          <p:nvPr/>
        </p:nvCxnSpPr>
        <p:spPr>
          <a:xfrm>
            <a:off x="1589040" y="2707920"/>
            <a:ext cx="360" cy="145080"/>
          </a:xfrm>
          <a:prstGeom prst="straightConnector1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35" name="Line 26"/>
          <p:cNvCxnSpPr/>
          <p:nvPr/>
        </p:nvCxnSpPr>
        <p:spPr>
          <a:xfrm>
            <a:off x="730080" y="3746160"/>
            <a:ext cx="71964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6" name="Line 27"/>
          <p:cNvCxnSpPr/>
          <p:nvPr/>
        </p:nvCxnSpPr>
        <p:spPr>
          <a:xfrm>
            <a:off x="1409400" y="3746160"/>
            <a:ext cx="360" cy="14508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600" y="2365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вописание наречи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4720" y="1249200"/>
            <a:ext cx="4673160" cy="54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ЛЕ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ЛЕ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РА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КРЕПК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ТЕМН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ОЛГ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БЕЛ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РОСТ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СКОР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Line 39"/>
          <p:cNvCxnSpPr/>
          <p:nvPr/>
        </p:nvCxnSpPr>
        <p:spPr>
          <a:xfrm>
            <a:off x="522000" y="162864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40" name="Line 42"/>
          <p:cNvCxnSpPr/>
          <p:nvPr/>
        </p:nvCxnSpPr>
        <p:spPr>
          <a:xfrm>
            <a:off x="1458720" y="1668240"/>
            <a:ext cx="360" cy="287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sp>
        <p:nvSpPr>
          <p:cNvPr id="141" name="WordArt 28"/>
          <p:cNvSpPr txBox="1"/>
          <p:nvPr/>
        </p:nvSpPr>
        <p:spPr>
          <a:xfrm>
            <a:off x="3325680" y="2968560"/>
            <a:ext cx="43128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о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cxnSp>
        <p:nvCxnSpPr>
          <p:cNvPr id="142" name="Line 29"/>
          <p:cNvCxnSpPr/>
          <p:nvPr/>
        </p:nvCxnSpPr>
        <p:spPr>
          <a:xfrm flipV="1">
            <a:off x="3151080" y="2574720"/>
            <a:ext cx="360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43" name="Line 30"/>
          <p:cNvCxnSpPr/>
          <p:nvPr/>
        </p:nvCxnSpPr>
        <p:spPr>
          <a:xfrm>
            <a:off x="3541680" y="2600280"/>
            <a:ext cx="266760" cy="39564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44" name="Line 31"/>
          <p:cNvCxnSpPr/>
          <p:nvPr/>
        </p:nvCxnSpPr>
        <p:spPr>
          <a:xfrm flipV="1">
            <a:off x="1820520" y="3703320"/>
            <a:ext cx="864000" cy="71964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5" name="Line 32"/>
          <p:cNvCxnSpPr/>
          <p:nvPr/>
        </p:nvCxnSpPr>
        <p:spPr>
          <a:xfrm>
            <a:off x="1958760" y="3143160"/>
            <a:ext cx="865440" cy="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6" name="Line 33"/>
          <p:cNvCxnSpPr/>
          <p:nvPr/>
        </p:nvCxnSpPr>
        <p:spPr>
          <a:xfrm>
            <a:off x="1707840" y="2157120"/>
            <a:ext cx="792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47" name="WordArt 34"/>
          <p:cNvSpPr txBox="1"/>
          <p:nvPr/>
        </p:nvSpPr>
        <p:spPr>
          <a:xfrm>
            <a:off x="614520" y="1955880"/>
            <a:ext cx="26316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в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48" name="WordArt 35"/>
          <p:cNvSpPr txBox="1"/>
          <p:nvPr/>
        </p:nvSpPr>
        <p:spPr>
          <a:xfrm>
            <a:off x="727200" y="2927520"/>
            <a:ext cx="47592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на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49" name="WordArt 36"/>
          <p:cNvSpPr txBox="1"/>
          <p:nvPr/>
        </p:nvSpPr>
        <p:spPr>
          <a:xfrm>
            <a:off x="746280" y="3954600"/>
            <a:ext cx="45684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за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cxnSp>
        <p:nvCxnSpPr>
          <p:cNvPr id="150" name="Line 37"/>
          <p:cNvCxnSpPr/>
          <p:nvPr/>
        </p:nvCxnSpPr>
        <p:spPr>
          <a:xfrm>
            <a:off x="496800" y="3789360"/>
            <a:ext cx="93672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1" name="Line 38"/>
          <p:cNvCxnSpPr/>
          <p:nvPr/>
        </p:nvCxnSpPr>
        <p:spPr>
          <a:xfrm>
            <a:off x="522000" y="270792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2" name="Line 40"/>
          <p:cNvCxnSpPr/>
          <p:nvPr/>
        </p:nvCxnSpPr>
        <p:spPr>
          <a:xfrm>
            <a:off x="1458720" y="3808080"/>
            <a:ext cx="360" cy="28800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3" name="Line 41"/>
          <p:cNvCxnSpPr/>
          <p:nvPr/>
        </p:nvCxnSpPr>
        <p:spPr>
          <a:xfrm>
            <a:off x="1458720" y="2707920"/>
            <a:ext cx="360" cy="28800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ктическая работ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олг…, набел…, издавн…, влев…, накрепк…, докрасн…, затемн…,  сначал…, наскор…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240" cy="61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Итог урок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С какой частью речи познакомились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то узнали о наречии?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На все ли вопросы плана ответил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лан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то обозначает наречие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На какие вопросы отвечает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ем является в предложени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Роль наречий. Зачем они нужны в реч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Д/З: 1)Подобрать пословицы, в которых есть наречия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2) Упр. 5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EDGEHG2"/>
          <p:cNvPicPr/>
          <p:nvPr/>
        </p:nvPicPr>
        <p:blipFill>
          <a:blip r:embed="rId1"/>
          <a:stretch/>
        </p:blipFill>
        <p:spPr>
          <a:xfrm>
            <a:off x="6684840" y="2276640"/>
            <a:ext cx="245880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7640" y="476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тере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интересно было на уроке 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орче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творческие работы 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выполняли 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у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ему вы научились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ав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сегодняшний урок принес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е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Литература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1.Пушкин А.С. Отрывок  из поэмы «Руслан и Людмила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2.Бальмонт К.Д. Отрывок из стихотворения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3.Мари Гардэ. Отрывок из стихотворения «Сорока и ворона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4.Джон Чиарди «Наоборот»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5.Сабир Абдулла «Учите Русский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6.</a:t>
            </a:r>
            <a:r>
              <a:rPr b="0" lang="ru-RU" sz="16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Н.М. Бетенькова. «Хорошо, красиво, ладно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7. Бенедикт Спиноза. Афоризмы. «Если вы хотите…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8.Учебник «Русский язык. 4 класс. Часть 2». Автор Канакина В.П., Горецкий В.Г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9. Рисунки из ресурсов Интернет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3284640"/>
            <a:ext cx="4103280" cy="36316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«Хорошо, красиво, ладно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сторожно, аккурат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чисто, ласково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ж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 бодро, холодно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нежно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Тихо, близко, дале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Быстро, весело, легко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Знали вы или не знали</a:t>
            </a:r>
            <a:br>
              <a:rPr sz="2000"/>
            </a:b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     Что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 читали?» </a:t>
            </a:r>
            <a:br>
              <a:rPr sz="2400"/>
            </a:br>
            <a:r>
              <a:rPr b="0" lang="ru-RU" sz="2400" spc="-1" strike="noStrike">
                <a:solidFill>
                  <a:schemeClr val="accent2"/>
                </a:solidFill>
                <a:latin typeface="Arial"/>
                <a:ea typeface="Arial"/>
              </a:rPr>
              <a:t>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Н.М. Бетень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547640" y="765000"/>
            <a:ext cx="6248160" cy="1728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algn="ctr" dir="2021404" dist="45429">
                    <a:srgbClr val="b2b2b2">
                      <a:alpha val="80000"/>
                    </a:srgbClr>
                  </a:outerShdw>
                </a:effectLst>
                <a:latin typeface="Times New Roman"/>
                <a:ea typeface="Arial"/>
              </a:rPr>
              <a:t>Наречие</a:t>
            </a:r>
            <a:endParaRPr b="0" lang="en-US" sz="3600" spc="-1" strike="noStrike">
              <a:ln w="0">
                <a:noFill/>
              </a:ln>
              <a:solidFill>
                <a:srgbClr val="336699"/>
              </a:solidFill>
              <a:effectLst>
                <a:outerShdw algn="ctr" dir="2021404" dist="45429">
                  <a:srgbClr val="b2b2b2">
                    <a:alpha val="80000"/>
                  </a:srgbClr>
                </a:outerShdw>
              </a:effectLst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352760" y="2494080"/>
            <a:ext cx="4571640" cy="257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an00790_"/>
          <p:cNvPicPr/>
          <p:nvPr/>
        </p:nvPicPr>
        <p:blipFill>
          <a:blip r:embed="rId4"/>
          <a:stretch/>
        </p:blipFill>
        <p:spPr>
          <a:xfrm>
            <a:off x="81000" y="1262160"/>
            <a:ext cx="1939680" cy="20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delay="0" evt="onClick">
                    <p:tgtEl>
                      <p:spTgt spid="54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delay="0"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>
                                  <p:childTnLst>
                                    <p:cmd type="call" cmd="">
                                      <p:cBhvr>
                                        <p:cTn id="77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ставьте, пропущенные слова!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46080" cy="17571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«Идё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________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- песнь заводит,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____________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- сказку говорит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Там чудеса, там леший бродит,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Русалка на ветвях сидит»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А.С. Пушкин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SCHOOL2"/>
          <p:cNvPicPr/>
          <p:nvPr/>
        </p:nvPicPr>
        <p:blipFill>
          <a:blip r:embed="rId1"/>
          <a:stretch/>
        </p:blipFill>
        <p:spPr>
          <a:xfrm>
            <a:off x="457200" y="88920"/>
            <a:ext cx="1800000" cy="1514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1692360" y="3789360"/>
            <a:ext cx="4608000" cy="28328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«Полночной порою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 болотной глуш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Чу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___________, ___________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уршат камыш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Константин Дмитриевич БальмО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SCHOOL2"/>
          <p:cNvPicPr/>
          <p:nvPr/>
        </p:nvPicPr>
        <p:blipFill>
          <a:blip r:embed="rId2"/>
          <a:stretch/>
        </p:blipFill>
        <p:spPr>
          <a:xfrm>
            <a:off x="4788000" y="3540240"/>
            <a:ext cx="1800000" cy="1512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5"/>
          <p:cNvSpPr/>
          <p:nvPr/>
        </p:nvSpPr>
        <p:spPr>
          <a:xfrm>
            <a:off x="539640" y="765000"/>
            <a:ext cx="4571640" cy="20404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«Идё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пра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- песнь завод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ле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- сказку говорит.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Там чудеса, там леший бродит,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Русалка на ветвях сидит».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А.С. Пушкин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924360" y="4221000"/>
            <a:ext cx="4571640" cy="2009880"/>
          </a:xfrm>
          <a:prstGeom prst="rect">
            <a:avLst/>
          </a:prstGeom>
          <a:solidFill>
            <a:srgbClr val="ffff66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«Полночной порою 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В болотной глуши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Чу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лышно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есшумно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Шуршат камыш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Константин Дмитриевич Бальмо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KEY1"/>
          <p:cNvPicPr/>
          <p:nvPr/>
        </p:nvPicPr>
        <p:blipFill>
          <a:blip r:embed="rId1"/>
          <a:stretch/>
        </p:blipFill>
        <p:spPr>
          <a:xfrm rot="780000">
            <a:off x="5589360" y="844200"/>
            <a:ext cx="3355560" cy="20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1"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Ворон в одежде при цилиндр чемодана и шляпы изолированный на белой ..."/>
          <p:cNvPicPr/>
          <p:nvPr/>
        </p:nvPicPr>
        <p:blipFill>
          <a:blip r:embed="rId1"/>
          <a:stretch/>
        </p:blipFill>
        <p:spPr>
          <a:xfrm>
            <a:off x="826920" y="189000"/>
            <a:ext cx="3528720" cy="3773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5003640" y="333360"/>
            <a:ext cx="3600000" cy="42044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рока и в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покойн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а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дет по перр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С большим чемод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Большая во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А рядом с воро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Чу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зади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боку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Ее, провожая, шагает со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 всё б это  бы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все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хорош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Если б их по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Давн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не ушел.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Мари Гардэ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539640" y="4519440"/>
            <a:ext cx="1760040" cy="1236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3"/>
          <a:stretch/>
        </p:blipFill>
        <p:spPr>
          <a:xfrm>
            <a:off x="5076720" y="4797360"/>
            <a:ext cx="2931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9080"/>
            <a:ext cx="8569080" cy="6838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История происхождения наречий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появились в русском языке позже других частей речи. Слово наречие очень старое, оно встречается в древнерусском язык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рен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речь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как бы связывает его с глаголом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ревние римляне называли эту часть речи «приглаголием».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усские грамматисты назвали её точно такж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- Вы догадались почему?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6732720" y="5300640"/>
            <a:ext cx="1655280" cy="1391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684360" y="19080"/>
            <a:ext cx="1871280" cy="15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5792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гра «Подбери наречие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Бежать – быстро, медленно, плохо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Сиде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рыг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Чит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ис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Слушать -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218"/>
          <p:cNvPicPr/>
          <p:nvPr/>
        </p:nvPicPr>
        <p:blipFill>
          <a:blip r:embed="rId1"/>
          <a:stretch/>
        </p:blipFill>
        <p:spPr>
          <a:xfrm>
            <a:off x="581040" y="4560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789"/>
          <p:cNvPicPr/>
          <p:nvPr/>
        </p:nvPicPr>
        <p:blipFill>
          <a:blip r:embed="rId2"/>
          <a:stretch/>
        </p:blipFill>
        <p:spPr>
          <a:xfrm>
            <a:off x="3708360" y="472428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832"/>
          <p:cNvPicPr/>
          <p:nvPr/>
        </p:nvPicPr>
        <p:blipFill>
          <a:blip r:embed="rId3"/>
          <a:stretch/>
        </p:blipFill>
        <p:spPr>
          <a:xfrm>
            <a:off x="6588000" y="4527720"/>
            <a:ext cx="194436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речие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– неизменяемая часть речи,  обозначающая признак действия или другого признака (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ясно, здесь, всегд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твечает на вопросы: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Где? Куда? Когда? Откуда? Как?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 предложени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речие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бстоятельством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an00790_"/>
          <p:cNvPicPr/>
          <p:nvPr/>
        </p:nvPicPr>
        <p:blipFill>
          <a:blip r:embed="rId1"/>
          <a:stretch/>
        </p:blipFill>
        <p:spPr>
          <a:xfrm>
            <a:off x="457200" y="115920"/>
            <a:ext cx="1738080" cy="18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  <Paragraphs>1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6:42:26Z</dcterms:created>
  <dc:creator>ноутбук</dc:creator>
  <dc:description/>
  <dc:language>en-US</dc:language>
  <cp:lastModifiedBy>KAB-334</cp:lastModifiedBy>
  <dcterms:modified xsi:type="dcterms:W3CDTF">2020-04-10T17:13:45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6</vt:r8>
  </property>
</Properties>
</file>