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83A-D700-4106-BCDC-BCB4B34F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59E-CB13-475D-AC84-DDEE5F7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70785-E272-4AE5-B254-E6027C2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234BB-45EC-4C52-91E5-9B9FB58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4C93-076E-4235-AFA6-604F0B18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8D665-E88B-4892-9165-D5318B3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25F8C-665B-4F0E-A483-7AA09BA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46242-CDC0-414F-9A56-1467839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F4CC0-575D-4D5F-8DD5-E667708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31203-DC6A-4E9B-A434-67642059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2C893-4E36-432F-9021-A6E476E9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49AB1-BA6E-46C9-9C00-88862E20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5A7-AF6F-4073-83BC-A36F7F13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F0358-6772-45C1-8703-BA8570C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1765C-6ACE-4656-AD21-D311673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2B3B-58BD-4921-96B6-04F41DCA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A533D-7DBE-43BC-9F59-96A7D1A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D699F-24F9-47BA-9A17-DF8488F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51DBF-68D4-46CA-9F9A-44DE977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C3C67-1306-4C1F-9438-45DF5C7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BB8FE-CB03-41B6-9FDD-7DDE552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52B03-16C4-4700-B079-243B49D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3AC3F-C401-48BC-A297-9BBC68B6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A90-BDA5-4A9B-A7E1-D3C9FD4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29E6A-E9BC-4B4D-883F-2558D848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14DA8-B928-4629-81DC-58B0183A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5A32D-D2D2-46B0-A27A-4CCF97A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E208B-E938-45E5-AEDC-B7889DD8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3B8CD-921C-4A02-AB98-81C04225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0ADE8-9787-40AC-97F3-92A2E87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B918-0A1D-478A-91C4-06BB2E75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D4DF5-DA9B-45AB-B887-B38B45F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0E7C-C1DB-4E95-BE55-E9E149F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A5EE8-BCE7-40D8-856F-D8BFB1D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7645-03FF-47C6-B63C-564A732E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7EF1D-2EC0-4853-8F38-22AB5454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A8339-A9CF-476D-AC75-FADDA930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404F8-09F6-4B2C-9AE1-AB021422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3655B-4424-423B-B351-B205988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BF435-38A2-49F0-B51D-E727AB3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DC140-9214-45B9-8052-0168E6B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1BDD9-B9B5-4E24-B243-40616ED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BDC62-3CB9-4AB6-812E-5EF8AC6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70DC2-B27F-47E8-8C1B-50ED459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4E4D6-B78D-409F-85AE-6693B3F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B3E-FFE5-4552-A85A-B6FB39E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D2A34-C58E-4311-B644-22A61CC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C129-F5DB-46D3-9A13-59EB14E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74D48-0C48-425B-A8D8-F7BA080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3EFCC-394A-4D1E-984D-1A31D862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40C43-3CAD-46CD-B57A-40D9079F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A02AA-0D62-4285-97A4-603256B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440ED-278A-4C30-BCB2-77A7230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07762-B060-410F-8011-5B856F7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02E3C-7372-461F-AE57-1AAE088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A0DD6-D543-4552-8E43-CCBC996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4C1D-4F9B-4927-8CB1-327F2228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14CCA-07F4-492F-9311-6B0F309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155EC-DDB9-435B-B9CA-447AE08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AF809-A4BE-4009-B90D-16861B8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2209A-07CF-4815-ADF7-1C38E27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363A8-549D-4A76-B1ED-723AC76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65CA7-58D6-4A87-B7C6-F62A02B4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61977-773F-4586-B4C2-7C36F419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DD09A-75E5-4B3B-919D-BD151048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01F22-E6B7-4931-8507-277A3C6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5EA82-5B53-458C-AF5C-A9D2E14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47DD-D9B6-4C13-94A6-5AFE87F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494AC-FBC7-4CB1-B64B-2BB2270D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08FB1-5864-449D-A168-DF4A749B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50535-6E5F-43E7-9B2C-D432D8AE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18787-96FB-481B-BE29-4A516AE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AA14B-E294-416A-B74A-98CC8E3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2AABC-E2B6-476A-BDAD-D917D53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4AD4F-ADF9-4C0D-A074-B97B8942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00E84-DF5D-46EF-9F9B-C1DC877D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136B0-CAFE-4B7C-976B-ECBCB95D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ED0C6-1FA3-4728-8CEA-735A7D34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D2C6-96C5-4A2D-B59B-FF1FBA9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E686E-7C13-42B5-BC48-7C164B21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6260E-A244-47E5-AC2F-7A7A4E06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60FE3-0D9F-4E08-8B96-D70F490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23F58-3FA7-40B1-8FF4-D3A64C3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FE29E-7FB9-4113-A9AE-0E5893DF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1D12F-6AA9-4D3A-89CD-533BE27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3D0A1-45C3-4D6D-ACBE-C45B7DC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FE1BE-6860-478D-958E-31D0593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01144-1F05-4D9B-8B14-4DB8C9CB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F3A4C-F75D-4DD4-90F2-B69A8001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4E55-14D5-4576-85E7-E2B9029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91553-DF5B-4236-B952-FDA3E2C7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F0D31-5062-4640-BA48-D71CF23B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214FD8-A893-4C37-9CCD-5C2A326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C1649-1EAE-4D59-937B-AFD06E4C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91E16-A3A7-4161-92C0-3977F8C7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0F3C9-68F3-43AE-8944-B22B75F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B689D-7530-436B-9592-28C96742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3638F-8035-4850-A1FD-143DA0D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26ECE-2B1D-4505-A221-4B5EF93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B8FB8-A59B-4043-B39D-9292A6C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E653-A50B-46F0-A0A4-161E5B45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48E92-C250-4E37-9AE6-DE68651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A3AC1-3596-4141-85DA-6DD5F663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10A4F-F02F-49DA-9C54-AD7B3F3D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41A84-6734-434A-B8E6-701F1363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80202-90FA-4873-B982-7F0D9500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4E698-890C-4324-B9DA-80E681B7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0B09D-A899-4347-B038-812B28C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6B00B-9699-4486-AF41-13DB787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40429-821C-49A3-A570-F09049FB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79A93-E88E-4C15-9E4B-39D0424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920-9698-4202-B8F1-5A279D8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3461-F813-4CBC-82EA-7041128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85A26-8CE7-48F8-9BD8-C452AB3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25069-7EBC-4BEA-BA0C-7F09E13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CEFF5-29C1-4F74-B018-1CCAFF8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26B0C-D3B8-4FBA-8522-9699602D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78CC8-67E1-43DC-B019-0DAA8373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A016A-95EA-49A4-A27D-BDCAA332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2C3CD-2891-4F04-9233-D7AC259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D0B06-CCD0-4AEE-8420-C08D354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C49AFB-2EBA-4749-8039-96ED61A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F41F7-1C55-4CC1-943A-3531CE9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81DE-FE3C-42C7-B1E8-98B9250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19F89-ABF7-4181-A680-A5D8713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4B415-1680-49F4-B4C8-A499EF0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D0F84-44DC-459A-9D11-5996E46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4E132-04BE-4C17-91F5-0A85312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175E1-80FA-4C18-ADBC-2C5FCB2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E04F-E64B-4F63-9063-0A5F7DDB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B2689-C0E3-4401-BF27-73D6593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3BF5-04B9-483D-8DA9-AD90121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E468-610B-43EB-9BE4-04DFDE7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A56-4254-46CC-844B-A25315CB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50CC-1F1D-4D8C-AC81-EF52D83E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4C6B-4594-4D6A-83B6-8F5EF7C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2C8C-A50F-4660-98F4-8AF60F56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A57B-256F-4516-9593-007FD12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B104-662B-4E44-B146-222CC1A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70E-CD45-4A50-8824-D24C80B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26DE-7B55-4F66-9420-2AB97E2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1464-E20D-4366-895E-307322F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4A9A-D404-4429-95C2-2925BBF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6509-FA7A-44FB-9337-AFE1DB7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9835-F943-4F2A-B4CF-BFCA7F65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9B55-3F24-4614-8A92-8124FD1F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1F8F-C00F-4091-B7AC-F4412E78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B286-98B9-4B8D-A890-7F65368D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5D97E-7E70-425A-87AA-CE018E91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F5A9-9A4E-4809-81D4-69CEA72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596-E4FE-4AC2-B4A2-611CE0F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F7D9-8A99-4033-AC1F-A330E4E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85D8-9D81-40E7-BD8B-724DDCA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A970-9FBF-49D0-A3A3-7FE4ED7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569C1-7422-4BED-982B-C94F195B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036A-52C4-49A3-84A5-2E83B90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EDF41-3F87-4422-9CF1-FA09117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D757A-BFE1-447F-82DE-C2381872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1ED51-7311-4734-A857-D794145F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54416-4B19-4EA4-A986-E9EFD4A7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6751-B00F-45C3-80A9-D8B0660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696-78E1-4466-BAF7-B72576EB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DF33F-4AA2-4014-83DA-C1D6CDB2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2FD7-A4DE-41E0-89E3-B88D894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EF5F-FCCC-4698-80A7-7745E1E2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DE84-6E6B-4044-B7A1-E0999D2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E315-40CF-4DDB-ADE8-C1C614E3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62DC-7C82-4DD4-8AB6-DD86810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AB15-5EFB-465F-A1AE-673D03C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29D8-C236-4E12-9D20-6D493CC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15A7-90A3-49E3-B28A-277B3D95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2509-94B2-4FDA-AC08-4AD32E99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CA8-80C0-40B8-901D-63BB5C6E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A95B-F473-4CA6-93E9-07359D39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898F-F7C7-4B6F-A780-55C2B407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93740-98EB-4A3C-8C2E-18E4770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E35C-D582-4377-BDD7-ECF8347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D9F9-5B1C-40C1-8BA4-BE7B633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6D93-2537-4821-A03B-99186E5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23EF-F918-4150-B896-A9ED152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A5EA-2452-4F19-84C6-7D94BB65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102C-A43A-4A71-BA85-829666B8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E549-7429-4F36-B134-A59C274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E74-27B5-4491-B5DF-E48F442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7F15-10B2-48BC-804D-2550AAC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4274-D2F7-401D-AD39-D85EC902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F821F-4CB4-460D-A1DB-0FF69011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02188-8E53-4018-88FD-6C84A25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3C2D-DAB5-4D15-BB2D-8B8B4145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EAF8-6A88-40A9-A866-4E31D885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C1460-B138-4582-84AD-503DD7F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0C676-4999-4FE7-B3E6-11ED7F95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0D10B-6EEA-435E-946A-EBF07FB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7242-0D97-489D-9837-2E84942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897-1BCD-468A-AA05-E9970EF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10E26-616B-4C30-8C47-722F81D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C870-2BBC-4959-8981-698A63A9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0656-74E3-4573-A833-36D86738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C899-FF50-4518-9C67-BB32ED92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E5D1-2450-415A-A664-02A533F0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21CB-F9B1-459F-B41C-6757A797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267F-926B-4BE2-9B52-245171CD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983F-9C09-44BF-B355-04A0499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651C-7093-42A6-BA13-D7F7F21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981C-3D18-492D-8E08-AA52F8E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F36-2A83-4779-A7A5-7CD5D41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757D-DF77-4C75-A8B3-E5309CD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CAC6-7C33-4780-9D14-5128BF6E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D663-501B-4A17-98E0-1C83007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4B6E-34E6-4417-ACE5-AB81136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2510C-0E73-4115-A02F-8ACABC4F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D7D0-8C70-4C07-AFE7-D374E251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A1214-EA2F-4D54-BE43-E0952582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928FD-B808-407C-85B7-2453D972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E9B1-DF94-4BF8-9275-650E528C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E9195-F799-4B84-948B-56C36D38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A60-6823-4FEC-9128-98353520D2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B9A-3177-44F1-9109-6AA0D9524D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45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4420-41F5-4E82-82F4-41365FEBA5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0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BDA-E03E-460D-9E00-F671F3C8FD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54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7D2-4A4B-4A97-8FD3-93B95E0282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58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587-F785-4CFD-9D74-1C1781F475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1C7D-A9F5-427F-82B0-E6429EA5B3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7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E59-944A-4710-A600-19D25EE3EF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B22-B8FE-45DE-8075-67280F66E2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2F14-1209-4013-9FE3-D1CA47845B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0332-B444-427A-817C-E6CAE08B41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FB3-60A8-46C4-B85D-2F4A45F0BB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F1D-2A5A-440F-8B88-438AE4444E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13BD-C139-4D85-B675-820AF852F2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96B2-512A-40C4-99A8-0A697D8C15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AD8-12E6-4184-92A0-47ED62EAD1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F3EC-4B97-4150-866E-D7048464D0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848-1740-4D73-82DE-CBA87DF3D3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static02.rupor.sampo.ru/5020/resize/vgahc011big-500x401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1k.by/images/site/products/p210000/208110/i8edbcac84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nordicskater.com/zandstra/VingKlap25.gif" TargetMode="External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4572000" y="5013360"/>
            <a:ext cx="432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БОУ «Фёдоровская СОШ №2 с УИОП» Шакирова В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395280" y="4762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ушевлённые и неодушевлённые имена существи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9" descr="Русский язык. 2 класс"/>
          <p:cNvPicPr/>
          <p:nvPr/>
        </p:nvPicPr>
        <p:blipFill>
          <a:blip r:embed="rId1"/>
          <a:stretch/>
        </p:blipFill>
        <p:spPr>
          <a:xfrm>
            <a:off x="826920" y="2708280"/>
            <a:ext cx="28940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ae4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та по цепочке - упражнение 2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бота по группам – упражнение 5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проверка)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мостоятельная работа – упражнение 4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Rectangle 2" descr=""/>
          <p:cNvPicPr/>
          <p:nvPr/>
        </p:nvPicPr>
        <p:blipFill>
          <a:blip r:embed="rId1"/>
          <a:stretch/>
        </p:blipFill>
        <p:spPr>
          <a:xfrm>
            <a:off x="396720" y="231840"/>
            <a:ext cx="8350560" cy="1682640"/>
          </a:xfrm>
          <a:prstGeom prst="rect">
            <a:avLst/>
          </a:prstGeom>
          <a:ln w="0">
            <a:noFill/>
          </a:ln>
        </p:spPr>
      </p:pic>
      <p:sp>
        <p:nvSpPr>
          <p:cNvPr id="867" name="Скругленный прямоугольник 1"/>
          <p:cNvSpPr/>
          <p:nvPr/>
        </p:nvSpPr>
        <p:spPr>
          <a:xfrm>
            <a:off x="179280" y="1989000"/>
            <a:ext cx="896472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именем существитель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ого об имени существительном узн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ae4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118728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971640" y="1916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83 упражнение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рямоугольник 1"/>
          <p:cNvSpPr/>
          <p:nvPr/>
        </p:nvSpPr>
        <p:spPr>
          <a:xfrm>
            <a:off x="0" y="549360"/>
            <a:ext cx="91440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чь, ночевать, ночёвка, ночник, ночн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это слова? Докажи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черкните слова, обозначающие предм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6"/>
          <p:cNvSpPr/>
          <p:nvPr/>
        </p:nvSpPr>
        <p:spPr>
          <a:xfrm>
            <a:off x="0" y="2527200"/>
            <a:ext cx="1006560" cy="252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152280" y="3213000"/>
            <a:ext cx="854280" cy="127080"/>
          </a:xfrm>
          <a:custGeom>
            <a:avLst/>
            <a:gdLst>
              <a:gd name="textAreaLeft" fmla="*/ 0 w 854280"/>
              <a:gd name="textAreaRight" fmla="*/ 854640 w 8542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6"/>
          <p:cNvSpPr/>
          <p:nvPr/>
        </p:nvSpPr>
        <p:spPr>
          <a:xfrm>
            <a:off x="1692360" y="2577960"/>
            <a:ext cx="860400" cy="201600"/>
          </a:xfrm>
          <a:custGeom>
            <a:avLst/>
            <a:gdLst>
              <a:gd name="textAreaLeft" fmla="*/ 0 w 860400"/>
              <a:gd name="textAreaRight" fmla="*/ 860760 w 8604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6"/>
          <p:cNvSpPr/>
          <p:nvPr/>
        </p:nvSpPr>
        <p:spPr>
          <a:xfrm>
            <a:off x="4284720" y="2546280"/>
            <a:ext cx="880920" cy="233280"/>
          </a:xfrm>
          <a:custGeom>
            <a:avLst/>
            <a:gdLst>
              <a:gd name="textAreaLeft" fmla="*/ 0 w 880920"/>
              <a:gd name="textAreaRight" fmla="*/ 881280 w 8809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6"/>
          <p:cNvSpPr/>
          <p:nvPr/>
        </p:nvSpPr>
        <p:spPr>
          <a:xfrm>
            <a:off x="6588000" y="2577960"/>
            <a:ext cx="792360" cy="201600"/>
          </a:xfrm>
          <a:custGeom>
            <a:avLst/>
            <a:gdLst>
              <a:gd name="textAreaLeft" fmla="*/ 0 w 792360"/>
              <a:gd name="textAreaRight" fmla="*/ 792720 w 7923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72" h="168">
                <a:moveTo>
                  <a:pt x="0" y="168"/>
                </a:moveTo>
                <a:cubicBezTo>
                  <a:pt x="56" y="108"/>
                  <a:pt x="112" y="48"/>
                  <a:pt x="192" y="24"/>
                </a:cubicBezTo>
                <a:cubicBezTo>
                  <a:pt x="272" y="0"/>
                  <a:pt x="400" y="0"/>
                  <a:pt x="480" y="24"/>
                </a:cubicBezTo>
                <a:cubicBezTo>
                  <a:pt x="560" y="48"/>
                  <a:pt x="640" y="144"/>
                  <a:pt x="672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WordArt 2" descr=""/>
          <p:cNvPicPr/>
          <p:nvPr/>
        </p:nvPicPr>
        <p:blipFill>
          <a:blip r:embed="rId1"/>
          <a:stretch/>
        </p:blipFill>
        <p:spPr>
          <a:xfrm>
            <a:off x="1116000" y="4651200"/>
            <a:ext cx="7527960" cy="173052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7740720" y="3629160"/>
            <a:ext cx="43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icture 5"/>
          <p:cNvSpPr/>
          <p:nvPr/>
        </p:nvSpPr>
        <p:spPr>
          <a:xfrm>
            <a:off x="684360" y="907920"/>
            <a:ext cx="1944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7913520" y="773280"/>
            <a:ext cx="8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90000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ая 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7" descr="Кит иллюстрация вектора. иллюстрации насчитывающей морск - 42736049"/>
          <p:cNvPicPr/>
          <p:nvPr/>
        </p:nvPicPr>
        <p:blipFill>
          <a:blip r:embed="rId2"/>
          <a:srcRect l="0" t="0" r="0" b="9533"/>
          <a:stretch/>
        </p:blipFill>
        <p:spPr>
          <a:xfrm>
            <a:off x="4932360" y="1335240"/>
            <a:ext cx="2952720" cy="21873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9" descr="Какого цвета был сказочный конь? | ДЕТИ ДАЛЯ | Яндекс Дзен"/>
          <p:cNvPicPr/>
          <p:nvPr/>
        </p:nvPicPr>
        <p:blipFill>
          <a:blip r:embed="rId3"/>
          <a:srcRect l="5806" t="0" r="6918" b="8675"/>
          <a:stretch/>
        </p:blipFill>
        <p:spPr>
          <a:xfrm>
            <a:off x="460440" y="1449360"/>
            <a:ext cx="37512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250560" y="11592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рочитайте слова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,  белый,  игра,  бежать,  сильный, лисица,  снегопад,  ругать, добрый,  лепить, коньки, острый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6" name="Скругленный прямоугольник 1"/>
          <p:cNvSpPr/>
          <p:nvPr/>
        </p:nvSpPr>
        <p:spPr>
          <a:xfrm>
            <a:off x="611280" y="3573360"/>
            <a:ext cx="784836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какие  группы  можно  разделить  эти  слова?  Почему?  Запишите  их  в  три  столб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Rectangle 2" descr=""/>
          <p:cNvPicPr/>
          <p:nvPr/>
        </p:nvPicPr>
        <p:blipFill>
          <a:blip r:embed="rId1"/>
          <a:stretch/>
        </p:blipFill>
        <p:spPr>
          <a:xfrm>
            <a:off x="1170000" y="317520"/>
            <a:ext cx="7821720" cy="140184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685800" y="1600200"/>
            <a:ext cx="22305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ьк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ц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пад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347640" y="1599840"/>
            <a:ext cx="23036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6400800" y="1600200"/>
            <a:ext cx="20588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Скругленный прямоугольник 2"/>
          <p:cNvSpPr/>
          <p:nvPr/>
        </p:nvSpPr>
        <p:spPr>
          <a:xfrm>
            <a:off x="1187280" y="4797360"/>
            <a:ext cx="6755040" cy="14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обозначают  слова  каждой  груп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ae4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184320" y="160200"/>
            <a:ext cx="8959680" cy="17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я существительное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- часть речи, которая обозначае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меты ,   явления природы,    событи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Домовенок - Детский сайт"/>
          <p:cNvPicPr/>
          <p:nvPr/>
        </p:nvPicPr>
        <p:blipFill>
          <a:blip r:embed="rId1"/>
          <a:stretch/>
        </p:blipFill>
        <p:spPr>
          <a:xfrm>
            <a:off x="0" y="27036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2" descr="Погода в Турійську 17 березня: заметіль і морози - Район Турійськ"/>
          <p:cNvPicPr/>
          <p:nvPr/>
        </p:nvPicPr>
        <p:blipFill>
          <a:blip r:embed="rId2"/>
          <a:stretch/>
        </p:blipFill>
        <p:spPr>
          <a:xfrm>
            <a:off x="2876400" y="2703600"/>
            <a:ext cx="3154680" cy="23637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4" descr="Детские загадки на день рождения » Сайт для детей и родителей"/>
          <p:cNvPicPr/>
          <p:nvPr/>
        </p:nvPicPr>
        <p:blipFill>
          <a:blip r:embed="rId3"/>
          <a:stretch/>
        </p:blipFill>
        <p:spPr>
          <a:xfrm>
            <a:off x="6227640" y="2703600"/>
            <a:ext cx="2952720" cy="2209680"/>
          </a:xfrm>
          <a:prstGeom prst="rect">
            <a:avLst/>
          </a:prstGeom>
          <a:ln w="0">
            <a:noFill/>
          </a:ln>
        </p:spPr>
      </p:pic>
      <p:sp>
        <p:nvSpPr>
          <p:cNvPr id="827" name="Прямоугольник 3"/>
          <p:cNvSpPr/>
          <p:nvPr/>
        </p:nvSpPr>
        <p:spPr>
          <a:xfrm>
            <a:off x="539640" y="5084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вечает на вопросы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трелка вниз 4"/>
          <p:cNvSpPr/>
          <p:nvPr/>
        </p:nvSpPr>
        <p:spPr>
          <a:xfrm>
            <a:off x="-1476360" y="2276640"/>
            <a:ext cx="46080" cy="7272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трелка вниз 5"/>
          <p:cNvSpPr/>
          <p:nvPr/>
        </p:nvSpPr>
        <p:spPr>
          <a:xfrm>
            <a:off x="963720" y="1511280"/>
            <a:ext cx="512640" cy="1192320"/>
          </a:xfrm>
          <a:prstGeom prst="downArrow">
            <a:avLst>
              <a:gd name="adj1" fmla="val 50000"/>
              <a:gd name="adj2" fmla="val 49930"/>
            </a:avLst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Стрелка вниз 14"/>
          <p:cNvSpPr/>
          <p:nvPr/>
        </p:nvSpPr>
        <p:spPr>
          <a:xfrm>
            <a:off x="4211640" y="1511280"/>
            <a:ext cx="484200" cy="1192320"/>
          </a:xfrm>
          <a:prstGeom prst="down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Стрелка вниз 15"/>
          <p:cNvSpPr/>
          <p:nvPr/>
        </p:nvSpPr>
        <p:spPr>
          <a:xfrm>
            <a:off x="7219800" y="1511280"/>
            <a:ext cx="484200" cy="1192320"/>
          </a:xfrm>
          <a:prstGeom prst="down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324000" y="189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азовите предметы одним словом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Картинка 5 из 1007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1920" y="907920"/>
            <a:ext cx="2089080" cy="167508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Картинка 27 из 1007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28760" y="3208320"/>
            <a:ext cx="1868400" cy="18320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7" descr="Картинка 6 из 74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09720" y="917640"/>
            <a:ext cx="2708280" cy="1655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9"/>
          <p:cNvSpPr/>
          <p:nvPr/>
        </p:nvSpPr>
        <p:spPr>
          <a:xfrm>
            <a:off x="1103400" y="24782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1424160" y="51912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5307120" y="5489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5508720" y="2573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18" descr="Купить Раздвижные ролики-квады для детей Hudora My First Quad Girl ..."/>
          <p:cNvPicPr/>
          <p:nvPr/>
        </p:nvPicPr>
        <p:blipFill>
          <a:blip r:embed="rId8"/>
          <a:stretch/>
        </p:blipFill>
        <p:spPr>
          <a:xfrm>
            <a:off x="5307120" y="3213000"/>
            <a:ext cx="2114280" cy="2162160"/>
          </a:xfrm>
          <a:prstGeom prst="rect">
            <a:avLst/>
          </a:prstGeom>
          <a:ln w="0">
            <a:noFill/>
          </a:ln>
        </p:spPr>
      </p:pic>
      <p:sp>
        <p:nvSpPr>
          <p:cNvPr id="841" name="Прямоугольник 1"/>
          <p:cNvSpPr/>
          <p:nvPr/>
        </p:nvSpPr>
        <p:spPr>
          <a:xfrm>
            <a:off x="324000" y="609300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йдите лишний предмет. Обоснуйте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>
            <a:off x="5486400" y="2819520"/>
            <a:ext cx="217188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43" name="WordArt 3"/>
          <p:cNvSpPr txBox="1"/>
          <p:nvPr/>
        </p:nvSpPr>
        <p:spPr>
          <a:xfrm>
            <a:off x="762120" y="2819520"/>
            <a:ext cx="217152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к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4952880" y="5105520"/>
            <a:ext cx="3886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неодушевлён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228600" y="51814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душевлён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533520" y="762120"/>
            <a:ext cx="8001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мена существите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847" name="Line 9"/>
          <p:cNvSpPr/>
          <p:nvPr/>
        </p:nvSpPr>
        <p:spPr>
          <a:xfrm flipH="1">
            <a:off x="1904760" y="1905120"/>
            <a:ext cx="2514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0"/>
          <p:cNvSpPr/>
          <p:nvPr/>
        </p:nvSpPr>
        <p:spPr>
          <a:xfrm>
            <a:off x="4572000" y="1905120"/>
            <a:ext cx="1981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0a22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WordArt 2"/>
          <p:cNvSpPr txBox="1"/>
          <p:nvPr/>
        </p:nvSpPr>
        <p:spPr>
          <a:xfrm>
            <a:off x="6443640" y="4292640"/>
            <a:ext cx="217188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ч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50" name="WordArt 3"/>
          <p:cNvSpPr txBox="1"/>
          <p:nvPr/>
        </p:nvSpPr>
        <p:spPr>
          <a:xfrm>
            <a:off x="333360" y="4151160"/>
            <a:ext cx="217188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кт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851" name="Picture 4" descr="Детский сад Кузя. Заказ аниматоров. - Сценарий праздника: Буратино ..."/>
          <p:cNvPicPr/>
          <p:nvPr/>
        </p:nvPicPr>
        <p:blipFill>
          <a:blip r:embed="rId1"/>
          <a:stretch/>
        </p:blipFill>
        <p:spPr>
          <a:xfrm>
            <a:off x="6229440" y="96840"/>
            <a:ext cx="2857320" cy="3591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Вакансия Воспитатель на ясельную группу в Самаре, работа в АНОДО ..."/>
          <p:cNvPicPr/>
          <p:nvPr/>
        </p:nvPicPr>
        <p:blipFill>
          <a:blip r:embed="rId2"/>
          <a:stretch/>
        </p:blipFill>
        <p:spPr>
          <a:xfrm>
            <a:off x="20520" y="106200"/>
            <a:ext cx="2232000" cy="36687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Какой предмет лишний? :: Allforchildren.ru - Все для детей"/>
          <p:cNvPicPr/>
          <p:nvPr/>
        </p:nvPicPr>
        <p:blipFill>
          <a:blip r:embed="rId3"/>
          <a:srcRect l="0" t="50009" r="50008" b="0"/>
          <a:stretch/>
        </p:blipFill>
        <p:spPr>
          <a:xfrm>
            <a:off x="3059280" y="493560"/>
            <a:ext cx="1085760" cy="10526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0" descr="Какой предмет лишний? :: Allforchildren.ru - Все для детей"/>
          <p:cNvPicPr/>
          <p:nvPr/>
        </p:nvPicPr>
        <p:blipFill>
          <a:blip r:embed="rId4"/>
          <a:srcRect l="49130" t="0" r="0" b="50009"/>
          <a:stretch/>
        </p:blipFill>
        <p:spPr>
          <a:xfrm>
            <a:off x="4460760" y="3348000"/>
            <a:ext cx="1104840" cy="10526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" descr="Какой предмет лишний? :: Allforchildren.ru - Все для детей"/>
          <p:cNvPicPr/>
          <p:nvPr/>
        </p:nvPicPr>
        <p:blipFill>
          <a:blip r:embed="rId5"/>
          <a:srcRect l="0" t="0" r="50008" b="50009"/>
          <a:stretch/>
        </p:blipFill>
        <p:spPr>
          <a:xfrm>
            <a:off x="2830680" y="4551480"/>
            <a:ext cx="1085760" cy="10522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8" descr="Какой предмет лишний? :: Allforchildren.ru - Все для детей"/>
          <p:cNvPicPr/>
          <p:nvPr/>
        </p:nvPicPr>
        <p:blipFill>
          <a:blip r:embed="rId6"/>
          <a:srcRect l="50008" t="50009" r="0" b="0"/>
          <a:stretch/>
        </p:blipFill>
        <p:spPr>
          <a:xfrm>
            <a:off x="2627280" y="3162240"/>
            <a:ext cx="1085760" cy="1052640"/>
          </a:xfrm>
          <a:prstGeom prst="rect">
            <a:avLst/>
          </a:prstGeom>
          <a:ln w="0">
            <a:noFill/>
          </a:ln>
        </p:spPr>
      </p:pic>
      <p:sp>
        <p:nvSpPr>
          <p:cNvPr id="85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16" descr="Карточки с животными для детей"/>
          <p:cNvPicPr/>
          <p:nvPr/>
        </p:nvPicPr>
        <p:blipFill>
          <a:blip r:embed="rId7"/>
          <a:srcRect l="71965" t="14000" r="11112" b="62051"/>
          <a:stretch/>
        </p:blipFill>
        <p:spPr>
          <a:xfrm>
            <a:off x="4240080" y="1941480"/>
            <a:ext cx="908280" cy="93024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16" descr="Карточки с животными для детей"/>
          <p:cNvPicPr/>
          <p:nvPr/>
        </p:nvPicPr>
        <p:blipFill>
          <a:blip r:embed="rId8"/>
          <a:srcRect l="51815" t="14000" r="31655" b="62051"/>
          <a:stretch/>
        </p:blipFill>
        <p:spPr>
          <a:xfrm>
            <a:off x="4502160" y="493560"/>
            <a:ext cx="887400" cy="9306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Карточки с животными для детей"/>
          <p:cNvPicPr/>
          <p:nvPr/>
        </p:nvPicPr>
        <p:blipFill>
          <a:blip r:embed="rId9"/>
          <a:srcRect l="32863" t="14000" r="50516" b="62051"/>
          <a:stretch/>
        </p:blipFill>
        <p:spPr>
          <a:xfrm>
            <a:off x="2711520" y="1892160"/>
            <a:ext cx="890640" cy="932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6" descr="Карточки с животными для детей"/>
          <p:cNvPicPr/>
          <p:nvPr/>
        </p:nvPicPr>
        <p:blipFill>
          <a:blip r:embed="rId10"/>
          <a:srcRect l="10694" t="14000" r="71225" b="62051"/>
          <a:stretch/>
        </p:blipFill>
        <p:spPr>
          <a:xfrm>
            <a:off x="4529160" y="461016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47"/>
          <p:cNvSpPr/>
          <p:nvPr/>
        </p:nvSpPr>
        <p:spPr>
          <a:xfrm>
            <a:off x="383760" y="5875560"/>
            <a:ext cx="823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гра  «Помоги сказочным героя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9:09:52Z</dcterms:created>
  <dc:creator>Марина</dc:creator>
  <dc:description/>
  <dc:language>en-US</dc:language>
  <cp:lastModifiedBy>Венера</cp:lastModifiedBy>
  <dcterms:modified xsi:type="dcterms:W3CDTF">2020-04-10T09:53:12Z</dcterms:modified>
  <cp:revision>22</cp:revision>
  <dc:subject/>
  <dc:title>Слайд 1</dc:title>
</cp:coreProperties>
</file>