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7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8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17BC-7857-4295-9F51-82176BD330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Img"/>
          </p:nvPr>
        </p:nvSpPr>
        <p:spPr>
          <a:xfrm>
            <a:off x="2857680" y="520920"/>
            <a:ext cx="3428280" cy="257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body"/>
          </p:nvPr>
        </p:nvSpPr>
        <p:spPr>
          <a:xfrm>
            <a:off x="914400" y="3257280"/>
            <a:ext cx="7314840" cy="30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5EEF-023F-4DAF-B6EB-9078A31734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C37F-66F0-4A0F-8B77-0603126B3B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6A9C-33D0-48B1-9B8B-986B6527AE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3B34-D9CE-4C64-B094-F5EA84EB8E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FAC4-C48A-4E6E-BEE8-C4636FCD32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245-9754-4AF8-BA80-EBED9C8D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EA6-2742-4B19-A7E9-A6AE74E7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542-33E6-445E-A42B-2EAF4216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29D-ED99-4667-8091-C069D82E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399D-D05F-4168-AB2D-E8E4F598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BA97-F744-417F-AFAF-636CA4E0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2F89-9799-4ECE-AC2D-0D31B3A6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C4B3-1431-4C07-94E2-ABB970D0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D90B-DAA1-4105-B176-E2621D6F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9B65-97B4-425E-994F-D97C7719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6F40-4459-4F7A-AC64-541FF3D5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E1C-CD42-4F63-816E-E9277C6E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C706-7E64-43E9-84DA-3C11550C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011A-45F2-4B0D-A101-D504682C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A196-FBA9-4ED1-843B-33CFD3D6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64CC-BFE6-454D-B625-1D4507AA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F9D8-9879-4888-AEF9-CA59DEF5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AB88-B023-4F62-9738-E1F64F81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8F13-7B91-4420-BE8D-ED03DE27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2D7CA-D46C-417E-8340-4372AC29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93DF-84F3-4DA6-B5AF-FB727190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84E57-135E-42E8-B71C-7656CDBB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E44-8EFD-4F2E-8878-AB3ACF7F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D6C4-D9C0-4C74-BA5E-C786EE68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81A9-F314-46A2-89E0-37F5F132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5CD2-231A-42B2-A6E8-6AD9A834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C638-5E1F-48C8-8753-0675E843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428C-CB13-4C03-B077-CA0624D1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E86B-B774-4028-B719-6839BE16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ABCB-EEC9-4139-B27C-842BCDD5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AB372-F815-480E-9C65-2B95E7E3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0408C-CB74-4843-BE9E-85DF091A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DDFC6-0AFC-4E38-89DC-CC2D1677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351-E57D-4870-82AA-1F3F8B11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5D446-F9DF-42E7-B8BA-42E3610F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8C958-67C8-4A09-AE63-A2B88635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665BC-CB91-46D8-91D7-1299B10B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A41AF-414F-4A0B-B62A-9C12F18C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A827-4882-41AC-AF9D-B111967A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991B6-C1A2-4F95-AD8D-3120B88A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CA63-4AFD-4634-B2FF-3AEFBE77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71D1-562E-443A-9889-737A05F1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129C-0BED-4E87-B177-F0CC1ED3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DBA2D-D911-4286-915E-3FDE36B7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72C-94D6-48BA-B35B-D114EC84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085C5-1C71-4817-8D20-2D0637EE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C59A-4245-443C-AFA9-8A9D7B89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7942E-73F6-415A-B9EB-829FFF98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824F5-D264-410D-87FD-6BB9022C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9487D-10A8-476B-9993-EEEEDBEC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AA3AE-8CE9-4B2C-8497-D4AADA85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410A0-5E7D-4102-8255-512AC6D6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1A1B7-6477-457A-9F9A-450D6DE5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B36DE-8C9C-4E7E-ACAD-5964610F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7BBA8-B3E6-4BC1-B07F-7FDD8E14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C92-8377-4390-9828-E27853E4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DE03A-83FC-4853-9F71-A018FD47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046-D7A7-41A5-836C-1489C107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B88-293E-49DD-8938-8A03E40F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BBB-DC6D-4B43-B838-FBC3D20F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332F-AF9C-407B-8B80-3EA90BE83785}" type="slidenum">
              <a:rPr b="0" lang="ru-RU" sz="1200" spc="-1" strike="noStrike">
                <a:solidFill>
                  <a:srgbClr val="2428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629dd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629dd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629dd1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629dd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629dd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629dd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629dd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629dd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629dd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629dd1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629dd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629dd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629dd1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629dd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629dd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629dd1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629dd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629dd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629dd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629dd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629dd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629dd1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629dd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629dd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297f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297f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297f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5883-B4BF-48F1-A29C-D47B9EEE3425}" type="slidenum">
              <a:rPr b="0" lang="ru-RU" sz="1200" spc="-1" strike="noStrike">
                <a:solidFill>
                  <a:srgbClr val="2428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629dd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629dd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629dd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629dd1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629dd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629dd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629dd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629dd1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629dd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629dd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629dd1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629dd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629dd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629dd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629dd1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629dd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629dd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629dd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629dd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629dd1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629d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629dd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629dd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629dd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A8D2-8B39-4486-B953-236DF6F8866D}" type="slidenum">
              <a:rPr b="0" lang="ru-RU" sz="1200" spc="-1" strike="noStrike">
                <a:solidFill>
                  <a:srgbClr val="2428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629dd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BE74-CEE9-4ABD-9132-074D880C0481}" type="slidenum">
              <a:rPr b="0" lang="ru-RU" sz="1200" spc="-1" strike="noStrike">
                <a:solidFill>
                  <a:srgbClr val="2428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629dd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285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4285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5792-C62D-47B8-ABAD-A9F4F8932A13}" type="slidenum">
              <a:rPr b="0" lang="ru-RU" sz="1200" spc="-1" strike="noStrike">
                <a:solidFill>
                  <a:srgbClr val="2428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fotolyka.narod.ru/images/sam_luka/sam_luka_6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4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214960" y="1213920"/>
            <a:ext cx="3471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Самой высокой точкой Жигулей является  гора Стрельная (374м над уровнем моря). С ее вершины виден как на ладони Жигулевский заповедник.</a:t>
            </a:r>
            <a:endParaRPr b="0" lang="en-US" sz="2800" spc="-1" strike="noStrike">
              <a:solidFill>
                <a:srgbClr val="242852"/>
              </a:solidFill>
              <a:latin typeface="Calibri"/>
            </a:endParaRPr>
          </a:p>
        </p:txBody>
      </p:sp>
      <p:pic>
        <p:nvPicPr>
          <p:cNvPr id="400" name="Picture 2" descr="Жигули, Стрельная гора"/>
          <p:cNvPicPr/>
          <p:nvPr/>
        </p:nvPicPr>
        <p:blipFill>
          <a:blip r:embed="rId2"/>
          <a:stretch/>
        </p:blipFill>
        <p:spPr>
          <a:xfrm>
            <a:off x="539640" y="1413000"/>
            <a:ext cx="4280040" cy="4814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6132600" cy="1116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826560" y="3716280"/>
            <a:ext cx="778860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Calibri"/>
              </a:rPr>
              <a:t>Необычное название Царев курган получил из легенд. Согласно одной из них внутри Царева Кургана погребен 70-ью князьями татарский хан, который поднялся по Волге и хотел напасть на Россию. Но здесь умер, а его войны принесли в шлемах и щитах землю на его могилу и насыпали высокую гору...</a:t>
            </a:r>
            <a:endParaRPr b="0" lang="en-US" sz="26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42852"/>
              </a:solidFill>
              <a:latin typeface="Calibri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789280" cy="3286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alibri"/>
            </a:endParaRPr>
          </a:p>
        </p:txBody>
      </p:sp>
    </p:spTree>
  </p:cSld>
  <p:transition spd="slow" advTm="13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780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Documents and Settings\Администратор\Рабочий стол\жиг вор.jpg"/>
          <p:cNvPicPr/>
          <p:nvPr/>
        </p:nvPicPr>
        <p:blipFill>
          <a:blip r:embed="rId2"/>
          <a:stretch/>
        </p:blipFill>
        <p:spPr>
          <a:xfrm>
            <a:off x="457200" y="1500120"/>
            <a:ext cx="4038480" cy="4714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648320" y="1600200"/>
            <a:ext cx="40384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alibri"/>
              </a:rPr>
              <a:t>Там где Волга делает резкий поворот и сужается, попадая в тиски двух гор - Серной и Тип-Тяв, образуются так называемые </a:t>
            </a:r>
            <a:r>
              <a:rPr b="0" lang="ru-RU" sz="2000" spc="-1" strike="noStrike" u="sng">
                <a:solidFill>
                  <a:srgbClr val="9454c3"/>
                </a:solidFill>
                <a:uFillTx/>
                <a:latin typeface="Calibri"/>
                <a:hlinkClick r:id="rId3"/>
              </a:rPr>
              <a:t>Жигулевские ворота</a:t>
            </a:r>
            <a:r>
              <a:rPr b="1" lang="ru-RU" sz="2000" spc="-1" strike="noStrike">
                <a:solidFill>
                  <a:srgbClr val="00b0f0"/>
                </a:solidFill>
                <a:latin typeface="Calibri"/>
              </a:rPr>
              <a:t>. В этом месте произошло опускание земной коры и горные породы под напором воды были разрушены - Волга нашла более короткий путь к Каспию. Гора Серная это самая высокая вершина Восточных Жигулей, а гора Тип-Тяв- наиболее высокая среди Сокольих гор.</a:t>
            </a:r>
            <a:endParaRPr b="0" lang="en-US" sz="20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2852"/>
              </a:solidFill>
              <a:latin typeface="Calibri"/>
            </a:endParaRPr>
          </a:p>
        </p:txBody>
      </p:sp>
    </p:spTree>
  </p:cSld>
  <p:transition spd="slow" advTm="22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Documents and Settings\Администратор\Рабочий стол\мур бор.jpg"/>
          <p:cNvPicPr/>
          <p:nvPr/>
        </p:nvPicPr>
        <p:blipFill>
          <a:blip r:embed="rId2"/>
          <a:stretch/>
        </p:blipFill>
        <p:spPr>
          <a:xfrm>
            <a:off x="457200" y="1428840"/>
            <a:ext cx="4329000" cy="4857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Бор стоит на песчаной холмистой террасе, которая возвышается над поймой реки Усы с небольшим наклоном в сторону Усинского залива.</a:t>
            </a:r>
            <a:endParaRPr b="0" lang="en-US" sz="16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Есть в Муранском бору заповедные кварталы, выделенные в качестве памятников природы. Интересны они тем, что растут тут сосны- великаны, возраст которых 100-160 лет. Старый сосновый бор исключительно красив.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   Реликтовые (ледникового периода) сосновые и смешанные леса с брусничниками и черничниками в составе Муранского бора. Подлесок формируется бересклетом бородавчатым, молодыми соснами, березой и осиной. </a:t>
            </a:r>
            <a:endParaRPr b="0" lang="en-US" sz="1600" spc="-1" strike="noStrike">
              <a:solidFill>
                <a:srgbClr val="242852"/>
              </a:solidFill>
              <a:latin typeface="Calibri"/>
            </a:endParaRPr>
          </a:p>
        </p:txBody>
      </p:sp>
    </p:spTree>
  </p:cSld>
  <p:transition spd="slow" advTm="1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b0f0"/>
                </a:solidFill>
                <a:latin typeface="Calibri"/>
              </a:rPr>
              <a:t>Глубокими корнями связан человек со своей землей, с тем местом, где он родился, жил, учился.</a:t>
            </a:r>
            <a:endParaRPr b="0" lang="en-US" sz="26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f0"/>
                </a:solidFill>
                <a:latin typeface="Calibri"/>
              </a:rPr>
              <a:t>        </a:t>
            </a:r>
            <a:r>
              <a:rPr b="1" lang="ru-RU" sz="2600" spc="-1" strike="noStrike">
                <a:solidFill>
                  <a:srgbClr val="00b0f0"/>
                </a:solidFill>
                <a:latin typeface="Calibri"/>
              </a:rPr>
              <a:t>На долгие годы сохраняются в памяти человека картины родных мест. Они живут в сердце каждого, не теряя со временем привлекательной свежести и яркости красок.</a:t>
            </a:r>
            <a:endParaRPr b="0" lang="en-US" sz="26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f0"/>
                </a:solidFill>
                <a:latin typeface="Calibri"/>
              </a:rPr>
              <a:t>       </a:t>
            </a:r>
            <a:r>
              <a:rPr b="1" lang="ru-RU" sz="2600" spc="-1" strike="noStrike">
                <a:solidFill>
                  <a:srgbClr val="00b0f0"/>
                </a:solidFill>
                <a:latin typeface="Calibri"/>
              </a:rPr>
              <a:t>История и культура, быт и природа – все это становится частицей жизни, приобщает нас к высокому чувству любви к своей стране. </a:t>
            </a:r>
            <a:endParaRPr b="0" lang="en-US" sz="26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42852"/>
              </a:solidFill>
              <a:latin typeface="Calibri"/>
            </a:endParaRPr>
          </a:p>
        </p:txBody>
      </p:sp>
    </p:spTree>
  </p:cSld>
  <p:transition spd="slow" advTm="1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6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42852"/>
                </a:solidFill>
                <a:latin typeface="Calibri"/>
              </a:rPr>
              <a:t>Виноградов А.В. Экологическое краеведение Самарского региона. – Самара, ГОУ СИПКРО, 2006. – 190с.</a:t>
            </a:r>
            <a:endParaRPr b="0" lang="en-US" sz="17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42852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42852"/>
                </a:solidFill>
                <a:latin typeface="Calibri"/>
              </a:rPr>
              <a:t>«Зелёная книга» Поволжья: Охраняемые природные территории Самарской области / сост. А.С. Захаров, М.С. Горелов. - Самара: Кн. изд-во, 1995. – 352с.: ил.</a:t>
            </a:r>
            <a:endParaRPr b="0" lang="en-US" sz="17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42852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42852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42852"/>
                </a:solidFill>
                <a:latin typeface="Calibri"/>
              </a:rPr>
              <a:t>Природа Куйбышевской области /сост. М.С. Горелов, В.И. Матвеев, А.А. Устинова. - Куйбышев: Кн. изд-во, 1990. – 464с.</a:t>
            </a:r>
            <a:endParaRPr b="0" lang="en-US" sz="17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42852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42852"/>
                </a:solidFill>
                <a:latin typeface="Calibri"/>
              </a:rPr>
              <a:t>Самарский краевед: Историко-краеведческий сборник /составитель А.Н. Завальный. – Самара: Кн. изд-во, 1994. – 288с.</a:t>
            </a:r>
            <a:endParaRPr b="0" lang="en-US" sz="17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42852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42852"/>
                </a:solidFill>
                <a:latin typeface="Calibri"/>
              </a:rPr>
              <a:t>Самарская область: География и история, экономика и культура. - Самара, 1996. – 670с.</a:t>
            </a:r>
            <a:endParaRPr b="0" lang="en-US" sz="17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42852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242852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a1c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42852"/>
              </a:solidFill>
              <a:latin typeface="Calibri"/>
            </a:endParaRPr>
          </a:p>
        </p:txBody>
      </p:sp>
    </p:spTree>
  </p:cSld>
  <p:transition spd="slow" advTm="1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3:25:23Z</dcterms:created>
  <dc:creator>Админ</dc:creator>
  <dc:description/>
  <dc:language>en-US</dc:language>
  <cp:lastModifiedBy>school127</cp:lastModifiedBy>
  <dcterms:modified xsi:type="dcterms:W3CDTF">2020-04-10T18:10:29Z</dcterms:modified>
  <cp:revision>67</cp:revision>
  <dc:subject/>
  <dc:title>К 160-летию Самарской Губернии</dc:title>
</cp:coreProperties>
</file>