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8.jpeg" ContentType="image/jpeg"/>
  <Override PartName="/ppt/media/image26.jpeg" ContentType="image/jpeg"/>
  <Override PartName="/ppt/media/image25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6855-626C-4205-A409-107F9A4BD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D1FE-6D0F-414A-9F2D-D59180B4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ECDE-7FC0-419A-9EBA-E4E66A868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8133-D1B1-43A1-884C-E3AB89C8A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919B-E4C0-4B65-9172-F3384FD6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3277-7356-4BA5-BE79-EFA9DB07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BAF6-562E-4526-A234-32FD65ED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EDCA-45C1-4AC8-B89A-84493C29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C473-842E-4FE5-99FB-E5CD4D0E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CB1C-CAD9-4BC5-951D-2709667E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CD59-E986-4372-8B5B-19FDE0E4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E951-78B8-4000-BCEF-85F2FF22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CC20-C030-47C3-9F36-2D684BBF16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1"/>
          <a:stretch/>
        </p:blipFill>
        <p:spPr>
          <a:xfrm>
            <a:off x="6496200" y="3867120"/>
            <a:ext cx="2647800" cy="29908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8"/>
          <p:cNvSpPr/>
          <p:nvPr/>
        </p:nvSpPr>
        <p:spPr>
          <a:xfrm>
            <a:off x="570240" y="1457280"/>
            <a:ext cx="8454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Tahoma"/>
              </a:rPr>
              <a:t>ПАСХА 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Tahoma"/>
              </a:rPr>
              <a:t>– </a:t>
            </a:r>
            <a:r>
              <a:rPr b="1" lang="ru-RU" sz="6000" spc="-1" strike="noStrike">
                <a:solidFill>
                  <a:srgbClr val="cc0000"/>
                </a:solidFill>
                <a:latin typeface="Tahoma"/>
              </a:rPr>
              <a:t>самый радостный 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Tahoma"/>
              </a:rPr>
              <a:t>и светлый праздник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203280" y="4797000"/>
            <a:ext cx="5761080" cy="13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а: Педагог дополнительного 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харова Ольг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БУ ДО ДЭБС г. Салав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51228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Невозможно представить себе пасхальное поздравление без красного или расписанного яйца. Обычай обмениваться на Пасху красным яйцом, очень давний.                                           Христос дал нам жизнь, а яйцо – это знак жизни. Все христиане и приветствуют друг друга красным яйцом как знаком вечной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1187280" y="333360"/>
            <a:ext cx="74170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о подарить на Пасху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5913360" y="1700280"/>
            <a:ext cx="3051360" cy="393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split dir="in" orient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144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cc0000"/>
                </a:solidFill>
                <a:latin typeface="Arial"/>
              </a:rPr>
              <a:t>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0" lang="ru-RU" sz="2100" spc="-1" strike="noStrike">
                <a:solidFill>
                  <a:srgbClr val="cc0000"/>
                </a:solidFill>
                <a:latin typeface="Arial"/>
              </a:rPr>
              <a:t>Мария Магдалина пришла к римскому императору Тиверию. С собой она принесла простое куриное яйцо. Но когда Мария стала говорить Тиверию о том, что Иисус Христос воскрес, император только рассмеялся: «Это также невозможно, как твоему белому яйцу  превратиться в красное»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3"/>
          <p:cNvSpPr txBox="1"/>
          <p:nvPr/>
        </p:nvSpPr>
        <p:spPr>
          <a:xfrm>
            <a:off x="539640" y="260280"/>
            <a:ext cx="784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чему мы на Пасху красим яйца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5580000" y="2924280"/>
            <a:ext cx="3240000" cy="16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0" lang="ru-RU" sz="2100" spc="-1" strike="noStrike">
                <a:solidFill>
                  <a:srgbClr val="cc0000"/>
                </a:solidFill>
                <a:latin typeface="Times New Roman"/>
              </a:rPr>
              <a:t>И не успел Тиверий закончить фразу, как яйцо в руках Марии Магдалины стало совершенно красным. </a:t>
            </a:r>
            <a:endParaRPr b="0" lang="en-US" sz="21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1"/>
          <a:stretch/>
        </p:blipFill>
        <p:spPr>
          <a:xfrm>
            <a:off x="612720" y="2852640"/>
            <a:ext cx="5111640" cy="3834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7.40741E-007 L -0.59305 7.40741E-007 E">
                                      <p:cBhvr>
                                        <p:cTn id="134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48148E-006 L -0.59514 -0.00394 E">
                                      <p:cBhvr>
                                        <p:cTn id="136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8000" y="2418840"/>
            <a:ext cx="604836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Драпанки – красят в темный цвет и узор на скорлупу наносят острым предме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16000" y="1557360"/>
            <a:ext cx="460836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Крашенки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от слова крас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крашенки"/>
          <p:cNvPicPr/>
          <p:nvPr/>
        </p:nvPicPr>
        <p:blipFill>
          <a:blip r:embed="rId1"/>
          <a:stretch/>
        </p:blipFill>
        <p:spPr>
          <a:xfrm>
            <a:off x="539640" y="1197000"/>
            <a:ext cx="1871640" cy="1368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драпанки"/>
          <p:cNvPicPr/>
          <p:nvPr/>
        </p:nvPicPr>
        <p:blipFill>
          <a:blip r:embed="rId2"/>
          <a:stretch/>
        </p:blipFill>
        <p:spPr>
          <a:xfrm>
            <a:off x="6588000" y="2224080"/>
            <a:ext cx="2159280" cy="15652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2987640" y="3860640"/>
            <a:ext cx="53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Крапанки – от украинского слова «крапать», то есть покрывать каплями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24000" y="5157720"/>
            <a:ext cx="62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Писанки – это искусно расписанные пасхальные яйца. Украинские писанки – настоящие произведения народного искусств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WordArt 8"/>
          <p:cNvSpPr txBox="1"/>
          <p:nvPr/>
        </p:nvSpPr>
        <p:spPr>
          <a:xfrm>
            <a:off x="539640" y="333360"/>
            <a:ext cx="828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зноцветные пасхальные яйца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0" name="Picture 9" descr="крапанки"/>
          <p:cNvPicPr/>
          <p:nvPr/>
        </p:nvPicPr>
        <p:blipFill>
          <a:blip r:embed="rId3"/>
          <a:stretch/>
        </p:blipFill>
        <p:spPr>
          <a:xfrm>
            <a:off x="539640" y="3789360"/>
            <a:ext cx="1800360" cy="128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писанки"/>
          <p:cNvPicPr/>
          <p:nvPr/>
        </p:nvPicPr>
        <p:blipFill>
          <a:blip r:embed="rId4"/>
          <a:stretch/>
        </p:blipFill>
        <p:spPr>
          <a:xfrm>
            <a:off x="6588000" y="5229360"/>
            <a:ext cx="1943280" cy="1387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jajtsa50"/>
          <p:cNvPicPr/>
          <p:nvPr/>
        </p:nvPicPr>
        <p:blipFill>
          <a:blip r:embed="rId1"/>
          <a:stretch/>
        </p:blipFill>
        <p:spPr>
          <a:xfrm>
            <a:off x="0" y="0"/>
            <a:ext cx="2068560" cy="2349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jajtsa50"/>
          <p:cNvPicPr/>
          <p:nvPr/>
        </p:nvPicPr>
        <p:blipFill>
          <a:blip r:embed="rId2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4"/>
          <p:cNvSpPr/>
          <p:nvPr/>
        </p:nvSpPr>
        <p:spPr>
          <a:xfrm>
            <a:off x="1616040" y="259560"/>
            <a:ext cx="68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МАТЕРИАЛЫ и ОБОРУДОВАНИЕ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1042920" y="816840"/>
            <a:ext cx="770436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.Для работы понадобятся: краски (гуашь), хорошие кисти №№ 1,2,3, спичечный коробок, клей ПВА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Чтобы расписать писанку, необходимо отобрать хорошие  яйца с шероховатой скорлупой. Гладкая поверхность плохо красится. Можно раскрасить и деревянное яйцо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начала яйцо моют в теплой воде с питьевой содой, снимают грязь, и на пару минут опускают в воду, в которую добавлено 2-3 столовых ложки уксуса. Потом яйца просушивают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6" name="Picture 6" descr="jajtsa79"/>
          <p:cNvPicPr/>
          <p:nvPr/>
        </p:nvPicPr>
        <p:blipFill>
          <a:blip r:embed="rId3"/>
          <a:stretch/>
        </p:blipFill>
        <p:spPr>
          <a:xfrm>
            <a:off x="179280" y="4724280"/>
            <a:ext cx="1559160" cy="1989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jajtsa50"/>
          <p:cNvPicPr/>
          <p:nvPr/>
        </p:nvPicPr>
        <p:blipFill>
          <a:blip r:embed="rId1"/>
          <a:stretch/>
        </p:blipFill>
        <p:spPr>
          <a:xfrm>
            <a:off x="0" y="0"/>
            <a:ext cx="2068560" cy="2349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jajtsa50"/>
          <p:cNvPicPr/>
          <p:nvPr/>
        </p:nvPicPr>
        <p:blipFill>
          <a:blip r:embed="rId2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1116000" y="404640"/>
            <a:ext cx="78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Роспись выполняется в следующем порядке: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.Сваренное яйцо необходимо положить в открытый спичечный коробок - так будет удобнее красить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Затем красками наносят узор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.Он должен просохнуть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4.Раскрашенное яичко нужно покрыть клеем ПВА, размешанным с водой.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0" name="Picture 8" descr="d784fb6478b9"/>
          <p:cNvPicPr/>
          <p:nvPr/>
        </p:nvPicPr>
        <p:blipFill>
          <a:blip r:embed="rId3"/>
          <a:stretch/>
        </p:blipFill>
        <p:spPr>
          <a:xfrm>
            <a:off x="3635280" y="4005360"/>
            <a:ext cx="2021040" cy="2557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cc117c32d744и"/>
          <p:cNvPicPr/>
          <p:nvPr/>
        </p:nvPicPr>
        <p:blipFill>
          <a:blip r:embed="rId4"/>
          <a:stretch/>
        </p:blipFill>
        <p:spPr>
          <a:xfrm>
            <a:off x="5435640" y="3789360"/>
            <a:ext cx="1965240" cy="2755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"/>
          <p:cNvPicPr/>
          <p:nvPr/>
        </p:nvPicPr>
        <p:blipFill>
          <a:blip r:embed="rId5"/>
          <a:stretch/>
        </p:blipFill>
        <p:spPr>
          <a:xfrm>
            <a:off x="1042920" y="3789360"/>
            <a:ext cx="2438640" cy="2682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pash02"/>
          <p:cNvPicPr/>
          <p:nvPr/>
        </p:nvPicPr>
        <p:blipFill>
          <a:blip r:embed="rId1"/>
          <a:stretch/>
        </p:blipFill>
        <p:spPr>
          <a:xfrm>
            <a:off x="0" y="0"/>
            <a:ext cx="124308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WordArt 3"/>
          <p:cNvSpPr txBox="1"/>
          <p:nvPr/>
        </p:nvSpPr>
        <p:spPr>
          <a:xfrm>
            <a:off x="2484360" y="476280"/>
            <a:ext cx="482616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просы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476360" y="2492280"/>
            <a:ext cx="76327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c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Arial Black"/>
              </a:rPr>
              <a:t>О каком православном празднике мы сегодня говорили?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Arial Black"/>
              </a:rPr>
              <a:t>2.Что вам особенно запомнилось?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Arial Black"/>
              </a:rPr>
              <a:t>3. Что вы сделаете доброго 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Arial Black"/>
              </a:rPr>
              <a:t>	</a:t>
            </a:r>
            <a:r>
              <a:rPr b="1" lang="ru-RU" sz="3000" spc="-1" strike="noStrike">
                <a:solidFill>
                  <a:srgbClr val="cc0000"/>
                </a:solidFill>
                <a:latin typeface="Arial Black"/>
              </a:rPr>
              <a:t>для своих близких?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plit dir="out" orient="ver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pash02"/>
          <p:cNvPicPr/>
          <p:nvPr/>
        </p:nvPicPr>
        <p:blipFill>
          <a:blip r:embed="rId1"/>
          <a:stretch/>
        </p:blipFill>
        <p:spPr>
          <a:xfrm>
            <a:off x="0" y="0"/>
            <a:ext cx="124308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WordArt 3"/>
          <p:cNvSpPr txBox="1"/>
          <p:nvPr/>
        </p:nvSpPr>
        <p:spPr>
          <a:xfrm>
            <a:off x="3059280" y="620640"/>
            <a:ext cx="23526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ыводы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608120" y="2112840"/>
            <a:ext cx="593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 Black"/>
              </a:rPr>
              <a:t>1.  Пасха – весенний праздник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1663920" y="2833560"/>
            <a:ext cx="589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 Black"/>
              </a:rPr>
              <a:t>2.  Мы должны стараться быть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Arial Black"/>
              </a:rPr>
              <a:t>добрыми, любить друг друга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546200" y="3860640"/>
            <a:ext cx="454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 Black"/>
              </a:rPr>
              <a:t>3.  Пасхальное яйцо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 Black"/>
              </a:rPr>
              <a:t>символизирует жизнь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plit dir="out" orient="vert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94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144360" y="4724280"/>
            <a:ext cx="3996000" cy="2469960"/>
          </a:xfrm>
          <a:prstGeom prst="rect">
            <a:avLst/>
          </a:prstGeom>
          <a:solidFill>
            <a:srgbClr val="99cc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cc0000"/>
                </a:solidFill>
                <a:uFillTx/>
                <a:latin typeface="Arial Black"/>
              </a:rPr>
              <a:t>Пасха</a:t>
            </a: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—это самый главный православный 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праздник; его также называют Святое 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Христово Воскресение.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788000" y="1959120"/>
            <a:ext cx="4113000" cy="5637960"/>
          </a:xfrm>
          <a:prstGeom prst="rect">
            <a:avLst/>
          </a:prstGeom>
          <a:solidFill>
            <a:srgbClr val="99cc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cc0000"/>
                </a:solidFill>
                <a:uFillTx/>
                <a:latin typeface="Arial Black"/>
              </a:rPr>
              <a:t>Пасхальное яйцо</a:t>
            </a: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—это куриное яйцо ,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окрашенное в красный или другой цвет 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на праздник Пасхи.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Это символ Воскресения Христа.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Существует традиция изготавливать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сувенирные пасхальные яйца из дерева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 </a:t>
            </a: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или другого материала.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1187280" y="1341360"/>
            <a:ext cx="6840720" cy="28083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2412000" y="260280"/>
            <a:ext cx="4883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33cc"/>
                </a:solidFill>
                <a:latin typeface="Arial Black"/>
              </a:rPr>
              <a:t>Пасху радостно встречаем!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9" name="Picture 2" descr="jajtsa01"/>
          <p:cNvPicPr/>
          <p:nvPr/>
        </p:nvPicPr>
        <p:blipFill>
          <a:blip r:embed="rId1"/>
          <a:stretch/>
        </p:blipFill>
        <p:spPr>
          <a:xfrm rot="2759400">
            <a:off x="1338840" y="1693080"/>
            <a:ext cx="1368720" cy="519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2d3b1a7435a6"/>
          <p:cNvPicPr/>
          <p:nvPr/>
        </p:nvPicPr>
        <p:blipFill>
          <a:blip r:embed="rId2"/>
          <a:stretch/>
        </p:blipFill>
        <p:spPr>
          <a:xfrm>
            <a:off x="1692360" y="2235240"/>
            <a:ext cx="2232000" cy="1770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deva75"/>
          <p:cNvPicPr/>
          <p:nvPr/>
        </p:nvPicPr>
        <p:blipFill>
          <a:blip r:embed="rId3"/>
          <a:stretch/>
        </p:blipFill>
        <p:spPr>
          <a:xfrm>
            <a:off x="3924360" y="1876320"/>
            <a:ext cx="1374840" cy="2081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dac321b48db4"/>
          <p:cNvPicPr/>
          <p:nvPr/>
        </p:nvPicPr>
        <p:blipFill>
          <a:blip r:embed="rId4"/>
          <a:stretch/>
        </p:blipFill>
        <p:spPr>
          <a:xfrm>
            <a:off x="5545080" y="2092320"/>
            <a:ext cx="1979640" cy="19000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7"/>
          <p:cNvSpPr/>
          <p:nvPr/>
        </p:nvSpPr>
        <p:spPr>
          <a:xfrm>
            <a:off x="324000" y="4525920"/>
            <a:ext cx="8424720" cy="2288520"/>
          </a:xfrm>
          <a:prstGeom prst="rect">
            <a:avLst/>
          </a:prstGeom>
          <a:solidFill>
            <a:srgbClr val="ffff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 Black"/>
              </a:rPr>
              <a:t>ПАСХА  – это воскресение, оживление, победа жизни над смертью. Воскресение происходит в природе. Как бы ни было холодно зимой, она закончится и придет весна. После ночи обязательно наступает рассвет – это тоже воскресение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jajtsa50"/>
          <p:cNvPicPr/>
          <p:nvPr/>
        </p:nvPicPr>
        <p:blipFill>
          <a:blip r:embed="rId1"/>
          <a:stretch/>
        </p:blipFill>
        <p:spPr>
          <a:xfrm>
            <a:off x="0" y="0"/>
            <a:ext cx="2068560" cy="2349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jajtsa50"/>
          <p:cNvPicPr/>
          <p:nvPr/>
        </p:nvPicPr>
        <p:blipFill>
          <a:blip r:embed="rId2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3071520" y="720"/>
            <a:ext cx="5664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Аполлон Николаевич Майков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всюду благовест гудит,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з всех церквей народ валит.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ря глядит уже с небес…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ристос воскрес! Христос воскрес!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 полей уж снят покров снегов,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реки рвутся из оков,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зеленеет ближний лес...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ристос воскрес! Христос воскрес!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т просыпается земля,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одеваются поля,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есна идет, полна чудес!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ристос воскрес!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ристос воскрес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" name="Picture 5" descr="lilia06"/>
          <p:cNvPicPr/>
          <p:nvPr/>
        </p:nvPicPr>
        <p:blipFill>
          <a:blip r:embed="rId3"/>
          <a:stretch/>
        </p:blipFill>
        <p:spPr>
          <a:xfrm>
            <a:off x="2195640" y="5686560"/>
            <a:ext cx="4392360" cy="1171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1"/>
          <p:cNvPicPr/>
          <p:nvPr/>
        </p:nvPicPr>
        <p:blipFill>
          <a:blip r:embed="rId4"/>
          <a:stretch/>
        </p:blipFill>
        <p:spPr>
          <a:xfrm>
            <a:off x="250920" y="2781360"/>
            <a:ext cx="2797200" cy="3240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image003"/>
          <p:cNvPicPr/>
          <p:nvPr/>
        </p:nvPicPr>
        <p:blipFill>
          <a:blip r:embed="rId1"/>
          <a:stretch/>
        </p:blipFill>
        <p:spPr>
          <a:xfrm>
            <a:off x="5003640" y="260280"/>
            <a:ext cx="3935520" cy="59770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60" name="Picture 5" descr="Krest"/>
          <p:cNvPicPr/>
          <p:nvPr/>
        </p:nvPicPr>
        <p:blipFill>
          <a:blip r:embed="rId2"/>
          <a:stretch/>
        </p:blipFill>
        <p:spPr>
          <a:xfrm>
            <a:off x="250920" y="260280"/>
            <a:ext cx="4394160" cy="59770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61" name="Text Box 6"/>
          <p:cNvSpPr/>
          <p:nvPr/>
        </p:nvSpPr>
        <p:spPr>
          <a:xfrm>
            <a:off x="1535760" y="6381720"/>
            <a:ext cx="15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«Распятие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5254200" y="6408720"/>
            <a:ext cx="31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Воскресение Христово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67280" y="1628280"/>
            <a:ext cx="4619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По всем городам и деревням,  ставят несколько тысяч бочек и котлов с вареными яйцами, окрашенными в разные  цвета. Некоторые из них позолоченные и посеребренные. Прохожие покупают их. При встрече  здороваются и говорят: «Христос Воскресе!», дают друг другу яйца, целу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4"/>
          <p:cNvSpPr txBox="1"/>
          <p:nvPr/>
        </p:nvSpPr>
        <p:spPr>
          <a:xfrm>
            <a:off x="971640" y="476280"/>
            <a:ext cx="756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 праздновали на Руси Пасху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6" name="Picture 5" descr="khristovanie"/>
          <p:cNvPicPr/>
          <p:nvPr/>
        </p:nvPicPr>
        <p:blipFill>
          <a:blip r:embed="rId1"/>
          <a:stretch/>
        </p:blipFill>
        <p:spPr>
          <a:xfrm>
            <a:off x="684360" y="1413000"/>
            <a:ext cx="337500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asha"/>
          <p:cNvPicPr/>
          <p:nvPr/>
        </p:nvPicPr>
        <p:blipFill>
          <a:blip r:embed="rId1"/>
          <a:stretch/>
        </p:blipFill>
        <p:spPr>
          <a:xfrm>
            <a:off x="3059280" y="1557360"/>
            <a:ext cx="3600360" cy="27003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94920" y="4338720"/>
            <a:ext cx="84358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Празднование   Пасхи  продолжается  сорок  дней   –   ровно столько, сколько  Христос  являлся  своим  ученикам  после Воскресения.  В  течение  сорока дней Пасхи, а особенно на первой неделе – ходят, друг к другу в гости, дарят крашеные яйца и куличи, играют в пасхальные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4"/>
          <p:cNvSpPr txBox="1"/>
          <p:nvPr/>
        </p:nvSpPr>
        <p:spPr>
          <a:xfrm>
            <a:off x="755640" y="333360"/>
            <a:ext cx="763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 праздновать Пасху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pull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3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3"/>
          <p:cNvSpPr txBox="1"/>
          <p:nvPr/>
        </p:nvSpPr>
        <p:spPr>
          <a:xfrm>
            <a:off x="826920" y="404640"/>
            <a:ext cx="7812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ый вкусный кулич.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443120" y="1989000"/>
            <a:ext cx="4700520" cy="37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Кулич – это сладкий, сдобный, пасхальный хлеб. Для его приготовления тесто замешивают в ночь с четверга на пятницу. Весь день в пятницу пекут, а в ночь с субботы на воскресенье – освящ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1187280" y="1809720"/>
            <a:ext cx="304812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68360" y="2060280"/>
            <a:ext cx="47512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Традиционным пасхальным блюдом является пасха – это творог со сметаной или сливками, спрессованный в виде усеченной пирамидки. На боковых ее сторонах изображается крест и буквы «ХВ», что означает Христос Воскр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cake1"/>
          <p:cNvPicPr/>
          <p:nvPr/>
        </p:nvPicPr>
        <p:blipFill>
          <a:blip r:embed="rId1"/>
          <a:stretch/>
        </p:blipFill>
        <p:spPr>
          <a:xfrm>
            <a:off x="5508720" y="1773360"/>
            <a:ext cx="3497040" cy="4103640"/>
          </a:xfrm>
          <a:prstGeom prst="rect">
            <a:avLst/>
          </a:prstGeom>
          <a:ln w="0">
            <a:noFill/>
          </a:ln>
        </p:spPr>
      </p:pic>
      <p:sp>
        <p:nvSpPr>
          <p:cNvPr id="75" name="WordArt 4"/>
          <p:cNvSpPr txBox="1"/>
          <p:nvPr/>
        </p:nvSpPr>
        <p:spPr>
          <a:xfrm>
            <a:off x="1258920" y="333360"/>
            <a:ext cx="6842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ая вкусная пасха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out" orient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12:11:34Z</dcterms:created>
  <dc:creator>EGN</dc:creator>
  <dc:description/>
  <dc:language>en-US</dc:language>
  <cp:lastModifiedBy>толик</cp:lastModifiedBy>
  <dcterms:modified xsi:type="dcterms:W3CDTF">2020-04-10T16:38:38Z</dcterms:modified>
  <cp:revision>46</cp:revision>
  <dc:subject/>
  <dc:title>Пасха</dc:title>
</cp:coreProperties>
</file>