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7AE-13C0-4E17-AE5B-E3009A04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06C-EDEB-4034-B0CE-E9BE13AD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9CB-0686-46C3-A31E-84156D30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8D6-28B0-4E13-B170-92854C8C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06B-27D3-4434-A2E3-9BB86A9E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C9D-EDF7-4F6B-9019-07FC4821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20C-9B90-404B-9C1E-1DE96C2A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409-75F8-495C-98B7-C45B946B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224-50A4-4EBA-B7D5-AF6B812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458-13C8-49F4-A199-AFAD3F5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D97-2977-416D-BB71-21D951E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75C-EE4C-493B-B1A7-234AEAA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ABF3-D836-483B-ABCA-145DF30B5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6496200" y="3867120"/>
            <a:ext cx="2647800" cy="299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570240" y="1457280"/>
            <a:ext cx="845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ПАСХА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– 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самый радостный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и светлый праздник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03280" y="4797000"/>
            <a:ext cx="57610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Педагог дополнительно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хар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У ДО ДЭБС г. Салав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 Обычай обмениваться на Пасху красным яйцом, очень давний.                                           Христос дал нам жизнь, а яйцо – это знак жизни. Все христиане и приветствуют друг друга красным яйцом как знаком ве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333360"/>
            <a:ext cx="741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подарить на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5913360" y="1700280"/>
            <a:ext cx="3051360" cy="39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Мария Магдалина пришла к римскому императору Тиверию. С собой она принесла простое куриное яйцо. Но когда Мария стала говорить Тиверию о том, что Иисус Христос воскрес, император только рассмеялся: «Это также невозможно, как твоему белому яйцу  превратиться в красное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539640" y="26028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мы на Пасху красим яйц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580000" y="2924280"/>
            <a:ext cx="324000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И не успел Тиверий закончить фразу, как яйцо в руках Марии Магдалины стало совершенно красным.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12720" y="285264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59305 7.40741E-007 E">
                                      <p:cBhvr>
                                        <p:cTn id="13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9514 -0.00394 E">
                                      <p:cBhvr>
                                        <p:cTn id="13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2418840"/>
            <a:ext cx="604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апанки – красят в темный цвет и узор на скорлупу наносят острым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16000" y="1557360"/>
            <a:ext cx="46083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рашен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т слова кра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рашенки"/>
          <p:cNvPicPr/>
          <p:nvPr/>
        </p:nvPicPr>
        <p:blipFill>
          <a:blip r:embed="rId1"/>
          <a:stretch/>
        </p:blipFill>
        <p:spPr>
          <a:xfrm>
            <a:off x="539640" y="119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драпанки"/>
          <p:cNvPicPr/>
          <p:nvPr/>
        </p:nvPicPr>
        <p:blipFill>
          <a:blip r:embed="rId2"/>
          <a:stretch/>
        </p:blipFill>
        <p:spPr>
          <a:xfrm>
            <a:off x="6588000" y="2224080"/>
            <a:ext cx="2159280" cy="1565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987640" y="3860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рапанки – от украинского слова «крапать», то есть покрывать каплям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24000" y="515772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исанки – это искусно расписанные пасхальные яйца. Украинские писанки – настоящие произведения народного искусств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539640" y="333360"/>
            <a:ext cx="82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цветные пасхальные яйц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9" descr="крапанки"/>
          <p:cNvPicPr/>
          <p:nvPr/>
        </p:nvPicPr>
        <p:blipFill>
          <a:blip r:embed="rId3"/>
          <a:stretch/>
        </p:blipFill>
        <p:spPr>
          <a:xfrm>
            <a:off x="539640" y="378936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писанки"/>
          <p:cNvPicPr/>
          <p:nvPr/>
        </p:nvPicPr>
        <p:blipFill>
          <a:blip r:embed="rId4"/>
          <a:stretch/>
        </p:blipFill>
        <p:spPr>
          <a:xfrm>
            <a:off x="6588000" y="5229360"/>
            <a:ext cx="194328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1616040" y="25956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АТЕРИАЛЫ и ОБОРУД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042920" y="816840"/>
            <a:ext cx="7704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Для работы понадобятся: краски (гуашь), хорошие кисти №№ 1,2,3, спичечный коробок, клей ПВА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Чтобы расписать писанку, необходимо отобрать хорошие  яйца с шероховатой скорлупой. Гладкая поверхность плохо красится. Можно раскрасить и деревянное яйц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 яйцо моют в теплой воде с питьевой содой, снимают грязь, и на пару минут опускают в воду, в которую добавлено 2-3 столовых ложки уксуса. Потом яйца просушивают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jajtsa79"/>
          <p:cNvPicPr/>
          <p:nvPr/>
        </p:nvPicPr>
        <p:blipFill>
          <a:blip r:embed="rId3"/>
          <a:stretch/>
        </p:blipFill>
        <p:spPr>
          <a:xfrm>
            <a:off x="179280" y="4724280"/>
            <a:ext cx="1559160" cy="198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1116000" y="404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оспись выполняется в следующем порядке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Сваренное яйцо необходимо положить в открытый спичечный коробок - так будет удобнее краси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Затем красками наносят узор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Он должен просохну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Раскрашенное яичко нужно покрыть клеем ПВА, размешанным с водой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8" descr="d784fb6478b9"/>
          <p:cNvPicPr/>
          <p:nvPr/>
        </p:nvPicPr>
        <p:blipFill>
          <a:blip r:embed="rId3"/>
          <a:stretch/>
        </p:blipFill>
        <p:spPr>
          <a:xfrm>
            <a:off x="3635280" y="4005360"/>
            <a:ext cx="2021040" cy="25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c117c32d744и"/>
          <p:cNvPicPr/>
          <p:nvPr/>
        </p:nvPicPr>
        <p:blipFill>
          <a:blip r:embed="rId4"/>
          <a:stretch/>
        </p:blipFill>
        <p:spPr>
          <a:xfrm>
            <a:off x="5435640" y="3789360"/>
            <a:ext cx="1965240" cy="2755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1042920" y="3789360"/>
            <a:ext cx="2438640" cy="268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484360" y="476280"/>
            <a:ext cx="48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76360" y="2492280"/>
            <a:ext cx="763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О каком православном празднике мы сегодня говорили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2.Что вам особенно запомнилось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3. Что вы сделаете доброго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для своих близких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3059280" y="620640"/>
            <a:ext cx="2352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608120" y="211284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1.  Пасха – весенний праздник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63920" y="2833560"/>
            <a:ext cx="58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2.  Мы должны стараться бы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добрыми, любить друг друг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546200" y="3860640"/>
            <a:ext cx="45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3.  Пасхальное яйцо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символизирует жизнь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94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44360" y="4724280"/>
            <a:ext cx="3996000" cy="2469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самый главный православный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праздник; его также называют Святое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Христово Воскресение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88000" y="1959120"/>
            <a:ext cx="4113000" cy="5637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льное яйцо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куриное яйцо ,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окрашенное в красный или другой цвет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на праздник Пасхи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Это символ Воскресения Христ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ществует традиция изготавливать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венирные пасхальные яйца из дерева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или другого материал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187280" y="1341360"/>
            <a:ext cx="6840720" cy="28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412000" y="260280"/>
            <a:ext cx="488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 Black"/>
              </a:rPr>
              <a:t>Пасху радостно встречаем!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2" descr="jajtsa01"/>
          <p:cNvPicPr/>
          <p:nvPr/>
        </p:nvPicPr>
        <p:blipFill>
          <a:blip r:embed="rId1"/>
          <a:stretch/>
        </p:blipFill>
        <p:spPr>
          <a:xfrm rot="2759400">
            <a:off x="1338840" y="1693080"/>
            <a:ext cx="1368720" cy="51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2d3b1a7435a6"/>
          <p:cNvPicPr/>
          <p:nvPr/>
        </p:nvPicPr>
        <p:blipFill>
          <a:blip r:embed="rId2"/>
          <a:stretch/>
        </p:blipFill>
        <p:spPr>
          <a:xfrm>
            <a:off x="1692360" y="2235240"/>
            <a:ext cx="2232000" cy="177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eva75"/>
          <p:cNvPicPr/>
          <p:nvPr/>
        </p:nvPicPr>
        <p:blipFill>
          <a:blip r:embed="rId3"/>
          <a:stretch/>
        </p:blipFill>
        <p:spPr>
          <a:xfrm>
            <a:off x="3924360" y="1876320"/>
            <a:ext cx="1374840" cy="208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ac321b48db4"/>
          <p:cNvPicPr/>
          <p:nvPr/>
        </p:nvPicPr>
        <p:blipFill>
          <a:blip r:embed="rId4"/>
          <a:stretch/>
        </p:blipFill>
        <p:spPr>
          <a:xfrm>
            <a:off x="5545080" y="2092320"/>
            <a:ext cx="1979640" cy="1900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7"/>
          <p:cNvSpPr/>
          <p:nvPr/>
        </p:nvSpPr>
        <p:spPr>
          <a:xfrm>
            <a:off x="324000" y="4525920"/>
            <a:ext cx="8424720" cy="228852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Black"/>
              </a:rPr>
              <a:t>ПАСХА  – это воскресение, оживление, победа жизни над смертью. Воскресение происходит в природе. Как бы ни было холодно зимой, она закончится и придет весна. После ночи обязательно наступает рассвет – это тоже воскресение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071520" y="720"/>
            <a:ext cx="566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поллон Николаевич Майк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сюду благовест гудит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всех церквей народ валит.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ря глядит уже с небес…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олей уж снят покров снегов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еки рвутся из оков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зеленеет ближний лес..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т просыпается земля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деваются поля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сна идет, полна чуд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lilia06"/>
          <p:cNvPicPr/>
          <p:nvPr/>
        </p:nvPicPr>
        <p:blipFill>
          <a:blip r:embed="rId3"/>
          <a:stretch/>
        </p:blipFill>
        <p:spPr>
          <a:xfrm>
            <a:off x="2195640" y="5686560"/>
            <a:ext cx="4392360" cy="117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"/>
          <p:cNvPicPr/>
          <p:nvPr/>
        </p:nvPicPr>
        <p:blipFill>
          <a:blip r:embed="rId4"/>
          <a:stretch/>
        </p:blipFill>
        <p:spPr>
          <a:xfrm>
            <a:off x="250920" y="2781360"/>
            <a:ext cx="2797200" cy="324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age003"/>
          <p:cNvPicPr/>
          <p:nvPr/>
        </p:nvPicPr>
        <p:blipFill>
          <a:blip r:embed="rId1"/>
          <a:stretch/>
        </p:blipFill>
        <p:spPr>
          <a:xfrm>
            <a:off x="5003640" y="260280"/>
            <a:ext cx="393552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0" name="Picture 5" descr="Krest"/>
          <p:cNvPicPr/>
          <p:nvPr/>
        </p:nvPicPr>
        <p:blipFill>
          <a:blip r:embed="rId2"/>
          <a:stretch/>
        </p:blipFill>
        <p:spPr>
          <a:xfrm>
            <a:off x="250920" y="260280"/>
            <a:ext cx="439416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535760" y="638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«Распят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254200" y="6408720"/>
            <a:ext cx="31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кресение Христов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619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 всем городам и деревням,  ставят несколько тысяч бочек и котлов с вареными яйцами, окрашенными в разные  цвета. Некоторые из них позолоченные и посеребренные. Прохожие покупают их. При встрече  здороваются и говорят: «Христос Воскресе!», дают друг другу яйца, цел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971640" y="47628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ли на Руси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5" descr="khristovanie"/>
          <p:cNvPicPr/>
          <p:nvPr/>
        </p:nvPicPr>
        <p:blipFill>
          <a:blip r:embed="rId1"/>
          <a:stretch/>
        </p:blipFill>
        <p:spPr>
          <a:xfrm>
            <a:off x="684360" y="1413000"/>
            <a:ext cx="3375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sha"/>
          <p:cNvPicPr/>
          <p:nvPr/>
        </p:nvPicPr>
        <p:blipFill>
          <a:blip r:embed="rId1"/>
          <a:stretch/>
        </p:blipFill>
        <p:spPr>
          <a:xfrm>
            <a:off x="3059280" y="15573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433872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азднование   Пасхи  продолжается  сорок  дней   –   ровно столько, сколько  Христос  являлся  своим  ученикам  после Воскресения.  В  течение  сорока дней Пасхи, а особенно на первой неделе – ходят, друг к другу в гости, дарят крашеные яйца и куличи, играют в пасхаль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ть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3"/>
          <p:cNvSpPr txBox="1"/>
          <p:nvPr/>
        </p:nvSpPr>
        <p:spPr>
          <a:xfrm>
            <a:off x="826920" y="404640"/>
            <a:ext cx="781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вкусный кулич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443120" y="1989000"/>
            <a:ext cx="470052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лич – это сладкий, сдобный, пасхальный хлеб. Для его приготовления тесто замешивают в ночь с четверга на пятницу. Весь день в пятницу пекут, а в ночь с субботы на воскресенье – освящ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18097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475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радиционным пасхальным блюдом является пасха – это творог со сметаной или сливками, спрессованный в виде усеченной пирамидки. На боковых ее сторонах изображается крест и буквы «ХВ», что означает Христос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ake1"/>
          <p:cNvPicPr/>
          <p:nvPr/>
        </p:nvPicPr>
        <p:blipFill>
          <a:blip r:embed="rId1"/>
          <a:stretch/>
        </p:blipFill>
        <p:spPr>
          <a:xfrm>
            <a:off x="5508720" y="1773360"/>
            <a:ext cx="3497040" cy="4103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>
            <a:off x="1258920" y="33336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я вкусная пасх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EGN</dc:creator>
  <dc:description/>
  <dc:language>en-US</dc:language>
  <cp:lastModifiedBy>толик</cp:lastModifiedBy>
  <dcterms:modified xsi:type="dcterms:W3CDTF">2020-04-10T16:38:38Z</dcterms:modified>
  <cp:revision>46</cp:revision>
  <dc:subject/>
  <dc:title>Пасха</dc:title>
</cp:coreProperties>
</file>