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3.gif" ContentType="image/gif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20E-A9FD-49F5-99E0-474C1683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5CA-A41F-4659-B118-0008C8F6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66A-4392-4316-BC20-F85E67D7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CF7-3891-4698-80B9-4823306A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4CB-A204-42F7-9DEC-0D85D3D9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9EB-A8D6-4E45-A74B-2381F6B9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13F-24C0-4D47-8007-14121510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850-7FBF-4109-B700-1CA128AC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4A7-DEFF-4C4C-A15C-D4DEF704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0B0-3B9F-4857-A825-D1543432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9AE-F035-41A0-8EB6-DAEA0D61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432-D4EF-4DE2-8A5E-E4E11079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D80B-B08E-4DF6-B1A5-5A0A5B84D4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hyperlink" Target="http://www.admin.debryansk.ru/projects/ravnenie/history/breakb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680" y="12600"/>
            <a:ext cx="8917200" cy="674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31308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После Великой войн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136080" y="189000"/>
            <a:ext cx="896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625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Уровень жизни населе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37960" y="1111320"/>
            <a:ext cx="3314880" cy="404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3562200" y="2997360"/>
            <a:ext cx="540252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937040" cy="3168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579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358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циальная поли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хема 2" descr=""/>
          <p:cNvPicPr/>
          <p:nvPr/>
        </p:nvPicPr>
        <p:blipFill>
          <a:blip r:embed="rId1"/>
          <a:stretch/>
        </p:blipFill>
        <p:spPr>
          <a:xfrm>
            <a:off x="-23760" y="762120"/>
            <a:ext cx="8918640" cy="59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08000" y="274680"/>
            <a:ext cx="497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тоги вой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11520" y="1341360"/>
            <a:ext cx="5075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астично или полностью разрушено 1700 городов, 70 тыс. сел и деревень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зорвано 31850 заводов и фабр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65 тыс. км ж/д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ез крыши над головой осталось 25-35 млн. че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головье лошадей, крупного рогатого скота сократилось на 20%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быль населения не поддаётся четким подсчетам, разные источники называют от 8 до 60 млн. человек, наиболее широко распространенная  точка зрения 27 млн. прямых потер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ана стала иной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8"/>
          <a:stretch/>
        </p:blipFill>
        <p:spPr>
          <a:xfrm>
            <a:off x="179280" y="260280"/>
            <a:ext cx="3552840" cy="2664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179280" y="3105000"/>
            <a:ext cx="32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трана оказалась отброшенной назад  не менее, чем на 10 л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340000" y="2565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жили вровень, скромно так,-    Система коридорная,                         На тридцать восемь комнаток -      Всего одна убор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059280" y="3789360"/>
            <a:ext cx="54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есь на зуб зуб не попадал,                        Не грела телогреечка,                                     Здесь я подлинно узнал,                               Почём она – копеечка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484360" y="501336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о время – и были подвалы,          Было дело – и цены снижали,            И текли, куда надо, каналы,                  И в конце, куда надо, впад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08360" y="6324480"/>
            <a:ext cx="19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 Высоц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В"/>
          <p:cNvPicPr/>
          <p:nvPr/>
        </p:nvPicPr>
        <p:blipFill>
          <a:blip r:embed="rId1"/>
          <a:stretch/>
        </p:blipFill>
        <p:spPr>
          <a:xfrm rot="360600">
            <a:off x="1763280" y="333360"/>
            <a:ext cx="2416320" cy="208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Детсво В"/>
          <p:cNvPicPr/>
          <p:nvPr/>
        </p:nvPicPr>
        <p:blipFill>
          <a:blip r:embed="rId2"/>
          <a:stretch/>
        </p:blipFill>
        <p:spPr>
          <a:xfrm rot="20543400">
            <a:off x="401400" y="223920"/>
            <a:ext cx="1655640" cy="29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_st_12_01"/>
          <p:cNvPicPr/>
          <p:nvPr/>
        </p:nvPicPr>
        <p:blipFill>
          <a:blip r:embed="rId3"/>
          <a:stretch/>
        </p:blipFill>
        <p:spPr>
          <a:xfrm rot="499200">
            <a:off x="6808680" y="189000"/>
            <a:ext cx="2195640" cy="3068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советская деревня"/>
          <p:cNvPicPr/>
          <p:nvPr/>
        </p:nvPicPr>
        <p:blipFill>
          <a:blip r:embed="rId4"/>
          <a:stretch/>
        </p:blipFill>
        <p:spPr>
          <a:xfrm rot="21242400">
            <a:off x="250560" y="3652560"/>
            <a:ext cx="2160360" cy="27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разрушения 1"/>
          <p:cNvPicPr/>
          <p:nvPr/>
        </p:nvPicPr>
        <p:blipFill>
          <a:blip r:embed="rId5"/>
          <a:stretch/>
        </p:blipFill>
        <p:spPr>
          <a:xfrm rot="442200">
            <a:off x="6803640" y="3499920"/>
            <a:ext cx="2124000" cy="318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12_5_1"/>
          <p:cNvPicPr/>
          <p:nvPr/>
        </p:nvPicPr>
        <p:blipFill>
          <a:blip r:embed="rId6"/>
          <a:stretch/>
        </p:blipFill>
        <p:spPr>
          <a:xfrm rot="20152800">
            <a:off x="4633560" y="269640"/>
            <a:ext cx="172728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WordArt 12"/>
          <p:cNvSpPr txBox="1"/>
          <p:nvPr/>
        </p:nvSpPr>
        <p:spPr>
          <a:xfrm>
            <a:off x="2411280" y="0"/>
            <a:ext cx="403236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WordArt 13" descr=""/>
          <p:cNvPicPr/>
          <p:nvPr/>
        </p:nvPicPr>
        <p:blipFill>
          <a:blip r:embed="rId7"/>
          <a:stretch/>
        </p:blipFill>
        <p:spPr>
          <a:xfrm>
            <a:off x="433440" y="128520"/>
            <a:ext cx="79549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50920" y="2781360"/>
            <a:ext cx="3960720" cy="1295280"/>
          </a:xfrm>
          <a:prstGeom prst="rect">
            <a:avLst/>
          </a:prstGeom>
          <a:solidFill>
            <a:srgbClr val="d9d9d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Перевод страны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мирны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рель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03640" y="2852640"/>
            <a:ext cx="3816360" cy="1224000"/>
          </a:xfrm>
          <a:prstGeom prst="rect">
            <a:avLst/>
          </a:prstGeom>
          <a:solidFill>
            <a:srgbClr val="d9d9d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Восстано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народ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хозя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WordArt 4" descr=""/>
          <p:cNvPicPr/>
          <p:nvPr/>
        </p:nvPicPr>
        <p:blipFill>
          <a:blip r:embed="rId1"/>
          <a:stretch/>
        </p:blipFill>
        <p:spPr>
          <a:xfrm>
            <a:off x="433440" y="133200"/>
            <a:ext cx="8350200" cy="2129040"/>
          </a:xfrm>
          <a:prstGeom prst="rect">
            <a:avLst/>
          </a:prstGeom>
          <a:ln w="0">
            <a:noFill/>
          </a:ln>
        </p:spPr>
      </p:pic>
      <p:sp>
        <p:nvSpPr>
          <p:cNvPr id="62" name="Line 5"/>
          <p:cNvSpPr/>
          <p:nvPr/>
        </p:nvSpPr>
        <p:spPr>
          <a:xfrm flipH="1">
            <a:off x="2771280" y="1844640"/>
            <a:ext cx="1729080" cy="863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6"/>
          <p:cNvSpPr/>
          <p:nvPr/>
        </p:nvSpPr>
        <p:spPr>
          <a:xfrm>
            <a:off x="4500720" y="1844640"/>
            <a:ext cx="1366560" cy="936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risunok0581"/>
          <p:cNvPicPr/>
          <p:nvPr/>
        </p:nvPicPr>
        <p:blipFill>
          <a:blip r:embed="rId2"/>
          <a:stretch/>
        </p:blipFill>
        <p:spPr>
          <a:xfrm>
            <a:off x="2305080" y="4076640"/>
            <a:ext cx="4392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9640" y="981000"/>
            <a:ext cx="700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стройка промышленности 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ный ла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ождение разрушенного в г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н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ое строительство, диктуем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спективами дальнейше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зяйственного развития стр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09-12-06-stalin-00"/>
          <p:cNvPicPr/>
          <p:nvPr/>
        </p:nvPicPr>
        <p:blipFill>
          <a:blip r:embed="rId1"/>
          <a:stretch/>
        </p:blipFill>
        <p:spPr>
          <a:xfrm>
            <a:off x="4932360" y="4224240"/>
            <a:ext cx="3454560" cy="2301840"/>
          </a:xfrm>
          <a:prstGeom prst="rect">
            <a:avLst/>
          </a:prstGeom>
          <a:ln w="0">
            <a:noFill/>
          </a:ln>
        </p:spPr>
      </p:pic>
      <p:pic>
        <p:nvPicPr>
          <p:cNvPr id="67" name="WordArt 4" descr=""/>
          <p:cNvPicPr/>
          <p:nvPr/>
        </p:nvPicPr>
        <p:blipFill>
          <a:blip r:embed="rId2"/>
          <a:stretch/>
        </p:blipFill>
        <p:spPr>
          <a:xfrm>
            <a:off x="219240" y="60480"/>
            <a:ext cx="8705520" cy="1353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profinternb"/>
          <p:cNvPicPr/>
          <p:nvPr/>
        </p:nvPicPr>
        <p:blipFill>
          <a:blip r:embed="rId3"/>
          <a:stretch/>
        </p:blipFill>
        <p:spPr>
          <a:xfrm>
            <a:off x="539640" y="4076640"/>
            <a:ext cx="3810240" cy="259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break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1700280"/>
            <a:ext cx="230508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Успехи в восстановлен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роено или восстановлено  за пятилетку – 6200 крупных промышленны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ны стратегические резервы по зерну, металлу, нефтепродуктам и пр. выше довоенных от 3 до 10 раз, золотой запас составил – 1500 тон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1949 г. – испытание ядерной бомб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948-первая ракета большой да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49068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боронные отрас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2764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2"/>
          <p:cNvSpPr/>
          <p:nvPr/>
        </p:nvSpPr>
        <p:spPr>
          <a:xfrm>
            <a:off x="388800" y="4390920"/>
            <a:ext cx="42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48 г. – под Челябинском пущен первый ядерный реактор и введен в эксплуатацию завод по производству плуто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09564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TextBox 5"/>
          <p:cNvSpPr/>
          <p:nvPr/>
        </p:nvSpPr>
        <p:spPr>
          <a:xfrm>
            <a:off x="5148360" y="486900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49 г. – под Семипалатинском проведено испытание атомной бомб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33480" y="4268880"/>
            <a:ext cx="42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50 г. – на вооружение принята баллистическая ракета Р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4917960" y="4581360"/>
            <a:ext cx="38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52 г. – началось строительство атомной подводной лод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24000" y="325440"/>
            <a:ext cx="2879640" cy="364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564000" y="1197000"/>
            <a:ext cx="528480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3822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ельское хозяй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Прямоугольник 2"/>
          <p:cNvGrpSpPr/>
          <p:nvPr/>
        </p:nvGrpSpPr>
        <p:grpSpPr>
          <a:xfrm>
            <a:off x="324000" y="731880"/>
            <a:ext cx="4589280" cy="6205320"/>
            <a:chOff x="324000" y="731880"/>
            <a:chExt cx="4589280" cy="6205320"/>
          </a:xfrm>
        </p:grpSpPr>
        <p:pic>
          <p:nvPicPr>
            <p:cNvPr id="8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4000" y="731880"/>
              <a:ext cx="4589280" cy="62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95280" y="765000"/>
              <a:ext cx="4392720" cy="60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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Segoe"/>
                </a:rPr>
                <a:t>В послевоенные годы были сокращены приусадебные участк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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Segoe"/>
                </a:rPr>
                <a:t>Были значительно повышены налоги с доходов от продаж на рынк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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Segoe"/>
                </a:rPr>
                <a:t>Торговать на рынке разрешалось тем крестьянам, колхозы которых выполняли государственные поставк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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Segoe"/>
                </a:rPr>
                <a:t>Каждое крестьянское хозяйство обязано было сдавать государству в качестве налога за земельный участок мясо, молоко, яйца, шерст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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Segoe"/>
                </a:rPr>
                <a:t>Крестьяне фактически были лишены паспортов (ограничение свободы передвижения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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Segoe"/>
                </a:rPr>
                <a:t>Крестьянам не оплачивали дни, когда они не работали по болезн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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Segoe"/>
                </a:rPr>
                <a:t>Крестьянам не платили пенсии по возраст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932360" y="646200"/>
            <a:ext cx="4103640" cy="2763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4932360" y="3573360"/>
            <a:ext cx="4032360" cy="329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3T07:54:28Z</dcterms:created>
  <dc:creator>User</dc:creator>
  <dc:description/>
  <dc:language>en-US</dc:language>
  <cp:lastModifiedBy>home</cp:lastModifiedBy>
  <dcterms:modified xsi:type="dcterms:W3CDTF">2020-04-06T09:36:42Z</dcterms:modified>
  <cp:revision>7</cp:revision>
  <dc:subject/>
  <dc:title>После Великой вой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3b0000000000010243100207f6000400038000</vt:lpwstr>
  </property>
</Properties>
</file>