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357-ADE8-4AB8-94B1-162556CB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F2E-644A-41D4-9A86-4AF01399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2B2-7D39-4FE9-BF76-6DECCF94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BFA-AAF2-4A82-8753-1A17D65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EE3C-5196-47B9-ABAA-4CAD4D75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C43B-7635-4607-812F-48F9FB4A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C452-2B84-441A-8272-C0E1E237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684F-5C26-444C-8BF9-5503384D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C01D-9645-44EA-8F01-097C2F4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23E4-CD40-436F-A2F5-23CF46C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42E-8EEA-42B0-BA01-1EF4EA0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D57-9C1C-4707-87B7-A074711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4ACE-8285-4ACF-A37E-80E9BD8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A20A-859F-468B-9CF4-A27895DB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DFA-4650-471B-BBB5-DC758B40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50B3-95FF-4DC7-AE74-82357699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AA32-F6EB-4DEF-840C-8E8D6367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EA1-DF47-42E7-B491-557D847B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B25-701E-4A51-B124-27792700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E15-DF0E-44E4-B4BC-C705A39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EA9-46E9-4DC3-91F9-FB0B078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DE1-C923-4F73-835A-B216B45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724-0079-4A39-A988-F828A57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376-27D1-4387-9C53-AE7CC21F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36E-118D-4FCF-98DE-4096CAB8B2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F81-A3A2-4A17-9A4D-0E44A96562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1989000"/>
            <a:ext cx="4104000" cy="609840"/>
          </a:xfrm>
          <a:prstGeom prst="wedgeRectCallout">
            <a:avLst>
              <a:gd name="adj1" fmla="val -32361"/>
              <a:gd name="adj2" fmla="val 108074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обязательные нормы, установленные государств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наруш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знаки правонаруш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ея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сознанное действие (украл) или осознанное бездействие (не уплатил налоги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тивоправ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ротиворечие действия нормам пра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инов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сихическое отношение к своему противоправному поведению (прямой умысел, косвенный умысел, самонадеянность, небрежность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бщественно-опасное дея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ущерб личности, обществу, государств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268280"/>
            <a:ext cx="82803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о вредное, виновное деяние, противоречащее нормам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950080"/>
            <a:ext cx="2376720" cy="503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уп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9640" y="5950080"/>
            <a:ext cx="2232000" cy="503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уп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еступл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ы преступлен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 степени опас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небольшой тяжести, средней тяжести, тяжкие, особо тяж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 характер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корыстные (кражи, взятки…), экономические (нарушение интересов потребителя, ущерб окружающей среде…), насильственные (убийства…), террор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гласно УП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против личности, в экономической сфере, против общественного порядка, против государственной власти, против военной службы, против мира и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о опасное деяние, запрещенное уголовным кодекс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ступ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проступ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исциплинар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в сфере служебных отношен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дминистрати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осягающие на общественные отношения, связанные с государственным управлением – нарушение правил безопасности дорожного движения, пожарной безопасности, нецензурная брань в общественных местах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ражданск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 сфере имущественных и некоторых неимущественных отношений (неисполнение обязанностей по договору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новное противоправное деяние, представляющее меньшую опасность, чем преступ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Юридическая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тупает за совершение правонару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ется государством в нормах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лагается строго определенными государственными органами, должност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ся принудительной силой госуд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еблагоприятных последствий, которые могут возникнуть у тех, кто нарушил пра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5948280"/>
            <a:ext cx="835344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– защитить права и свободы человека, обеспечить общественный порядок, наказать винов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ключают юридическую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ая об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йняя необходимость (в целях недопущения большего вре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вменяемость посягающего 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нение прик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одолимая сила (например, стихийное бедств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иды юридической ответствен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Гражданско-правов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выгодные последствия имущественного характера – возмещение вреда, уплата неустойки, штраф, пени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Дисциплинар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ложение взыскания на работника предприятия администрацией – замечание, выговор, строгий выговор, увольнение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министратив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едупреждение, штраф, лишение специальных прав, административный арест до 15 суток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голов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ерны ли следующие суждения?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 Проступки делятся на гражданские, административные, уголовные, дисциплинар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. Заведомо ложное сообщение о готовящемся террористическом акте классифицируется в РФ как преступ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и А, и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утвер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нституционное (государственное) пра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ватыва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ы конституционного стр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о-государственное устройство ст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организации и функции государственных органов и местного сам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щая отрасль права, регулирующая фундаментальные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конституцион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ьные законы («О референдуме РФ», «О Конституционном суде», «О выборах Президента РФ»…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тивные акты субъектов (Конституции республик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говора (о разграничении полномочий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557360"/>
            <a:ext cx="4537080" cy="609480"/>
          </a:xfrm>
          <a:prstGeom prst="wedgeRectCallout">
            <a:avLst>
              <a:gd name="adj1" fmla="val -59763"/>
              <a:gd name="adj2" fmla="val 59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нята 12 декабря 1993 г.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упила в силу 25 декабря 199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нципы конституцион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спубликанская форма 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ый суверенитет (источник власти – нар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оритет и нерушимость прав и свобод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ение вла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обенности правовых нор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ят общеобязатель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ы в законах и других правовых ак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ко определяют границы возможно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ются принудительной сил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тив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ы административных отнош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аппаратные отношения (руководитель – подчиненны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я между правительством и министер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я исполнительных органов с общественными организац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я исполнительных органов с граждан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т общественные отношения в сфере государственного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черты административ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менное участие какого-либо органа государственной в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юридического равенства сторон: один участник имеет права, а другой - обяза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5300640"/>
            <a:ext cx="64803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ая ответственность наступает с 16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административ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ы РФ (например, «О милици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законные акты (указы президента, постановления правительства, акты министерств и ведомст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ые а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декс об административных правонарушениях (КоАП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иды административных правонарушен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ПД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кое хищ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кое хулиганство (брань, оскорбительное отношение к людя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итие спиртных напитков  в общественны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анение наркотиков в небольших разме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тивные взыск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упреждение ( в письменной форм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раф (исходя из МРО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ездное изъятие 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фиск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ение специального права (водительское, право охоты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равительные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ест на 15 суток (кроме лиц, имеющих детей до 12 лет, беременных, инвалидов 1 и 2 гр., лиц до 18 ле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е выдворение за пределы РФ (иностранцев, лиц без гражданст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голов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280" y="1268280"/>
            <a:ext cx="900144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юридических норм, определяющих преступность и наказуемость деяний, опасных для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2565360"/>
            <a:ext cx="352872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й источник – УК Р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инят в 1997 г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565360"/>
            <a:ext cx="352908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понятия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е и наказ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4005360"/>
            <a:ext cx="4967640" cy="100800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ая ответственность – с 16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умышленные преступления – с 14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уголовных наказан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траф (от 25 до 1000 МРО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права занимать должность (до 5 ле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фискация иму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изненное 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4941720"/>
            <a:ext cx="6335640" cy="129564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 уголовного наказа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равить и перевоспит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становить социальную 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ключают уголовную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ая обор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йняя необходимость (спасая людей в экстренных ситуация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ое и психическое принуждение (связанный сторож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чинение вреда при задержании лица, совершившего преступ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нение приказа или распоря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ражданск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ражданских правоотношений: физические и юридические лица, государство, субъекты РФ, муниципальные образ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ъек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ражданских правоотношений: вещи, деньги, услуги, информация, интеллектуальная собственность, здоровь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орм, регулирующие имущественные и личные неиму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гражданск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К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ы РФ (о приватизации, о защите прав потребителей, о несостоятельности (банкротстве) предприятий, об авторском праве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341360"/>
            <a:ext cx="7561440" cy="1511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обязательное правило поведения, установленное государством и закрепленное в официальных правовых акт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068640"/>
            <a:ext cx="7561440" cy="172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расль права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правовых норм, регулирующая целую сферу однородных правовых отношений (конституционное право, трудовое право, уголовное право, административное право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941720"/>
            <a:ext cx="7561440" cy="1656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собленная группа норм внутри отрасли права (в уголовном праве: институт преступлений против жизни, здоровья, достоинства человека, институт преступлений против собственности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мущественные и личные неимущественные отнош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773360"/>
            <a:ext cx="4753080" cy="100800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ущественные отнош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аво иметь, наследовать имущество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3141720"/>
            <a:ext cx="287964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ные 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купатель – продавец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3141720"/>
            <a:ext cx="3527280" cy="792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ственные 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олжник кредито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0"/>
            <a:endCxn id="246" idx="0"/>
          </p:cNvCxnSpPr>
          <p:nvPr/>
        </p:nvCxnSpPr>
        <p:spPr>
          <a:xfrm flipV="1" rot="10800000">
            <a:off x="1762920" y="2277000"/>
            <a:ext cx="288000" cy="864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5" idx="1"/>
            <a:endCxn id="247" idx="0"/>
          </p:cNvCxnSpPr>
          <p:nvPr/>
        </p:nvCxnSpPr>
        <p:spPr>
          <a:xfrm>
            <a:off x="6803640" y="2277720"/>
            <a:ext cx="253080" cy="864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835280" y="4437000"/>
            <a:ext cx="5329080" cy="57636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чные неимущественные 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5229360"/>
            <a:ext cx="388944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не связан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имущественными отношен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храна достоинства, чест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овой репутации, интересов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5229360"/>
            <a:ext cx="388944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связан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имущественными отношен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авторские прав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ещи (имущество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Недвижи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земельные участки, участки недр, обособленные водные объекты, здания, сооружения, воздушные и морские суда, космические объекты. Подлежат государственной регист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и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деньги, ценные бумаг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делка и догов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дел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установление, изменение и прекращение определенных прав и обязанностей. Сделки бывают односторонними (доверенность) и многосторон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Догово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вид сделки, в которой участвуют две или более сторон. Виды: договор купли-продажи, дарения, мены, банковского кредита, строительного подряда, на оказание услуг, страхования, аренда земли, здан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потребител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е товары и услуги должны соответствовать стандарту и санитарным норма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отребитель имеет прав на подробную информацию о товар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На этикетке должна быть указана марка производителя с адрес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отребитель имеет право на безопасный и качественный товар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и дефектах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потребовать, чтобы недостатки были устранены в течении 20 дней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договориться об уменьшении цены на товар с продавц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заменить аналогичным, но качественным товар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возвратить товар в магазин до определенного срока и вернуть деньг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изготовител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ть срок службы ве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некоторые товары устанавливать срок го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ть гарантийный срок, в течение которого могут быть произведены ремонтные работы беспла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ет отношения между людьми в процессе трудов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и отношений – работник и работода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м трудовых правоотношений является трудовой договор (контрак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1268280"/>
            <a:ext cx="70581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сль, регулирующая отношения между работодателями и наемными работник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2637000"/>
            <a:ext cx="5688000" cy="1008000"/>
          </a:xfrm>
          <a:prstGeom prst="wedgeRectCallout">
            <a:avLst>
              <a:gd name="adj1" fmla="val -44893"/>
              <a:gd name="adj2" fmla="val 10133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государственное и муниципальное пред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коммерческая и некоммерческая орган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индивидуальный 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5589720"/>
            <a:ext cx="388944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источники – ТК РФ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РФ «О коллектив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говорах и соглашениях»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ой догов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месте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трудовой функции работника (специальность, квалификация, должн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размере заработной пл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виде трудового договора (срочный или заключенный на неопределенное врем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ые условия (другие вопросы труда, социально-бытовое обслуживание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71280"/>
            <a:ext cx="6983280" cy="405000"/>
          </a:xfrm>
          <a:prstGeom prst="wedgeRectCallout">
            <a:avLst>
              <a:gd name="adj1" fmla="val 217"/>
              <a:gd name="adj2" fmla="val 101763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ровольное соглашение между работником и работодател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бочее время и время отдых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олжительнос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бочего дн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более 40 часов в нед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молодежи от 16 до 18 лет – до 36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ростков до 16 лет – до 24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ремя отдых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рыв на обед (не более 2 ч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дневный отдых после трудового д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ходные д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зд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пуск (не менее 24 рабочих дн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пуск по семейным обстоятель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язатель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одате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лачивать тр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ть безопасность и надлежащие условия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ни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енно выполнять свою раб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людать правила внутреннего распоря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5157720"/>
            <a:ext cx="4032360" cy="1224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сциплинарные взыск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невыполнение обязательст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ечание, выговор, строг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овор, уволь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229360"/>
            <a:ext cx="3743280" cy="1079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ощр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, ценные подар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мии, государственные награ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емей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268280"/>
            <a:ext cx="7848360" cy="1584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сль, регулирующая личные неимущественные и имущественные отношения граждан, возникающие из брака, родства, усыновления, опеки и попечительства над несовершеннолетними, принятия детей в семью на воспит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3213000"/>
            <a:ext cx="38890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й источник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ейный кодекс РФ (199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4724280"/>
            <a:ext cx="91440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5445000"/>
            <a:ext cx="151272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акт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5445000"/>
            <a:ext cx="151308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5805360"/>
            <a:ext cx="151308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ов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1" idx="2"/>
            <a:endCxn id="282" idx="3"/>
          </p:cNvCxnSpPr>
          <p:nvPr/>
        </p:nvCxnSpPr>
        <p:spPr>
          <a:xfrm flipH="1">
            <a:off x="2771280" y="5229360"/>
            <a:ext cx="1681920" cy="46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1" idx="2"/>
            <a:endCxn id="284" idx="0"/>
          </p:cNvCxnSpPr>
          <p:nvPr/>
        </p:nvCxnSpPr>
        <p:spPr>
          <a:xfrm>
            <a:off x="4452840" y="5229360"/>
            <a:ext cx="13680" cy="57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1" idx="2"/>
            <a:endCxn id="283" idx="1"/>
          </p:cNvCxnSpPr>
          <p:nvPr/>
        </p:nvCxnSpPr>
        <p:spPr>
          <a:xfrm>
            <a:off x="4452840" y="5229360"/>
            <a:ext cx="1775520" cy="46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6372360" y="4437000"/>
            <a:ext cx="2447640" cy="647640"/>
          </a:xfrm>
          <a:prstGeom prst="wedgeRectCallout">
            <a:avLst>
              <a:gd name="adj1" fmla="val -35990"/>
              <a:gd name="adj2" fmla="val 10244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егистрированные в ЗАГС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расли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егулятивны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отрасли, направленные на установление прав и обязанностей (конституционное, гражданское, трудовое, семейное…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хранительны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ное пра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обеспечивает равенство между всеми субъектами (гражданское, семейное, предпринимательское прав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убличное пра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заключения брака необходимо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аимное соглас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ижение брачного возраста (18 лет, в исключительных случаях – с 16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другого зарегистрированного бр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близкого р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еспособность желающих вступить в бр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супруг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ые (выбор профессии, места жительства, выбор фамилии, совместное воспитание детей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енные (совместная собственность, собственность каждого из супругов, алиментные отношения, брачный договор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ребе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 и воспитываться в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бщение с родителями и другими родственн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жать свое мнение, которое имеет юридическое значение с 10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мя, отчество, фамил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ственности на полученные им доходы, на имущество, полученное в дар или наследуе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дительские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оспитание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ыбор ОУ и формы получения основного обще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защиту прав и интересов своих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ора имени и фамилии ребен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чи согласия на усыновлени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сыновление, опека, попечительство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сыновление (удочерение)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жду усыновленным и усыновителем устанавливаются правовые отношения, существующие между детьми и род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екун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пекают детей, не достигших 14 лет, они подотчетны и подконтрольны органам опеки и попеч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печител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ывают детей от 14 до 18 лет, они подотчетны и подконтрольны органам опеки и попеч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476360" y="5775480"/>
            <a:ext cx="583236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спитание в приемной семь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екуны (попечители) за воспитание чужих дет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учают зарпла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 какой из отраслей права формой юридической ответственности может быть лишение свободы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ск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тив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ов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он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акое из правонарушений является административным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 подписей избирателей в запрещенном ме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щение имущества, принадлежащего преступн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льсификация итогов избирательной камп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бликация статьи, порочащей честь граждан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еждународное гуманитарное пра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невские конвенции 1949 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улучшении участи раненных и больных в действующих арм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улучшении участи раненных, больных и лиц, потерпевших кораблекрушение из состава вооруженных сил на мо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обращении с военнопл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защите гражданского населения во время вой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5445000"/>
            <a:ext cx="7345440" cy="533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+ Дополнительные протоколы от 8 июня 197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рекратившие принимать участие в военных действиях, а также лица, не принимающие в них прямого участия, имеют право на уважение своей жизни, а также моральной и физической неприкоснов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ника, который сдался в плен или прекратил принимать участие в военных действиях, запрещается убивать или наносить ему увеч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и (формы)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овой обычай (обычное право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авило поведения, которое вошло в привычку и обеспечивается принудительной силой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дебный прецедент (право судей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удебное решение, случай, который становится образцом, при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тивно-правовой акт (право законодателя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фициальный документ, который создается государственными органами и содержит обязательные юридические нор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341360"/>
            <a:ext cx="7561440" cy="1079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 выражения и закрепления норм права с целью придания им юридического, общеобязательного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енные и больные должны быть подобраны, и им должна быть оказана помощь стороной, находящейся в конфликте, во власти которой они оказались. Под защитой находятся также медперсонал, санитарные учреждения, транспорт и оборудование. Знаками этой защиты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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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ятые в плен участники военных действий и гражданские лица, находящиеся во власти противника, имеют право на сохранение своей жизни, уважение своего достоинства, личных прав и убеж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якому человеку должны быть предоставлены основные судебные гарантии. Никто не может подвергаться физическим или моральным пыткам, равно как телесным наказаниям или оскорбительному, унижающему достоинству обращ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ы, находящиеся в конфликте, и лица из состава их вооруженных сил ограничены в своем праве выбора методов и средств ведения боевых действий. Запрещается применять оружие или методы ведения боевых действий, способные причинить чрезмерные повреждения или излишние стр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ы, находящиеся в конфликте, должны всегда проводить различие между гражданским населением и комбатантами для обеспечения уважения и защиты гражданского населения и гражданских объектов. Нападение должно быть направлено только против военных о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стема судопроизвод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08000" y="71280"/>
            <a:ext cx="4392720" cy="476280"/>
          </a:xfrm>
          <a:prstGeom prst="wedgeRectCallout">
            <a:avLst>
              <a:gd name="adj1" fmla="val -17870"/>
              <a:gd name="adj2" fmla="val 8799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окупность всех действующих су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484280"/>
            <a:ext cx="3311280" cy="208908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ституционный суд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меняет закон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реча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и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ушающие пра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3280" y="1484280"/>
            <a:ext cx="3311640" cy="208908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рховный суд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ейший орг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ебной власти 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м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ым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м дел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3716280"/>
            <a:ext cx="331344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7" y="3802"/>
                </a:moveTo>
                <a:lnTo>
                  <a:pt x="25036" y="3802"/>
                </a:lnTo>
                <a:lnTo>
                  <a:pt x="25036" y="-50911"/>
                </a:lnTo>
                <a:lnTo>
                  <a:pt x="17533" y="-59677"/>
                </a:ln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+ верховные суды субъектов и городские районные су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3789360"/>
            <a:ext cx="3311280" cy="237636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битражный суд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решает эконом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ы между граждан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нимающими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ниматель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ью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рганизац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4653000"/>
            <a:ext cx="4535280" cy="1440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ровые суды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жности в каче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а первой инстан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ллегиаль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ссмотрения д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и-профессионалы + присяжные засед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3284640"/>
            <a:ext cx="230328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челов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25 до 70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3284640"/>
            <a:ext cx="230328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могут бы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ьи, священ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ое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24360" y="3284640"/>
            <a:ext cx="230364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ают во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виновности 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винов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835280" y="2637000"/>
            <a:ext cx="4752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140000" y="2637000"/>
            <a:ext cx="2447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88000" y="2637000"/>
            <a:ext cx="28908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4941720"/>
            <a:ext cx="583236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сяжные заседатели принимают учас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заседаниях суда лишь по некоторым дел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ласнос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 – присутствие на заседаниях любого заинтересованного в этом деле человека (родственников, друзей, представителей С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476360" y="4437000"/>
            <a:ext cx="5832360" cy="1513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отдельных случаях слушание дела мож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ходить при закрытых дел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государственная, коммерческая тайн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обо тяжкие преступлени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авноправ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стязатель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116000" y="3429000"/>
            <a:ext cx="684216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се участники равны между собой и перед законом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 происшедшее исследуется с разных стор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едение судопроизводства на националь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258920" y="3500280"/>
            <a:ext cx="655488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ешается пользоваться услугами переводч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трасль частного права</a:t>
            </a: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логиче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иратель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риниматель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езумпция невино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187280" y="465300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иняемы не обязан доказывать свою винов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2997360"/>
            <a:ext cx="720072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судимого, по делу которого еще не вынесен приговор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льзя называть преступник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охранительные орган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1413000"/>
            <a:ext cx="3672000" cy="223200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ку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енеральная п.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субъектов РФ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городов, район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уществляет надзор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исполнени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1484280"/>
            <a:ext cx="3240000" cy="1800360"/>
          </a:xfrm>
          <a:prstGeom prst="borderCallout1">
            <a:avLst>
              <a:gd name="adj1" fmla="val 18750"/>
              <a:gd name="adj2" fmla="val -8333"/>
              <a:gd name="adj3" fmla="val 25574"/>
              <a:gd name="adj4" fmla="val -6481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неральный прокуро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начается и освобождается Советом Федерации по представлению президента на 5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4076640"/>
            <a:ext cx="3672000" cy="208908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двок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ровольное объедин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стов, созданное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вой помощ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м и юридически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076640"/>
            <a:ext cx="3671640" cy="208908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В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юсти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ИБД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инципом демократического судопроизводства является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в суде всех доказательств вины независимо от способа их пол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сность судебного разбира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в праве на защиту обвиняемым в тяжких преступл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сть отстранения судей Президен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ая куль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ный уровень развития правосознания, включающий знания законодательства, его верное понимание, соблюдение, применение, а также нетерпимое отношение к нарушителям зако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187280" y="486900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ой нигилиз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ицание роли прав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ризнание его регулирующей основой об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уктура правовой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ая психология (чувства, эмоции, настроения, который выражают отношение к пра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ая идеология (система знаний о прав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ое поведение (юридически значимое поведе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воспи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каналы правового воспит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ние основ права в школах, техникумах, вуз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ляризация знаний по праву через книги, брошюры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воспитание и само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537372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ой нигилиз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ицание роли прав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ризнание его регулирующей основой об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ормативно-правовые 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юридической силе различа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(имеет высшую юридическую сил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ьные з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законные ак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ы президента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ановления прав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азы и инструкции министер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иту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яет основы государственного строя, права и свободы гражд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ет важнейшие стороны общественн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другие законы издаются в соответствии с Конституц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ужит высшей нормой поведения граждан и государственных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отнош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268280"/>
            <a:ext cx="8280360" cy="432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я, которые регулируются правовыми норм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2276640"/>
            <a:ext cx="3456000" cy="1512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убъекты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е и юрид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989000"/>
            <a:ext cx="504036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способ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способность бы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сителем прав и обязанностей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упает с момента рождения/регист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2997360"/>
            <a:ext cx="4967280" cy="136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еспособ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способность лица своим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иями осуществлять принадлежа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му права, создавать для себя обязанн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исполнять их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упает по достижении совершенноле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81160" y="34920"/>
            <a:ext cx="5631120" cy="620640"/>
          </a:xfrm>
          <a:prstGeom prst="borderCallout1">
            <a:avLst>
              <a:gd name="adj1" fmla="val 21892"/>
              <a:gd name="adj2" fmla="val 147057"/>
              <a:gd name="adj3" fmla="val 21892"/>
              <a:gd name="adj4" fmla="val 397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чная дееспособнос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овершеннолетних (14-18) и малолетних (6-1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4724280"/>
            <a:ext cx="4392360" cy="14400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ъекты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ериальные и нематери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а, продукты интеллектуа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чества, результаты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724280"/>
            <a:ext cx="3743280" cy="1368720"/>
          </a:xfrm>
          <a:custGeom>
            <a:avLst/>
            <a:gdLst>
              <a:gd name="textAreaLeft" fmla="*/ 161280 w 3743280"/>
              <a:gd name="textAreaRight" fmla="*/ 3582000 w 3743280"/>
              <a:gd name="textAreaTop" fmla="*/ 161280 h 1368720"/>
              <a:gd name="textAreaBottom" fmla="*/ 1207440 h 1368720"/>
            </a:gdLst>
            <a:ahLst/>
            <a:rect l="textAreaLeft" t="textAreaTop" r="textAreaRight" b="textAreaBottom"/>
            <a:pathLst>
              <a:path w="590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463" y="21600"/>
                </a:lnTo>
                <a:arcTo wR="3600" hR="3600" stAng="10800000" swAng="5400000"/>
                <a:lnTo>
                  <a:pt x="59063" y="3600"/>
                </a:lnTo>
                <a:arcTo wR="3600" hR="3600" stAng="5400000" swAng="5400000"/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одержание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бъективные права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е обяза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60280"/>
            <a:ext cx="1419120" cy="682560"/>
          </a:xfrm>
          <a:prstGeom prst="wedgeRectCallout">
            <a:avLst>
              <a:gd name="adj1" fmla="val 138365"/>
              <a:gd name="adj2" fmla="val -40462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лная уголовная ответственность – с 16 лет, частичная – с 14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07-11-06T09:55:05Z</dcterms:modified>
  <cp:revision>31</cp:revision>
  <dc:subject/>
  <dc:title>PowerPoint Presentation</dc:title>
</cp:coreProperties>
</file>