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911-1507-4752-88D3-91F660C6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060-FA58-453C-8541-56788054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062-F0FB-467C-AF6E-9C7C846A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E63-E0B4-4145-B21B-EC8B919D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B945-62F2-49A3-89DC-34B35AB6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32CE-6C07-4265-B270-2FA321F2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8CAE-40F4-426B-8C2A-A23E14B9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E035-ABF6-4CE8-9DA4-ED07AEE7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146A-701C-4D3C-BAEC-D5DCFB61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1975-B893-404B-BDAB-A519168D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29B0-BC41-40A3-84DA-63412C03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EFF-FE64-4880-AF2D-777B82E4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9855-3A08-4706-9744-E0B4DFFE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6BC3-3387-47AA-9B08-D985E108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3052-60BA-4FD8-8A51-1958598A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87F8-C10C-4C61-A9E2-D0E05625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0CAE-8DF3-4531-9D23-AE770CE2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FEF-C07E-41BF-ACCE-8A7E8C33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95C-5D32-49D6-8FD4-BF82EBBD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445-3686-4443-B262-71FA0A4E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1F9-6779-48F2-88BE-F4BEA929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AEA-C352-4947-AC71-3169DD5C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8C5-CB36-4E92-B4F4-4C8B60B5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AAE-635F-4F36-A82F-D2F8ED07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D8B0-1ECB-479A-B79A-4DF0E1D4F53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F86F-A46A-4A08-9176-F1EDF209E8D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vechnikov-sk@mail.r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ПРАВО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С.К. Свечников, 2006-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ea typeface="Arial"/>
                <a:hlinkClick r:id="rId1"/>
              </a:rPr>
              <a:t>svechnikov-sk@mail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1989000"/>
            <a:ext cx="4104000" cy="609840"/>
          </a:xfrm>
          <a:prstGeom prst="wedgeRectCallout">
            <a:avLst>
              <a:gd name="adj1" fmla="val -32361"/>
              <a:gd name="adj2" fmla="val 108074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щеобязательные нормы, установленные государств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наруш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знаки правонаруш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Дея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осознанное действие (украл) или осознанное бездействие (не уплатил налоги)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ротивоправн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противоречие действия нормам прав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иновн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психическое отношение к своему противоправному поведению (прямой умысел, косвенный умысел, самонадеянность, небрежность)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бщественно-опасное дея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ущерб личности, обществу, государств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268280"/>
            <a:ext cx="828036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ественно вредное, виновное деяние, противоречащее нормам пра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5950080"/>
            <a:ext cx="2376720" cy="503280"/>
          </a:xfrm>
          <a:prstGeom prst="flowChartProcess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ступ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9640" y="5950080"/>
            <a:ext cx="2232000" cy="503280"/>
          </a:xfrm>
          <a:prstGeom prst="flowChartProcess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ступ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еступл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ды преступлени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 степени опас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небольшой тяжести, средней тяжести, тяжкие, особо тяж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 характер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корыстные (кражи, взятки…), экономические (нарушение интересов потребителя, ущерб окружающей среде…), насильственные (убийства…), террориз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огласно УП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против личности, в экономической сфере, против общественного порядка, против государственной власти, против военной службы, против мира и безопас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ественно опасное деяние, запрещенное уголовным кодекс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ступо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иды проступк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Дисциплинар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в сфере служебных отношений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дминистратив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посягающие на общественные отношения, связанные с государственным управлением – нарушение правил безопасности дорожного движения, пожарной безопасности, нецензурная брань в общественных местах…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Граждански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в сфере имущественных и некоторых неимущественных отношений (неисполнение обязанностей по договору)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новное противоправное деяние, представляющее меньшую опасность, чем преступ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Юридическая ответственност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ступает за совершение правонару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авливается государством в нормах пра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лагается строго определенными государственными органами, должностными лиц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ивается принудительной силой государ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окупность неблагоприятных последствий, которые могут возникнуть у тех, кто нарушил пра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5948280"/>
            <a:ext cx="835344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ь – защитить права и свободы человека, обеспечить общественный порядок, наказать винов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сключают юридическую ответственност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бходимая обор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йняя необходимость (в целях недопущения большего вред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вменяемость посягающего 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нение прик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преодолимая сила (например, стихийное бедстви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иды юридической ответственност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Гражданско-правов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евыгодные последствия имущественного характера – возмещение вреда, уплата неустойки, штраф, пени…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Дисциплинар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аложение взыскания на работника предприятия администрацией – замечание, выговор, строгий выговор, увольнение…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Административ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предупреждение, штраф, лишение специальных прав, административный арест до 15 суток…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Уголов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2400" spc="1" strike="noStrike">
              <a:ln w="9360">
                <a:solidFill>
                  <a:srgbClr val="c0c0c0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Верны ли следующие суждения?</a:t>
            </a: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. Проступки делятся на гражданские, административные, уголовные, дисциплинар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. Заведомо ложное сообщение о готовящемся террористическом акте классифицируется в РФ как преступ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и А, и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а утверждения невер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онституционное (государственное) прав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хватыва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ы конституционного стро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о-государственное устройство стр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ядок организации и функции государственных органов и местного само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ущая отрасль права, регулирующая фундаментальные об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сточники конституционного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едеральные законы («О референдуме РФ», «О Конституционном суде», «О выборах Президента РФ»…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рмативные акты субъектов (Конституции республик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говора (о разграничении полномочий и др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780000" y="1557360"/>
            <a:ext cx="4537080" cy="609480"/>
          </a:xfrm>
          <a:prstGeom prst="wedgeRectCallout">
            <a:avLst>
              <a:gd name="adj1" fmla="val -59763"/>
              <a:gd name="adj2" fmla="val 599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нята 12 декабря 1993 г.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тупила в силу 25 декабря 1993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инципы конституционного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спубликанская форма 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одный суверенитет (источник власти – народ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оритет и нерушимость прав и свобод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ение вла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едерал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обенности правовых нор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сят общеобязательный харак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ены в законах и других правовых ак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ко определяют границы возможного п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ируются принудительной силой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дминистративное 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ды административных отношени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утриаппаратные отношения (руководитель – подчиненны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шения между правительством и министерств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заимодействия исполнительных органов с общественными организац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заимодействия исполнительных органов с граждан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ирует общественные отношения в сфере государственного 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черты административного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пременное участие какого-либо органа государственной вла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сутствие юридического равенства сторон: один участник имеет права, а другой - обяза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403280" y="5300640"/>
            <a:ext cx="648036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тивная ответственность наступает с 16 л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сточники административного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я Р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ы РФ (например, «О милиции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законные акты (указы президента, постановления правительства, акты министерств и ведомст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ые а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одекс об административных правонарушениях (КоАП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иды административных правонарушени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е ПД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кое хищ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кое хулиганство (брань, оскорбительное отношение к людям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питие спиртных напитков  в общественных мест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ранение наркотиков в небольших размер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дминистративные взыск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упреждение ( в письменной форм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траф (исходя из МРО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мездное изъятие 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фиск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шение специального права (водительское, право охоты…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равительные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ест на 15 суток (кроме лиц, имеющих детей до 12 лет, беременных, инвалидов 1 и 2 гр., лиц до 18 ле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тивное выдворение за пределы РФ (иностранцев, лиц без гражданств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Уголовное 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280" y="1268280"/>
            <a:ext cx="900144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окупность юридических норм, определяющих преступность и наказуемость деяний, опасных для об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2565360"/>
            <a:ext cx="3528720" cy="8636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ой источник – УК Р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ринят в 1997 г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2565360"/>
            <a:ext cx="3529080" cy="8636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ые понятия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ступление и наказ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4005360"/>
            <a:ext cx="4967640" cy="1008000"/>
          </a:xfrm>
          <a:prstGeom prst="bevel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овная ответственность – с 16 л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 умышленные преступления – с 14 л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иды уголовных наказани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траф (от 25 до 1000 МРОТ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шение права занимать должность (до 5 лет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фискация иму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шение своб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жизненное заключ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1476360" y="4941720"/>
            <a:ext cx="6335640" cy="1295640"/>
          </a:xfrm>
          <a:prstGeom prst="bevel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ль уголовного наказан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равить и перевоспит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становить социальную справедлив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сключают уголовную ответственност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бходимая оборо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йняя необходимость (спасая людей в экстренных ситуация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ое и психическое принуждение (связанный сторож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чинение вреда при задержании лица, совершившего преступл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нение приказа или распоря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ражданское 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частни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гражданских правоотношений: физические и юридические лица, государство, субъекты РФ, муниципальные образ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ъек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гражданских правоотношений: вещи, деньги, услуги, информация, интеллектуальная собственность, здоровье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826920" y="1268280"/>
            <a:ext cx="770580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окупность норм, регулирующие имущественные и личные неиму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сточники гражданского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я Р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К Р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ы РФ (о приватизации, о защите прав потребителей, о несостоятельности (банкротстве) предприятий, об авторском праве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1341360"/>
            <a:ext cx="7561440" cy="1511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рма пра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еобязательное правило поведения, установленное государством и закрепленное в официальных правовых акта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068640"/>
            <a:ext cx="7561440" cy="1728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расль права (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~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окупность правовых норм, регулирующая целую сферу однородных правовых отношений (конституционное право, трудовое право, уголовное право, административное право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4941720"/>
            <a:ext cx="7561440" cy="1656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ститут пра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собленная группа норм внутри отрасли права (в уголовном праве: институт преступлений против жизни, здоровья, достоинства человека, институт преступлений против собственности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мущественные и личные неимущественные отнош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1773360"/>
            <a:ext cx="4753080" cy="1008000"/>
          </a:xfrm>
          <a:prstGeom prst="bevel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мущественные отнош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раво иметь, наследовать имущество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3141720"/>
            <a:ext cx="2879640" cy="8636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щные отнош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окупатель – продавец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92720" y="3141720"/>
            <a:ext cx="3527280" cy="792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ственные отнош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должник кредитор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0"/>
            <a:endCxn id="246" idx="0"/>
          </p:cNvCxnSpPr>
          <p:nvPr/>
        </p:nvCxnSpPr>
        <p:spPr>
          <a:xfrm flipV="1" rot="10800000">
            <a:off x="1762920" y="2277000"/>
            <a:ext cx="288000" cy="864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5" idx="1"/>
            <a:endCxn id="247" idx="0"/>
          </p:cNvCxnSpPr>
          <p:nvPr/>
        </p:nvCxnSpPr>
        <p:spPr>
          <a:xfrm>
            <a:off x="6803640" y="2277720"/>
            <a:ext cx="253080" cy="864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1835280" y="4437000"/>
            <a:ext cx="5329080" cy="576360"/>
          </a:xfrm>
          <a:prstGeom prst="bevel">
            <a:avLst>
              <a:gd name="adj" fmla="val 1250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ичные неимущественные отнош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5229360"/>
            <a:ext cx="3889440" cy="11523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посредственно не связан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имущественными отношени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охрана достоинства, чест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овой репутации, интересов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5229360"/>
            <a:ext cx="3889440" cy="11523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посредственно связан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имущественными отношени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авторские прав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ещи (имущество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Недвижим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земельные участки, участки недр, обособленные водные объекты, здания, сооружения, воздушные и морские суда, космические объекты. Подлежат государственной регистр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вижим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деньги, ценные бумаги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делка и догов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дел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установление, изменение и прекращение определенных прав и обязанностей. Сделки бывают односторонними (доверенность) и многосторонн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Догово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вид сделки, в которой участвуют две или более сторон. Виды: договор купли-продажи, дарения, мены, банковского кредита, строительного подряда, на оказание услуг, страхования, аренда земли, здани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потребител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е товары и услуги должны соответствовать стандарту и санитарным нормам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отребитель имеет прав на подробную информацию о товаре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На этикетке должна быть указана марка производителя с адресом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отребитель имеет право на безопасный и качественный товар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и дефектах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аво потребовать, чтобы недостатки были устранены в течении 20 дней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аво договориться об уменьшении цены на товар с продавцом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аво заменить аналогичным, но качественным товаром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Право возвратить товар в магазин до определенного срока и вернуть деньги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изготовител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анавливать срок службы ве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некоторые товары устанавливать срок год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анавливать гарантийный срок, в течение которого могут быть произведены ремонтные работы бесплат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рудовое 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ирует отношения между людьми в процессе трудовой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ники отношений – работник и работодат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нием трудовых правоотношений является трудовой договор (контрак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1268280"/>
            <a:ext cx="7058160" cy="720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расль, регулирующая отношения между работодателями и наемными работник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2637000"/>
            <a:ext cx="5688000" cy="1008000"/>
          </a:xfrm>
          <a:prstGeom prst="wedgeRectCallout">
            <a:avLst>
              <a:gd name="adj1" fmla="val -44893"/>
              <a:gd name="adj2" fmla="val 10133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) государственное и муниципальное предприят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) коммерческая и некоммерческая орган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) индивидуальный предпринима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5589720"/>
            <a:ext cx="388944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ые источники – ТК РФ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он РФ «О коллектив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говорах и соглашениях»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рудовой догов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лашение о месте р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лашение о трудовой функции работника (специальность, квалификация, должность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лашение о размере заработной пла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лашение о виде трудового договора (срочный или заключенный на неопределенное врем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полнительные условия (другие вопросы труда, социально-бытовое обслуживание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332000" y="71280"/>
            <a:ext cx="6983280" cy="405000"/>
          </a:xfrm>
          <a:prstGeom prst="wedgeRectCallout">
            <a:avLst>
              <a:gd name="adj1" fmla="val 217"/>
              <a:gd name="adj2" fmla="val 101763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бровольное соглашение между работником и работодател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бочее время и время отдых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должительност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рабочего дн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 более 40 часов в недел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молодежи от 16 до 18 лет – до 36 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одростков до 16 лет – до 24 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ремя отдых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рыв на обед (не более 2 ч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жедневный отдых после трудового д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ходные д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здн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пуск (не менее 24 рабочих дне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пуск по семейным обстоятельств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бязательст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одате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лачивать тру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ить безопасность и надлежащие условия тр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ни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чественно выполнять свою раб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блюдать правила внутреннего распоряд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5157720"/>
            <a:ext cx="4032360" cy="1224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исциплинарные взыск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невыполнение обязательств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мечание, выговор, строг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говор, уволь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5229360"/>
            <a:ext cx="3743280" cy="10792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ощрен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дарность, ценные подарк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мии, государственные награ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емейное 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1268280"/>
            <a:ext cx="7848360" cy="1584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расль, регулирующая личные неимущественные и имущественные отношения граждан, возникающие из брака, родства, усыновления, опеки и попечительства над несовершеннолетними, принятия детей в семью на воспит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56000" y="3213000"/>
            <a:ext cx="388908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ой источник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мейный кодекс РФ (199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4724280"/>
            <a:ext cx="914400" cy="50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ра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58920" y="5445000"/>
            <a:ext cx="1512720" cy="50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акт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27640" y="5445000"/>
            <a:ext cx="1513080" cy="50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08360" y="5805360"/>
            <a:ext cx="1513080" cy="50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рков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1" idx="2"/>
            <a:endCxn id="282" idx="3"/>
          </p:cNvCxnSpPr>
          <p:nvPr/>
        </p:nvCxnSpPr>
        <p:spPr>
          <a:xfrm flipH="1">
            <a:off x="2771280" y="5229360"/>
            <a:ext cx="1681920" cy="46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81" idx="2"/>
            <a:endCxn id="284" idx="0"/>
          </p:cNvCxnSpPr>
          <p:nvPr/>
        </p:nvCxnSpPr>
        <p:spPr>
          <a:xfrm>
            <a:off x="4452840" y="5229360"/>
            <a:ext cx="13680" cy="576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1" idx="2"/>
            <a:endCxn id="283" idx="1"/>
          </p:cNvCxnSpPr>
          <p:nvPr/>
        </p:nvCxnSpPr>
        <p:spPr>
          <a:xfrm>
            <a:off x="4452840" y="5229360"/>
            <a:ext cx="1775520" cy="46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6372360" y="4437000"/>
            <a:ext cx="2447640" cy="647640"/>
          </a:xfrm>
          <a:prstGeom prst="wedgeRectCallout">
            <a:avLst>
              <a:gd name="adj1" fmla="val -35990"/>
              <a:gd name="adj2" fmla="val 102449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регистрированные в ЗАГС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трасли пра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Регулятивны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отрасли, направленные на установление прав и обязанностей (конституционное, гражданское, трудовое, семейное…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хранительны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ное прав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обеспечивает равенство между всеми субъектами (гражданское, семейное, предпринимательское прав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убличное прав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ля заключения брака необходимо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аимное соглас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стижение брачного возраста (18 лет, в исключительных случаях – с 16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сутствие другого зарегистрированного бр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сутствие близкого р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еспособность желающих вступить в бр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супруг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ые (выбор профессии, места жительства, выбор фамилии, совместное воспитание детей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ущественные (совместная собственность, собственность каждого из супругов, алиментные отношения, брачный договор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ребен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ть и воспитываться в сем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общение с родителями и другими родственни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ажать свое мнение, которое имеет юридическое значение с 10 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имя, отчество, фамил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бственности на полученные им доходы, на имущество, полученное в дар или наследуем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одительские пра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воспитание де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выбор ОУ и формы получения основного общего образ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защиту прав и интересов своих де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бора имени и фамилии ребен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чи согласия на усыновлени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Усыновление, опека, попечительство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сыновление (удочерение)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ежду усыновленным и усыновителем устанавливаются правовые отношения, существующие между детьми и родител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екуны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пекают детей, не достигших 14 лет, они подотчетны и подконтрольны органам опеки и попечитель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печители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оспитывают детей от 14 до 18 лет, они подотчетны и подконтрольны органам опеки и попечитель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1476360" y="5775480"/>
            <a:ext cx="583236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спитание в приемной семье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екуны (попечители) за воспитание чужих дете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учают зарплат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2400" spc="1" strike="noStrike">
              <a:ln w="9360">
                <a:solidFill>
                  <a:srgbClr val="c0c0c0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В какой из отраслей права формой юридической ответственности может быть лишение свободы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жданское пра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дминистративное пра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оловное пра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онное пра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2400" spc="1" strike="noStrike">
              <a:ln w="9360">
                <a:solidFill>
                  <a:srgbClr val="c0c0c0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Какое из правонарушений является административным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бор подписей избирателей в запрещенном ме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ищение имущества, принадлежащего преступни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альсификация итогов избирательной кампа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убликация статьи, порочащей честь граждан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еждународное гуманитарное прав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еневские конвенции 1949 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 улучшении участи раненных и больных в действующих арми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 улучшении участи раненных, больных и лиц, потерпевших кораблекрушение из состава вооруженных сил на мо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 обращении с военнопленны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защите гражданского населения во время вой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539640" y="5445000"/>
            <a:ext cx="7345440" cy="5335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+ Дополнительные протоколы от 8 июня 1977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а, прекратившие принимать участие в военных действиях, а также лица, не принимающие в них прямого участия, имеют право на уважение своей жизни, а также моральной и физической неприкоснове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ивника, который сдался в плен или прекратил принимать участие в военных действиях, запрещается убивать или наносить ему увеч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точники (формы) пра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овой обычай (обычное право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равило поведения, которое вошло в привычку и обеспечивается принудительной силой государ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дебный прецедент (право судей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судебное решение, случай, который становится образцом, приме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рмативно-правовой акт (право законодателя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официальный документ, который создается государственными органами и содержит обязательные юридические нор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1341360"/>
            <a:ext cx="7561440" cy="1079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а выражения и закрепления норм права с целью придания им юридического, общеобязательного пра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ненные и больные должны быть подобраны, и им должна быть оказана помощь стороной, находящейся в конфликте, во власти которой они оказались. Под защитой находятся также медперсонал, санитарные учреждения, транспорт и оборудование. Знаками этой защиты явля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Wingdings 2"/>
                <a:ea typeface="Wingdings 2"/>
              </a:rPr>
              <a:t>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Wingdings 2"/>
                <a:ea typeface="Wingdings 2"/>
              </a:rPr>
              <a:t>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Wingdings 2"/>
                <a:ea typeface="Wingdings 2"/>
              </a:rPr>
              <a:t>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ятые в плен участники военных действий и гражданские лица, находящиеся во власти противника, имеют право на сохранение своей жизни, уважение своего достоинства, личных прав и убежд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якому человеку должны быть предоставлены основные судебные гарантии. Никто не может подвергаться физическим или моральным пыткам, равно как телесным наказаниям или оскорбительному, унижающему достоинству обраще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роны, находящиеся в конфликте, и лица из состава их вооруженных сил ограничены в своем праве выбора методов и средств ведения боевых действий. Запрещается применять оружие или методы ведения боевых действий, способные причинить чрезмерные повреждения или излишние стра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0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новные положения МГ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роны, находящиеся в конфликте, должны всегда проводить различие между гражданским населением и комбатантами для обеспечения уважения и защиты гражданского населения и гражданских объектов. Нападение должно быть направлено только против военных объе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0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стема судопроизводст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08000" y="71280"/>
            <a:ext cx="4392720" cy="476280"/>
          </a:xfrm>
          <a:prstGeom prst="wedgeRectCallout">
            <a:avLst>
              <a:gd name="adj1" fmla="val -17870"/>
              <a:gd name="adj2" fmla="val 87999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окупность всех действующих су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1484280"/>
            <a:ext cx="3311280" cy="2089080"/>
          </a:xfrm>
          <a:prstGeom prst="bevel">
            <a:avLst>
              <a:gd name="adj" fmla="val 569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ституционный суд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меняет законы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оречащ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ституции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ушающие пра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3280" y="1484280"/>
            <a:ext cx="3311640" cy="2089080"/>
          </a:xfrm>
          <a:prstGeom prst="bevel">
            <a:avLst>
              <a:gd name="adj" fmla="val 569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рховный суд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жнейший орг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дебной власти п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ским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овным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ским дел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3280" y="3716280"/>
            <a:ext cx="3313440" cy="6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97" y="3802"/>
                </a:moveTo>
                <a:lnTo>
                  <a:pt x="25036" y="3802"/>
                </a:lnTo>
                <a:lnTo>
                  <a:pt x="25036" y="-50911"/>
                </a:lnTo>
                <a:lnTo>
                  <a:pt x="17533" y="-59677"/>
                </a:lnTo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+ верховные суды субъектов и городские районные су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4360" y="3789360"/>
            <a:ext cx="3311280" cy="2376360"/>
          </a:xfrm>
          <a:prstGeom prst="bevel">
            <a:avLst>
              <a:gd name="adj" fmla="val 5690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рбитражный суд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решает эконом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ры между гражданам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нимающими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ринимательск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ятельностью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организаци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84720" y="4653000"/>
            <a:ext cx="4535280" cy="1440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ровые суды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матривают гражданские, уголовные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дминистративные дела незначительн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жности в качест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да первой инстан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принципы судопроизвод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оллегиаль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рассмотрения д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и-профессионалы + присяжные заседате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468360" y="3284640"/>
            <a:ext cx="2303280" cy="86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 челове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25 до 70 л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59280" y="3284640"/>
            <a:ext cx="2303280" cy="86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могут бы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дьи, священ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вое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24360" y="3284640"/>
            <a:ext cx="2303640" cy="865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ают воп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 виновности и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винов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835280" y="2637000"/>
            <a:ext cx="475272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140000" y="2637000"/>
            <a:ext cx="244764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88000" y="2637000"/>
            <a:ext cx="28908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4941720"/>
            <a:ext cx="5832360" cy="10083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сяжные заседатели принимают участ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заседаниях суда лишь по некоторым дел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принципы судопроизвод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ласнос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ь – присутствие на заседаниях любого заинтересованного в этом деле человека (родственников, друзей, представителей С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1476360" y="4437000"/>
            <a:ext cx="5832360" cy="1513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отдельных случаях слушание дела мож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ходить при закрытых дел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государственная, коммерческая тайн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обо тяжкие преступления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принципы судопроизвод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авноправ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остязатель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ор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1116000" y="3429000"/>
            <a:ext cx="684216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се участники равны между собой и перед законом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 происшедшее исследуется с разных стор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принципы судопроизвод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едение судопроизводства на национальном язы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1258920" y="3500280"/>
            <a:ext cx="6554880" cy="10083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решается пользоваться услугами переводч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2400" spc="1" strike="noStrike">
              <a:ln w="9360">
                <a:solidFill>
                  <a:srgbClr val="c0c0c0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трасль частного права</a:t>
            </a: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ологическ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биратель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нансо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принимательск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сновные принципы судопроизвод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резумпция невино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187280" y="4653000"/>
            <a:ext cx="655488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виняемы не обязан доказывать свою винов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71640" y="2997360"/>
            <a:ext cx="720072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дсудимого, по делу которого еще не вынесен приговор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льзя называть преступник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охранительные орган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1413000"/>
            <a:ext cx="3672000" cy="2232000"/>
          </a:xfrm>
          <a:prstGeom prst="bevel">
            <a:avLst>
              <a:gd name="adj" fmla="val 6718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кура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Генеральная п.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. субъектов РФ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. городов, районов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уществляет надзор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 исполнени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о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92720" y="1484280"/>
            <a:ext cx="3240000" cy="1800360"/>
          </a:xfrm>
          <a:prstGeom prst="borderCallout1">
            <a:avLst>
              <a:gd name="adj1" fmla="val 18750"/>
              <a:gd name="adj2" fmla="val -8333"/>
              <a:gd name="adj3" fmla="val 25574"/>
              <a:gd name="adj4" fmla="val -64819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енеральный прокуро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значается и освобождается Советом Федерации по представлению президента на 5 л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4076640"/>
            <a:ext cx="3672000" cy="2089080"/>
          </a:xfrm>
          <a:prstGeom prst="bevel">
            <a:avLst>
              <a:gd name="adj" fmla="val 6718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двока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бровольное объедин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стов, созданное дл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овой помощ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зическим и юридическим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ц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88000" y="4076640"/>
            <a:ext cx="3671640" cy="2089080"/>
          </a:xfrm>
          <a:prstGeom prst="bevel">
            <a:avLst>
              <a:gd name="adj" fmla="val 6718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В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истерство юсти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ИБД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0c0c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2400" spc="1" strike="noStrike">
              <a:ln w="9360">
                <a:solidFill>
                  <a:srgbClr val="c0c0c0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Принципом демократического судопроизводства является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в суде всех доказательств вины независимо от способа их полу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сность судебного разбиратель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аз в праве на защиту обвиняемым в тяжких преступл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можность отстранения судей Президент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вая культу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ный уровень развития правосознания, включающий знания законодательства, его верное понимание, соблюдение, применение, а также нетерпимое отношение к нарушителям зако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1187280" y="4869000"/>
            <a:ext cx="655488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вой нигилиз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ицание роли прав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признание его регулирующей основой обще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руктура правовой культу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вая психология (чувства, эмоции, настроения, который выражают отношение к прав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вая идеология (система знаний о прав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вое поведение (юридически значимое поведени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вое воспит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каналы правового воспит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подавание основ права в школах, техникумах, вуз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уляризация знаний по праву через книги, брошюры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воспитание и самообраз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1042920" y="5373720"/>
            <a:ext cx="6554880" cy="1008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вой нигилиз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ицание роли прав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признание его регулирующей основой обще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ормативно-правовые ак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юридической силе различа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титуция (имеет высшую юридическую сил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едеральные зако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законные ак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казы президента Р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ановления правитель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казы и инструкции министер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нститу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яет основы государственного строя, права и свободы гражд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ирует важнейшие стороны общественной жиз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 другие законы издаются в соответствии с Конституц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ужит высшей нормой поведения граждан и государственных организ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отнош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268280"/>
            <a:ext cx="8280360" cy="432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шения, которые регулируются правовыми норм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8000" y="2276640"/>
            <a:ext cx="3456000" cy="15127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убъекты правоотношен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зические и юрид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ц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1989000"/>
            <a:ext cx="5040360" cy="8636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способно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способность быт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сителем прав и обязанностей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ступает с момента рождения/регист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2997360"/>
            <a:ext cx="4967280" cy="13683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еспособно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способность лица своим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йствиями осуществлять принадлежащ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му права, создавать для себя обязанн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исполнять их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ступает по достижении совершенноле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81160" y="34920"/>
            <a:ext cx="5631120" cy="620640"/>
          </a:xfrm>
          <a:prstGeom prst="borderCallout1">
            <a:avLst>
              <a:gd name="adj1" fmla="val 21892"/>
              <a:gd name="adj2" fmla="val 147057"/>
              <a:gd name="adj3" fmla="val 21892"/>
              <a:gd name="adj4" fmla="val 397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ичная дееспособност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совершеннолетних (14-18) и малолетних (6-1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4724280"/>
            <a:ext cx="4392360" cy="144000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бъекты правоотношен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териальные и нематериаль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а, продукты интеллектуа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ворчества, результаты действ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724280"/>
            <a:ext cx="3743280" cy="1368720"/>
          </a:xfrm>
          <a:custGeom>
            <a:avLst/>
            <a:gdLst>
              <a:gd name="textAreaLeft" fmla="*/ 161280 w 3743280"/>
              <a:gd name="textAreaRight" fmla="*/ 3582000 w 3743280"/>
              <a:gd name="textAreaTop" fmla="*/ 161280 h 1368720"/>
              <a:gd name="textAreaBottom" fmla="*/ 1207440 h 1368720"/>
            </a:gdLst>
            <a:ahLst/>
            <a:rect l="textAreaLeft" t="textAreaTop" r="textAreaRight" b="textAreaBottom"/>
            <a:pathLst>
              <a:path w="590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5463" y="21600"/>
                </a:lnTo>
                <a:arcTo wR="3600" hR="3600" stAng="10800000" swAng="5400000"/>
                <a:lnTo>
                  <a:pt x="59063" y="3600"/>
                </a:lnTo>
                <a:arcTo wR="3600" hR="3600" stAng="5400000" swAng="5400000"/>
                <a:close/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одержание правоотношен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бъективные права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ие обязан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260280"/>
            <a:ext cx="1419120" cy="682560"/>
          </a:xfrm>
          <a:prstGeom prst="wedgeRectCallout">
            <a:avLst>
              <a:gd name="adj1" fmla="val 138365"/>
              <a:gd name="adj2" fmla="val -40462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олная уголовная ответственность – с 16 лет, частичная – с 14 ле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07-11-06T09:55:05Z</dcterms:modified>
  <cp:revision>31</cp:revision>
  <dc:subject/>
  <dc:title>PowerPoint Presentation</dc:title>
</cp:coreProperties>
</file>