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gif" ContentType="image/gif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5.wmf" ContentType="image/x-wmf"/>
  <Override PartName="/ppt/media/image24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B9C-9AC5-4DA0-BAF0-A25F7DDF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641-4E5D-4F3D-9FB2-D0149B3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1A8-CCC6-41F2-A4C2-B56C323E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9A0-2EC6-4C00-81CC-9ADD4EF5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C0C1-B432-4AAB-8A01-443473F7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B3BC-38C4-4929-A0D4-AE4B0FAE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03C1-D4BA-4B03-AA14-6D0EEF69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311-1906-4A66-9FD5-570C6321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4AB7-E6F1-43FE-B86D-D3D086CA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B28B-11A3-42AA-993B-31F3BDEF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512A-E316-4368-A543-44387C2F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757-C806-44E7-95B7-A2089BFD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2EAB-E50B-47F4-9C6B-64CD8E9F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4115-B39C-4A18-806A-0C1EF235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4DD1-37E9-445A-91DD-1CE0411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D24B-A4CC-478F-B77B-74B1A364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6136-143E-449D-AC3E-BE01F926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07EA-7CDA-4B1D-8872-E7E1B4F4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FE5E-A4D2-4619-AD68-5B491C3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7975-08EF-43BF-8127-C4575238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8094-628E-4F7F-8B9E-83C14A2D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9C97-3C7E-49E0-9C9E-DAB1A4FA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393-BF60-41EA-969E-5F77E325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DD7F-7128-4CD2-AF0A-C9E3EFD5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4D93-85E8-45DA-AC72-513115A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752C-3E56-4F31-86A5-7614EE0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CA69-8B8A-4B51-B4F3-1E56ABC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6C70-5C93-4AA8-9695-416D9E79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4178-F730-4383-9B57-437C8C4E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BB6D-AA97-4097-9D29-AA7C3DEB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2FD6-F1F3-4891-BB95-36AE3750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EA8C-3781-41AA-9D5E-6C6A75E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8A93-BB9A-48C3-8097-9D17A26C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2CA-17EB-4203-AB06-023454D5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F31B-225C-4090-9729-494B897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D8D67-2100-46D4-B450-1552E27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72C4-6D23-43E6-B076-E5513F65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FFDB-1984-4970-AA70-4C145DC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439D-85BE-4E36-9A2C-BA8724D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4953-7105-43F9-8EE0-54F90006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F4B9-E215-4E91-A507-47A8B560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38309-CFCC-4083-A9EF-71CE0358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84FA-8326-4762-A1DD-0225F52B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9D5-9554-4BA9-8C96-91D67971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E55-88FD-45C0-B80E-0825FD62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D61-FFCA-415C-A921-24CFA8AE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7F7-0DF1-4303-9CC6-3D39A7C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54D-8C92-47BC-96AC-8258C32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1DB9-AE14-4EAA-8A4B-5B7E1380B2D8}" type="slidenum">
              <a:rPr b="1" lang="ru-RU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9C77-D490-4B31-8269-84F490B9841E}" type="slidenum">
              <a:rPr b="1" lang="ru-RU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8EF8-1DF1-45CA-92F3-51B73B5D827D}" type="slidenum">
              <a:rPr b="1" lang="ru-RU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A0E4-DF24-4C6A-B3CE-35DE6595A658}" type="slidenum">
              <a:rPr b="1" lang="ru-RU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E:\рисунок 5.gif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4601546031433"/>
          <p:cNvPicPr/>
          <p:nvPr/>
        </p:nvPicPr>
        <p:blipFill>
          <a:blip r:embed="rId2"/>
          <a:stretch/>
        </p:blipFill>
        <p:spPr>
          <a:xfrm rot="20740200">
            <a:off x="118800" y="4233600"/>
            <a:ext cx="3173400" cy="19047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"/>
          <p:cNvSpPr/>
          <p:nvPr/>
        </p:nvSpPr>
        <p:spPr>
          <a:xfrm>
            <a:off x="2050920" y="20520"/>
            <a:ext cx="68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Дорогу осилит идущий, а математику думающий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8"/>
          <p:cNvSpPr txBox="1"/>
          <p:nvPr/>
        </p:nvSpPr>
        <p:spPr>
          <a:xfrm>
            <a:off x="357120" y="357120"/>
            <a:ext cx="6324840" cy="18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8" name="Picture 10" descr="de06_01_02"/>
          <p:cNvPicPr/>
          <p:nvPr/>
        </p:nvPicPr>
        <p:blipFill>
          <a:blip r:embed="rId1"/>
          <a:stretch/>
        </p:blipFill>
        <p:spPr>
          <a:xfrm>
            <a:off x="857160" y="2428920"/>
            <a:ext cx="2132280" cy="2952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MC900310420[1]"/>
          <p:cNvPicPr/>
          <p:nvPr/>
        </p:nvPicPr>
        <p:blipFill>
          <a:blip r:embed="rId2"/>
          <a:stretch/>
        </p:blipFill>
        <p:spPr>
          <a:xfrm>
            <a:off x="7215120" y="428760"/>
            <a:ext cx="1719360" cy="1944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д"/>
          <p:cNvPicPr/>
          <p:nvPr/>
        </p:nvPicPr>
        <p:blipFill>
          <a:blip r:embed="rId3"/>
          <a:stretch/>
        </p:blipFill>
        <p:spPr>
          <a:xfrm>
            <a:off x="5000760" y="2786040"/>
            <a:ext cx="229068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214200" y="260280"/>
            <a:ext cx="81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857160" y="3002040"/>
            <a:ext cx="7143840" cy="2179440"/>
          </a:xfrm>
          <a:prstGeom prst="flowChartPunchedTape">
            <a:avLst/>
          </a:prstGeom>
          <a:solidFill>
            <a:srgbClr val="ffffff"/>
          </a:solidFill>
          <a:ln w="15840">
            <a:solidFill>
              <a:srgbClr val="293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п. 19 (1,2 свойства – повторить),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тепень с нулевым показателем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амостоятельно, № 404,4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7" descr="MP900341959[1]"/>
          <p:cNvPicPr/>
          <p:nvPr/>
        </p:nvPicPr>
        <p:blipFill>
          <a:blip r:embed="rId1"/>
          <a:stretch/>
        </p:blipFill>
        <p:spPr>
          <a:xfrm>
            <a:off x="6948360" y="260280"/>
            <a:ext cx="2016360" cy="1679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882720" y="1100160"/>
            <a:ext cx="2046240" cy="1901880"/>
          </a:xfrm>
          <a:prstGeom prst="rect">
            <a:avLst/>
          </a:prstGeom>
          <a:ln w="0">
            <a:noFill/>
          </a:ln>
        </p:spPr>
      </p:pic>
      <p:sp>
        <p:nvSpPr>
          <p:cNvPr id="275" name="Равнобедренный треугольник 3"/>
          <p:cNvSpPr/>
          <p:nvPr/>
        </p:nvSpPr>
        <p:spPr>
          <a:xfrm>
            <a:off x="1332000" y="47242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8" descr="р9"/>
          <p:cNvPicPr/>
          <p:nvPr/>
        </p:nvPicPr>
        <p:blipFill>
          <a:blip r:embed="rId1"/>
          <a:stretch/>
        </p:blipFill>
        <p:spPr>
          <a:xfrm>
            <a:off x="0" y="65160"/>
            <a:ext cx="1728720" cy="170028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5"/>
          <p:cNvSpPr/>
          <p:nvPr/>
        </p:nvSpPr>
        <p:spPr>
          <a:xfrm>
            <a:off x="285840" y="1285920"/>
            <a:ext cx="8170920" cy="7343640"/>
          </a:xfrm>
          <a:prstGeom prst="cloudCallout">
            <a:avLst>
              <a:gd name="adj1" fmla="val -46166"/>
              <a:gd name="adj2" fmla="val -4033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умножении степеней с одинаковыми основаниями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 делении степеней с одинаковыми основаниями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7" descr="MC900424464[1]"/>
          <p:cNvPicPr/>
          <p:nvPr/>
        </p:nvPicPr>
        <p:blipFill>
          <a:blip r:embed="rId2"/>
          <a:stretch/>
        </p:blipFill>
        <p:spPr>
          <a:xfrm>
            <a:off x="6765840" y="-33480"/>
            <a:ext cx="2270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0" name="Object 1"/>
          <p:cNvGraphicFramePr/>
          <p:nvPr/>
        </p:nvGraphicFramePr>
        <p:xfrm>
          <a:off x="571680" y="0"/>
          <a:ext cx="7572240" cy="674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0"/>
                    <a:ext cx="7572240" cy="6740640"/>
                  </a:xfrm>
                  <a:prstGeom prst="rect">
                    <a:avLst/>
                  </a:prstGeom>
                  <a:ln w="9360">
                    <a:solidFill>
                      <a:srgbClr val="ff99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2" name="Object 1"/>
          <p:cNvGraphicFramePr/>
          <p:nvPr/>
        </p:nvGraphicFramePr>
        <p:xfrm>
          <a:off x="539640" y="0"/>
          <a:ext cx="7572600" cy="674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0"/>
                    <a:ext cx="7572600" cy="6740640"/>
                  </a:xfrm>
                  <a:prstGeom prst="rect">
                    <a:avLst/>
                  </a:prstGeom>
                  <a:ln w="9360">
                    <a:solidFill>
                      <a:srgbClr val="ff99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4" name="Object 1"/>
          <p:cNvGraphicFramePr/>
          <p:nvPr/>
        </p:nvGraphicFramePr>
        <p:xfrm>
          <a:off x="785880" y="0"/>
          <a:ext cx="7572240" cy="674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0"/>
                    <a:ext cx="7572240" cy="6740640"/>
                  </a:xfrm>
                  <a:prstGeom prst="rect">
                    <a:avLst/>
                  </a:prstGeom>
                  <a:ln w="9360">
                    <a:solidFill>
                      <a:srgbClr val="ff99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60080" y="0"/>
            <a:ext cx="8288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«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Пусть кто-нибудь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попробует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вычеркнуть из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математик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степени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и он увидит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что без них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далеко не уедешь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М.В.Ломонос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10" descr="Lomonosov (3).jpg"/>
          <p:cNvPicPr/>
          <p:nvPr/>
        </p:nvPicPr>
        <p:blipFill>
          <a:blip r:embed="rId1"/>
          <a:stretch/>
        </p:blipFill>
        <p:spPr>
          <a:xfrm>
            <a:off x="826920" y="600120"/>
            <a:ext cx="4322880" cy="51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MYNET040"/>
          <p:cNvPicPr/>
          <p:nvPr/>
        </p:nvPicPr>
        <p:blipFill>
          <a:blip r:embed="rId1"/>
          <a:stretch/>
        </p:blipFill>
        <p:spPr>
          <a:xfrm>
            <a:off x="2928960" y="285840"/>
            <a:ext cx="2736720" cy="1738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MC900425796[1]"/>
          <p:cNvPicPr/>
          <p:nvPr/>
        </p:nvPicPr>
        <p:blipFill>
          <a:blip r:embed="rId2"/>
          <a:stretch/>
        </p:blipFill>
        <p:spPr>
          <a:xfrm>
            <a:off x="2987640" y="5445000"/>
            <a:ext cx="2808360" cy="1168560"/>
          </a:xfrm>
          <a:prstGeom prst="rect">
            <a:avLst/>
          </a:prstGeom>
          <a:ln w="0">
            <a:noFill/>
          </a:ln>
        </p:spPr>
      </p:pic>
      <p:sp>
        <p:nvSpPr>
          <p:cNvPr id="292" name="WordArt 2"/>
          <p:cNvSpPr txBox="1"/>
          <p:nvPr/>
        </p:nvSpPr>
        <p:spPr>
          <a:xfrm>
            <a:off x="876240" y="2276640"/>
            <a:ext cx="8064720" cy="29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УРОК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53"/>
          <p:cNvSpPr/>
          <p:nvPr/>
        </p:nvSpPr>
        <p:spPr>
          <a:xfrm flipV="1">
            <a:off x="3357720" y="3405960"/>
            <a:ext cx="2430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55"/>
          <p:cNvSpPr/>
          <p:nvPr/>
        </p:nvSpPr>
        <p:spPr>
          <a:xfrm>
            <a:off x="879480" y="3716280"/>
            <a:ext cx="549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44"/>
          <p:cNvSpPr/>
          <p:nvPr/>
        </p:nvSpPr>
        <p:spPr>
          <a:xfrm>
            <a:off x="0" y="460080"/>
            <a:ext cx="900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1)5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he-IL" sz="7200" spc="-1" strike="noStrike">
                <a:solidFill>
                  <a:srgbClr val="000000"/>
                </a:solidFill>
                <a:latin typeface="Times New Roman"/>
              </a:rPr>
              <a:t>׃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3) 2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he-IL" sz="7200" spc="-1" strike="noStrike">
                <a:solidFill>
                  <a:srgbClr val="000000"/>
                </a:solidFill>
                <a:latin typeface="Times New Roman"/>
              </a:rPr>
              <a:t>׃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5) 10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he-IL" sz="7200" spc="-1" strike="noStrike">
                <a:solidFill>
                  <a:srgbClr val="000000"/>
                </a:solidFill>
                <a:latin typeface="Times New Roman"/>
              </a:rPr>
              <a:t>׃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6)10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7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5603400" y="38736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428760" y="0"/>
            <a:ext cx="8143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Записать в виде степени с сновани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4=                    256=              8=            32=       128=           1024=         512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сать в виде степени с основанием 3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1=               27=                  729=                       9=                 243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сать в виде степени с основанием 5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25=         5=           125=            25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8215200" y="2376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714240" y="386640"/>
            <a:ext cx="7929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Население  Аргентин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составляет  3,64 · 10</a:t>
            </a:r>
            <a:r>
              <a:rPr b="0" lang="ru-RU" sz="4800" spc="-1" strike="noStrike">
                <a:solidFill>
                  <a:srgbClr val="7030a0"/>
                </a:solidFill>
                <a:latin typeface="Cambria"/>
              </a:rPr>
              <a:t>⁷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человек,     а  площадь  её территории    равна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2,8 · 10</a:t>
            </a:r>
            <a:r>
              <a:rPr b="0" lang="ru-RU" sz="4800" spc="-1" strike="noStrike">
                <a:solidFill>
                  <a:srgbClr val="7030a0"/>
                </a:solidFill>
                <a:latin typeface="Cambria"/>
              </a:rPr>
              <a:t>⁶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км</a:t>
            </a:r>
            <a:r>
              <a:rPr b="0" lang="ru-RU" sz="48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       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Сколько в среднем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приходится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жителей на 1 км</a:t>
            </a:r>
            <a:r>
              <a:rPr b="0" lang="ru-RU" sz="48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99680" y="192852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rebuchet MS"/>
              </a:rPr>
              <a:t>Умножение и деление степеней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Заголовок 2" descr=""/>
          <p:cNvPicPr/>
          <p:nvPr/>
        </p:nvPicPr>
        <p:blipFill>
          <a:blip r:embed="rId1"/>
          <a:stretch/>
        </p:blipFill>
        <p:spPr>
          <a:xfrm>
            <a:off x="858960" y="-244440"/>
            <a:ext cx="7602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" descr="MCj04379900000[1]"/>
          <p:cNvPicPr/>
          <p:nvPr/>
        </p:nvPicPr>
        <p:blipFill>
          <a:blip r:embed="rId1"/>
          <a:stretch/>
        </p:blipFill>
        <p:spPr>
          <a:xfrm>
            <a:off x="7143840" y="0"/>
            <a:ext cx="1815840" cy="17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2143080" y="142920"/>
                <a:ext cx="34466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0" name="TextBox 5"/>
          <p:cNvSpPr/>
          <p:nvPr/>
        </p:nvSpPr>
        <p:spPr>
          <a:xfrm>
            <a:off x="392040" y="135720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428760" y="2071800"/>
                <a:ext cx="1631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2071800" y="2214720"/>
                <a:ext cx="3603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Левая фигурная скобка 8"/>
          <p:cNvSpPr/>
          <p:nvPr/>
        </p:nvSpPr>
        <p:spPr>
          <a:xfrm rot="16200000">
            <a:off x="2750040" y="1821600"/>
            <a:ext cx="214560" cy="157140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571400"/>
              <a:gd name="textAreaBottom" fmla="*/ 156600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0555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5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Левая фигурная скобка 9"/>
          <p:cNvSpPr/>
          <p:nvPr/>
        </p:nvSpPr>
        <p:spPr>
          <a:xfrm rot="16200000">
            <a:off x="4464720" y="1821600"/>
            <a:ext cx="214560" cy="157176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571760"/>
              <a:gd name="textAreaBottom" fmla="*/ 15663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0555"/>
                </a:lnTo>
                <a:cubicBezTo>
                  <a:pt x="10800" y="10678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5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000160" y="27147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ножител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385776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ножител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928800" y="3286080"/>
                <a:ext cx="3603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Левая фигурная скобка 14"/>
          <p:cNvSpPr/>
          <p:nvPr/>
        </p:nvSpPr>
        <p:spPr>
          <a:xfrm rot="16200000">
            <a:off x="2428560" y="2143080"/>
            <a:ext cx="214560" cy="32144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3214440"/>
              <a:gd name="textAreaBottom" fmla="*/ 3209040 h 32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"/>
                  <a:pt x="10800" y="120"/>
                </a:cubicBezTo>
                <a:lnTo>
                  <a:pt x="10800" y="10680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0"/>
                  <a:pt x="10800" y="10920"/>
                </a:cubicBezTo>
                <a:lnTo>
                  <a:pt x="10800" y="21480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1643040" y="3857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+k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ножител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00720" y="3143160"/>
                <a:ext cx="718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857160" y="4500720"/>
                <a:ext cx="928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2214720" y="4643280"/>
                <a:ext cx="200016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Прямоугольник 20"/>
          <p:cNvSpPr/>
          <p:nvPr/>
        </p:nvSpPr>
        <p:spPr>
          <a:xfrm>
            <a:off x="1714680" y="4357800"/>
            <a:ext cx="3857400" cy="1428480"/>
          </a:xfrm>
          <a:prstGeom prst="rect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4-конечная звезда 21">
            <a:hlinkClick r:id="rId2" action="ppaction://hlinksldjump"/>
          </p:cNvPr>
          <p:cNvSpPr/>
          <p:nvPr/>
        </p:nvSpPr>
        <p:spPr>
          <a:xfrm>
            <a:off x="7786800" y="5929200"/>
            <a:ext cx="1071360" cy="928800"/>
          </a:xfrm>
          <a:custGeom>
            <a:avLst/>
            <a:gdLst>
              <a:gd name="textAreaLeft" fmla="*/ 441360 w 1071360"/>
              <a:gd name="textAreaRight" fmla="*/ 630000 w 107136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MC900424464[1]"/>
          <p:cNvPicPr/>
          <p:nvPr/>
        </p:nvPicPr>
        <p:blipFill>
          <a:blip r:embed="rId1"/>
          <a:stretch/>
        </p:blipFill>
        <p:spPr>
          <a:xfrm>
            <a:off x="571680" y="1143000"/>
            <a:ext cx="1858680" cy="1822320"/>
          </a:xfrm>
          <a:prstGeom prst="rect">
            <a:avLst/>
          </a:prstGeom>
          <a:ln w="0">
            <a:noFill/>
          </a:ln>
        </p:spPr>
      </p:pic>
      <p:sp>
        <p:nvSpPr>
          <p:cNvPr id="247" name="Выноска-облако 1"/>
          <p:cNvSpPr/>
          <p:nvPr/>
        </p:nvSpPr>
        <p:spPr>
          <a:xfrm>
            <a:off x="3024360" y="1285920"/>
            <a:ext cx="6119640" cy="2997000"/>
          </a:xfrm>
          <a:prstGeom prst="cloudCallout">
            <a:avLst>
              <a:gd name="adj1" fmla="val -67949"/>
              <a:gd name="adj2" fmla="val -241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и умножении степеней с одинаковыми основаниями основание остается прежним, а показатели складываю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4" descr="MYNET040"/>
          <p:cNvPicPr/>
          <p:nvPr/>
        </p:nvPicPr>
        <p:blipFill>
          <a:blip r:embed="rId2"/>
          <a:stretch/>
        </p:blipFill>
        <p:spPr>
          <a:xfrm>
            <a:off x="357120" y="3294000"/>
            <a:ext cx="2928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1" descr="MCj04380000000[1]"/>
          <p:cNvPicPr/>
          <p:nvPr/>
        </p:nvPicPr>
        <p:blipFill>
          <a:blip r:embed="rId1"/>
          <a:stretch/>
        </p:blipFill>
        <p:spPr>
          <a:xfrm rot="20493600">
            <a:off x="7127640" y="261720"/>
            <a:ext cx="1863720" cy="12697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285840" y="285840"/>
                <a:ext cx="7481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TextBox 7"/>
          <p:cNvSpPr/>
          <p:nvPr/>
        </p:nvSpPr>
        <p:spPr>
          <a:xfrm>
            <a:off x="392040" y="135720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714240" y="2000160"/>
                <a:ext cx="2049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714760" y="2071800"/>
                <a:ext cx="13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071960" y="2071800"/>
                <a:ext cx="4525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1143000" y="3000240"/>
                <a:ext cx="928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2071800" y="3000240"/>
                <a:ext cx="2571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1071720" y="4000680"/>
                <a:ext cx="928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2000160" y="4000680"/>
                <a:ext cx="3035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Прямоугольник 15"/>
          <p:cNvSpPr/>
          <p:nvPr/>
        </p:nvSpPr>
        <p:spPr>
          <a:xfrm>
            <a:off x="1928880" y="3714840"/>
            <a:ext cx="4500360" cy="1071360"/>
          </a:xfrm>
          <a:prstGeom prst="rect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4-конечная звезда 16">
            <a:hlinkClick r:id="rId2" action="ppaction://hlinksldjump"/>
          </p:cNvPr>
          <p:cNvSpPr/>
          <p:nvPr/>
        </p:nvSpPr>
        <p:spPr>
          <a:xfrm>
            <a:off x="7786800" y="5929200"/>
            <a:ext cx="1071360" cy="928800"/>
          </a:xfrm>
          <a:custGeom>
            <a:avLst/>
            <a:gdLst>
              <a:gd name="textAreaLeft" fmla="*/ 441360 w 1071360"/>
              <a:gd name="textAreaRight" fmla="*/ 630000 w 107136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MC900425796[1]"/>
          <p:cNvPicPr/>
          <p:nvPr/>
        </p:nvPicPr>
        <p:blipFill>
          <a:blip r:embed="rId1"/>
          <a:stretch/>
        </p:blipFill>
        <p:spPr>
          <a:xfrm>
            <a:off x="2714760" y="500040"/>
            <a:ext cx="1984320" cy="825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MC900424494[1]"/>
          <p:cNvPicPr/>
          <p:nvPr/>
        </p:nvPicPr>
        <p:blipFill>
          <a:blip r:embed="rId2"/>
          <a:stretch/>
        </p:blipFill>
        <p:spPr>
          <a:xfrm>
            <a:off x="928800" y="1071720"/>
            <a:ext cx="2012760" cy="1454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MC900425796[1]"/>
          <p:cNvPicPr/>
          <p:nvPr/>
        </p:nvPicPr>
        <p:blipFill>
          <a:blip r:embed="rId3"/>
          <a:stretch/>
        </p:blipFill>
        <p:spPr>
          <a:xfrm rot="1359000">
            <a:off x="3939840" y="1064880"/>
            <a:ext cx="1984320" cy="82548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10"/>
          <p:cNvSpPr/>
          <p:nvPr/>
        </p:nvSpPr>
        <p:spPr>
          <a:xfrm flipH="1" flipV="1">
            <a:off x="213120" y="2999520"/>
            <a:ext cx="8675640" cy="2737080"/>
          </a:xfrm>
          <a:prstGeom prst="wedgeRoundRectCallout">
            <a:avLst>
              <a:gd name="adj1" fmla="val 39245"/>
              <a:gd name="adj2" fmla="val 68236"/>
              <a:gd name="adj3" fmla="val 1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 делении степеней с одинаковыми основаниями основание остается прежним, а показатели вычит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54:22Z</dcterms:created>
  <dc:creator>Пользователь</dc:creator>
  <dc:description/>
  <dc:language>en-US</dc:language>
  <cp:lastModifiedBy>Андрей</cp:lastModifiedBy>
  <dcterms:modified xsi:type="dcterms:W3CDTF">2019-09-21T13:57:35Z</dcterms:modified>
  <cp:revision>202</cp:revision>
  <dc:subject/>
  <dc:title>Слайд 1</dc:title>
</cp:coreProperties>
</file>