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5B37-466A-4B74-859C-B6BB62BF2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9F59-E249-402B-AB5D-6FF02C72B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ACC9A-01DE-4FEF-BD5E-91CF422C7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C737-64BA-49D6-BD28-0C3C898C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129B2-929D-43FB-B0EE-2307DE7B6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6B2B-FF62-4427-99E3-FF396677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E36A-2B2C-4C93-BDDA-373400DF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32E4A-598F-484A-BB11-E43464511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5492-034C-499C-A4FD-23419267D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B144-00DC-49DF-A821-85AF6F26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1323-CB6B-4163-A8D9-A66A6D79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98A-2BCE-4D40-AD60-CB33F4DE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2059-E405-44BA-A581-B0288995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B22DE-822E-4980-BACA-BCFAFB74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AC63-2643-4472-87C7-B492CDEFC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212C-90AC-4CE8-9BD8-76C878A34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5E44-F664-46A2-970C-7736760E7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84A-1F75-4658-A44E-EDD96F926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75E-1C22-4B6D-A978-9B37AA69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D920-BD32-4444-9C6C-9D242D97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8FAD-3450-4E2C-955A-F722C0FA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D4CA-7EC7-4549-AF48-A26557677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119B-C8D5-4499-A726-EE78BB9DA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5826-6274-4206-8586-E95DBA9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53A6-6CF6-4554-A71C-3C42733C9D3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DAD2-0357-4FAB-8341-D8570268FD6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АВ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3840" y="21384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ьте уравнения для решения задач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 сборнику А.В. Шевкина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№383(2): Купили 10 тетрадей по хр.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ручки по 2р. Сколько заплатили за всю покуп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№384(1): Турист ехал х ч на поезде со скоростью 50км/ч и шел пешком 2ч со скоростью 4км/ч. Какое расстояние преодолел турист за все врем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356760"/>
            <a:ext cx="7696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ьте дерево вариантов для решения комбинаторной 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лько существует четырехзначных чисел, которые записывают цифрами 2, 4, 6, 8, если цифры в числе не повторяю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49968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егодня на уроке я узна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повтори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закрепи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научился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Было трудн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смогу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285840"/>
            <a:ext cx="76960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tiekhnologhichieskaia-karta-uroka-matiematiki-v-5-klassie-po-tiemie-uravnieniie_2"/>
          <p:cNvPicPr/>
          <p:nvPr/>
        </p:nvPicPr>
        <p:blipFill>
          <a:blip r:embed="rId1"/>
          <a:stretch/>
        </p:blipFill>
        <p:spPr>
          <a:xfrm>
            <a:off x="857160" y="1143000"/>
            <a:ext cx="1928880" cy="17859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857160" y="28224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ё отлич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3" descr="tiekhnologhichieskaia-karta-uroka-matiematiki-v-5-klassie-po-tiemie-uravnieniie_3"/>
          <p:cNvPicPr/>
          <p:nvPr/>
        </p:nvPicPr>
        <p:blipFill>
          <a:blip r:embed="rId2"/>
          <a:stretch/>
        </p:blipFill>
        <p:spPr>
          <a:xfrm>
            <a:off x="3857760" y="114300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3857760" y="2928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ыло труд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tiekhnologhichieskaia-karta-uroka-matiematiki-v-5-klassie-po-tiemie-uravnieniie_4"/>
          <p:cNvPicPr/>
          <p:nvPr/>
        </p:nvPicPr>
        <p:blipFill>
          <a:blip r:embed="rId3"/>
          <a:stretch/>
        </p:blipFill>
        <p:spPr>
          <a:xfrm>
            <a:off x="2071800" y="364320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0"/>
          <p:cNvSpPr/>
          <p:nvPr/>
        </p:nvSpPr>
        <p:spPr>
          <a:xfrm>
            <a:off x="2071800" y="5460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рал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tiekhnologhichieskaia-karta-uroka-matiematiki-v-5-klassie-po-tiemie-uravnieniie_5"/>
          <p:cNvPicPr/>
          <p:nvPr/>
        </p:nvPicPr>
        <p:blipFill>
          <a:blip r:embed="rId4"/>
          <a:stretch/>
        </p:blipFill>
        <p:spPr>
          <a:xfrm>
            <a:off x="6215040" y="3571920"/>
            <a:ext cx="2071800" cy="18572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6215040" y="54608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ыло скуч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714240"/>
            <a:ext cx="76960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П.10, № 396, №397(б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Задание на повторение: №403(а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928800"/>
            <a:ext cx="59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д и вера  - вот твои доспех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е бойся никаких задач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же надёжный путь к успеху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жный путь падений и у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2" descr="tiekhnologhichieskaia-karta-uroka-matiematiki-v-5-klassie-po-tiemie-uravnieniie_2"/>
          <p:cNvPicPr/>
          <p:nvPr/>
        </p:nvPicPr>
        <p:blipFill>
          <a:blip r:embed="rId1"/>
          <a:stretch/>
        </p:blipFill>
        <p:spPr>
          <a:xfrm>
            <a:off x="5857920" y="3286080"/>
            <a:ext cx="28573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928800"/>
            <a:ext cx="7386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1. Уравнением называе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буквенное выраж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равенство, содержащее букву, значение которой надо най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числовое равен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.Решить уравнение - значи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найти все его корни (или убедиться, что корней нет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заменить букву в уравнении любым                          числ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записать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3.Корнем уравнения называе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любое числ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любое значение букв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значение буквы, при котором из уравнения получается верное числовое равен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4.Сделать проверку уравнения – значи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решить его ещё раз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найденное значение подставить в уравнение вместо буквы и проверить верность равенств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место буквы подставить любо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213840"/>
            <a:ext cx="8024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5. Неизвестное слагаемое находи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сложением; б) умножение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ычита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6. Чтобы найти неизвестное уменьшаемое, 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сложить вычитаемое и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из разности вычесть вычитаемо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из вычитаемого вычесть раз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7. Чтобы найти неизвестное вычитаемое, 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из уменьшаемого вычесть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к уменьшаемому прибавить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из разности выче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28760" y="285480"/>
            <a:ext cx="7953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ите устно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х+25=87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y-14=22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35-у=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213840"/>
            <a:ext cx="76960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ите устно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  (х+24)-18=38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 (у+78)+25=20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7120" y="42876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решения составных   уравнени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Найти последнее действ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Определить неизвестный компонент по последнему действи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Выбрать и применить правило нахождения неизвестно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Упростить правую ча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Найти корень уравнения или сделать вывод, что уравнение не имеет кор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Сделать проверку (при необходимост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Записать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285840"/>
            <a:ext cx="7696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tiekhnologhichieskaia-karta-uroka-matiematiki-v-5-klassie-po-tiemie-uravnieniie_1"/>
          <p:cNvPicPr/>
          <p:nvPr/>
        </p:nvPicPr>
        <p:blipFill>
          <a:blip r:embed="rId1"/>
          <a:stretch/>
        </p:blipFill>
        <p:spPr>
          <a:xfrm>
            <a:off x="714240" y="1143000"/>
            <a:ext cx="7429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8T12:39:36Z</dcterms:created>
  <dc:creator>1</dc:creator>
  <dc:description/>
  <dc:language>en-US</dc:language>
  <cp:lastModifiedBy>DOM</cp:lastModifiedBy>
  <dcterms:modified xsi:type="dcterms:W3CDTF">2020-02-07T20:36:15Z</dcterms:modified>
  <cp:revision>46</cp:revision>
  <dc:subject/>
  <dc:title>PowerPoint Presentation</dc:title>
</cp:coreProperties>
</file>