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A7B6-688D-466E-AB3D-354AA0C7E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7601-C7FB-4EAA-9A32-C66B1F4F9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AFDC-EC00-44E3-9CF9-FC62F6A78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1936-C265-44A4-AA26-103743099F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08BBA-69DA-4246-8C32-553016772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BA2E6-BCCE-451A-8178-B969EC919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782FB-A3C0-4A35-8FFE-3B329FD0E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3FA5-6768-4B4A-860A-14593023C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815108-6640-4944-87B3-D7347B834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B27F-7F47-4D69-990C-BFF85E144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143B4-84C0-4C58-AD23-6346BAE84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7E99-8D28-4E80-83B9-C8B8BB7A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3A697-A84B-4902-8397-473C53D14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9B7E-C167-4B2A-9FD2-FB000BC2A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9545-CA30-4A51-AC34-51BBEF48A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8FADA-1FF7-401D-9AF0-38F77BF7F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28F82-A311-4C01-9497-7D6823A4B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AE7DA-AAD7-46D9-8663-35A0259F9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E8388-7B45-4F59-9481-838B54F17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E610-1E57-48CA-B087-065452731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65D0-BFD9-49B0-8B10-27D3143A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5568-CDD8-4C95-93CA-17A38C22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855-3945-441C-8F1B-5BFBF2EA0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A688-864A-468C-AC3D-455B44C43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BA9F-1ACC-478C-B341-ADADE428DFE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90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1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2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3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4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5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6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7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8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9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0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1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2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3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04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105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08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09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0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1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2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3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4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5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16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117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18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9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120" name="Group 40"/>
          <p:cNvGrpSpPr/>
          <p:nvPr/>
        </p:nvGrpSpPr>
        <p:grpSpPr>
          <a:xfrm>
            <a:off x="7170480" y="-86400"/>
            <a:ext cx="2429640" cy="2250000"/>
            <a:chOff x="7170480" y="-86400"/>
            <a:chExt cx="2429640" cy="2250000"/>
          </a:xfrm>
        </p:grpSpPr>
        <p:grpSp>
          <p:nvGrpSpPr>
            <p:cNvPr id="121" name="Group 41"/>
            <p:cNvGrpSpPr/>
            <p:nvPr/>
          </p:nvGrpSpPr>
          <p:grpSpPr>
            <a:xfrm>
              <a:off x="7170480" y="-86400"/>
              <a:ext cx="2429640" cy="2250000"/>
              <a:chOff x="7170480" y="-86400"/>
              <a:chExt cx="2429640" cy="2250000"/>
            </a:xfrm>
          </p:grpSpPr>
          <p:sp>
            <p:nvSpPr>
              <p:cNvPr id="122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123" name="Group 43"/>
              <p:cNvGrpSpPr/>
              <p:nvPr/>
            </p:nvGrpSpPr>
            <p:grpSpPr>
              <a:xfrm>
                <a:off x="7170480" y="-86400"/>
                <a:ext cx="2429640" cy="2250000"/>
                <a:chOff x="7170480" y="-86400"/>
                <a:chExt cx="2429640" cy="2250000"/>
              </a:xfrm>
            </p:grpSpPr>
            <p:sp>
              <p:nvSpPr>
                <p:cNvPr id="124" name="Freeform 44"/>
                <p:cNvSpPr/>
                <p:nvPr/>
              </p:nvSpPr>
              <p:spPr>
                <a:xfrm rot="18427200">
                  <a:off x="7882920" y="112320"/>
                  <a:ext cx="24372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5" name="Freeform 45"/>
                <p:cNvSpPr/>
                <p:nvPr/>
              </p:nvSpPr>
              <p:spPr>
                <a:xfrm rot="18427200">
                  <a:off x="8018640" y="522720"/>
                  <a:ext cx="428040" cy="69552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6" name="Freeform 46"/>
                <p:cNvSpPr/>
                <p:nvPr/>
              </p:nvSpPr>
              <p:spPr>
                <a:xfrm rot="18427200">
                  <a:off x="7716600" y="285480"/>
                  <a:ext cx="80388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7" name="Freeform 47"/>
                <p:cNvSpPr/>
                <p:nvPr/>
              </p:nvSpPr>
              <p:spPr>
                <a:xfrm rot="18427200">
                  <a:off x="7781400" y="-27720"/>
                  <a:ext cx="12070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8" name="Freeform 48"/>
                <p:cNvSpPr/>
                <p:nvPr/>
              </p:nvSpPr>
              <p:spPr>
                <a:xfrm rot="18427200">
                  <a:off x="8413920" y="1422360"/>
                  <a:ext cx="26928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29" name="Freeform 49"/>
                <p:cNvSpPr/>
                <p:nvPr/>
              </p:nvSpPr>
              <p:spPr>
                <a:xfrm rot="18427200">
                  <a:off x="8339400" y="1277640"/>
                  <a:ext cx="28800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0" name="Freeform 50"/>
                <p:cNvSpPr/>
                <p:nvPr/>
              </p:nvSpPr>
              <p:spPr>
                <a:xfrm rot="18427200">
                  <a:off x="7913160" y="333720"/>
                  <a:ext cx="28800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131" name="Freeform 51"/>
                <p:cNvSpPr/>
                <p:nvPr/>
              </p:nvSpPr>
              <p:spPr>
                <a:xfrm rot="18427200">
                  <a:off x="7858440" y="219960"/>
                  <a:ext cx="28512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132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133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4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135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38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139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0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1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2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43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144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145" name="Freeform 19"/>
            <p:cNvSpPr/>
            <p:nvPr/>
          </p:nvSpPr>
          <p:spPr>
            <a:xfrm rot="7320000">
              <a:off x="7791480" y="4661280"/>
              <a:ext cx="998640" cy="4640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6" name="Freeform 20"/>
            <p:cNvSpPr/>
            <p:nvPr/>
          </p:nvSpPr>
          <p:spPr>
            <a:xfrm rot="7320000">
              <a:off x="7767000" y="4639680"/>
              <a:ext cx="995400" cy="4593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7" name="Freeform 21"/>
            <p:cNvSpPr/>
            <p:nvPr/>
          </p:nvSpPr>
          <p:spPr>
            <a:xfrm rot="7320000">
              <a:off x="7935480" y="4625280"/>
              <a:ext cx="660240" cy="41976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48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149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0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1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2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53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54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5959D-7256-4171-B9A7-753D85030E8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332000" y="184428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mic Sans MS"/>
              </a:rPr>
              <a:t>УРАВНЕНИЕ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213840" y="213840"/>
            <a:ext cx="864396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тавьте уравнения для решения задач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(по сборнику А.В. Шевкина)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№383(2): Купили 10 тетрадей по хр. и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 ручки по 2р. Сколько заплатили за всю покупку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№384(1): Турист ехал х ч на поезде со скоростью 50км/ч и шел пешком 2ч со скоростью 4км/ч. Какое расстояние преодолел турист за все врем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685800" y="356760"/>
            <a:ext cx="7696080" cy="592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оставьте дерево вариантов для решения комбинаторной задачи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колько существует четырехзначных чисел, которые записывают цифрами 2, 4, 6, 8, если цифры в числе не повторяются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685800" y="499680"/>
            <a:ext cx="769608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Закончите предлож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Сегодня на уроке я узнал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Я повторил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Я закрепил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Я научился…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Было интересно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Было трудно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Я смогу …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685800" y="285840"/>
            <a:ext cx="769608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Оцените свою работу на урок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2" name="Picture 2" descr="tiekhnologhichieskaia-karta-uroka-matiematiki-v-5-klassie-po-tiemie-uravnieniie_2"/>
          <p:cNvPicPr/>
          <p:nvPr/>
        </p:nvPicPr>
        <p:blipFill>
          <a:blip r:embed="rId1"/>
          <a:stretch/>
        </p:blipFill>
        <p:spPr>
          <a:xfrm>
            <a:off x="857160" y="1143000"/>
            <a:ext cx="1928880" cy="1785960"/>
          </a:xfrm>
          <a:prstGeom prst="rect">
            <a:avLst/>
          </a:prstGeom>
          <a:ln w="0">
            <a:noFill/>
          </a:ln>
        </p:spPr>
      </p:pic>
      <p:sp>
        <p:nvSpPr>
          <p:cNvPr id="213" name="Прямоугольник 5"/>
          <p:cNvSpPr/>
          <p:nvPr/>
        </p:nvSpPr>
        <p:spPr>
          <a:xfrm>
            <a:off x="857160" y="2822400"/>
            <a:ext cx="192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Всё отлич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4" name="Picture 3" descr="tiekhnologhichieskaia-karta-uroka-matiematiki-v-5-klassie-po-tiemie-uravnieniie_3"/>
          <p:cNvPicPr/>
          <p:nvPr/>
        </p:nvPicPr>
        <p:blipFill>
          <a:blip r:embed="rId2"/>
          <a:stretch/>
        </p:blipFill>
        <p:spPr>
          <a:xfrm>
            <a:off x="3857760" y="1143000"/>
            <a:ext cx="2000160" cy="178596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7"/>
          <p:cNvSpPr/>
          <p:nvPr/>
        </p:nvSpPr>
        <p:spPr>
          <a:xfrm>
            <a:off x="3857760" y="2928960"/>
            <a:ext cx="200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ыло труд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6" name="Picture 4" descr="tiekhnologhichieskaia-karta-uroka-matiematiki-v-5-klassie-po-tiemie-uravnieniie_4"/>
          <p:cNvPicPr/>
          <p:nvPr/>
        </p:nvPicPr>
        <p:blipFill>
          <a:blip r:embed="rId3"/>
          <a:stretch/>
        </p:blipFill>
        <p:spPr>
          <a:xfrm>
            <a:off x="2071800" y="3643200"/>
            <a:ext cx="2143080" cy="17859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10"/>
          <p:cNvSpPr/>
          <p:nvPr/>
        </p:nvSpPr>
        <p:spPr>
          <a:xfrm>
            <a:off x="2071800" y="546084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Старалс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18" name="Picture 5" descr="tiekhnologhichieskaia-karta-uroka-matiematiki-v-5-klassie-po-tiemie-uravnieniie_5"/>
          <p:cNvPicPr/>
          <p:nvPr/>
        </p:nvPicPr>
        <p:blipFill>
          <a:blip r:embed="rId4"/>
          <a:stretch/>
        </p:blipFill>
        <p:spPr>
          <a:xfrm>
            <a:off x="6215040" y="3571920"/>
            <a:ext cx="2071800" cy="185724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2"/>
          <p:cNvSpPr/>
          <p:nvPr/>
        </p:nvSpPr>
        <p:spPr>
          <a:xfrm>
            <a:off x="6215040" y="5460840"/>
            <a:ext cx="20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mic Sans MS"/>
              </a:rPr>
              <a:t>Было скучно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685800" y="714240"/>
            <a:ext cx="769608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П.10, № 396, №397(б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- Задание на повторение: №403(а)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Спасибо 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ru-RU" sz="7200" spc="-1" strike="noStrike">
                <a:solidFill>
                  <a:srgbClr val="000000"/>
                </a:solidFill>
                <a:latin typeface="Comic Sans MS"/>
              </a:rPr>
              <a:t>за внимание!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685800" y="928800"/>
            <a:ext cx="5958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Труд и вера  - вот твои доспехи,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И не бойся никаких задач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амый же надёжный путь к успеху -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Сложный путь падений и удач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9" name="Picture 2" descr="tiekhnologhichieskaia-karta-uroka-matiematiki-v-5-klassie-po-tiemie-uravnieniie_2"/>
          <p:cNvPicPr/>
          <p:nvPr/>
        </p:nvPicPr>
        <p:blipFill>
          <a:blip r:embed="rId1"/>
          <a:stretch/>
        </p:blipFill>
        <p:spPr>
          <a:xfrm>
            <a:off x="5857920" y="3286080"/>
            <a:ext cx="2857320" cy="24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 txBox="1"/>
          <p:nvPr/>
        </p:nvSpPr>
        <p:spPr>
          <a:xfrm>
            <a:off x="685800" y="928800"/>
            <a:ext cx="738648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1. Уравнением называетс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буквенное выражени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равенство, содержащее букву, значение которой надо найти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числовое равенств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2.Решить уравнение - значи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найти все его корни (или убедиться, что корней нет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заменить букву в уравнении любым                          числом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записать от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685800" y="285480"/>
            <a:ext cx="769608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3.Корнем уравнения называетс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любое числ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любое значение буквы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значение буквы, при котором из уравнения получается верное числовое равенств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4.Сделать проверку уравнения – значит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решить его ещё раз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найденное значение подставить в уравнение вместо буквы и проверить верность равенства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вместо буквы подставить любое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число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6760" y="213840"/>
            <a:ext cx="802476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5. Неизвестное слагаемое находится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сложением; б) умножением;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вычитанием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6. Чтобы найти неизвестное уменьшаемое, надо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сложить вычитаемое и раз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из разности вычесть вычитаемо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из вычитаемого вычесть разность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mic Sans MS"/>
              </a:rPr>
              <a:t>7. Чтобы найти неизвестное вычитаемое, надо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а) из уменьшаемого вычесть раз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б) к уменьшаемому прибавить разно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) из разности вычесть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уменьшаемое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428760" y="285480"/>
            <a:ext cx="795312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ите устно уравн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х+25=87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y-14=22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3)35-у=12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685800" y="213840"/>
            <a:ext cx="769608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Решите устно уравнения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1)   (х+24)-18=38;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2)  (у+78)+25=200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57120" y="428760"/>
            <a:ext cx="8429760" cy="60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Алгоритм решения составных   уравнений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1) Найти последнее действие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2) Определить неизвестный компонент по последнему действию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3) Выбрать и применить правило нахождения неизвестного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4) Упростить правую часть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5) Найти корень уравнения или сделать вывод, что уравнение не имеет корня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6) Сделать проверку (при необходимости);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7) Записать ответ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-3189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285840"/>
            <a:ext cx="76960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              </a:t>
            </a:r>
            <a:r>
              <a:rPr b="0" lang="ru-RU" sz="3200" spc="-1" strike="noStrike">
                <a:solidFill>
                  <a:srgbClr val="000000"/>
                </a:solidFill>
                <a:latin typeface="Comic Sans MS"/>
              </a:rPr>
              <a:t>Гимнастика для глаз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7" name="Picture 2" descr="tiekhnologhichieskaia-karta-uroka-matiematiki-v-5-klassie-po-tiemie-uravnieniie_1"/>
          <p:cNvPicPr/>
          <p:nvPr/>
        </p:nvPicPr>
        <p:blipFill>
          <a:blip r:embed="rId1"/>
          <a:stretch/>
        </p:blipFill>
        <p:spPr>
          <a:xfrm>
            <a:off x="714240" y="1143000"/>
            <a:ext cx="742968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8T12:39:36Z</dcterms:created>
  <dc:creator>1</dc:creator>
  <dc:description/>
  <dc:language>en-US</dc:language>
  <cp:lastModifiedBy>DOM</cp:lastModifiedBy>
  <dcterms:modified xsi:type="dcterms:W3CDTF">2020-02-07T20:36:15Z</dcterms:modified>
  <cp:revision>46</cp:revision>
  <dc:subject/>
  <dc:title>PowerPoint Presentation</dc:title>
</cp:coreProperties>
</file>