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7BC-6620-4521-BA69-F06C7F03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B64-B57B-4ED2-AFA9-F5E40B4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845-C308-4E7F-B1D6-130A0524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12C-7BEF-4D78-8952-01A55980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E11B-61FD-406E-991B-100A462B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775E-21EA-4C37-801C-E0FE7B13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9D65-D57B-40EA-A3BC-2E532839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6A7E-1FEC-4100-B595-09EEA35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5509-C041-46C4-B2D1-1C791EE8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F64C-F8B8-4B8A-9196-92C18F22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4809-1CDB-4B50-9CE8-34B19ED5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51C-1873-4CAE-88A0-7898623C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3A87-5380-448C-91D7-D2C89987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572E-0672-433C-87DC-5CFA4A98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5F27-DD16-42A7-A0A0-0DB7DAD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38E2-D373-4B96-A332-3CD17F4B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EE3F-170E-4DE9-9583-3B623D86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F05-7731-40BF-9A51-DA99AB07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913-92A3-4592-BAD6-DC82FEAC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F9C-9C3E-42F1-9324-A311D09E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04C-04A3-4767-8284-B8F0665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845-28D6-41CC-B9FD-1E63819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BF8-2DAD-4361-ABAF-8B942461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239-EA82-44C9-B7ED-D5316C54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9352-CE21-4172-A4C9-8CE62DFB0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6BEA-CB39-461D-9D68-6CAD69735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pesochnizza.ru/wp-content/uploads/2012/04/drapanka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pesochnizza.ru/wp-content/uploads/2012/04/Krashenki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pesochnizza.ru/wp-content/uploads/2012/04/pisanka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359000" y="1066680"/>
            <a:ext cx="6426000" cy="3151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57240" y="4149360"/>
            <a:ext cx="514368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26960" y="360360"/>
            <a:ext cx="8229600" cy="277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14320" y="907560"/>
            <a:ext cx="69721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ушание пасхальных песноп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2"/>
          <a:stretch/>
        </p:blipFill>
        <p:spPr>
          <a:xfrm rot="615000">
            <a:off x="657000" y="1560600"/>
            <a:ext cx="777600" cy="1027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3"/>
          <a:stretch/>
        </p:blipFill>
        <p:spPr>
          <a:xfrm rot="1046400">
            <a:off x="421920" y="2898720"/>
            <a:ext cx="1398600" cy="87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User\Рабочий стол\Рамки для слайдов\ttOCfD55K5QRQaq.jpg"/>
          <p:cNvPicPr/>
          <p:nvPr/>
        </p:nvPicPr>
        <p:blipFill>
          <a:blip r:embed="rId4"/>
          <a:stretch/>
        </p:blipFill>
        <p:spPr>
          <a:xfrm>
            <a:off x="571680" y="4143240"/>
            <a:ext cx="116676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tb17795[1].jpg"/>
          <p:cNvPicPr/>
          <p:nvPr/>
        </p:nvPicPr>
        <p:blipFill>
          <a:blip r:embed="rId1"/>
          <a:stretch/>
        </p:blipFill>
        <p:spPr>
          <a:xfrm>
            <a:off x="4500720" y="404640"/>
            <a:ext cx="4070160" cy="6024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11280" y="981000"/>
            <a:ext cx="40561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ВОСКРЕС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исус Христос протягивает р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му и Еве и другим умершим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главным  и доступным песнопением Пасхи является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тропарь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 исполняется всеми присутствующими в храме: священниками и прихожанами. В пасхальном тропаре всего три звука. Тропарь может исполнить каждый. Он звучит радостно, ликующе, призыв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04 - Тропарь  Христос воскресе .mp3" descr=""/>
          <p:cNvPicPr/>
          <p:nvPr/>
        </p:nvPicPr>
        <p:blipFill>
          <a:blip r:embed="rId1"/>
          <a:stretch/>
        </p:blipFill>
        <p:spPr>
          <a:xfrm>
            <a:off x="7524720" y="4886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277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69228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схальном богослужени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оме тропаря и других песнопений, звучит очень красивая молит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Ангел вопияше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06 - П. Чесноков. Ангел вопияше..mp3" descr=""/>
          <p:cNvPicPr/>
          <p:nvPr/>
        </p:nvPicPr>
        <p:blipFill>
          <a:blip r:embed="rId1"/>
          <a:stretch/>
        </p:blipFill>
        <p:spPr>
          <a:xfrm>
            <a:off x="6875640" y="4797360"/>
            <a:ext cx="1512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216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69228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имский-Корсаков Николай Андреевич                (1844—1908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озитор, дирижёр, 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«Светлый праздни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оскресная увертю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ветлый праздник» написан на темы «Обихода»     (сборник церковных песнопений) и передает с детства сохранившиеся у автора впечатления о пасхальной заутрене . Римский-Корсаков писал: «Мне хотелось воспроизвести легендарную и языческую сторону праздника – таинственный вечер страстной субботы и веселье светлого утра воскресения…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Н.А. Римский-Корсаков - Светлый праздник (отрывок)  (audiopoisk.com).mp3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314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334800" y="249120"/>
            <a:ext cx="8418600" cy="205596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6" descr="drapank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05000"/>
            <a:ext cx="4751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189000"/>
            <a:ext cx="8229600" cy="22064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krashenk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2133720"/>
            <a:ext cx="5472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26960" y="128520"/>
            <a:ext cx="8229600" cy="235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22050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pisank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2205000"/>
            <a:ext cx="54007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26960" y="360360"/>
            <a:ext cx="8229600" cy="13287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73636963_3419483_UiMwDyuc.jpg"/>
          <p:cNvPicPr/>
          <p:nvPr/>
        </p:nvPicPr>
        <p:blipFill>
          <a:blip r:embed="rId2"/>
          <a:stretch/>
        </p:blipFill>
        <p:spPr>
          <a:xfrm>
            <a:off x="1835280" y="1628640"/>
            <a:ext cx="6740280" cy="4392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333794673_easter-egg-23.jpg"/>
          <p:cNvPicPr/>
          <p:nvPr/>
        </p:nvPicPr>
        <p:blipFill>
          <a:blip r:embed="rId3"/>
          <a:stretch/>
        </p:blipFill>
        <p:spPr>
          <a:xfrm>
            <a:off x="1619280" y="1628640"/>
            <a:ext cx="6912000" cy="4464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Holidays_Easter_painted_eggs_033784_.jpg"/>
          <p:cNvPicPr/>
          <p:nvPr/>
        </p:nvPicPr>
        <p:blipFill>
          <a:blip r:embed="rId4"/>
          <a:stretch/>
        </p:blipFill>
        <p:spPr>
          <a:xfrm>
            <a:off x="1490760" y="1484280"/>
            <a:ext cx="71485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01:32:27Z</dcterms:created>
  <dc:creator>Comp</dc:creator>
  <dc:description/>
  <dc:language>en-US</dc:language>
  <cp:lastModifiedBy>Якупова</cp:lastModifiedBy>
  <dcterms:modified xsi:type="dcterms:W3CDTF">2020-04-10T13:34:28Z</dcterms:modified>
  <cp:revision>6</cp:revision>
  <dc:subject/>
  <dc:title>Слайд 1</dc:title>
</cp:coreProperties>
</file>