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C7D-E969-4053-A3B3-5DF8A99A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C9-69E9-4477-AD5B-DFBBEBB5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28F-CA87-48F7-8FDE-A44F7ACE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1F4-0A69-4511-9ABA-6F5D6722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46B-2750-46C2-852F-4063C9D6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CDC-0D15-444A-9D61-A10AAAC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B227-45F6-4E18-A539-7FDC2BD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B44-5987-44C6-BAF5-70D50EB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9BB-EC52-46E4-8E2C-C242EF0F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F8CE-E641-47E7-B77D-74A0204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02C-84DE-419E-89C3-DAECB35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F1-5314-4FF0-B83D-380A0DA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02C0-3BDB-4FF7-8C38-9A25D89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2BB-0FD4-40E5-90F1-EDBAD269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4276-053B-4C6D-8F3A-EE821F79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6A25-7751-44D7-A2D8-BF418E9E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02A-F471-4201-982C-DD0B70B5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892-F558-49E0-9E7E-5FC3240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6B7-89F6-430D-B778-3152140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B24-24C2-43C6-B7B3-43BA56BA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401-7D99-40D3-8777-7D6C7F5E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80B-EBBB-47EA-B4BF-C631DEA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20F-EACF-471D-BC4F-5A6AB47C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65B-6B75-4B2D-A486-FCE5186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CC5D-073B-4DBD-BDDB-55530D413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0FD5-4A08-454A-8D0B-10EF1180D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esochnizza.ru/wp-content/uploads/2012/04/drapank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esochnizza.ru/wp-content/uploads/2012/04/Krashenk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pesochnizza.ru/wp-content/uploads/2012/04/pisank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59000" y="1066680"/>
            <a:ext cx="6426000" cy="3151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57240" y="4149360"/>
            <a:ext cx="514368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8229600" cy="277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14320" y="907560"/>
            <a:ext cx="69721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ушание пасхальных песноп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 rot="615000">
            <a:off x="657000" y="1560600"/>
            <a:ext cx="777600" cy="102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 rot="1046400">
            <a:off x="421920" y="2898720"/>
            <a:ext cx="1398600" cy="87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User\Рабочий стол\Рамки для слайдов\ttOCfD55K5QRQaq.jpg"/>
          <p:cNvPicPr/>
          <p:nvPr/>
        </p:nvPicPr>
        <p:blipFill>
          <a:blip r:embed="rId4"/>
          <a:stretch/>
        </p:blipFill>
        <p:spPr>
          <a:xfrm>
            <a:off x="571680" y="4143240"/>
            <a:ext cx="116676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tb17795[1].jpg"/>
          <p:cNvPicPr/>
          <p:nvPr/>
        </p:nvPicPr>
        <p:blipFill>
          <a:blip r:embed="rId1"/>
          <a:stretch/>
        </p:blipFill>
        <p:spPr>
          <a:xfrm>
            <a:off x="4500720" y="404640"/>
            <a:ext cx="4070160" cy="6024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11280" y="981000"/>
            <a:ext cx="40561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ВОСКРЕС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исус Христос протягивает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у и Еве и другим умершим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главным  и доступным песнопением Пасхи является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тропарь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 исполняется всеми присутствующими в храме: священниками и прихожанами. В пасхальном тропаре всего три звука. Тропарь может исполнить каждый. Он звучит радостно, ликующе, призы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04 - Тропарь  Христос воскресе .mp3" descr=""/>
          <p:cNvPicPr/>
          <p:nvPr/>
        </p:nvPicPr>
        <p:blipFill>
          <a:blip r:embed="rId1"/>
          <a:stretch/>
        </p:blipFill>
        <p:spPr>
          <a:xfrm>
            <a:off x="7524720" y="4886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77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69228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схальном богослужени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оме тропаря и других песнопений, звучит очень красивая молит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Ангел вопияш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06 - П. Чесноков. Ангел вопияше..mp3" descr=""/>
          <p:cNvPicPr/>
          <p:nvPr/>
        </p:nvPicPr>
        <p:blipFill>
          <a:blip r:embed="rId1"/>
          <a:stretch/>
        </p:blipFill>
        <p:spPr>
          <a:xfrm>
            <a:off x="6875640" y="479736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16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69228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имский-Корсаков Николай Андреевич                (1844—1908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зитор, дирижёр, 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Светлый праздн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оскресная увертю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ветлый праздник» написан на темы «Обихода»     (сборник церковных песнопений) и передает с детства сохранившиеся у автора впечатления о пасхальной заутрене . Римский-Корсаков писал: «Мне хотелось воспроизвести легендарную и языческую сторону праздника – таинственный вечер страстной субботы и веселье светлого утра воскресения…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Н.А. Римский-Корсаков - Светлый праздник (отрывок)  (audiopoisk.com).mp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314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8418600" cy="205596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6" descr="drapa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05000"/>
            <a:ext cx="4751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229600" cy="22064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krashe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2133720"/>
            <a:ext cx="547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26960" y="128520"/>
            <a:ext cx="8229600" cy="235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205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pisa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2205000"/>
            <a:ext cx="5400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73636963_3419483_UiMwDyuc.jpg"/>
          <p:cNvPicPr/>
          <p:nvPr/>
        </p:nvPicPr>
        <p:blipFill>
          <a:blip r:embed="rId2"/>
          <a:stretch/>
        </p:blipFill>
        <p:spPr>
          <a:xfrm>
            <a:off x="1835280" y="1628640"/>
            <a:ext cx="6740280" cy="4392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333794673_easter-egg-23.jpg"/>
          <p:cNvPicPr/>
          <p:nvPr/>
        </p:nvPicPr>
        <p:blipFill>
          <a:blip r:embed="rId3"/>
          <a:stretch/>
        </p:blipFill>
        <p:spPr>
          <a:xfrm>
            <a:off x="1619280" y="1628640"/>
            <a:ext cx="6912000" cy="4464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Holidays_Easter_painted_eggs_033784_.jpg"/>
          <p:cNvPicPr/>
          <p:nvPr/>
        </p:nvPicPr>
        <p:blipFill>
          <a:blip r:embed="rId4"/>
          <a:stretch/>
        </p:blipFill>
        <p:spPr>
          <a:xfrm>
            <a:off x="1490760" y="1484280"/>
            <a:ext cx="71485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1:32:27Z</dcterms:created>
  <dc:creator>Comp</dc:creator>
  <dc:description/>
  <dc:language>en-US</dc:language>
  <cp:lastModifiedBy>Якупова</cp:lastModifiedBy>
  <dcterms:modified xsi:type="dcterms:W3CDTF">2020-04-10T13:34:28Z</dcterms:modified>
  <cp:revision>6</cp:revision>
  <dc:subject/>
  <dc:title>Слайд 1</dc:title>
</cp:coreProperties>
</file>