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2BD-F766-455C-90CB-E044DA0C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16A-EDA5-4134-913E-A42BDDA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B42-8537-4A5F-828F-7491EE1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745-D61F-4058-922D-6BE71CC4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49AE-E636-42EB-B56C-C4A188E0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780-CDA7-4666-9CA0-444996A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6F6-7EB3-41D9-9263-4DBC11F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5D4-3D54-4E1D-A92A-6619A47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1AF-ACD0-49A4-B404-A0EB240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1973-B394-4D1B-9252-50B1145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A4D2-6334-44FA-8B24-EEB1A3F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B2F-D0B5-4B99-B46C-BED6E57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CC1A-7E4F-47FE-B88C-F3EAD22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FD9-D707-4B9D-802E-8C9686C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A701-9BC3-4950-B39C-1FA0472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117-A2AE-47C3-8C69-4F881A30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62B5-4561-4285-AD9C-2C769925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EDB-8A37-4648-9697-7BD527A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C95-EF2F-4B31-B2BE-D28B6838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B87-713C-4BB5-A701-2DAF3DC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525-6F34-4B18-8146-8756676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FAA-042A-40AB-B2FB-A230340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74C-1F7F-4EC5-A882-41C9030F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00D-F395-4847-BCDC-96480AA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A5E-086E-4763-88FF-B2301FF54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DF8-BBE3-4323-B413-A7B016F41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нутренняя и внешняя политика Пав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Нурмашева Айжанна Брымжановна, учитель истории МОУ СОШ № 1 г. Карт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cc33"/>
                </a:solidFill>
                <a:latin typeface="Arial"/>
              </a:rPr>
              <a:t>Эскадра под командованием Ф.Ф. Ушакова в 1798г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9"/>
          <p:cNvPicPr/>
          <p:nvPr/>
        </p:nvPicPr>
        <p:blipFill>
          <a:blip r:embed="rId1"/>
          <a:stretch/>
        </p:blipFill>
        <p:spPr>
          <a:xfrm>
            <a:off x="1787400" y="1758960"/>
            <a:ext cx="5569200" cy="4100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cc33"/>
                </a:solidFill>
                <a:latin typeface="Arial"/>
              </a:rPr>
              <a:t>Переход А.В. Суворова через Альп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32000" y="1628640"/>
            <a:ext cx="6048360" cy="496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cc"/>
                </a:solidFill>
                <a:latin typeface="Arial"/>
              </a:rPr>
              <a:t>          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Чёртов мо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8"/>
          <p:cNvPicPr/>
          <p:nvPr/>
        </p:nvPicPr>
        <p:blipFill>
          <a:blip r:embed="rId1"/>
          <a:stretch/>
        </p:blipFill>
        <p:spPr>
          <a:xfrm>
            <a:off x="1476360" y="1905120"/>
            <a:ext cx="5975280" cy="4692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cc33"/>
                </a:solidFill>
                <a:latin typeface="Arial"/>
              </a:rPr>
              <a:t>Изменение внешнеполитического курс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ход России из войны. Разрыв дипломатических отношений с Австрией и Англ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русской армии к походу в Ин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лючение мира с Францией. Участие России в союзах против Англии и Авст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ворцовый переворот 11 марта 1801 г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Рисунок2"/>
          <p:cNvPicPr/>
          <p:nvPr/>
        </p:nvPicPr>
        <p:blipFill>
          <a:blip r:embed="rId1"/>
          <a:stretch/>
        </p:blipFill>
        <p:spPr>
          <a:xfrm>
            <a:off x="971640" y="1905120"/>
            <a:ext cx="3313080" cy="4619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5" name="Rectangle 6"/>
          <p:cNvSpPr/>
          <p:nvPr/>
        </p:nvSpPr>
        <p:spPr>
          <a:xfrm>
            <a:off x="4572000" y="1773360"/>
            <a:ext cx="417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 ночь с 11 на 12 марта группа из 40 офицеров во главе с Паленом ворвалась в Михайловский за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авел оказал им сопротивление и в завязавшейся драке был уб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огда Александру сообщили о смерти отца, он хотел отказаться от престола, но заговорщики заставили его подписать  Манифест о своем восшествии на прест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5488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cc33"/>
                </a:solidFill>
                <a:latin typeface="Arial"/>
              </a:rPr>
              <a:t>Памятник Павлу I во дворе Михайловского замка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1" descr="Файл:Paul I Monument.jpg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проверь себя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в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тчина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Панин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ия Фёдоровна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 Пален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.Ф. Ушаков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 Суворов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историческая утк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796 году императором стал Павел, который продолжал политику своей матери Екатер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 внутренней политике продолжился век «золотого дворянства», черносошные крестьяне переданы помещикам в количестве 800 тысяч человек. В армии введена французская система. Павел установил твёрдый порядок наследования по женской линии. В 1801 году Павел отправлен в отставку своим сыном Николаем и стал жить в Москв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200" spc="-1" strike="noStrike">
                <a:solidFill>
                  <a:srgbClr val="33cc33"/>
                </a:solidFill>
                <a:latin typeface="Arial"/>
              </a:rPr>
              <a:t>император Павел </a:t>
            </a:r>
            <a:r>
              <a:rPr b="0" lang="en-US" sz="42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« Я желаю лучше быть ненавидимым за правое дело, чем любимым за дело неправо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Я надеюсь, что потомство отнесётся ко мне беспристрастне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197000"/>
            <a:ext cx="12358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333360"/>
            <a:ext cx="4716360" cy="612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Rectangle 11"/>
          <p:cNvSpPr/>
          <p:nvPr/>
        </p:nvSpPr>
        <p:spPr>
          <a:xfrm>
            <a:off x="4572000" y="1341360"/>
            <a:ext cx="42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«Россия при  Павле </a:t>
            </a:r>
            <a:r>
              <a:rPr b="0" lang="en-US" sz="5400" spc="-1" strike="noStrike">
                <a:solidFill>
                  <a:srgbClr val="33cc33"/>
                </a:solidFill>
                <a:latin typeface="Tahoma"/>
              </a:rPr>
              <a:t>I</a:t>
            </a:r>
            <a:r>
              <a:rPr b="0" lang="ru-RU" sz="5400" spc="-1" strike="noStrike">
                <a:solidFill>
                  <a:srgbClr val="33cc33"/>
                </a:solidFill>
                <a:latin typeface="Tahoma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Павел со своей семьё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8" descr="http://upload.wikimedia.org/wikipedia/ru/thumb/e/e6/Gerard_von_Kugelgen_Pavel_I.jpg/250px-Gerard_von_Kugelgen_Pavel_I.jpg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4200" spc="-1" strike="noStrike">
                <a:solidFill>
                  <a:srgbClr val="33cc33"/>
                </a:solidFill>
                <a:latin typeface="Arial"/>
              </a:rPr>
              <a:t>Гатчина – имение Павла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2"/>
          <p:cNvPicPr/>
          <p:nvPr/>
        </p:nvPicPr>
        <p:blipFill>
          <a:blip r:embed="rId1"/>
          <a:stretch/>
        </p:blipFill>
        <p:spPr>
          <a:xfrm>
            <a:off x="914400" y="1484280"/>
            <a:ext cx="7315200" cy="4753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Внутренняя политика Павла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I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3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5111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Крестьянский в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4"/>
          <p:cNvPicPr/>
          <p:nvPr/>
        </p:nvPicPr>
        <p:blipFill>
          <a:blip r:embed="rId1"/>
          <a:stretch/>
        </p:blipFill>
        <p:spPr>
          <a:xfrm>
            <a:off x="755640" y="1916280"/>
            <a:ext cx="2879640" cy="41148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4211640" y="1484280"/>
            <a:ext cx="453708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м разрешили жаловаться на помещ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граничил цены на това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арь установил «приемные дн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писал недоим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арщина ограничивалась 3 днями в недел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одавать крестьян без земли запрещало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 жестокое обращение с крепостными  виновных отправляли в монасты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 то же время Павел роздал за 4 года 600000 государственных крестьян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«Разжалованная грамота»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5"/>
          <p:cNvPicPr/>
          <p:nvPr/>
        </p:nvPicPr>
        <p:blipFill>
          <a:blip r:embed="rId1"/>
          <a:stretch/>
        </p:blipFill>
        <p:spPr>
          <a:xfrm>
            <a:off x="826920" y="1484280"/>
            <a:ext cx="2521080" cy="4897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Rectangle 5"/>
          <p:cNvSpPr/>
          <p:nvPr/>
        </p:nvSpPr>
        <p:spPr>
          <a:xfrm>
            <a:off x="3924360" y="1773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ворянство было недовольно этими мерами царя -он ответил, принятием указов которые можно назвать «Разжалованной грамотой дворянст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уволил со службы несовершеннолет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запретил свободный переход из военной службы в гражданск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ввел на дворян нало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запретил обращаться к нему с просьб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ввел телесные наказ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репрессировал 12000 недовольных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200" spc="-1" strike="noStrike">
                <a:solidFill>
                  <a:srgbClr val="33cc33"/>
                </a:solidFill>
                <a:latin typeface="Arial"/>
              </a:rPr>
              <a:t>Внешняя политика Павла </a:t>
            </a:r>
            <a:r>
              <a:rPr b="1" lang="en-US" sz="4200" spc="-1" strike="noStrike">
                <a:solidFill>
                  <a:srgbClr val="33cc33"/>
                </a:solidFill>
                <a:latin typeface="Arial"/>
              </a:rPr>
              <a:t>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6"/>
          <p:cNvPicPr/>
          <p:nvPr/>
        </p:nvPicPr>
        <p:blipFill>
          <a:blip r:embed="rId1"/>
          <a:stretch/>
        </p:blipFill>
        <p:spPr>
          <a:xfrm>
            <a:off x="250920" y="1484280"/>
            <a:ext cx="3313080" cy="4535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Rectangle 5"/>
          <p:cNvSpPr/>
          <p:nvPr/>
        </p:nvSpPr>
        <p:spPr>
          <a:xfrm>
            <a:off x="3851280" y="1484280"/>
            <a:ext cx="468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797 – 1800г. – борьба России за ослабление Франции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4:59:13Z</dcterms:created>
  <dc:creator>Марат</dc:creator>
  <dc:description/>
  <dc:language>en-US</dc:language>
  <cp:lastModifiedBy>www.PHILka.RU</cp:lastModifiedBy>
  <dcterms:modified xsi:type="dcterms:W3CDTF">2001-12-31T21:42:50Z</dcterms:modified>
  <cp:revision>11</cp:revision>
  <dc:subject/>
  <dc:title> </dc:title>
</cp:coreProperties>
</file>