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9C23-F900-4EF2-B7EE-1118CAF6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22B8-7A5A-4949-8BA1-B1C8EDE2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F6DE-E957-4502-9FEE-D6DC9A3C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E80A-AB84-4FA4-BDDB-0761C80D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D56C-7400-40C7-99DB-FFC05132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EEDC-7C75-473B-9A83-D666F28A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E294-B9E1-4E49-A19B-76AE9411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A0C9-8B75-4A1B-A850-E6A26660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1903-B75C-400C-9A5B-0A93FF7B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1C10-E793-4200-B880-ABDBAB07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E31C-8F11-4320-8809-CD05A9FF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F5AC-C815-4B3E-987D-09D9B565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2766-B8BC-48DB-AB1F-768881CC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D399-6143-4752-B636-833713D0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3B1A-0CC6-4076-9A25-89FB5B12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B196-CE1A-4381-A8E5-121469ED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FCAC-BB48-4A59-BE61-4CB8D0ABA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CA22-1A23-4FEA-B7FA-28CE5591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4D04-AF0E-48B9-8546-DCC6599F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EDC1-2382-41FD-9388-EAB6905E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187C-2134-470E-A26F-9D7A67CC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B10A-63CD-4D3A-927F-460A8686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61AA-D176-47AB-A452-742ED439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AC58-E142-41E9-B3E2-9FB6068C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0B90-1F87-4C8B-A6B1-0646654270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B6BE-F4F6-4CB5-9E36-36F13A8D1AC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c.rkc-74.ru/dlrstore/6/61ac0770-5846-11da-8cd6-0800200c9a66/01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m-motoviliha.ru/d/68612/d/1_7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6/WMATA_3006.jp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6920" y="259920"/>
            <a:ext cx="4392360" cy="28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Природный </a:t>
            </a:r>
            <a:br>
              <a:rPr sz="6200"/>
            </a:b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газ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35280" y="4292280"/>
            <a:ext cx="5145120" cy="13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подаватель химии  Хромых В.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35812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859280" y="549000"/>
            <a:ext cx="3672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иродный газ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это смесь газообразных углеводородов с небольшой молекулярной массой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5496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2565360"/>
            <a:ext cx="4608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Добыча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природного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газ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Картинка 11 из 12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321300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788000" y="2602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Картинка 28 из 402"/>
          <p:cNvPicPr/>
          <p:nvPr/>
        </p:nvPicPr>
        <p:blipFill>
          <a:blip r:embed="rId4"/>
          <a:stretch/>
        </p:blipFill>
        <p:spPr>
          <a:xfrm>
            <a:off x="324000" y="115920"/>
            <a:ext cx="424800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4076640"/>
            <a:ext cx="47595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ранспортиров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иродног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аз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Картинка 6 из 65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0464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Картинка 26 из 654"/>
          <p:cNvPicPr/>
          <p:nvPr/>
        </p:nvPicPr>
        <p:blipFill>
          <a:blip r:embed="rId3"/>
          <a:stretch/>
        </p:blipFill>
        <p:spPr>
          <a:xfrm>
            <a:off x="5435640" y="335772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Картинка 65 из 654"/>
          <p:cNvPicPr/>
          <p:nvPr/>
        </p:nvPicPr>
        <p:blipFill>
          <a:blip r:embed="rId4"/>
          <a:stretch/>
        </p:blipFill>
        <p:spPr>
          <a:xfrm>
            <a:off x="5796000" y="620640"/>
            <a:ext cx="26668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3789360"/>
            <a:ext cx="4182840" cy="25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ереработ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иродног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аз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086440" cy="3162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Картинка 12 из 402"/>
          <p:cNvPicPr/>
          <p:nvPr/>
        </p:nvPicPr>
        <p:blipFill>
          <a:blip r:embed="rId2"/>
          <a:stretch/>
        </p:blipFill>
        <p:spPr>
          <a:xfrm>
            <a:off x="4643280" y="3457440"/>
            <a:ext cx="4286520" cy="3400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Картинка 35 из 402"/>
          <p:cNvPicPr/>
          <p:nvPr/>
        </p:nvPicPr>
        <p:blipFill>
          <a:blip r:embed="rId3"/>
          <a:stretch/>
        </p:blipFill>
        <p:spPr>
          <a:xfrm>
            <a:off x="5435640" y="404640"/>
            <a:ext cx="3492360" cy="25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Химический соста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ую часть природного газа составляет метан (CH4) — до 98 %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остав природного газа могут также входить более тяжёлые углеводороды — гомологи метан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ан (C2H6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пан (C3H8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тан (C4H10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также другие неуглеводородные вещест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ород (H2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роводород (H2S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оксид углерода (СО2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зот (N2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лий (Не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580000" y="3549600"/>
            <a:ext cx="30513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Физические свойств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21844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риентировочные физические характеристики (зависят от состава; при нормальных условиях, если не указано другое)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отность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 0,7 до 1,0 кг/м³ (сухой газообразный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кг/м³ (жидкий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мпература самовозгорания: 650 °C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зрывоопасные концентрации смеси газа с воздухом от 5% до 15% объёмных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дельная теплота сгорания: 28—46 МДж/м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Эколог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14248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экологическом отношении природный газ является самым чистым видом минерального топлива. При сгорании его образуется значительно меньшее количество вредных веществ по сравнению с другими видами топлива. Однако сжигание человечеством огромного количества различных видов топлива, в том числе природного газа, за последние полвека привело к заметному увеличению содержания углекислого газа в атмосфере, который является, как и метан, парниковым газом. Большинство ученых именно это обстоятельство считают причиной наблюдающегося в настоящее время потепления клима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223200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00360" y="691920"/>
            <a:ext cx="35272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Применен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815328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Природный газ широко применяется в качестве горючего в жилых частных и многоквартирных домах для отопления, подогрева воды и приготовления пищи; как топливо для машин, котельных, ТЭЦ и др. Сейчас он используется в химической промышленности как исходное сырьё для получения различных органических веществ, например пластмасс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Файл:WMATA 300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04640"/>
            <a:ext cx="2657520" cy="1994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227640" y="333360"/>
            <a:ext cx="25704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08:23:55Z</dcterms:created>
  <dc:creator>nesterova</dc:creator>
  <dc:description/>
  <dc:language>en-US</dc:language>
  <cp:lastModifiedBy>ПУ30</cp:lastModifiedBy>
  <dcterms:modified xsi:type="dcterms:W3CDTF">2020-04-06T10:16:54Z</dcterms:modified>
  <cp:revision>5</cp:revision>
  <dc:subject/>
  <dc:title>Слайд 1</dc:title>
</cp:coreProperties>
</file>