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F6C-3768-4ACB-BE5F-998C36F5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80C-5BDC-4A1F-AE86-F20334BB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946-A3D4-4D90-B046-DD0AA149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783-D082-4F66-901E-6F2FF2B4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093B-56A7-4BDE-9ACA-27200779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050F-536B-4E2B-BF2F-ED96E955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AB86-DB53-403A-99A7-2D4A787C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2F5E-2C58-41AA-9B80-2CB38115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94B1-1E38-4743-ADFB-A002506D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9640-27FA-4598-B05F-379F3388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FC8D-F688-4DBA-AC2D-A61CCCA6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0CB-8D93-46D3-A13B-7EDF5497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BE4B-1F85-46A2-B4BB-D2BDFB04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D16D-5661-4354-B80D-8D76986C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C649-64A1-4317-AC8C-8A7CF2DE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6195-63F4-4A3B-82AD-1F876C93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7C73-EA9D-4BE6-83B0-68A1FFB7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9CB-B770-4488-8203-7B03FCD0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90D-C7EA-4506-AF05-29B44A4C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F6E-9588-4DC1-B960-17BF8785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AD9-CE06-49D2-BE61-F33FF3C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EB6-EA0E-4BC4-BB35-F694E13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208-28DA-44AD-918F-75950CBE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D5F-3297-4FE1-BB8C-2D224A7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0F67-21EC-4F57-B0F4-42CF0B8F7F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2C32-6313-4629-8E4B-20D171CBCF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c.rkc-74.ru/dlrstore/6/61ac0770-5846-11da-8cd6-0800200c9a66/01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m-motoviliha.ru/d/68612/d/1_7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6/WMATA_3006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6920" y="259920"/>
            <a:ext cx="4392360" cy="28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Природный 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газ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35280" y="4292280"/>
            <a:ext cx="514512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подаватель химии  Хромых В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5812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859280" y="549000"/>
            <a:ext cx="3672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родный га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это смесь газообразных углеводородов с небольшой молекулярной массой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49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4608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Добыча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природного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газ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Картинка 11 из 12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32130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28 из 402"/>
          <p:cNvPicPr/>
          <p:nvPr/>
        </p:nvPicPr>
        <p:blipFill>
          <a:blip r:embed="rId4"/>
          <a:stretch/>
        </p:blipFill>
        <p:spPr>
          <a:xfrm>
            <a:off x="324000" y="115920"/>
            <a:ext cx="42480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4076640"/>
            <a:ext cx="47595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ранспортиро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родн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а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Картинка 6 из 6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26 из 654"/>
          <p:cNvPicPr/>
          <p:nvPr/>
        </p:nvPicPr>
        <p:blipFill>
          <a:blip r:embed="rId3"/>
          <a:stretch/>
        </p:blipFill>
        <p:spPr>
          <a:xfrm>
            <a:off x="5435640" y="335772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65 из 654"/>
          <p:cNvPicPr/>
          <p:nvPr/>
        </p:nvPicPr>
        <p:blipFill>
          <a:blip r:embed="rId4"/>
          <a:stretch/>
        </p:blipFill>
        <p:spPr>
          <a:xfrm>
            <a:off x="5796000" y="620640"/>
            <a:ext cx="2666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3789360"/>
            <a:ext cx="418284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ерабо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родн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а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086440" cy="3162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12 из 402"/>
          <p:cNvPicPr/>
          <p:nvPr/>
        </p:nvPicPr>
        <p:blipFill>
          <a:blip r:embed="rId2"/>
          <a:stretch/>
        </p:blipFill>
        <p:spPr>
          <a:xfrm>
            <a:off x="4643280" y="3457440"/>
            <a:ext cx="428652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Картинка 35 из 402"/>
          <p:cNvPicPr/>
          <p:nvPr/>
        </p:nvPicPr>
        <p:blipFill>
          <a:blip r:embed="rId3"/>
          <a:stretch/>
        </p:blipFill>
        <p:spPr>
          <a:xfrm>
            <a:off x="5435640" y="404640"/>
            <a:ext cx="3492360" cy="25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Химический соста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ую часть природного газа составляет метан (CH4) — до 98 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став природного газа могут также входить более тяжёлые углеводороды — гомологи мета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н (C2H6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ан (C3H8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тан (C4H10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также другие неуглеводородные вещ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род (H2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оводород (H2S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оксид углерода (СО2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от (N2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лий (Не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80000" y="3549600"/>
            <a:ext cx="30513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Физические свойств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иентировочные физические характеристики (зависят от состава; при нормальных условиях, если не указано другое)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относ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 0,7 до 1,0 кг/м³ (сухой газообразный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кг/м³ (жидки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мпература самовозгорания: 650 °C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зрывоопасные концентрации смеси газа с воздухом от 5% до 15% объёмны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ельная теплота сгорания: 28—46 МДж/м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Эколог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4248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экологическом отношении природный газ является самым чистым видом минерального топлива. При сгорании его образуется значительно меньшее количество вредных веществ по сравнению с другими видами топлива. Однако сжигание человечеством огромного количества различных видов топлива, в том числе природного газа, за последние полвека привело к заметному увеличению содержания углекислого газа в атмосфере, который является, как и метан, парниковым газом. Большинство ученых именно это обстоятельство считают причиной наблюдающегося в настоящее время потепления клим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232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00360" y="691920"/>
            <a:ext cx="35272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римен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15328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риродный газ широко применяется в качестве горючего в жилых частных и многоквартирных домах для отопления, подогрева воды и приготовления пищи; как топливо для машин, котельных, ТЭЦ и др. Сейчас он используется в химической промышленности как исходное сырьё для получения различных органических веществ, например пластмасс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Файл:WMATA 3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570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08:23:55Z</dcterms:created>
  <dc:creator>nesterova</dc:creator>
  <dc:description/>
  <dc:language>en-US</dc:language>
  <cp:lastModifiedBy>ПУ30</cp:lastModifiedBy>
  <dcterms:modified xsi:type="dcterms:W3CDTF">2020-04-06T10:16:54Z</dcterms:modified>
  <cp:revision>5</cp:revision>
  <dc:subject/>
  <dc:title>Слайд 1</dc:title>
</cp:coreProperties>
</file>