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gif" ContentType="image/gif"/>
  <Override PartName="/ppt/media/image11.gif" ContentType="image/gif"/>
  <Override PartName="/ppt/media/image10.gif" ContentType="image/gif"/>
  <Override PartName="/ppt/media/image9.png" ContentType="image/png"/>
  <Override PartName="/ppt/media/image17.wmf" ContentType="image/x-wmf"/>
  <Override PartName="/ppt/media/image19.wmf" ContentType="image/x-wmf"/>
  <Override PartName="/ppt/media/image2.png" ContentType="image/png"/>
  <Override PartName="/ppt/media/image15.wmf" ContentType="image/x-wmf"/>
  <Override PartName="/ppt/media/image12.gif" ContentType="image/gif"/>
  <Override PartName="/ppt/media/image14.gif" ContentType="image/gif"/>
  <Override PartName="/ppt/media/image1.png" ContentType="image/png"/>
  <Override PartName="/ppt/media/image7.gif" ContentType="image/gif"/>
  <Override PartName="/ppt/media/image18.wmf" ContentType="image/x-wmf"/>
  <Override PartName="/ppt/media/image4.png" ContentType="image/png"/>
  <Override PartName="/ppt/media/image5.png" ContentType="image/png"/>
  <Override PartName="/ppt/media/image3.gif" ContentType="image/gif"/>
  <Override PartName="/ppt/media/image6.png" ContentType="image/png"/>
  <Override PartName="/ppt/media/image8.png" ContentType="image/png"/>
  <Override PartName="/ppt/media/image1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DE258-5D27-4393-8A58-A5C633AB0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28560" y="-360"/>
            <a:ext cx="788688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45840" y="1465200"/>
            <a:ext cx="786924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45840" y="3926160"/>
            <a:ext cx="786924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11548-D379-4E89-8B24-C010CC252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28560" y="-360"/>
            <a:ext cx="788688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45840" y="1465200"/>
            <a:ext cx="384012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8200" y="1465200"/>
            <a:ext cx="384012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45840" y="3926160"/>
            <a:ext cx="384012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8200" y="3926160"/>
            <a:ext cx="384012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5F593-632D-49EC-9714-5953FA99C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28560" y="-360"/>
            <a:ext cx="788688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45840" y="1465200"/>
            <a:ext cx="253368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6600" y="1465200"/>
            <a:ext cx="253368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67360" y="1465200"/>
            <a:ext cx="253368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45840" y="3926160"/>
            <a:ext cx="253368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6600" y="3926160"/>
            <a:ext cx="253368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67360" y="3926160"/>
            <a:ext cx="253368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398C0-0600-4345-8004-5E59A26A3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28560" y="-360"/>
            <a:ext cx="788688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45840" y="1465200"/>
            <a:ext cx="7869240" cy="47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1F6B6-5BC5-4BD0-8200-D842E0BB5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28560" y="-360"/>
            <a:ext cx="788688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45840" y="1465200"/>
            <a:ext cx="786924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55701-97F6-4A2A-B178-A382A9E50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28560" y="-360"/>
            <a:ext cx="788688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45840" y="1465200"/>
            <a:ext cx="384012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8200" y="1465200"/>
            <a:ext cx="384012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58B3C-5F7A-401F-8261-D7649A373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28560" y="-360"/>
            <a:ext cx="788688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1BEC8-1B34-4063-96EA-C1EEF988C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28560" y="-360"/>
            <a:ext cx="7886880" cy="62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24E91-059C-4804-8EF0-F93BD2748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28560" y="-360"/>
            <a:ext cx="788688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45840" y="1465200"/>
            <a:ext cx="384012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8200" y="1465200"/>
            <a:ext cx="384012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45840" y="3926160"/>
            <a:ext cx="384012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CD493-363B-4412-8D0B-493EE4904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28560" y="-360"/>
            <a:ext cx="788688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45840" y="1465200"/>
            <a:ext cx="384012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8200" y="1465200"/>
            <a:ext cx="384012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8200" y="3926160"/>
            <a:ext cx="384012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592B0-CB9F-4846-A103-1DC961927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28560" y="-360"/>
            <a:ext cx="788688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45840" y="1465200"/>
            <a:ext cx="384012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8200" y="1465200"/>
            <a:ext cx="384012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45840" y="3926160"/>
            <a:ext cx="786924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1009E-15BA-4440-A907-2FA04088B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Рисунок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45840" y="1465200"/>
            <a:ext cx="786924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28222-6E04-4800-BCD3-89562FFA11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title"/>
          </p:nvPr>
        </p:nvSpPr>
        <p:spPr>
          <a:xfrm>
            <a:off x="628560" y="-360"/>
            <a:ext cx="788688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6.wm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12.gif"/><Relationship Id="rId3" Type="http://schemas.openxmlformats.org/officeDocument/2006/relationships/image" Target="../media/image13.gi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14.gi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Прямоугольник 7" descr=""/>
          <p:cNvPicPr/>
          <p:nvPr/>
        </p:nvPicPr>
        <p:blipFill>
          <a:blip r:embed="rId1"/>
          <a:stretch/>
        </p:blipFill>
        <p:spPr>
          <a:xfrm>
            <a:off x="2494080" y="2090880"/>
            <a:ext cx="4851360" cy="2682720"/>
          </a:xfrm>
          <a:prstGeom prst="rect">
            <a:avLst/>
          </a:prstGeom>
          <a:ln w="0">
            <a:noFill/>
          </a:ln>
        </p:spPr>
      </p:pic>
      <p:pic>
        <p:nvPicPr>
          <p:cNvPr id="43" name="Рисунок 8" descr="10.gif"/>
          <p:cNvPicPr/>
          <p:nvPr/>
        </p:nvPicPr>
        <p:blipFill>
          <a:blip r:embed="rId2"/>
          <a:stretch/>
        </p:blipFill>
        <p:spPr>
          <a:xfrm>
            <a:off x="7572240" y="971640"/>
            <a:ext cx="1000440" cy="601560"/>
          </a:xfrm>
          <a:prstGeom prst="rect">
            <a:avLst/>
          </a:prstGeom>
          <a:ln w="0">
            <a:noFill/>
          </a:ln>
        </p:spPr>
      </p:pic>
      <p:pic>
        <p:nvPicPr>
          <p:cNvPr id="44" name="Прямоугольник 3" descr=""/>
          <p:cNvPicPr/>
          <p:nvPr/>
        </p:nvPicPr>
        <p:blipFill>
          <a:blip r:embed="rId3"/>
          <a:stretch/>
        </p:blipFill>
        <p:spPr>
          <a:xfrm>
            <a:off x="2494080" y="92160"/>
            <a:ext cx="4728960" cy="834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Прямоугольник 2"/>
          <p:cNvSpPr/>
          <p:nvPr/>
        </p:nvSpPr>
        <p:spPr>
          <a:xfrm>
            <a:off x="1378080" y="2587680"/>
            <a:ext cx="6472080" cy="2043720"/>
          </a:xfrm>
          <a:prstGeom prst="rect">
            <a:avLst/>
          </a:prstGeom>
          <a:solidFill>
            <a:srgbClr val="ffe3b9">
              <a:alpha val="1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Оставьте один день перед экзаменом на то, чтобы еще раз повторить самые трудные вопрос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Группа 4"/>
          <p:cNvGrpSpPr/>
          <p:nvPr/>
        </p:nvGrpSpPr>
        <p:grpSpPr>
          <a:xfrm>
            <a:off x="1928880" y="500040"/>
            <a:ext cx="6643800" cy="1334160"/>
            <a:chOff x="1928880" y="500040"/>
            <a:chExt cx="6643800" cy="1334160"/>
          </a:xfrm>
        </p:grpSpPr>
        <p:sp>
          <p:nvSpPr>
            <p:cNvPr id="82" name="TextBox 5"/>
            <p:cNvSpPr/>
            <p:nvPr/>
          </p:nvSpPr>
          <p:spPr>
            <a:xfrm>
              <a:off x="1928880" y="642960"/>
              <a:ext cx="5643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Monotype Corsiva"/>
                </a:rPr>
                <a:t>Стратегия подготовки к экзамену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3" name="Рисунок 6" descr="10.gif"/>
            <p:cNvPicPr/>
            <p:nvPr/>
          </p:nvPicPr>
          <p:blipFill>
            <a:blip r:embed="rId1"/>
            <a:stretch/>
          </p:blipFill>
          <p:spPr>
            <a:xfrm>
              <a:off x="7572600" y="500040"/>
              <a:ext cx="1000080" cy="60084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1"/>
          <p:cNvSpPr/>
          <p:nvPr/>
        </p:nvSpPr>
        <p:spPr>
          <a:xfrm>
            <a:off x="533520" y="1342800"/>
            <a:ext cx="82008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Monotype Corsiva"/>
              </a:rPr>
              <a:t>Накануне экзамен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• </a:t>
            </a: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С вечера совершите прогулку, перед сном примите душ. Выспитесь как можно лучше, чтобы встать с ощущением "боевого" настро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• </a:t>
            </a: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В школу Вы должны явиться, не опаздывая, лучше за 15-20 минут до начала экзаме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Собирайте нужные вам вещи накануне, обязательно положите карандаш, ручку, линейки и т.п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Группа 2"/>
          <p:cNvGrpSpPr/>
          <p:nvPr/>
        </p:nvGrpSpPr>
        <p:grpSpPr>
          <a:xfrm>
            <a:off x="1928880" y="500040"/>
            <a:ext cx="6643800" cy="1334160"/>
            <a:chOff x="1928880" y="500040"/>
            <a:chExt cx="6643800" cy="1334160"/>
          </a:xfrm>
        </p:grpSpPr>
        <p:sp>
          <p:nvSpPr>
            <p:cNvPr id="86" name="TextBox 3"/>
            <p:cNvSpPr/>
            <p:nvPr/>
          </p:nvSpPr>
          <p:spPr>
            <a:xfrm>
              <a:off x="1928880" y="642960"/>
              <a:ext cx="5643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Monotype Corsiva"/>
                </a:rPr>
                <a:t>Стратегия подготовки к экзамену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7" name="Рисунок 4" descr="10.gif"/>
            <p:cNvPicPr/>
            <p:nvPr/>
          </p:nvPicPr>
          <p:blipFill>
            <a:blip r:embed="rId1"/>
            <a:stretch/>
          </p:blipFill>
          <p:spPr>
            <a:xfrm>
              <a:off x="7572600" y="500040"/>
              <a:ext cx="1000080" cy="60084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1"/>
          <p:cNvSpPr/>
          <p:nvPr/>
        </p:nvSpPr>
        <p:spPr>
          <a:xfrm>
            <a:off x="592200" y="1478160"/>
            <a:ext cx="8410680" cy="3933360"/>
          </a:xfrm>
          <a:prstGeom prst="rect">
            <a:avLst/>
          </a:prstGeom>
          <a:solidFill>
            <a:srgbClr val="ffe3b9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Monotype Corsiva"/>
              </a:rPr>
              <a:t>Перед началом экзаме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• </a:t>
            </a: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В начале Вам сообщат необходимую информацию (как заполнять бланк, как подписать черновик какими буквами писать и т.д.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Будьте внимательны!!! От того, как Вы запомните все эти правила, зависит правильность Ваших ответов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Группа 3"/>
          <p:cNvGrpSpPr/>
          <p:nvPr/>
        </p:nvGrpSpPr>
        <p:grpSpPr>
          <a:xfrm>
            <a:off x="1928880" y="500040"/>
            <a:ext cx="6643800" cy="1334160"/>
            <a:chOff x="1928880" y="500040"/>
            <a:chExt cx="6643800" cy="1334160"/>
          </a:xfrm>
        </p:grpSpPr>
        <p:sp>
          <p:nvSpPr>
            <p:cNvPr id="90" name="TextBox 4"/>
            <p:cNvSpPr/>
            <p:nvPr/>
          </p:nvSpPr>
          <p:spPr>
            <a:xfrm>
              <a:off x="1928880" y="642960"/>
              <a:ext cx="5643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Monotype Corsiva"/>
                </a:rPr>
                <a:t>Стратегия подготовки к экзамену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1" name="Рисунок 5" descr="10.gif"/>
            <p:cNvPicPr/>
            <p:nvPr/>
          </p:nvPicPr>
          <p:blipFill>
            <a:blip r:embed="rId1"/>
            <a:stretch/>
          </p:blipFill>
          <p:spPr>
            <a:xfrm>
              <a:off x="7572600" y="500040"/>
              <a:ext cx="1000080" cy="60084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1"/>
          <p:cNvSpPr/>
          <p:nvPr/>
        </p:nvSpPr>
        <p:spPr>
          <a:xfrm>
            <a:off x="304920" y="879120"/>
            <a:ext cx="8267760" cy="5639760"/>
          </a:xfrm>
          <a:prstGeom prst="rect">
            <a:avLst/>
          </a:prstGeom>
          <a:solidFill>
            <a:srgbClr val="ffe3b9">
              <a:alpha val="1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Monotype Corsiva"/>
              </a:rPr>
              <a:t>Во время экзаме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• </a:t>
            </a: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Пробегите глазами все задания, чтобы увидеть, какого типа задачи в нем содержатс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• </a:t>
            </a: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Внимательно прочитайте вопрос до конца, чтобы правильно понять его смысл. Если не знаете ответа на вопрос или не уверены, пропустите его, чтобы потом к нему вернуться. Начните с легкого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• </a:t>
            </a: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Научитесь пропускать трудные или непонятные задания. Помните: в тексте всегда найдутся вопросы, с которыми Вы обязательно справитесь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Группа 3"/>
          <p:cNvGrpSpPr/>
          <p:nvPr/>
        </p:nvGrpSpPr>
        <p:grpSpPr>
          <a:xfrm>
            <a:off x="1905120" y="152280"/>
            <a:ext cx="6643440" cy="1334160"/>
            <a:chOff x="1905120" y="152280"/>
            <a:chExt cx="6643440" cy="1334160"/>
          </a:xfrm>
        </p:grpSpPr>
        <p:sp>
          <p:nvSpPr>
            <p:cNvPr id="94" name="TextBox 4"/>
            <p:cNvSpPr/>
            <p:nvPr/>
          </p:nvSpPr>
          <p:spPr>
            <a:xfrm>
              <a:off x="1905120" y="295200"/>
              <a:ext cx="5643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Monotype Corsiva"/>
                </a:rPr>
                <a:t>Стратегия подготовки к экзамену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5" name="Рисунок 5" descr="10.gif"/>
            <p:cNvPicPr/>
            <p:nvPr/>
          </p:nvPicPr>
          <p:blipFill>
            <a:blip r:embed="rId1"/>
            <a:stretch/>
          </p:blipFill>
          <p:spPr>
            <a:xfrm>
              <a:off x="7548480" y="152280"/>
              <a:ext cx="1000080" cy="60084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1"/>
          <p:cNvSpPr/>
          <p:nvPr/>
        </p:nvSpPr>
        <p:spPr>
          <a:xfrm>
            <a:off x="1285920" y="2651040"/>
            <a:ext cx="7358040" cy="1800360"/>
          </a:xfrm>
          <a:prstGeom prst="rect">
            <a:avLst/>
          </a:prstGeom>
          <a:solidFill>
            <a:srgbClr val="ffe3b9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Оставьте время для проверки своей работы, чтобы успеть пробежать глазами и заметить явные ошибк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Группа 3"/>
          <p:cNvGrpSpPr/>
          <p:nvPr/>
        </p:nvGrpSpPr>
        <p:grpSpPr>
          <a:xfrm>
            <a:off x="1928880" y="500040"/>
            <a:ext cx="6643800" cy="1334160"/>
            <a:chOff x="1928880" y="500040"/>
            <a:chExt cx="6643800" cy="1334160"/>
          </a:xfrm>
        </p:grpSpPr>
        <p:sp>
          <p:nvSpPr>
            <p:cNvPr id="98" name="TextBox 4"/>
            <p:cNvSpPr/>
            <p:nvPr/>
          </p:nvSpPr>
          <p:spPr>
            <a:xfrm>
              <a:off x="1928880" y="642960"/>
              <a:ext cx="5643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Monotype Corsiva"/>
                </a:rPr>
                <a:t>Стратегия подготовки к экзамену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9" name="Рисунок 5" descr="10.gif"/>
            <p:cNvPicPr/>
            <p:nvPr/>
          </p:nvPicPr>
          <p:blipFill>
            <a:blip r:embed="rId1"/>
            <a:stretch/>
          </p:blipFill>
          <p:spPr>
            <a:xfrm>
              <a:off x="7572600" y="500040"/>
              <a:ext cx="1000080" cy="60084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2"/>
          <p:cNvSpPr/>
          <p:nvPr/>
        </p:nvSpPr>
        <p:spPr>
          <a:xfrm>
            <a:off x="1243080" y="457200"/>
            <a:ext cx="707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Как подготовиться физическ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2"/>
          <p:cNvSpPr/>
          <p:nvPr/>
        </p:nvSpPr>
        <p:spPr>
          <a:xfrm>
            <a:off x="609480" y="1343880"/>
            <a:ext cx="8177400" cy="642600"/>
          </a:xfrm>
          <a:prstGeom prst="rect">
            <a:avLst/>
          </a:prstGeom>
          <a:solidFill>
            <a:srgbClr val="ffe3b9">
              <a:alpha val="34000"/>
            </a:srgbClr>
          </a:solidFill>
          <a:ln w="9360">
            <a:solidFill>
              <a:srgbClr val="491a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Ежедневно выполняй упражнения, способствующие снятию напряжения, усталости, достижению расслаблен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3"/>
          <p:cNvSpPr/>
          <p:nvPr/>
        </p:nvSpPr>
        <p:spPr>
          <a:xfrm>
            <a:off x="571680" y="2321640"/>
            <a:ext cx="8267400" cy="4786200"/>
          </a:xfrm>
          <a:prstGeom prst="rect">
            <a:avLst/>
          </a:prstGeom>
          <a:solidFill>
            <a:srgbClr val="ffe3b9">
              <a:alpha val="2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 </a:t>
            </a:r>
            <a:r>
              <a:rPr b="0" lang="ru-RU" sz="2200" spc="-1" strike="noStrike" u="sng">
                <a:solidFill>
                  <a:srgbClr val="000000"/>
                </a:solidFill>
                <a:uFillTx/>
                <a:latin typeface="Monotype Corsiva"/>
                <a:ea typeface="Times New Roman"/>
              </a:rPr>
              <a:t>Что делать, если устали глаза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В период подготовки к экзаменам увеличивается нагрузка на глаза. Если устали глаза, значит, устал и организм: ему может не хватить сил для выполнения экзаменационного задания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Выполните два любых  упражнения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- посмотрите попеременно вверх-вниз (25 секунд), влево - вправо (15 секунд); - напишите глазами свое имя, отчество, фамилию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- попеременно фиксируйте взгляд на удаленном предмете (20 секунд), потом на листе бумаги перед собой (20 секунд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- нарисуйте квадрат, треугольник – сначала по часовой стрелке, потом в противоположную сторону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8" descr="C:\Documents and Settings\Алена\Local Settings\Temporary Internet Files\Content.IE5\3LUZQUFV\MCHM00380_0000[1].wmf"/>
          <p:cNvPicPr/>
          <p:nvPr/>
        </p:nvPicPr>
        <p:blipFill>
          <a:blip r:embed="rId1"/>
          <a:stretch/>
        </p:blipFill>
        <p:spPr>
          <a:xfrm rot="21424800">
            <a:off x="7667640" y="1957320"/>
            <a:ext cx="1143000" cy="9781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8" descr="C:\Documents and Settings\Алена\Local Settings\Temporary Internet Files\Content.IE5\3LUZQUFV\MCHM00380_0000[1].wmf"/>
          <p:cNvPicPr/>
          <p:nvPr/>
        </p:nvPicPr>
        <p:blipFill>
          <a:blip r:embed="rId2"/>
          <a:stretch/>
        </p:blipFill>
        <p:spPr>
          <a:xfrm rot="286800">
            <a:off x="6396120" y="1974600"/>
            <a:ext cx="1143000" cy="977760"/>
          </a:xfrm>
          <a:prstGeom prst="rect">
            <a:avLst/>
          </a:prstGeom>
          <a:ln w="0">
            <a:noFill/>
          </a:ln>
        </p:spPr>
      </p:pic>
      <p:pic>
        <p:nvPicPr>
          <p:cNvPr id="105" name="Рисунок 11" descr="10.gif"/>
          <p:cNvPicPr/>
          <p:nvPr/>
        </p:nvPicPr>
        <p:blipFill>
          <a:blip r:embed="rId3"/>
          <a:stretch/>
        </p:blipFill>
        <p:spPr>
          <a:xfrm>
            <a:off x="7858080" y="357120"/>
            <a:ext cx="1000080" cy="601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3"/>
          <p:cNvSpPr/>
          <p:nvPr/>
        </p:nvSpPr>
        <p:spPr>
          <a:xfrm>
            <a:off x="285840" y="1086840"/>
            <a:ext cx="8572320" cy="3506760"/>
          </a:xfrm>
          <a:prstGeom prst="rect">
            <a:avLst/>
          </a:prstGeom>
          <a:solidFill>
            <a:srgbClr val="ffe3b9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Monotype Corsiva"/>
                <a:ea typeface="Times New Roman"/>
              </a:rPr>
              <a:t>Режим дня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Разделите день на три части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Corsi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Готовьтесь к экзаменам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Corsi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Занимайтесь спортом, гуляйте на свежем воздухе, потанцуйте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- Спите не менее 8 часов, если есть желание и потребность, сделайте себе тихий час после обед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2"/>
          <p:cNvSpPr/>
          <p:nvPr/>
        </p:nvSpPr>
        <p:spPr>
          <a:xfrm>
            <a:off x="1342440" y="428760"/>
            <a:ext cx="707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Как подготовиться физическ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Рисунок 7" descr="10.gif"/>
          <p:cNvPicPr/>
          <p:nvPr/>
        </p:nvPicPr>
        <p:blipFill>
          <a:blip r:embed="rId1"/>
          <a:stretch/>
        </p:blipFill>
        <p:spPr>
          <a:xfrm>
            <a:off x="7858080" y="357120"/>
            <a:ext cx="1000080" cy="6015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" descr="j0299763"/>
          <p:cNvPicPr/>
          <p:nvPr/>
        </p:nvPicPr>
        <p:blipFill>
          <a:blip r:embed="rId2"/>
          <a:stretch/>
        </p:blipFill>
        <p:spPr>
          <a:xfrm>
            <a:off x="1782720" y="4835520"/>
            <a:ext cx="885960" cy="7873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7" descr="C:\Documents and Settings\Алена\Local Settings\Temporary Internet Files\Content.IE5\3LUZQUFV\MCj01990600000[1].wmf"/>
          <p:cNvPicPr/>
          <p:nvPr/>
        </p:nvPicPr>
        <p:blipFill>
          <a:blip r:embed="rId3"/>
          <a:stretch/>
        </p:blipFill>
        <p:spPr>
          <a:xfrm>
            <a:off x="6043680" y="4583160"/>
            <a:ext cx="1204920" cy="1901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4"/>
          <p:cNvSpPr/>
          <p:nvPr/>
        </p:nvSpPr>
        <p:spPr>
          <a:xfrm>
            <a:off x="380880" y="600120"/>
            <a:ext cx="840600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1. 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Если не повторить в течение 1 часа, то забывается 60%, а если в течение суток – 80%. Через 3 дня забывается почти вс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2. Трудность растет непропорционально объему. Большой отрывок учить полезнее, чем короткое изречени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3. При одинаковой работе количество запоминаемого тем больше, чем выше степень понима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4. Распределенное заучивание лучше концентрированного. Лучше учить с перерывами, чем подряд, лучше понемногу, чем сраз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5. Эффективнее больше времени тратить на повторение по памяти, чем на простое многократное чтени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6. Если работаешь с двумя материалами – большим и поменьше, разумно начинать с большег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рямоугольник 2"/>
          <p:cNvSpPr/>
          <p:nvPr/>
        </p:nvSpPr>
        <p:spPr>
          <a:xfrm>
            <a:off x="1219320" y="380880"/>
            <a:ext cx="6215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Некоторые закономерности запомин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Рисунок 3" descr="10.gif"/>
          <p:cNvPicPr/>
          <p:nvPr/>
        </p:nvPicPr>
        <p:blipFill>
          <a:blip r:embed="rId1"/>
          <a:stretch/>
        </p:blipFill>
        <p:spPr>
          <a:xfrm>
            <a:off x="7715160" y="642960"/>
            <a:ext cx="1000080" cy="601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6840" y="713880"/>
            <a:ext cx="63248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Как убрать сильное волнение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5" name="Прямоугольник 3"/>
          <p:cNvSpPr/>
          <p:nvPr/>
        </p:nvSpPr>
        <p:spPr>
          <a:xfrm>
            <a:off x="1447920" y="1900080"/>
            <a:ext cx="63579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Monotype Corsiva"/>
              </a:rPr>
              <a:t>Повышенный уровень тревоги на экзамене может 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приводить к дезорганизации деятельности, снижению концентраци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внимания и работоспособности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Рисунок 5" descr="10.gif"/>
          <p:cNvPicPr/>
          <p:nvPr/>
        </p:nvPicPr>
        <p:blipFill>
          <a:blip r:embed="rId1"/>
          <a:stretch/>
        </p:blipFill>
        <p:spPr>
          <a:xfrm>
            <a:off x="7715160" y="714240"/>
            <a:ext cx="1000080" cy="601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1"/>
          <p:cNvSpPr/>
          <p:nvPr/>
        </p:nvSpPr>
        <p:spPr>
          <a:xfrm>
            <a:off x="685800" y="1675080"/>
            <a:ext cx="7010280" cy="3993480"/>
          </a:xfrm>
          <a:prstGeom prst="rect">
            <a:avLst/>
          </a:prstGeom>
          <a:solidFill>
            <a:srgbClr val="ffe3b9">
              <a:alpha val="1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Если вдруг возникает страх перед заданием, надо  отвернутся от стола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сделать несколько медленных, глубоких вдохов и выдохов и только затем опять приступить к дел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6840" y="713880"/>
            <a:ext cx="63248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Как убрать сильное волнение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19" name="Рисунок 3" descr="10.gif"/>
          <p:cNvPicPr/>
          <p:nvPr/>
        </p:nvPicPr>
        <p:blipFill>
          <a:blip r:embed="rId1"/>
          <a:stretch/>
        </p:blipFill>
        <p:spPr>
          <a:xfrm>
            <a:off x="7715160" y="714240"/>
            <a:ext cx="1000080" cy="6019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C:\Documents and Settings\Алена\Local Settings\Temporary Internet Files\Content.IE5\11PFLLNJ\MCj04352210000[1].wmf"/>
          <p:cNvPicPr/>
          <p:nvPr/>
        </p:nvPicPr>
        <p:blipFill>
          <a:blip r:embed="rId2"/>
          <a:stretch/>
        </p:blipFill>
        <p:spPr>
          <a:xfrm>
            <a:off x="7286760" y="4071960"/>
            <a:ext cx="1598400" cy="2531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Прямоугольник 4"/>
          <p:cNvSpPr/>
          <p:nvPr/>
        </p:nvSpPr>
        <p:spPr>
          <a:xfrm>
            <a:off x="406440" y="139680"/>
            <a:ext cx="8262720" cy="29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ажаемые выпускники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 вас  впереди  ответственный  и  серьёзный  этап: экзамены.  Следует заметить, что 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же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если Вы будете сдавать единый государственный экзамен не в своей школ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с встретят доброжелательные педагог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ждый будет обеспечен рабочим местом и всеми необходимыми материалам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все организационные вопросы Вы сможете получить ответы у педагог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5"/>
          <p:cNvSpPr/>
          <p:nvPr/>
        </p:nvSpPr>
        <p:spPr>
          <a:xfrm>
            <a:off x="558720" y="3112920"/>
            <a:ext cx="805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знакомьтесь, пожалуйста,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с рекомендациями при подготовке к экзамену, возможно, они помогут Вам рационально организовать свою деятельность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Прямоугольник 3"/>
          <p:cNvSpPr/>
          <p:nvPr/>
        </p:nvSpPr>
        <p:spPr>
          <a:xfrm>
            <a:off x="228600" y="1204920"/>
            <a:ext cx="86104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Противострессовое дыхание. Медленно выполняйте глубокий вдох через нос. На пике вдоха на мгновение задержите дыхание, после чего сделайте выдох как можно медленне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2. Минутная релаксация. Расслабьте уголки рта.Расслабьте плечи. Сосредоточьтесь на выражении своего лица и положении тела: помните, что они отражают ваши эмоции, мысли, внутреннее состоя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56840" y="428400"/>
            <a:ext cx="63248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Как убрать сильное волнение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23" name="Рисунок 3" descr="10.gif"/>
          <p:cNvPicPr/>
          <p:nvPr/>
        </p:nvPicPr>
        <p:blipFill>
          <a:blip r:embed="rId1"/>
          <a:stretch/>
        </p:blipFill>
        <p:spPr>
          <a:xfrm>
            <a:off x="7715160" y="714240"/>
            <a:ext cx="1000080" cy="601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Прямоугольник 3"/>
          <p:cNvSpPr/>
          <p:nvPr/>
        </p:nvSpPr>
        <p:spPr>
          <a:xfrm>
            <a:off x="609480" y="1295280"/>
            <a:ext cx="82296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Оглянитесь вокруг и внимательно осмотрите помещение, в котором вы находитесь. Медленно, не торопясь, мысленно переберите все предметы, один за другим в определенной последовательности. Говорите мысленно самому себе: «коричневый письменный стол, белые занавески, красная ваза для цветов» и т.д. Сосредоточившись на каждом отдельном предмете, вы отвлечетесь от напряж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356840" y="428400"/>
            <a:ext cx="63248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Как убрать сильное волнение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26" name="Рисунок 5" descr="10.gif"/>
          <p:cNvPicPr/>
          <p:nvPr/>
        </p:nvPicPr>
        <p:blipFill>
          <a:blip r:embed="rId1"/>
          <a:stretch/>
        </p:blipFill>
        <p:spPr>
          <a:xfrm>
            <a:off x="7715160" y="714240"/>
            <a:ext cx="1000080" cy="601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TextBox 5"/>
          <p:cNvSpPr/>
          <p:nvPr/>
        </p:nvSpPr>
        <p:spPr>
          <a:xfrm>
            <a:off x="533520" y="2143080"/>
            <a:ext cx="8110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26920" indent="-514080">
              <a:lnSpc>
                <a:spcPct val="100000"/>
              </a:lnSpc>
              <a:buClr>
                <a:srgbClr val="000000"/>
              </a:buClr>
              <a:buFont typeface="Monotype Corsiv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От знания учебного предме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26920" indent="-514080">
              <a:lnSpc>
                <a:spcPct val="100000"/>
              </a:lnSpc>
              <a:buClr>
                <a:srgbClr val="000000"/>
              </a:buClr>
              <a:buFont typeface="Monotype Corsiv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От знакомства с процедурой проведения экзаме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26920" indent="-514080">
              <a:lnSpc>
                <a:spcPct val="100000"/>
              </a:lnSpc>
              <a:buClr>
                <a:srgbClr val="000000"/>
              </a:buClr>
              <a:buFont typeface="Monotype Corsiv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От стратегии подготовки к экзамен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26920" indent="-514080">
              <a:lnSpc>
                <a:spcPct val="100000"/>
              </a:lnSpc>
              <a:buClr>
                <a:srgbClr val="000000"/>
              </a:buClr>
              <a:buFont typeface="Monotype Corsiv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От эмоционального состоя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4"/>
          <p:cNvSpPr/>
          <p:nvPr/>
        </p:nvSpPr>
        <p:spPr>
          <a:xfrm>
            <a:off x="1150920" y="299880"/>
            <a:ext cx="7143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От чего зависит успех н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экзамене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3"/>
          <p:cNvSpPr/>
          <p:nvPr/>
        </p:nvSpPr>
        <p:spPr>
          <a:xfrm>
            <a:off x="714240" y="642960"/>
            <a:ext cx="79297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20"/>
          <p:cNvSpPr/>
          <p:nvPr/>
        </p:nvSpPr>
        <p:spPr>
          <a:xfrm>
            <a:off x="285840" y="428760"/>
            <a:ext cx="885816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4"/>
          <p:cNvSpPr/>
          <p:nvPr/>
        </p:nvSpPr>
        <p:spPr>
          <a:xfrm>
            <a:off x="2000160" y="571680"/>
            <a:ext cx="5643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Стратегия подготовки к экзамен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5"/>
          <p:cNvSpPr/>
          <p:nvPr/>
        </p:nvSpPr>
        <p:spPr>
          <a:xfrm>
            <a:off x="152280" y="1560600"/>
            <a:ext cx="563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71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0000"/>
                </a:solidFill>
                <a:uFillTx/>
                <a:latin typeface="Monotype Corsiva"/>
              </a:rPr>
              <a:t>Место:</a:t>
            </a: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Уберите со стола лишние вещи, удобно расположи те нужные учебники, тетради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71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карандаши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6" descr=""/>
          <p:cNvPicPr/>
          <p:nvPr/>
        </p:nvPicPr>
        <p:blipFill>
          <a:blip r:embed="rId1"/>
          <a:stretch/>
        </p:blipFill>
        <p:spPr>
          <a:xfrm>
            <a:off x="5000760" y="4071960"/>
            <a:ext cx="3857400" cy="2571840"/>
          </a:xfrm>
          <a:prstGeom prst="rect">
            <a:avLst/>
          </a:prstGeom>
          <a:ln w="9360">
            <a:solidFill>
              <a:srgbClr val="491a03"/>
            </a:solidFill>
            <a:miter/>
          </a:ln>
          <a:effectLst>
            <a:outerShdw dist="126770" dir="189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55" name="Рисунок 6" descr="10.gif"/>
          <p:cNvPicPr/>
          <p:nvPr/>
        </p:nvPicPr>
        <p:blipFill>
          <a:blip r:embed="rId2"/>
          <a:stretch/>
        </p:blipFill>
        <p:spPr>
          <a:xfrm>
            <a:off x="7715160" y="500040"/>
            <a:ext cx="1000080" cy="601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4"/>
          <p:cNvSpPr/>
          <p:nvPr/>
        </p:nvSpPr>
        <p:spPr>
          <a:xfrm>
            <a:off x="457200" y="3180240"/>
            <a:ext cx="5357880" cy="3018600"/>
          </a:xfrm>
          <a:prstGeom prst="rect">
            <a:avLst/>
          </a:prstGeom>
          <a:solidFill>
            <a:srgbClr val="ffff00">
              <a:alpha val="4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01520">
              <a:lnSpc>
                <a:spcPct val="100000"/>
              </a:lnSpc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Введите в интерьер комнаты желтый и фиолетовый цвета (они повышают интеллектуальную активность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4"/>
          <p:cNvSpPr/>
          <p:nvPr/>
        </p:nvSpPr>
        <p:spPr>
          <a:xfrm>
            <a:off x="1643040" y="714240"/>
            <a:ext cx="5643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Стратегия подготовки к экзамен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Рисунок 7" descr="bloema14.gif"/>
          <p:cNvPicPr/>
          <p:nvPr/>
        </p:nvPicPr>
        <p:blipFill>
          <a:blip r:embed="rId1"/>
          <a:stretch/>
        </p:blipFill>
        <p:spPr>
          <a:xfrm>
            <a:off x="714240" y="1214280"/>
            <a:ext cx="1505160" cy="17370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" descr=""/>
          <p:cNvPicPr/>
          <p:nvPr/>
        </p:nvPicPr>
        <p:blipFill>
          <a:blip r:embed="rId2"/>
          <a:srcRect l="16571" t="7275" r="13905" b="7843"/>
          <a:stretch/>
        </p:blipFill>
        <p:spPr>
          <a:xfrm>
            <a:off x="6500880" y="1428840"/>
            <a:ext cx="1857240" cy="3024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6" descr=""/>
          <p:cNvPicPr/>
          <p:nvPr/>
        </p:nvPicPr>
        <p:blipFill>
          <a:blip r:embed="rId3"/>
          <a:stretch/>
        </p:blipFill>
        <p:spPr>
          <a:xfrm>
            <a:off x="5929200" y="4572000"/>
            <a:ext cx="2786040" cy="194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1"/>
          <p:cNvSpPr/>
          <p:nvPr/>
        </p:nvSpPr>
        <p:spPr>
          <a:xfrm>
            <a:off x="380880" y="1171800"/>
            <a:ext cx="743436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Составьте план занятий. Определите, кто вы - "сова" или "жаворонок", и в зависимости от этого максимально используйте утренние или вечерние час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Составляя план на каждый день подготовки, необходимо четко определить, что именно сегодня будет изучаться. Не вообще: "немного позанимаюсь", а какие именно разделы и тем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Рисунок 2" descr="348.gif"/>
          <p:cNvPicPr/>
          <p:nvPr/>
        </p:nvPicPr>
        <p:blipFill>
          <a:blip r:embed="rId1"/>
          <a:stretch/>
        </p:blipFill>
        <p:spPr>
          <a:xfrm>
            <a:off x="7786800" y="5286240"/>
            <a:ext cx="933480" cy="1179720"/>
          </a:xfrm>
          <a:prstGeom prst="rect">
            <a:avLst/>
          </a:prstGeom>
          <a:ln w="0">
            <a:noFill/>
          </a:ln>
        </p:spPr>
      </p:pic>
      <p:pic>
        <p:nvPicPr>
          <p:cNvPr id="63" name="Рисунок 3" descr="ani-bird_blue.gif"/>
          <p:cNvPicPr/>
          <p:nvPr/>
        </p:nvPicPr>
        <p:blipFill>
          <a:blip r:embed="rId2"/>
          <a:stretch/>
        </p:blipFill>
        <p:spPr>
          <a:xfrm>
            <a:off x="214200" y="642960"/>
            <a:ext cx="1435320" cy="1147680"/>
          </a:xfrm>
          <a:prstGeom prst="rect">
            <a:avLst/>
          </a:prstGeom>
          <a:ln w="0">
            <a:noFill/>
          </a:ln>
        </p:spPr>
      </p:pic>
      <p:sp>
        <p:nvSpPr>
          <p:cNvPr id="64" name="TextBox 4"/>
          <p:cNvSpPr/>
          <p:nvPr/>
        </p:nvSpPr>
        <p:spPr>
          <a:xfrm>
            <a:off x="1714680" y="642960"/>
            <a:ext cx="5643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Стратегия подготовки к экзамен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Рисунок 5" descr="10.gif"/>
          <p:cNvPicPr/>
          <p:nvPr/>
        </p:nvPicPr>
        <p:blipFill>
          <a:blip r:embed="rId3"/>
          <a:stretch/>
        </p:blipFill>
        <p:spPr>
          <a:xfrm>
            <a:off x="7572240" y="571680"/>
            <a:ext cx="1000440" cy="601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Прямоугольник 2"/>
          <p:cNvSpPr/>
          <p:nvPr/>
        </p:nvSpPr>
        <p:spPr>
          <a:xfrm>
            <a:off x="1066680" y="2798640"/>
            <a:ext cx="7248600" cy="28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Monotype Corsiva"/>
              </a:rPr>
              <a:t>Начните с самого трудного раздела, с того материала, который знаете хуже всего. Но если Вам трудно "раскачаться", можно начать с того материала, который наиболее всего интересен и приятен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4"/>
          <p:cNvSpPr/>
          <p:nvPr/>
        </p:nvSpPr>
        <p:spPr>
          <a:xfrm>
            <a:off x="3200400" y="914400"/>
            <a:ext cx="5643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Стратегия подготовки к экзамен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Рисунок 6" descr="10.gif"/>
          <p:cNvPicPr/>
          <p:nvPr/>
        </p:nvPicPr>
        <p:blipFill>
          <a:blip r:embed="rId1"/>
          <a:stretch/>
        </p:blipFill>
        <p:spPr>
          <a:xfrm>
            <a:off x="7858080" y="357120"/>
            <a:ext cx="1000080" cy="601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1"/>
          <p:cNvSpPr/>
          <p:nvPr/>
        </p:nvSpPr>
        <p:spPr>
          <a:xfrm>
            <a:off x="914400" y="2448360"/>
            <a:ext cx="7372440" cy="3018600"/>
          </a:xfrm>
          <a:prstGeom prst="rect">
            <a:avLst/>
          </a:prstGeom>
          <a:solidFill>
            <a:srgbClr val="ffe3b9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Чередуйте занятия и отдых: 40 минут занятий, затем 10 минут – перерыв. Во время перерыва можно помыть посуду, полить цветы, сделать зарядку, принять душ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4"/>
          <p:cNvSpPr/>
          <p:nvPr/>
        </p:nvSpPr>
        <p:spPr>
          <a:xfrm>
            <a:off x="2071800" y="571680"/>
            <a:ext cx="5643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Стратегия подготовки к экзамен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Рисунок 6" descr="10.gif"/>
          <p:cNvPicPr/>
          <p:nvPr/>
        </p:nvPicPr>
        <p:blipFill>
          <a:blip r:embed="rId1"/>
          <a:stretch/>
        </p:blipFill>
        <p:spPr>
          <a:xfrm>
            <a:off x="7572240" y="971640"/>
            <a:ext cx="1000440" cy="601560"/>
          </a:xfrm>
          <a:prstGeom prst="rect">
            <a:avLst/>
          </a:prstGeom>
          <a:ln w="0">
            <a:noFill/>
          </a:ln>
        </p:spPr>
      </p:pic>
      <p:pic>
        <p:nvPicPr>
          <p:cNvPr id="72" name="Рисунок 9" descr="11.gif"/>
          <p:cNvPicPr/>
          <p:nvPr/>
        </p:nvPicPr>
        <p:blipFill>
          <a:blip r:embed="rId2"/>
          <a:stretch/>
        </p:blipFill>
        <p:spPr>
          <a:xfrm>
            <a:off x="7715160" y="5357880"/>
            <a:ext cx="857520" cy="831960"/>
          </a:xfrm>
          <a:prstGeom prst="rect">
            <a:avLst/>
          </a:prstGeom>
          <a:ln w="0">
            <a:noFill/>
          </a:ln>
        </p:spPr>
      </p:pic>
      <p:pic>
        <p:nvPicPr>
          <p:cNvPr id="73" name="Рисунок 10" descr="dart10.gif"/>
          <p:cNvPicPr/>
          <p:nvPr/>
        </p:nvPicPr>
        <p:blipFill>
          <a:blip r:embed="rId3"/>
          <a:stretch/>
        </p:blipFill>
        <p:spPr>
          <a:xfrm>
            <a:off x="500040" y="857160"/>
            <a:ext cx="1582920" cy="135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1"/>
          <p:cNvSpPr/>
          <p:nvPr/>
        </p:nvSpPr>
        <p:spPr>
          <a:xfrm>
            <a:off x="1600200" y="3127680"/>
            <a:ext cx="5657760" cy="2531160"/>
          </a:xfrm>
          <a:prstGeom prst="rect">
            <a:avLst/>
          </a:prstGeom>
          <a:solidFill>
            <a:srgbClr val="ffe3b9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Готовясь к экзаменам, мысленно рисуйте себе картину триумфа. Никогда не думай о том, что не справишься с задание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Группа 8"/>
          <p:cNvGrpSpPr/>
          <p:nvPr/>
        </p:nvGrpSpPr>
        <p:grpSpPr>
          <a:xfrm>
            <a:off x="1928880" y="500040"/>
            <a:ext cx="6643800" cy="1334160"/>
            <a:chOff x="1928880" y="500040"/>
            <a:chExt cx="6643800" cy="1334160"/>
          </a:xfrm>
        </p:grpSpPr>
        <p:sp>
          <p:nvSpPr>
            <p:cNvPr id="76" name="TextBox 4"/>
            <p:cNvSpPr/>
            <p:nvPr/>
          </p:nvSpPr>
          <p:spPr>
            <a:xfrm>
              <a:off x="1928880" y="642960"/>
              <a:ext cx="5643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Monotype Corsiva"/>
                </a:rPr>
                <a:t>Стратегия подготовки к экзамену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7" name="Рисунок 5" descr="10.gif"/>
            <p:cNvPicPr/>
            <p:nvPr/>
          </p:nvPicPr>
          <p:blipFill>
            <a:blip r:embed="rId1"/>
            <a:stretch/>
          </p:blipFill>
          <p:spPr>
            <a:xfrm>
              <a:off x="7572600" y="500040"/>
              <a:ext cx="1000080" cy="600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8" name="Рисунок 6" descr="CALVIN2.gif"/>
          <p:cNvPicPr/>
          <p:nvPr/>
        </p:nvPicPr>
        <p:blipFill>
          <a:blip r:embed="rId2"/>
          <a:stretch/>
        </p:blipFill>
        <p:spPr>
          <a:xfrm>
            <a:off x="7215120" y="4286160"/>
            <a:ext cx="1714680" cy="22557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5" descr="C:\Documents and Settings\Алена\Local Settings\Temporary Internet Files\Content.IE5\R9S2KF7R\MCj02504070000[1].wmf"/>
          <p:cNvPicPr/>
          <p:nvPr/>
        </p:nvPicPr>
        <p:blipFill>
          <a:blip r:embed="rId3"/>
          <a:stretch/>
        </p:blipFill>
        <p:spPr>
          <a:xfrm>
            <a:off x="285840" y="285840"/>
            <a:ext cx="2158920" cy="26049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1-18T14:12:19Z</dcterms:created>
  <dc:creator>Markasian, Pavel (KIEVH)</dc:creator>
  <dc:description/>
  <dc:language>en-US</dc:language>
  <cp:lastModifiedBy>Пользователь</cp:lastModifiedBy>
  <dcterms:modified xsi:type="dcterms:W3CDTF">2020-04-10T14:36:13Z</dcterms:modified>
  <cp:revision>97</cp:revision>
  <dc:subject/>
  <dc:title>Name of presentation</dc:title>
</cp:coreProperties>
</file>