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10.gif" ContentType="image/gif"/>
  <Override PartName="/ppt/media/image9.png" ContentType="image/png"/>
  <Override PartName="/ppt/media/image17.wmf" ContentType="image/x-wmf"/>
  <Override PartName="/ppt/media/image19.wmf" ContentType="image/x-wmf"/>
  <Override PartName="/ppt/media/image2.png" ContentType="image/png"/>
  <Override PartName="/ppt/media/image15.wmf" ContentType="image/x-wmf"/>
  <Override PartName="/ppt/media/image12.gif" ContentType="image/gif"/>
  <Override PartName="/ppt/media/image14.gif" ContentType="image/gif"/>
  <Override PartName="/ppt/media/image1.png" ContentType="image/png"/>
  <Override PartName="/ppt/media/image7.gif" ContentType="image/gif"/>
  <Override PartName="/ppt/media/image18.wmf" ContentType="image/x-wmf"/>
  <Override PartName="/ppt/media/image4.png" ContentType="image/png"/>
  <Override PartName="/ppt/media/image5.png" ContentType="image/png"/>
  <Override PartName="/ppt/media/image3.gif" ContentType="image/gif"/>
  <Override PartName="/ppt/media/image6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FEA-D6E7-4759-A4F0-EC096C4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8BC-5382-4284-918B-93E5FAD2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19F-F584-4770-9D20-65648981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BD0-7D0E-42FB-B45A-926B5338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114-CB3E-451A-9526-1837F5AA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873-8611-438C-B9DC-BCF250A1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6C1-252A-46E0-AC38-BD9693A3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B50-00B7-4D1A-884D-BFA9F9C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-360"/>
            <a:ext cx="788688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744-C72F-444E-90CE-CB7E1AD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F65-7E51-4632-ABA6-1B41D0F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545-7852-4256-8723-7E5EBC1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8C0-1B52-45B1-AB70-04EF886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69C-25B5-4D96-B97F-908858916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7" descr=""/>
          <p:cNvPicPr/>
          <p:nvPr/>
        </p:nvPicPr>
        <p:blipFill>
          <a:blip r:embed="rId1"/>
          <a:stretch/>
        </p:blipFill>
        <p:spPr>
          <a:xfrm>
            <a:off x="2494080" y="2090880"/>
            <a:ext cx="4851360" cy="2682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10.gif"/>
          <p:cNvPicPr/>
          <p:nvPr/>
        </p:nvPicPr>
        <p:blipFill>
          <a:blip r:embed="rId2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2494080" y="92160"/>
            <a:ext cx="4728960" cy="8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1378080" y="2587680"/>
            <a:ext cx="6472080" cy="2043720"/>
          </a:xfrm>
          <a:prstGeom prst="rect">
            <a:avLst/>
          </a:prstGeom>
          <a:solidFill>
            <a:srgbClr val="ffe3b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ставьте один день перед экзаменом на то, чтобы еще раз повторить самые трудные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4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82" name="TextBox 5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Рисунок 6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33520" y="1342800"/>
            <a:ext cx="8200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акануне экза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 вечера совершите прогулку, перед сном примите душ. Выспитесь как можно лучше, чтобы встать с ощущением "боевого" настро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школу Вы должны явиться, не опаздывая, лучше за 15-20 минут до начала экза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бирайте нужные вам вещи накануне, обязательно положите карандаш, ручку, линейки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Группа 2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86" name="TextBox 3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Рисунок 4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92200" y="1478160"/>
            <a:ext cx="8410680" cy="39333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ед началом экза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ачале Вам сообщат необходимую информацию (как заполнять бланк, как подписать черновик какими буквами писать и т.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удьте внимательны!!! От того, как Вы запомните все эти правила, зависит правильность Ваших ответов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90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04920" y="879120"/>
            <a:ext cx="8267760" cy="5639760"/>
          </a:xfrm>
          <a:prstGeom prst="rect">
            <a:avLst/>
          </a:prstGeom>
          <a:solidFill>
            <a:srgbClr val="ffe3b9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о время экза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бегите глазами все задания, чтобы увидеть, какого типа задачи в нем содержа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нимательно прочитайте вопрос до конца, чтобы правильно понять его смысл. Если не знаете ответа на вопрос или не уверены, пропустите его, чтобы потом к нему вернуться. Начните с легког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учитесь пропускать трудные или непонятные задания. Помните: в тексте всегда найдутся вопросы, с которыми Вы обязательно справите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3"/>
          <p:cNvGrpSpPr/>
          <p:nvPr/>
        </p:nvGrpSpPr>
        <p:grpSpPr>
          <a:xfrm>
            <a:off x="1905120" y="152280"/>
            <a:ext cx="6643440" cy="1334160"/>
            <a:chOff x="1905120" y="152280"/>
            <a:chExt cx="6643440" cy="1334160"/>
          </a:xfrm>
        </p:grpSpPr>
        <p:sp>
          <p:nvSpPr>
            <p:cNvPr id="94" name="TextBox 4"/>
            <p:cNvSpPr/>
            <p:nvPr/>
          </p:nvSpPr>
          <p:spPr>
            <a:xfrm>
              <a:off x="1905120" y="295200"/>
              <a:ext cx="564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48480" y="15228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285920" y="2651040"/>
            <a:ext cx="7358040" cy="18003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ставьте время для проверки своей работы, чтобы успеть пробежать глазами и заметить явные ош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98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1243080" y="45720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09480" y="1343880"/>
            <a:ext cx="8177400" cy="642600"/>
          </a:xfrm>
          <a:prstGeom prst="rect">
            <a:avLst/>
          </a:prstGeom>
          <a:solidFill>
            <a:srgbClr val="ffe3b9">
              <a:alpha val="3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жедневно выполняй упражнения, способствующие снятию напряжения, усталости, достижению расслаб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71680" y="2321640"/>
            <a:ext cx="8267400" cy="4786200"/>
          </a:xfrm>
          <a:prstGeom prst="rect">
            <a:avLst/>
          </a:prstGeom>
          <a:solidFill>
            <a:srgbClr val="ffe3b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Что делать, если устали глаз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период подготовки к экзаменам увеличивается нагрузка на глаза. Если устали глаза, значит, устал и организм: ему может не хватить сил для выполнения экзаменационного зад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полните два любых  упражн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смотрите попеременно вверх-вниз (25 секунд), влево - вправо (15 секунд); - напишите глазами свое имя, отчество, фамилию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переменно фиксируйте взгляд на удаленном предмете (20 секунд), потом на листе бумаги перед собой (20 секунд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нарисуйте квадрат, треугольник – сначала по часовой стрелке, потом в противоположную стор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Алена\Local Settings\Temporary Internet Files\Content.IE5\3LUZQUFV\MCHM00380_0000[1].wmf"/>
          <p:cNvPicPr/>
          <p:nvPr/>
        </p:nvPicPr>
        <p:blipFill>
          <a:blip r:embed="rId1"/>
          <a:stretch/>
        </p:blipFill>
        <p:spPr>
          <a:xfrm rot="21424800">
            <a:off x="7667640" y="19573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Documents and Settings\Алена\Local Settings\Temporary Internet Files\Content.IE5\3LUZQUFV\MCHM00380_0000[1].wmf"/>
          <p:cNvPicPr/>
          <p:nvPr/>
        </p:nvPicPr>
        <p:blipFill>
          <a:blip r:embed="rId2"/>
          <a:stretch/>
        </p:blipFill>
        <p:spPr>
          <a:xfrm rot="286800">
            <a:off x="6396120" y="1974600"/>
            <a:ext cx="1143000" cy="977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85840" y="1086840"/>
            <a:ext cx="8572320" cy="35067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Режим дн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делите день на три ча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товьтесь к экзамен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нимайтесь спортом, гуляйте на свежем воздухе, потанцуй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Спите не менее 8 часов, если есть желание и потребность, сделайте себе тихий час после об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1342440" y="42876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7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j0299763"/>
          <p:cNvPicPr/>
          <p:nvPr/>
        </p:nvPicPr>
        <p:blipFill>
          <a:blip r:embed="rId2"/>
          <a:stretch/>
        </p:blipFill>
        <p:spPr>
          <a:xfrm>
            <a:off x="1782720" y="4835520"/>
            <a:ext cx="88596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Алена\Local Settings\Temporary Internet Files\Content.IE5\3LUZQUFV\MCj01990600000[1].wmf"/>
          <p:cNvPicPr/>
          <p:nvPr/>
        </p:nvPicPr>
        <p:blipFill>
          <a:blip r:embed="rId3"/>
          <a:stretch/>
        </p:blipFill>
        <p:spPr>
          <a:xfrm>
            <a:off x="6043680" y="4583160"/>
            <a:ext cx="12049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80880" y="600120"/>
            <a:ext cx="840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не повторить в течение 1 часа, то забывается 60%, а если в течение суток – 80%. Через 3 дня забывается почти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Трудность растет непропорционально объему. Большой отрывок учить полезнее, чем короткое изр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При одинаковой работе количество запоминаемого тем больше, чем выше степень поним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Распределенное заучивание лучше концентрированного. Лучше учить с перерывами, чем подряд, лучше понемногу, чем ср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Эффективнее больше времени тратить на повторение по памяти, чем на простое многократное чт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Если работаешь с двумя материалами – большим и поменьше, разумно начинать с боль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1219320" y="38088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которые закономерности запом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6429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447920" y="1900080"/>
            <a:ext cx="635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вышенный уровень тревоги на экзамене может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водить к дезорганизации деятельности, снижению концен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нимания и работоспособност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5800" y="1675080"/>
            <a:ext cx="7010280" cy="3993480"/>
          </a:xfrm>
          <a:prstGeom prst="rect">
            <a:avLst/>
          </a:prstGeom>
          <a:solidFill>
            <a:srgbClr val="ffe3b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вдруг возникает страх перед заданием, надо  отвернутся от сто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делать несколько медленных, глубоких вдохов и выдохов и только затем опять приступить к д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Алена\Local Settings\Temporary Internet Files\Content.IE5\11PFLLNJ\MCj04352210000[1].wmf"/>
          <p:cNvPicPr/>
          <p:nvPr/>
        </p:nvPicPr>
        <p:blipFill>
          <a:blip r:embed="rId2"/>
          <a:stretch/>
        </p:blipFill>
        <p:spPr>
          <a:xfrm>
            <a:off x="7286760" y="4071960"/>
            <a:ext cx="159840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406440" y="139680"/>
            <a:ext cx="8262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выпуск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 вас  впереди  ответственный  и  серьёзный  этап: экзамены.  Следует заметить, чт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сли Вы будете сдавать единый государственный экзамен не в своей шк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встретят доброжелательные педаго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будет обеспечен рабочим местом и всеми необходимыми материа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организационные вопросы Вы сможете получить ответы у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558720" y="3112920"/>
            <a:ext cx="80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ьтесь, пожалуйст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рекомендациями при подготовке к экзамену, возможно, они помогут Вам рационально организовать свою деятельн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228600" y="120492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тивострессовое дыхание. Медленно выполняйте глубокий вдох через нос. На пике вдоха на мгновение задержите дыхание, после чего сделайте выдох как можно медлен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 Минутная релаксация. Расслабьте уголки рта.Расслабьте плечи. Сосредоточьтесь на выражении своего лица и положении тела: помните, что они отражают ваши эмоции, мысли, внутреннее 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60948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глянитесь вокруг и внимательно осмотрите помещение, в котором вы находитесь. Медленно, не торопясь, мысленно переберите все предметы, один за другим в определенной последовательности. Говорите мысленно самому себе: «коричневый письменный стол, белые занавески, красная ваза для цветов» и т.д. Сосредоточившись на каждом отдельном предмете, вы отвлечетесь от напря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533520" y="2143080"/>
            <a:ext cx="81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знания учебного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знакомства с процедурой проведения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стратегии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 эмоционального со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150920" y="2998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 чего зависит успех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экзаме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3"/>
          <p:cNvSpPr/>
          <p:nvPr/>
        </p:nvSpPr>
        <p:spPr>
          <a:xfrm>
            <a:off x="714240" y="642960"/>
            <a:ext cx="792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285840" y="428760"/>
            <a:ext cx="885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000160" y="5716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1560600"/>
            <a:ext cx="56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есто: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берите со стола лишние вещи, удобно расположи те нужные учебники, тетрад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рандаш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Рисунок 6" descr="10.gif"/>
          <p:cNvPicPr/>
          <p:nvPr/>
        </p:nvPicPr>
        <p:blipFill>
          <a:blip r:embed="rId2"/>
          <a:stretch/>
        </p:blipFill>
        <p:spPr>
          <a:xfrm>
            <a:off x="771516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3180240"/>
            <a:ext cx="5357880" cy="3018600"/>
          </a:xfrm>
          <a:prstGeom prst="rect">
            <a:avLst/>
          </a:prstGeom>
          <a:solidFill>
            <a:srgbClr val="ffff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ведите в интерьер комнаты желтый и фиолетовый цвета (они повышают интеллектуальную активнос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bloema14.gif"/>
          <p:cNvPicPr/>
          <p:nvPr/>
        </p:nvPicPr>
        <p:blipFill>
          <a:blip r:embed="rId1"/>
          <a:stretch/>
        </p:blipFill>
        <p:spPr>
          <a:xfrm>
            <a:off x="714240" y="1214280"/>
            <a:ext cx="1505160" cy="173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16571" t="7275" r="13905" b="7843"/>
          <a:stretch/>
        </p:blipFill>
        <p:spPr>
          <a:xfrm>
            <a:off x="6500880" y="1428840"/>
            <a:ext cx="185724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80880" y="1171800"/>
            <a:ext cx="743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ьте план занятий. Определите, кто вы - "сова" или "жаворонок", и в зависимости от этого максимально используйте утренние или вечерние ч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ляя план на каждый день подготовки, необходимо четко определить, что именно сегодня будет изучаться. Не вообще: "немного позанимаюсь", а какие именно разделы и 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348.gif"/>
          <p:cNvPicPr/>
          <p:nvPr/>
        </p:nvPicPr>
        <p:blipFill>
          <a:blip r:embed="rId1"/>
          <a:stretch/>
        </p:blipFill>
        <p:spPr>
          <a:xfrm>
            <a:off x="7786800" y="5286240"/>
            <a:ext cx="93348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ani-bird_blue.gif"/>
          <p:cNvPicPr/>
          <p:nvPr/>
        </p:nvPicPr>
        <p:blipFill>
          <a:blip r:embed="rId2"/>
          <a:stretch/>
        </p:blipFill>
        <p:spPr>
          <a:xfrm>
            <a:off x="214200" y="642960"/>
            <a:ext cx="1435320" cy="114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714680" y="6429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10.gif"/>
          <p:cNvPicPr/>
          <p:nvPr/>
        </p:nvPicPr>
        <p:blipFill>
          <a:blip r:embed="rId3"/>
          <a:stretch/>
        </p:blipFill>
        <p:spPr>
          <a:xfrm>
            <a:off x="7572240" y="571680"/>
            <a:ext cx="10004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1066680" y="2798640"/>
            <a:ext cx="7248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Начните с самого трудного раздела, с того материала, который знаете хуже всего. Но если Вам трудно "раскачаться", можно начать с того материала, который наиболее всего интересен и прияте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00400" y="91440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914400" y="2448360"/>
            <a:ext cx="7372440" cy="3018600"/>
          </a:xfrm>
          <a:prstGeom prst="rect">
            <a:avLst/>
          </a:prstGeom>
          <a:solidFill>
            <a:srgbClr val="ffe3b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редуйте занятия и отдых: 40 минут занятий, затем 10 минут – перерыв. Во время перерыва можно помыть посуду, полить цветы, сделать зарядку, принять душ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071800" y="57168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10.gif"/>
          <p:cNvPicPr/>
          <p:nvPr/>
        </p:nvPicPr>
        <p:blipFill>
          <a:blip r:embed="rId1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11.gif"/>
          <p:cNvPicPr/>
          <p:nvPr/>
        </p:nvPicPr>
        <p:blipFill>
          <a:blip r:embed="rId2"/>
          <a:stretch/>
        </p:blipFill>
        <p:spPr>
          <a:xfrm>
            <a:off x="7715160" y="5357880"/>
            <a:ext cx="857520" cy="831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" descr="dart10.gif"/>
          <p:cNvPicPr/>
          <p:nvPr/>
        </p:nvPicPr>
        <p:blipFill>
          <a:blip r:embed="rId3"/>
          <a:stretch/>
        </p:blipFill>
        <p:spPr>
          <a:xfrm>
            <a:off x="500040" y="857160"/>
            <a:ext cx="158292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600200" y="3127680"/>
            <a:ext cx="5657760" cy="2531160"/>
          </a:xfrm>
          <a:prstGeom prst="rect">
            <a:avLst/>
          </a:prstGeom>
          <a:solidFill>
            <a:srgbClr val="ffe3b9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отовясь к экзаменам, мысленно рисуйте себе картину триумфа. Никогда не думай о том, что не справишься с зада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8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76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Рисунок 6" descr="CALVIN2.gif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2255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Алена\Local Settings\Temporary Internet Files\Content.IE5\R9S2KF7R\MCj02504070000[1].wmf"/>
          <p:cNvPicPr/>
          <p:nvPr/>
        </p:nvPicPr>
        <p:blipFill>
          <a:blip r:embed="rId3"/>
          <a:stretch/>
        </p:blipFill>
        <p:spPr>
          <a:xfrm>
            <a:off x="285840" y="285840"/>
            <a:ext cx="2158920" cy="26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Пользователь</cp:lastModifiedBy>
  <dcterms:modified xsi:type="dcterms:W3CDTF">2020-04-10T14:36:13Z</dcterms:modified>
  <cp:revision>97</cp:revision>
  <dc:subject/>
  <dc:title>Name of presentation</dc:title>
</cp:coreProperties>
</file>