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EFF-E642-43CA-9F9E-EF5B6279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C8B-745C-4245-9071-72D374C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A44-2CA3-434A-9DA2-7878C21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217-6B51-4059-B7B1-F299D063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07F-4AC1-4610-89C9-A587D8E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1D8-6A57-4769-BAE8-770D67A5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E9A-C89A-461F-9E23-EBDC63E4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593-06DA-4EAC-B5F3-DDB0AF0D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4EB-8094-41D3-964C-F1D9B26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203-05CC-4343-8CAB-D8745359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F0C-8C77-4BED-8913-1C7B8472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83D-34CF-488E-918E-9E61E51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38F5-F4C2-40D3-B5F3-22759C962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3484800" y="6922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10 апр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863640" y="234936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Arial"/>
              </a:rPr>
              <a:t>ПЯТ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Arial"/>
              </a:rPr>
              <a:t>ДЕНЬ ВОЛШЕБ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4067640" y="584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57200" y="13050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еседа с детьми: «Осторожность на улиц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Цель: закреплять знания детей о том, где можно гулять, где следует проявлять осторожность; учить различать дорогу и трот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гровая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Мы шофёры», «Каф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дактически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Мама, папа и я», «Что такое хорошо? Что такое плохо?», «Большой – маленький», «Светофо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рудовое поруч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моги взрослым накрыть стол к завтр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19280" y="4968720"/>
            <a:ext cx="77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рядка «Утро уже просыпайся и новому дню улыбайся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987480" y="695160"/>
            <a:ext cx="7169040" cy="7509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457200" y="1709640"/>
            <a:ext cx="80964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зическое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минка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– комплекс общеразвивающих упражн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гры с кубико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(учимся перекидывать кубик из рук в руки на небольшом расстоя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исование «Разноцветные платочки сушатс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Упражнять детей в рисовании знакомых предметов квадратной формы. Закреплять умение аккуратно закрашивать изображение в одном направлении – сверху-вниз, располагать изображение по всему ли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. Барто, П. Барто «Девочка-ревушка», «Девочка чумаза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1692360" y="692280"/>
            <a:ext cx="5638680" cy="1177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611280" y="1892160"/>
            <a:ext cx="7921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навательный рассказ «Первоцветы» (см.презентацию)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закреплять представление детей о признаках вес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рассказать о том, как под снегом появляются первые раст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обогащать словарный запас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дактическая игра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Чудесный мешочек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развивать сенсорные ощущения, учить показывать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611280" y="4151160"/>
            <a:ext cx="7921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бота перед сном: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Разучивание стихотворения С. Погорельского «Осенний дождик» развивать память, словарн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2117880" y="471600"/>
            <a:ext cx="4908240" cy="7491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539640" y="1052640"/>
            <a:ext cx="81471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гровая дея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исование всей семьёй «Цветочная полян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предложить детям нарисовать первоцв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формировать учение принимать участие в творческой коллективной работе с семь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стольные игры: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Найди цвет который скажу», «Угадай зна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южетно-ролевые игры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упермаркет», «Чаепити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найки»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рудовое поручение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брать игрушки посл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еда по ПДД: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«Помощники на дороге» закрепить знания о работе светофора и о назначении дорожных знаков; закрепить знания о правилах поведения на проезжей части для шофера и пешехода; учить применять правила на практике в игр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идактическая игр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Собери светоф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ение перед сном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ссказ в стихах А Крылов «Неприятный случа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8T17:57:10Z</dcterms:created>
  <dc:creator>PC</dc:creator>
  <dc:description/>
  <dc:language>en-US</dc:language>
  <cp:lastModifiedBy>user</cp:lastModifiedBy>
  <dcterms:modified xsi:type="dcterms:W3CDTF">2020-04-09T07:03:02Z</dcterms:modified>
  <cp:revision>24</cp:revision>
  <dc:subject/>
  <dc:title>Слайд 1</dc:title>
</cp:coreProperties>
</file>