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8E2-08B2-4194-AD6E-7C77DBA9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B6D-6D6C-4411-B1FC-1F57A64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534-CA39-467E-A8D6-8D6750BD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863-F368-459F-945C-450ED8F0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B01-8F28-4381-96E6-D2E31624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872-071D-4F7E-9686-A63D9E6D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E37-6577-4F24-B110-CCDC948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4FD-5ABD-4A2F-9397-37D7BF5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C26-C6FB-44F9-A2F9-5FFAA88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633-AB45-42B9-BEF6-9F2A47B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2F0-A9F7-43B5-B38F-F3BF5EC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888-F389-462C-9AC0-9EC5620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BF3-BC77-4618-B2B2-19ED624F9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literatura/Urok-dobroty/0007-002-Valentin-Rasputi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si.ru/uploads/posts/2012-01/1327391668_ogo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67280" y="549000"/>
            <a:ext cx="4619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алентин Григорьевич Распутин родился в 15 марта 193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оследний с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рощание с Матёр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Уроки француз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Пож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а повесть «Живи и помни», вышедшую в 1974 году, удостоен Государственн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Картинка 18 из 2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836640"/>
            <a:ext cx="3314880" cy="4751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5"/>
          <p:cNvSpPr/>
          <p:nvPr/>
        </p:nvSpPr>
        <p:spPr>
          <a:xfrm>
            <a:off x="1619280" y="62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Любовь Настё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Благо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вычка-тер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ер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зял в жёны её,  сироту без кола и дво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было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шлись – надо ж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920" y="404280"/>
            <a:ext cx="475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А может, она тоже повинна в том, что он здесь, - без вины, а повинна? Не из-за меня ли больше всего его потянуло домой?.. Он перед отцом и матерью не открылся, а перед ней открылся. И, может, смерть оттянул, чтоб только побыть с ней. Так как же теперь от него отказаться? Это совсем надо не иметь сердца, вместо сердца держать безмен, отвешивающий, что выгодно и что невыгодно. Тут от чужого, будь он трижды нечистый, не отмахнёшься, а он свой, родной… Их если не Бог, то сама жизнь соединила, чтоб держаться им вместе, что бы ни случилось, какая бы беда не стрясла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7"/>
          <p:cNvSpPr/>
          <p:nvPr/>
        </p:nvSpPr>
        <p:spPr>
          <a:xfrm>
            <a:off x="1313280" y="711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Гус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59960" y="763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ст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97080" y="155736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Эгоизм, думает прежде всего о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932360" y="155736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ликодушие, любовь, прост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милосерд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24000" y="278136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ричины несчастий – война и суд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986000" y="2728800"/>
            <a:ext cx="32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клонна сама себя обви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 несчастьях му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238760" y="38815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бида и зл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272200" y="373680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ра в доброту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901080" y="46530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трах за свою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790160" y="465300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собенно чувствует одиноч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злад с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705280" y="5753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увство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549000"/>
            <a:ext cx="4475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ыдно… почему так истошно стыдно  и перед Андреем, и перед людьми, и перед собой? Где  набрала она вины для такого стыд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сякий ли понимает, как стыдно жить, когда другой на твоём месте сумел бы прожить лучше? Как можно смотреть после этого людям в глаз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4 из 46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980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24000" y="1052640"/>
            <a:ext cx="90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и и помни, человек, в беде, в кручине, в самые тяжкие дни испытания место твоё – с твоим народом – всякое отступничество, вызванное слабостью ль твоей, неразуменьем ли, оборачивается большим горем для твоей Родины и народа, а стало быть, и для теб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Я помню, как недалеко от нашей деревни обнаружили дезертира. Он долго скрывался, жил в стороне от человеческого жилья. Он озлобился, убил телёнка, у кого-то что-то украл. Я помню, как через всю деревню вели заросшего, страшного человека. Это детское впечатление  отложилось в памяти и через много лет проклюнулось зёрнышко сюж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692360" y="43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 муж ли? Не оборотень с нею бы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3640" y="476280"/>
            <a:ext cx="4392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«Среди разведчиков Гуськов считался надёжным товарищем, его брали с собой в пару, чтобы подстраховывать друг друга, самые отчаянные ребята. Воевал как все, - не лучше и не хуж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505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Андрей смотрел на деревню молча и обиженно, он почему-то готов был уже не войну, а д обвинить в том, что вынужден её покид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 Невольная обида на всё, что оставалось на месте, от чего его отрывали и за что ему предстояло воевать, долго не проходи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Его обидело: что же так скоро? Не успел отъехать, оторваться, а всё уже позабыто, похоронено всё, чем он собирался стать: значит: ступай и умирай, ты для нас конченый чело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702000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518880" y="17733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445080" y="476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020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444360" y="30686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76280"/>
            <a:ext cx="483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уганно повернул он к приближающемуся человеку голову – быстро и точно, с мгновенным замахом человек ударил его обухом топора по подставленному лбу, и голова, чуть хмыкнув, повалилась и повисла на ремне. В тот же миг сзади закричала корова. Совсем озверев, Гуськов пошёл на неё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04280"/>
            <a:ext cx="7643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Он стоял, смотрел, припоминал, но всё как-то легко, без волнения и боли – или они ещё не проснулись, не расшевелились, или он успел их погубить. Он и сам начал удивляться своему спокойствию: впервые за четыре года стоит перед родной деревней… , а душа пустая. Неужели правда всё выгорело дотл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«Чем я провинился перед судьбой?» «Я-то боюсь, мне есть за что, - а тебе? Тебе-то из-за чего с белым светом расходиться?» «господи, что я наделал? Что я наделал, Настёна?! Не ходи больше ко мне, не ходи – слышишь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95640" y="4076640"/>
            <a:ext cx="40122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«Для писателя нет и не може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человека конченог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 забывай судить, а п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правдыв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о есть старайся пон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остичь душу человеческу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той, что из сказок, не той, что с пеленок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той, что была по учебникам пройдена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той, что пылала в глазах воспаленных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той, что рыдала,- запомнил я Родину.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 вижу ее накануне победы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 каменной, бронзовой, славой увенчанной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 очи проплакавшей, идя сквозь беды,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се снесшей, все вынесшей русскою женщиной.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. Си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12:51Z</dcterms:created>
  <dc:creator>Admin</dc:creator>
  <dc:description/>
  <dc:language>en-US</dc:language>
  <cp:lastModifiedBy>school127</cp:lastModifiedBy>
  <dcterms:modified xsi:type="dcterms:W3CDTF">2020-04-10T16:39:09Z</dcterms:modified>
  <cp:revision>7</cp:revision>
  <dc:subject/>
  <dc:title>Валентин Распутин «Живи и помни»</dc:title>
</cp:coreProperties>
</file>