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685-0ADC-42EC-A53D-DA29D316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6962-6FE6-4001-8CD5-9CDABA1D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F97-CF50-4E0B-87CA-857A5BF6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C8C2-FB01-4533-94CC-A3E3009D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398-A16F-4FB6-A2E5-756D6AB4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459-D1EF-4EA3-9A6A-C2E7BD58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5A32-A5FD-400A-993C-97FF04D0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082F-76BC-4CDA-A4C4-6BCC189A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B7E-8FB9-4EB0-A7FC-B928C42A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28B-F860-4F18-8C63-E7E6CF4C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E496-C5F0-4183-8A65-B5135B97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A26-D9D6-4824-993C-25E07868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9180-F119-47C4-B91C-24AF14482B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datai/literatura/Urok-dobroty/0007-002-Valentin-Rasputi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helsi.ru/uploads/posts/2012-01/1327391668_ogon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067280" y="549000"/>
            <a:ext cx="4619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алентин Григорьевич Распутин родился в 15 марта 1937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Последний ср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Прощание с Матёр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Уроки французско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Пожа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За повесть «Живи и помни», вышедшую в 1974 году, удостоен Государственн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Картинка 18 из 29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836640"/>
            <a:ext cx="3314880" cy="47512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5"/>
          <p:cNvSpPr/>
          <p:nvPr/>
        </p:nvSpPr>
        <p:spPr>
          <a:xfrm>
            <a:off x="1619280" y="620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Любовь Настё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Благодар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ривычка-терп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Жал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ер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зял в жёны её,  сироту без кола и дво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Не было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Сошлись – надо жи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50920" y="404280"/>
            <a:ext cx="4752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А может, она тоже повинна в том, что он здесь, - без вины, а повинна? Не из-за меня ли больше всего его потянуло домой?.. Он перед отцом и матерью не открылся, а перед ней открылся. И, может, смерть оттянул, чтоб только побыть с ней. Так как же теперь от него отказаться? Это совсем надо не иметь сердца, вместо сердца держать безмен, отвешивающий, что выгодно и что невыгодно. Тут от чужого, будь он трижды нечистый, не отмахнёшься, а он свой, родной… Их если не Бог, то сама жизнь соединила, чтоб держаться им вместе, что бы ни случилось, какая бы беда не стряслас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7"/>
          <p:cNvSpPr/>
          <p:nvPr/>
        </p:nvSpPr>
        <p:spPr>
          <a:xfrm>
            <a:off x="1313280" y="711360"/>
            <a:ext cx="14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Гус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159960" y="7635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стё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397080" y="1557360"/>
            <a:ext cx="40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Эгоизм, думает прежде всего о с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932360" y="155736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еликодушие, любовь, просто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милосерд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24000" y="2781360"/>
            <a:ext cx="41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Причины несчастий – война и суд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4986000" y="2728800"/>
            <a:ext cx="32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клонна сама себя обви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 несчастьях му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238760" y="388152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Обида и зл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5272200" y="3736800"/>
            <a:ext cx="25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ера в доброту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901080" y="4653000"/>
            <a:ext cx="24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Страх за свою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4790160" y="4653000"/>
            <a:ext cx="38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Особенно чувствует одиночест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азлад с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705280" y="575316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Чувство в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6840" y="549000"/>
            <a:ext cx="4475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тыдно… почему так истошно стыдно  и перед Андреем, и перед людьми, и перед собой? Где  набрала она вины для такого стыда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сякий ли понимает, как стыдно жить, когда другой на твоём месте сумел бы прожить лучше? Как можно смотреть после этого людям в глаза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Картинка 4 из 462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325080" cy="6980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324000" y="1052640"/>
            <a:ext cx="900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Живи и помни, человек, в беде, в кручине, в самые тяжкие дни испытания место твоё – с твоим народом – всякое отступничество, вызванное слабостью ль твоей, неразуменьем ли, оборачивается большим горем для твоей Родины и народа, а стало быть, и для теб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.Астаф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8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Я помню, как недалеко от нашей деревни обнаружили дезертира. Он долго скрывался, жил в стороне от человеческого жилья. Он озлобился, убил телёнка, у кого-то что-то украл. Я помню, как через всю деревню вели заросшего, страшного человека. Это детское впечатление  отложилось в памяти и через много лет проклюнулось зёрнышко сюже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1692360" y="4365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А муж ли? Не оборотень с нею был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23640" y="476280"/>
            <a:ext cx="43923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«Среди разведчиков Гуськов считался надёжным товарищем, его брали с собой в пару, чтобы подстраховывать друг друга, самые отчаянные ребята. Воевал как все, - не лучше и не хуж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04280"/>
            <a:ext cx="505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Андрей смотрел на деревню молча и обиженно, он почему-то готов был уже не войну, а д обвинить в том, что вынужден её покида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 Невольная обида на всё, что оставалось на месте, от чего его отрывали и за что ему предстояло воевать, долго не проходи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Его обидело: что же так скоро? Не успел отъехать, оторваться, а всё уже позабыто, похоронено всё, чем он собирался стать: значит: ступай и умирай, ты для нас конченый челове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702000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6518880" y="177336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6445080" y="476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702000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6444360" y="30686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го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476280"/>
            <a:ext cx="4835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уганно повернул он к приближающемуся человеку голову – быстро и точно, с мгновенным замахом человек ударил его обухом топора по подставленному лбу, и голова, чуть хмыкнув, повалилась и повисла на ремне. В тот же миг сзади закричала корова. Совсем озверев, Гуськов пошёл на неё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6840" y="404280"/>
            <a:ext cx="7643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Он стоял, смотрел, припоминал, но всё как-то легко, без волнения и боли – или они ещё не проснулись, не расшевелились, или он успел их погубить. Он и сам начал удивляться своему спокойствию: впервые за четыре года стоит перед родной деревней… , а душа пустая. Неужели правда всё выгорело дотла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Чем я провинился перед судьбой?» «Я-то боюсь, мне есть за что, - а тебе? Тебе-то из-за чего с белым светом расходиться?» «господи, что я наделал? Что я наделал, Настёна?! Не ходи больше ко мне, не ходи – слышишь?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395640" y="4076640"/>
            <a:ext cx="40122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«Для писателя нет и не может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человека конченого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Не забывай судить, а по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оправдыва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то есть старайся поня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остичь душу человеческу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Не той, что из сказок, не той, что с пеленок,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Не той, что была по учебникам пройдена,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 той, что пылала в глазах воспаленных,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 той, что рыдала,- запомнил я Родину.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 вижу ее накануне победы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Не каменной, бронзовой, славой увенчанной,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 очи проплакавшей, идя сквозь беды,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се снесшей, все вынесшей русскою женщиной.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. Сим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6:12:51Z</dcterms:created>
  <dc:creator>Admin</dc:creator>
  <dc:description/>
  <dc:language>en-US</dc:language>
  <cp:lastModifiedBy>school127</cp:lastModifiedBy>
  <dcterms:modified xsi:type="dcterms:W3CDTF">2020-04-10T16:39:09Z</dcterms:modified>
  <cp:revision>7</cp:revision>
  <dc:subject/>
  <dc:title>Валентин Распутин «Живи и помни»</dc:title>
</cp:coreProperties>
</file>