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B215-0E69-4BB7-ABC1-FF8CA307D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57B6-0AFC-479E-A227-19B4C63BE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3FBA-5C11-4E5A-A36E-025AAFE8D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DFC5-BF78-42EC-AE03-F10FCD127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4ACF-2452-4211-B1AE-6C5255CAA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D606-842A-4A0A-A09B-0FC1B8D1B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0DA5-EC21-4506-8014-F603B954C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8DAA-9F38-4FD5-BAFE-E9EC8CAB5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62F3-EAA4-458B-97AC-063A1D9CD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AD5A-1905-42D3-A01E-1636887C3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BF67-417E-4593-A938-5B74E6CDA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C0E4-30AB-4305-B1A8-433364BAB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0C81B-7A24-4458-8B2F-FD21A5E81409}" type="slidenum">
              <a:rPr b="0" lang="es-ES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0" y="3240"/>
            <a:ext cx="9036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Размещение населения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ÐÑÐ¾Ð±ÐµÐ½Ð½Ð¾ÑÑÐ¸ ÑÐ°Ð·Ð¼ÐµÑÐµÐ½Ð¸Ñ Ð½Ð°ÑÐµÐ»ÐµÐ½Ð¸Ñ Ð Ð¾ÑÑÐ¸Ð¸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Прямоугольник 2" descr=""/>
          <p:cNvPicPr/>
          <p:nvPr/>
        </p:nvPicPr>
        <p:blipFill>
          <a:blip r:embed="rId1"/>
          <a:stretch/>
        </p:blipFill>
        <p:spPr>
          <a:xfrm>
            <a:off x="2571840" y="285840"/>
            <a:ext cx="5938920" cy="70776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3"/>
          <p:cNvSpPr/>
          <p:nvPr/>
        </p:nvSpPr>
        <p:spPr>
          <a:xfrm>
            <a:off x="428760" y="1074960"/>
            <a:ext cx="8143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лотность  населе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-  количество  жителей  (человек)  на  1  кв.  км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территор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редняя  плотность  населения  России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  8,3  чел.  на  1  кв.  к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174600" y="2154600"/>
            <a:ext cx="8755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Зона  сплошного  заселе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называется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главной  полосой  расселе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еверная граница  главной  полосы  расселения  в  Европейской  части  страны  проходит  по  линии,  соединяющей  города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етрозаводск  -  Киров  -  Перм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  Азиатской  части  страны  главная  полоса  заселения  проходит  по  югу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ибири  и  Дальнего  Восто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Эта  зона  занимает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1/3  территор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  на  ней  проживает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93 %  населе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на  характеризуется  высокой  плотностью,  большим  количеством  городов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редняя  плотность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50  чел.  на  1  кв.  к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14200" y="4932720"/>
            <a:ext cx="8643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На  территории  России  большую  территорию  занимает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зона  Крайнего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евер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(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2/3  территории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траны,  проживает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1/15  населе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лотность  -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0,9  чел.  на  1  кв.  к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alibri Light"/>
              </a:rPr>
              <a:t>Плотность населения России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179280" y="1268280"/>
            <a:ext cx="896472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2100" spc="-1" strike="noStrike" u="sng">
                <a:solidFill>
                  <a:srgbClr val="000000"/>
                </a:solidFill>
                <a:uFillTx/>
                <a:latin typeface="Calibri"/>
              </a:rPr>
              <a:t>Ответьте на вопрос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Почему в северных районах страны особенно велика убыль населения?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4883040" y="3565440"/>
            <a:ext cx="3988080" cy="26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alibri Light"/>
              </a:rPr>
              <a:t>Подведём итоги урока</a:t>
            </a:r>
            <a:br>
              <a:rPr sz="3300"/>
            </a:br>
            <a:r>
              <a:rPr b="0" lang="ru-RU" sz="1800" spc="-1" strike="noStrike">
                <a:solidFill>
                  <a:srgbClr val="000000"/>
                </a:solidFill>
                <a:latin typeface="Calibri Light"/>
              </a:rPr>
              <a:t>Запишите  в тетради заполняя пропуски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лотность населения - …..численности населения к ….территории, на которой …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 территории России выделяют … зоны рассел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основной зоне, или главной полосе расселения сосредоточено ….населения стран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на занимает ……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она  ….занимает почти 60% площади страны, но численность населения, которое проживает на этой территории …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амым густозаселённым районом является…………..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 наименее заселённым - ……………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261360" y="403200"/>
            <a:ext cx="255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уро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2"/>
          <p:cNvSpPr/>
          <p:nvPr/>
        </p:nvSpPr>
        <p:spPr>
          <a:xfrm>
            <a:off x="502200" y="1341360"/>
            <a:ext cx="8168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ить особенности размещения рассе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еления на территории Росс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rcRect l="0" t="0" r="0" b="17323"/>
          <a:stretch/>
        </p:blipFill>
        <p:spPr>
          <a:xfrm>
            <a:off x="447840" y="2386080"/>
            <a:ext cx="3187440" cy="19764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6" name="Picture 4" descr=""/>
          <p:cNvPicPr/>
          <p:nvPr/>
        </p:nvPicPr>
        <p:blipFill>
          <a:blip r:embed="rId2"/>
          <a:stretch/>
        </p:blipFill>
        <p:spPr>
          <a:xfrm>
            <a:off x="5508720" y="2324160"/>
            <a:ext cx="3362400" cy="20383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 урока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5f5f5"/>
              </a:buClr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ть определение «плотности населения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5f5f5"/>
              </a:buClr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читься определять среднюю плотность населения территор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5f5f5"/>
              </a:buClr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делить  зоны расселения  населения России и уметь называть причины, характеризующие и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5f5f5"/>
              </a:buClr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олжить формировать  навык работы с картами атлас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5f5f5"/>
              </a:buClr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alibri Light"/>
              </a:rPr>
              <a:t>Повторим главное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5f5f5"/>
              </a:buClr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Какова численность населения России?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5f5f5"/>
              </a:buClr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Какое место по численности населения занимает наша страна?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5f5f5"/>
              </a:buClr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Что такое естественный прирост населения?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5f5f5"/>
              </a:buClr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Дайте определение понятию «естественная убыль населения»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6181200" y="2565000"/>
            <a:ext cx="2962440" cy="35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пределить по графику естественный прирост населения в 2004г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142920" y="1071720"/>
            <a:ext cx="5824440" cy="43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Прямоугольник 1" descr=""/>
          <p:cNvPicPr/>
          <p:nvPr/>
        </p:nvPicPr>
        <p:blipFill>
          <a:blip r:embed="rId1"/>
          <a:stretch/>
        </p:blipFill>
        <p:spPr>
          <a:xfrm>
            <a:off x="2571840" y="285840"/>
            <a:ext cx="6359400" cy="71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4" name=""/>
          <p:cNvGraphicFramePr/>
          <p:nvPr/>
        </p:nvGraphicFramePr>
        <p:xfrm>
          <a:off x="285840" y="1285920"/>
          <a:ext cx="8501040" cy="1657440"/>
        </p:xfrm>
        <a:graphic>
          <a:graphicData uri="http://schemas.openxmlformats.org/drawingml/2006/table">
            <a:tbl>
              <a:tblPr/>
              <a:tblGrid>
                <a:gridCol w="2714400"/>
                <a:gridCol w="2857680"/>
                <a:gridCol w="2928960"/>
              </a:tblGrid>
              <a:tr h="32868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вропейская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а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зиатская  ча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14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СС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 %  территор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1 %  насел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5 %  территор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9 %  насел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36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оссия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после  распада  СССР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 %  территор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8 %  насел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5 %  территор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 %  насел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" name="TextBox 4"/>
          <p:cNvSpPr/>
          <p:nvPr/>
        </p:nvSpPr>
        <p:spPr>
          <a:xfrm>
            <a:off x="285840" y="3357720"/>
            <a:ext cx="850104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анализируйте  данные  таблиц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  после  распада  СССР  изменилась  доля  территории  в  европейской  части  страны?  А  в  азиатской?  Сделайте  вывод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  после  распада  СССР  изменилась  доля  населения  в  европейской  части  страны?  А  в  азиатской?  Сделайте  вывод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5"/>
          <p:cNvSpPr/>
          <p:nvPr/>
        </p:nvSpPr>
        <p:spPr>
          <a:xfrm>
            <a:off x="357120" y="4429080"/>
            <a:ext cx="842976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Россия  по  числу  жителей  стала  более  «европейской»  стран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6"/>
          <p:cNvSpPr/>
          <p:nvPr/>
        </p:nvSpPr>
        <p:spPr>
          <a:xfrm>
            <a:off x="285840" y="5572080"/>
            <a:ext cx="850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делайте  вывод  по  данным  таблицы,  как  размещается  население  по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территории  страны?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7"/>
          <p:cNvSpPr/>
          <p:nvPr/>
        </p:nvSpPr>
        <p:spPr>
          <a:xfrm>
            <a:off x="357120" y="5500800"/>
            <a:ext cx="842976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Население Россия  размещается  по  территории  стра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  <a:ea typeface="Times New Roman"/>
              </a:rPr>
              <a:t>НЕРАВНОМЕРНО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Прямоугольник 1" descr=""/>
          <p:cNvPicPr/>
          <p:nvPr/>
        </p:nvPicPr>
        <p:blipFill>
          <a:blip r:embed="rId1"/>
          <a:stretch/>
        </p:blipFill>
        <p:spPr>
          <a:xfrm>
            <a:off x="2571840" y="285840"/>
            <a:ext cx="5938920" cy="7077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"/>
          <p:cNvPicPr/>
          <p:nvPr/>
        </p:nvPicPr>
        <p:blipFill>
          <a:blip r:embed="rId2"/>
          <a:stretch/>
        </p:blipFill>
        <p:spPr>
          <a:xfrm>
            <a:off x="0" y="928800"/>
            <a:ext cx="9144000" cy="5775120"/>
          </a:xfrm>
          <a:prstGeom prst="rect">
            <a:avLst/>
          </a:prstGeom>
          <a:ln w="0">
            <a:noFill/>
          </a:ln>
        </p:spPr>
      </p:pic>
      <p:sp>
        <p:nvSpPr>
          <p:cNvPr id="61" name="TextBox 5"/>
          <p:cNvSpPr/>
          <p:nvPr/>
        </p:nvSpPr>
        <p:spPr>
          <a:xfrm>
            <a:off x="2286000" y="1071720"/>
            <a:ext cx="585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смотрите  карт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им  способом  в  карте  показано  размещение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селения  (плотность)?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учите  легенду  кар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6"/>
          <p:cNvSpPr/>
          <p:nvPr/>
        </p:nvSpPr>
        <p:spPr>
          <a:xfrm>
            <a:off x="2286000" y="1143000"/>
            <a:ext cx="585792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зовите  районы  страны,  имеющие  наибольшую  плот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"/>
          <p:cNvPicPr/>
          <p:nvPr/>
        </p:nvPicPr>
        <p:blipFill>
          <a:blip r:embed="rId3"/>
          <a:stretch/>
        </p:blipFill>
        <p:spPr>
          <a:xfrm>
            <a:off x="0" y="928800"/>
            <a:ext cx="9144000" cy="5786280"/>
          </a:xfrm>
          <a:prstGeom prst="rect">
            <a:avLst/>
          </a:prstGeom>
          <a:ln w="0">
            <a:noFill/>
          </a:ln>
        </p:spPr>
      </p:pic>
      <p:sp>
        <p:nvSpPr>
          <p:cNvPr id="64" name="TextBox 13"/>
          <p:cNvSpPr/>
          <p:nvPr/>
        </p:nvSpPr>
        <p:spPr>
          <a:xfrm>
            <a:off x="3071880" y="4071960"/>
            <a:ext cx="38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она  Крайнего  Сев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4"/>
          <p:cNvSpPr/>
          <p:nvPr/>
        </p:nvSpPr>
        <p:spPr>
          <a:xfrm rot="1326600">
            <a:off x="652320" y="5016240"/>
            <a:ext cx="357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лавная  полоса  рассе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Прямоугольник 1"/>
          <p:cNvSpPr/>
          <p:nvPr/>
        </p:nvSpPr>
        <p:spPr>
          <a:xfrm>
            <a:off x="1692360" y="1428840"/>
            <a:ext cx="516564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Территория страны с наиболее благоприятными условиями жизни и ведения хозяйства, где проживает основная доля населения (более 90%) и ведётся основное хозяйство стран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2"/>
          <p:cNvSpPr/>
          <p:nvPr/>
        </p:nvSpPr>
        <p:spPr>
          <a:xfrm>
            <a:off x="1476360" y="642960"/>
            <a:ext cx="621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Главная полоса рассел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Прямоугольник 1"/>
          <p:cNvSpPr/>
          <p:nvPr/>
        </p:nvSpPr>
        <p:spPr>
          <a:xfrm>
            <a:off x="900000" y="1268280"/>
            <a:ext cx="748836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ключает в себ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Центрально-европейскую часть Росс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редний и южный Ура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Юг Сибир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Юг Дальнего Восто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мой</cp:lastModifiedBy>
  <dcterms:modified xsi:type="dcterms:W3CDTF">2020-04-10T08:20:44Z</dcterms:modified>
  <cp:revision>739</cp:revision>
  <dc:subject/>
  <dc:title>Diapositiva 1</dc:title>
</cp:coreProperties>
</file>