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379-EFD9-4DBC-AA42-376BB793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BBF-C546-4C3F-8D2E-EEA232D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FE3-327E-4609-8C10-326CB252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446-6538-40CA-B507-906B4B95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2E9-350F-4557-83FC-84DEEF6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9A5-E47E-4803-B596-9FD6DAF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734-C61A-47BF-A830-0B61A725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FA8-972A-4B76-B5BC-54AE5FB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CC6-BB60-4925-9A92-8939D03E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0AA-AAB9-4837-9F75-6B8624E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1F7-9EB9-4607-A7A1-92B9C6C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A41-B8CA-46BE-AC72-90DFC84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92B-AC43-4481-9FE7-8DBE274A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svechnikov-sk@mail.r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620640"/>
            <a:ext cx="66945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Россия в XVII ве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805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12040"/>
            <a:ext cx="5148360" cy="3373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.К. Свечников, 200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svechnikov-sk@mail.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ончание См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341360"/>
            <a:ext cx="5616360" cy="1008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еврале 1613 г. Земский собор изб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м царем Михаила Федоровича Ром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2743200" cy="337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84360" y="2637000"/>
            <a:ext cx="4608360" cy="151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7 г. – Столбовский мир со Шве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ция получили Иванго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орье, Ям, Орешек, Кор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утратила 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149720"/>
            <a:ext cx="460836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8 г. – Деулинское переми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льшей сроком на 14,5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ша получила смоленск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иговские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скву вернулся отец Миха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овича патриарх Филар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ший соправ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дствия См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 сумела отстоять свою независ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ская власть стала неогранич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ство желало спокойствия и порядка более свободы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 оказалась в тяжелом экономическом со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ая структура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: феод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628640"/>
            <a:ext cx="662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лые люди по оте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133720"/>
            <a:ext cx="316872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я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133720"/>
            <a:ext cx="316872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ряне (дети бояр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492280"/>
            <a:ext cx="3168720" cy="151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язья из потом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юрикович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диминовичей, орды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«волошская» зн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ие боя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яре присоедин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Москве княж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9280" y="2492280"/>
            <a:ext cx="316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яжеские и бояр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3141720"/>
            <a:ext cx="316872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мные 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ие 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овые 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4292640"/>
            <a:ext cx="662472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лые люди по прибор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т.е. по наб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125360"/>
            <a:ext cx="108108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522" y="8592"/>
                </a:moveTo>
                <a:lnTo>
                  <a:pt x="-5392" y="8592"/>
                </a:lnTo>
                <a:lnTo>
                  <a:pt x="-5392" y="53344"/>
                </a:lnTo>
                <a:lnTo>
                  <a:pt x="10245" y="92844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ч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70640" y="1082520"/>
            <a:ext cx="113184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54" y="8545"/>
                </a:moveTo>
                <a:lnTo>
                  <a:pt x="24660" y="8545"/>
                </a:lnTo>
                <a:lnTo>
                  <a:pt x="24660" y="49846"/>
                </a:lnTo>
                <a:lnTo>
                  <a:pt x="12542" y="91385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ес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724280"/>
            <a:ext cx="6624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ьцы, пушкари, затинщики, казенные кузне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ники, служилые каз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5805360"/>
            <a:ext cx="113184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54" y="8545"/>
                </a:moveTo>
                <a:lnTo>
                  <a:pt x="32718" y="8545"/>
                </a:lnTo>
                <a:lnTo>
                  <a:pt x="32718" y="-26110"/>
                </a:lnTo>
                <a:lnTo>
                  <a:pt x="16238" y="-61002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5589720"/>
            <a:ext cx="2592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участо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мелкая 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ем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ая структура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: крестьяне и горож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989000"/>
            <a:ext cx="170640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1989000"/>
            <a:ext cx="619308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дельческие – вотчинные, помещич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астырские, патриаршие, архиепископ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2637000"/>
            <a:ext cx="619308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рцовые, черносошные и яса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государствен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149720"/>
            <a:ext cx="17064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4149720"/>
            <a:ext cx="619308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пцы – гости, члены гостиной и суконной со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4797360"/>
            <a:ext cx="619308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адские люди (ремесленники, мелкие торговц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е и белые слободы до 1649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413000"/>
            <a:ext cx="91440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к: 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341360"/>
            <a:ext cx="720108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екращением крымских набегов началось осв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ально-Черноземного района. Восстановлена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батываемых земель после См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349360"/>
            <a:ext cx="72010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епенно усиливается связь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н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озник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з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ьского хозяйства разных районов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974880" y="5730840"/>
            <a:ext cx="7199280" cy="72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28" y="3403"/>
                </a:moveTo>
                <a:lnTo>
                  <a:pt x="23700" y="3403"/>
                </a:lnTo>
                <a:lnTo>
                  <a:pt x="23700" y="-87866"/>
                </a:lnTo>
                <a:lnTo>
                  <a:pt x="19228" y="-91883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оземье и Поволжье – зерно; новгородские, псковские и смоленские земли – лен; ярославские, нижегородские, казанские области – животноводств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068640"/>
            <a:ext cx="7991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феодального (в первую очередь, поместного) землевл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573360"/>
            <a:ext cx="79912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оформилос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пост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ессрочный сыск беглых крестьян по Соборному уложению 1649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508640"/>
            <a:ext cx="5398920" cy="1008000"/>
          </a:xfrm>
          <a:prstGeom prst="wedgeRectCallout">
            <a:avLst>
              <a:gd name="adj1" fmla="val 29949"/>
              <a:gd name="adj2" fmla="val -81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ещики могли покупать и продавать крестьян. Крестьяне обязаны были платить помещику оброк и отрабатывать барщ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: промышленность и 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557360"/>
            <a:ext cx="691200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раста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работа на зак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лкотоварное производ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работа на рын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205000"/>
            <a:ext cx="6912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ая специализация рай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492280"/>
            <a:ext cx="691380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го ры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ста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х хозяйственных связей и обмена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разными частями стра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мар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российского значения (Макарьевская, Ирбит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нская, Архангельс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4076640"/>
            <a:ext cx="691200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уфак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36 г. – мануфактура Анд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иуса). Всего около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4724280"/>
            <a:ext cx="6912000" cy="100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ширная внешняя торговля (с Востока – ковры, шел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Запада – металлические изделия, сукна, вина; эк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с, лен, пенька, пушнина, кожи, хлеб). Госп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странных куп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5734080"/>
            <a:ext cx="691200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рговые уставы 1653 и 1667 г.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кционис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оженная поли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ий ст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360" y="1268280"/>
            <a:ext cx="3816360" cy="863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ловно-представ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205000"/>
            <a:ext cx="1062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2781360"/>
            <a:ext cx="3673440" cy="792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бсолютная монар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221000"/>
            <a:ext cx="7489800" cy="237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20" y="1039"/>
                </a:moveTo>
                <a:lnTo>
                  <a:pt x="22598" y="1039"/>
                </a:lnTo>
                <a:lnTo>
                  <a:pt x="22598" y="-7936"/>
                </a:lnTo>
                <a:lnTo>
                  <a:pt x="16198" y="-9379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царский титул включается слово «самодержец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ижается значение Земских соборов (последний созыв – 165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яется роль и состав Боярской думы (указы царя без «приговора» бояр, увеличение доли дворян и дья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цветают приказы – органы центральной исполнительной власти (всего 55); на местах власть перешла к воев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 Тайный приказ (политическая поли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682 г. отменено мест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сь создание регулярной армии (полки «нового стро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877000"/>
            <a:ext cx="934920" cy="72072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лд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йт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агу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одские бунт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268280"/>
            <a:ext cx="2016000" cy="136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ляной б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р. гор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1341360"/>
            <a:ext cx="1727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ш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оро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са и ры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3527280" cy="136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пошлины на с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е прямых на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ьшение жал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лым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лоу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2924280"/>
            <a:ext cx="2016000" cy="13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лебные бу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5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овгород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с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2924280"/>
            <a:ext cx="352764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ача хлеба Шв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чет дол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дорожание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– возвращени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дициям город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4581360"/>
            <a:ext cx="2016000" cy="136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ный б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6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4581360"/>
            <a:ext cx="4969080" cy="136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е медные монеты, введенные в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яных, быстро обесцени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цен, уменьшение фак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мера денежного жал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ический рост на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1268280"/>
            <a:ext cx="2016000" cy="136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 1648 г. бы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озван Земс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обор, принявш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оборное улож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4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924280"/>
            <a:ext cx="2016000" cy="13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се участн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осст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ыли проще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581360"/>
            <a:ext cx="2016000" cy="1368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осст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ыло жесток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давле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Чекан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медных мо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была прекращ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6093000"/>
            <a:ext cx="4897440" cy="54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лецкие бунты 1682, 1689 и 169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ие Степана Разина (1667-167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ощение крестьян и рост феодальных пови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ыток на Дону беглых крестьян и холо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лоение казачества («домовитые» и «голутвенные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ытки ограничения казачьей во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ный раскол и жестокое подавление инакомыс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ие Степана Разина (1667-167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3716280"/>
            <a:ext cx="151128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илия 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9640" y="220500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0920" y="4581360"/>
            <a:ext cx="78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4508640"/>
            <a:ext cx="2232000" cy="93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пан Раз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 зипун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667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59280" y="6021360"/>
            <a:ext cx="366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спийское мо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2421000"/>
            <a:ext cx="4680000" cy="1584360"/>
          </a:xfrm>
          <a:prstGeom prst="wedgeRoundRectCallout">
            <a:avLst>
              <a:gd name="adj1" fmla="val -41587"/>
              <a:gd name="adj2" fmla="val 10591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били торговые суда русских и персидских купцов. Захватили Яицкий городок. Атаковали персидские города (Фарабат, Астробад). Разгромили персидский ф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C -0.00416 -0.01134 -0.00677 -0.02361 -0.01146 -0.03472 C -0.01441 -0.04144 -0.01875 -0.04653 -0.02048 -0.0537 C -0.02587 -0.07639 -0.03437 -0.09884 -0.0526 -0.10764 C -0.06528 -0.11389 -0.05712 -0.11019 -0.0776 -0.11713 C -0.10764 -0.11296 -0.09288 -0.11991 -0.10503 -0.09514 C -0.11094 -0.06273 -0.11406 -0.02037 -0.09149 7.40741E-007 C -0.08854 0.01204 -0.08906 0.00671 -0.08906 0.01643 E">
                                      <p:cBhvr>
                                        <p:cTn id="74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0.02639 C 0.1323 0.04885 0.20313 0.07153 0.20973 0.08658 C 0.2165 0.10162 0.13785 0.12084 0.10087 0.11644 C 0.06389 0.11227 0.02605 0.08681 -0.0118 0.06158 E">
                                      <p:cBhvr>
                                        <p:cTn id="757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ис Федорович Году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1197000"/>
            <a:ext cx="50418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тическое правление в 1584-159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03840" y="1916280"/>
            <a:ext cx="2275200" cy="244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3357720"/>
            <a:ext cx="4104000" cy="576000"/>
          </a:xfrm>
          <a:prstGeom prst="wedgeRectCallout">
            <a:avLst>
              <a:gd name="adj1" fmla="val 71893"/>
              <a:gd name="adj2" fmla="val -1392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9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бель царевича Дмитрия в Угли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989000"/>
            <a:ext cx="446544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9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учреждение патриар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221000"/>
            <a:ext cx="338472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90-1595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о-швед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084640"/>
            <a:ext cx="3384720" cy="50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взинский мир 159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2232000" cy="136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город, 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орье, Кор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734080"/>
            <a:ext cx="5616720" cy="836640"/>
          </a:xfrm>
          <a:prstGeom prst="roundRect">
            <a:avLst>
              <a:gd name="adj" fmla="val 3396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97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указ об «урочных ле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-летний срок сыска беглых крестья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71280"/>
            <a:ext cx="7201080" cy="289080"/>
          </a:xfrm>
          <a:prstGeom prst="wedgeRectCallout">
            <a:avLst>
              <a:gd name="adj1" fmla="val -30157"/>
              <a:gd name="adj2" fmla="val 16978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винулся в период опричнины, брат жены Федора Иван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ие Степана Разина (1667-167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2060640"/>
            <a:ext cx="410544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отив бояр и изме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70-1671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85264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хватили Царицы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трахань, Сара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дили Симбир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285264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казакам присоедин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е, холоп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адские лю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ы Поволж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4221000"/>
            <a:ext cx="302436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елестны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инские атам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4076640"/>
            <a:ext cx="2232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тябрь 167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ин раз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Симбир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5084640"/>
            <a:ext cx="2232000" cy="129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ин был вы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тель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омовиты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июня 16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н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5300640"/>
            <a:ext cx="5724360" cy="1557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ы по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хийность, низкая организ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 четких целей, наивный монарх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ородный социальный сост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озненность действий крест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орма Никона (1653-1667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богослужебных книгах за века переписывания накопились значительные разночт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спространение книгопечатания позволяло установить единообразие церковных текст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ыбор в качестве образца для правки греческих источников делал Москву мировым центром православ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у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Единый культ богослуж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разец – греческий богослужебный чи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Единогласие (понятность текст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брядовые изменения (трехперстное крещение, поясные поклоны вместо земных, крестный ход навстречу солнцу, иконы греческого письма, литургия на 5 просфорах (вместо 7)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се книги и иконы, написанные по старым образцам подлежали уничтож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1673280" cy="206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1341360"/>
            <a:ext cx="5472000" cy="172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ольники (старообряд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опоп Авваку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 на древнерусские церковные тради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ешения Стоглавого сбора 155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ианская церковь – «мысленный» антихр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егание в далекие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3357720"/>
            <a:ext cx="2016000" cy="1726920"/>
          </a:xfrm>
          <a:prstGeom prst="plus">
            <a:avLst>
              <a:gd name="adj" fmla="val 25000"/>
            </a:avLst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рк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66-1667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174400">
            <a:off x="2411280" y="3284640"/>
            <a:ext cx="2089440" cy="863640"/>
          </a:xfrm>
          <a:prstGeom prst="rightArrow">
            <a:avLst>
              <a:gd name="adj1" fmla="val 50000"/>
              <a:gd name="adj2" fmla="val 60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24360" y="522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триарх Ник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3573360"/>
            <a:ext cx="2232360" cy="1224000"/>
          </a:xfrm>
          <a:prstGeom prst="cloudCallout">
            <a:avLst>
              <a:gd name="adj1" fmla="val 5902"/>
              <a:gd name="adj2" fmla="val 8398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щенство выше ц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5950080"/>
            <a:ext cx="345600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76" y="3812"/>
                </a:moveTo>
                <a:lnTo>
                  <a:pt x="27146" y="3812"/>
                </a:lnTo>
                <a:lnTo>
                  <a:pt x="27146" y="-44153"/>
                </a:lnTo>
                <a:lnTo>
                  <a:pt x="20003" y="-51882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кся от патриарш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65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4941720"/>
            <a:ext cx="3095640" cy="1224000"/>
          </a:xfrm>
          <a:prstGeom prst="rightArrow">
            <a:avLst>
              <a:gd name="adj1" fmla="val 50000"/>
              <a:gd name="adj2" fmla="val 63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оч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549360"/>
            <a:ext cx="23050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14" y="4000"/>
                </a:moveTo>
                <a:lnTo>
                  <a:pt x="26360" y="4000"/>
                </a:lnTo>
                <a:lnTo>
                  <a:pt x="26360" y="38306"/>
                </a:lnTo>
                <a:lnTo>
                  <a:pt x="-878" y="43819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живо сожж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апреля 16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08720" y="2349360"/>
            <a:ext cx="15112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ловец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с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68-1676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1916280"/>
            <a:ext cx="15112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сож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яя политика в царствование Михаила Федоровича (1613-1645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1628640"/>
            <a:ext cx="35272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бовский м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улинское перемир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565360"/>
            <a:ext cx="3744720" cy="1081080"/>
          </a:xfrm>
          <a:custGeom>
            <a:avLst/>
            <a:gdLst>
              <a:gd name="textAreaLeft" fmla="*/ 585000 w 3744720"/>
              <a:gd name="textAreaRight" fmla="*/ 3159720 w 3744720"/>
              <a:gd name="textAreaTop" fmla="*/ 1350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1" y="0"/>
                </a:lnTo>
                <a:arcTo wR="675" hR="675" stAng="16200000" swAng="5400000"/>
                <a:lnTo>
                  <a:pt x="6076" y="2700"/>
                </a:lnTo>
                <a:lnTo>
                  <a:pt x="15524" y="2700"/>
                </a:lnTo>
                <a:lnTo>
                  <a:pt x="15524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24" y="18900"/>
                </a:lnTo>
                <a:lnTo>
                  <a:pt x="18224" y="20925"/>
                </a:lnTo>
                <a:arcTo wR="675" hR="675" stAng="0" swAng="5400000"/>
                <a:lnTo>
                  <a:pt x="4051" y="21600"/>
                </a:lnTo>
                <a:arcTo wR="675" hR="675" stAng="5400000" swAng="5400000"/>
                <a:lnTo>
                  <a:pt x="3376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76" y="675"/>
                </a:moveTo>
                <a:arcTo wR="675" hR="675" stAng="0" swAng="5400000"/>
                <a:lnTo>
                  <a:pt x="4051" y="1350"/>
                </a:lnTo>
                <a:arcTo wR="675" hR="675" stAng="16200000" swAng="-5400000"/>
                <a:arcTo wR="675" hR="675" stAng="10800000" swAng="-5400000"/>
                <a:lnTo>
                  <a:pt x="6076" y="2700"/>
                </a:lnTo>
              </a:path>
              <a:path fill="none" w="21600" h="21600">
                <a:moveTo>
                  <a:pt x="15524" y="675"/>
                </a:moveTo>
                <a:arcTo wR="675" hR="675" stAng="10800000" swAng="-5400000"/>
                <a:lnTo>
                  <a:pt x="17549" y="1350"/>
                </a:lnTo>
                <a:arcTo wR="675" hR="675" stAng="16200000" swAng="5400000"/>
                <a:arcTo wR="675" hR="675" stAng="0" swAng="5400000"/>
                <a:lnTo>
                  <a:pt x="15524" y="2700"/>
                </a:lnTo>
              </a:path>
              <a:path fill="none" w="21600" h="21600">
                <a:moveTo>
                  <a:pt x="3376" y="2025"/>
                </a:moveTo>
                <a:lnTo>
                  <a:pt x="3376" y="18900"/>
                </a:lnTo>
              </a:path>
              <a:path fill="none" w="21600" h="21600">
                <a:moveTo>
                  <a:pt x="18224" y="2025"/>
                </a:moveTo>
                <a:lnTo>
                  <a:pt x="18224" y="18900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лен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63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492280"/>
            <a:ext cx="396108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ь Сигизмун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163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0360" y="2924280"/>
            <a:ext cx="4176720" cy="360360"/>
          </a:xfrm>
          <a:prstGeom prst="flowChartInputOutpu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– вернуть 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3357720"/>
            <a:ext cx="4103640" cy="863280"/>
          </a:xfrm>
          <a:prstGeom prst="leftArrow">
            <a:avLst>
              <a:gd name="adj1" fmla="val 50000"/>
              <a:gd name="adj2" fmla="val 1188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удачная осада Смол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3716280"/>
            <a:ext cx="3672000" cy="122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яновский мир 163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 только Серпе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слав отказался от 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язаний на московский т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941720"/>
            <a:ext cx="3744720" cy="1081080"/>
          </a:xfrm>
          <a:custGeom>
            <a:avLst/>
            <a:gdLst>
              <a:gd name="textAreaLeft" fmla="*/ 585000 w 3744720"/>
              <a:gd name="textAreaRight" fmla="*/ 3159720 w 3744720"/>
              <a:gd name="textAreaTop" fmla="*/ 1350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1" y="0"/>
                </a:lnTo>
                <a:arcTo wR="675" hR="675" stAng="16200000" swAng="5400000"/>
                <a:lnTo>
                  <a:pt x="6076" y="2700"/>
                </a:lnTo>
                <a:lnTo>
                  <a:pt x="15524" y="2700"/>
                </a:lnTo>
                <a:lnTo>
                  <a:pt x="15524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24" y="18900"/>
                </a:lnTo>
                <a:lnTo>
                  <a:pt x="18224" y="20925"/>
                </a:lnTo>
                <a:arcTo wR="675" hR="675" stAng="0" swAng="5400000"/>
                <a:lnTo>
                  <a:pt x="4051" y="21600"/>
                </a:lnTo>
                <a:arcTo wR="675" hR="675" stAng="5400000" swAng="5400000"/>
                <a:lnTo>
                  <a:pt x="3376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76" y="675"/>
                </a:moveTo>
                <a:arcTo wR="675" hR="675" stAng="0" swAng="5400000"/>
                <a:lnTo>
                  <a:pt x="4051" y="1350"/>
                </a:lnTo>
                <a:arcTo wR="675" hR="675" stAng="16200000" swAng="-5400000"/>
                <a:arcTo wR="675" hR="675" stAng="10800000" swAng="-5400000"/>
                <a:lnTo>
                  <a:pt x="6076" y="2700"/>
                </a:lnTo>
              </a:path>
              <a:path fill="none" w="21600" h="21600">
                <a:moveTo>
                  <a:pt x="15524" y="675"/>
                </a:moveTo>
                <a:arcTo wR="675" hR="675" stAng="10800000" swAng="-5400000"/>
                <a:lnTo>
                  <a:pt x="17549" y="1350"/>
                </a:lnTo>
                <a:arcTo wR="675" hR="675" stAng="16200000" swAng="5400000"/>
                <a:arcTo wR="675" hR="675" stAng="0" swAng="5400000"/>
                <a:lnTo>
                  <a:pt x="15524" y="2700"/>
                </a:lnTo>
              </a:path>
              <a:path fill="none" w="21600" h="21600">
                <a:moveTo>
                  <a:pt x="3376" y="2025"/>
                </a:moveTo>
                <a:lnTo>
                  <a:pt x="3376" y="18900"/>
                </a:lnTo>
              </a:path>
              <a:path fill="none" w="21600" h="21600">
                <a:moveTo>
                  <a:pt x="18224" y="2025"/>
                </a:moveTo>
                <a:lnTo>
                  <a:pt x="18224" y="18900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овское с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7-164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5157720"/>
            <a:ext cx="3887640" cy="863640"/>
          </a:xfrm>
          <a:custGeom>
            <a:avLst/>
            <a:gdLst>
              <a:gd name="textAreaLeft" fmla="*/ 0 w 3887640"/>
              <a:gd name="textAreaRight" fmla="*/ 3888000 w 3887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4" y="0"/>
                </a:lnTo>
                <a:lnTo>
                  <a:pt x="21600" y="10800"/>
                </a:lnTo>
                <a:lnTo>
                  <a:pt x="197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нские казаки захва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ецкую крепость Аз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ржали длительную о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6127920"/>
            <a:ext cx="561672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ский собор 1642 г. отклонил просьбу каз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ключить Азов в соста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яя политика в царствование Алексея Михайловича (1645-1676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3024000" cy="1800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8-165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тание против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Укра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дан Хмельн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 1649 г. гетман Укра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1773360"/>
            <a:ext cx="4537080" cy="934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ский собор 165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ил просьбу Б.Хмельниц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ключить Украину в соста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924280"/>
            <a:ext cx="4535280" cy="649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яславская рада 8 января 165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оединение с Ро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24360" y="1773360"/>
            <a:ext cx="4535280" cy="18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я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ность гетмана и его у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дипломатических конт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ины (кроме Польши и Тур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е прежнего военно-админ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тив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 на основе местных зак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3789360"/>
            <a:ext cx="777708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54-1667 гг. – русско-поль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ПЕШНОЕ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НА СО ШВЕЦИЕЙ (1656-165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АТЕЛЬСТВО УКРАИНСКИХ ГЕТМАНОВ В 165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И.Выговский; Ю.Хмельниц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Е ДЕЙСТВИЯ С ПЕРЕМЕННЫМ УСПЕХ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5589720"/>
            <a:ext cx="3673440" cy="79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усовское перемирие 166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я вернула Смолен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иговские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ьша признавала вос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вобережной Украины с Ро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бережная Украин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оруссия остались в П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ев через 2 года должен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вращен Польше (не верну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рожской С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5589720"/>
            <a:ext cx="41036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турецкий 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589720"/>
            <a:ext cx="36734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ловия перемирия подтвержд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ечным миром» 168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95600" cy="4381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шняя политика в конц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1413000"/>
            <a:ext cx="2879640" cy="1800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дор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76-16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40360" y="1413000"/>
            <a:ext cx="446400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-турецкая война 1676-168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гиринские п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2060640"/>
            <a:ext cx="446400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хчисарайский мир 168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ция согласилась с вхож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 России Левобереж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аины и 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357720"/>
            <a:ext cx="2879640" cy="3024000"/>
          </a:xfrm>
          <a:prstGeom prst="bevel">
            <a:avLst>
              <a:gd name="adj" fmla="val 8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евна 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82-16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н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В. Гол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фаво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3357720"/>
            <a:ext cx="4464000" cy="115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чный мир» 1686 г. с Поль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турецкий австро-польс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ецианско-русский сою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Священная лиг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4508640"/>
            <a:ext cx="446400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удачные Крымские п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87 и 168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0360" y="5300640"/>
            <a:ext cx="4464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рчинский догов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89 г. с Кит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е отступили от берегов А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ежали возможн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1520640" cy="187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2301840" cy="283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804000" y="3789360"/>
            <a:ext cx="1765440" cy="217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воение Сибири 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льнего Вост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1557360"/>
            <a:ext cx="4032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рианты колон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ое пере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селение по указу ц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1557360"/>
            <a:ext cx="4032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ость продвижения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словлена отсутствием на э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ритории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852640"/>
            <a:ext cx="6840720" cy="22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вех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32 г. – П.Бекетов основал Якутский ост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42 г. – М.Стадухин достиг Чук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43-1646 гг. – В.Поярков дошел до р.А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48 г. – С.Дежнев открыл пролив между Азией и Амер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49-1653 гг. – Е.Хабаров составил первую карту Приаму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97 г. – В. Атласов исследовал и присоединил Камча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5445000"/>
            <a:ext cx="396072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ы Сибири плат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туральный налог, вноси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зну пушни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Росс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.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тенден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628640"/>
            <a:ext cx="8064360" cy="10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вершение формирования русской народнос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ого русского языка (на основе московского гов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3068640"/>
            <a:ext cx="806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нденция к обмирщению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4724280"/>
            <a:ext cx="547200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01" y="2640"/>
                </a:moveTo>
                <a:lnTo>
                  <a:pt x="23962" y="2640"/>
                </a:lnTo>
                <a:lnTo>
                  <a:pt x="23962" y="-10378"/>
                </a:lnTo>
                <a:lnTo>
                  <a:pt x="16668" y="-22774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вобождение от влияния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ушение религиозного мировоз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елляция к раз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лькл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й жанр – историческая песня (песни о взятии Казани, песни об Иване Грозном, песни о Ермаке, песни о Степане Разин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овицы и поговорки (охватывали все стороны жизни нар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одолевается разрыв между фольклором и письменной литера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3280" y="1268280"/>
            <a:ext cx="612144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т грам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дворян и посадск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03280" y="1989000"/>
            <a:ext cx="6121440" cy="863640"/>
          </a:xfrm>
          <a:prstGeom prst="upArrowCallout">
            <a:avLst>
              <a:gd name="adj1" fmla="val 177215"/>
              <a:gd name="adj2" fmla="val 17719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живление торгово-промышл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 государственного 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997360"/>
            <a:ext cx="2159280" cy="865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аш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8000" y="3213000"/>
            <a:ext cx="2158920" cy="865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ы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вя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астыр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4076640"/>
            <a:ext cx="367344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65 г. – школа граммат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я при Заиконоспасском  монасты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имеон Полоц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7280" y="4653000"/>
            <a:ext cx="367344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87 г. – Славяно-греко-латин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лище (академ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.Полоцкий, С.Медведев, братья Лихуд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2997360"/>
            <a:ext cx="2158920" cy="865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5448240"/>
            <a:ext cx="6481800" cy="10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54" y="2457"/>
                </a:moveTo>
                <a:lnTo>
                  <a:pt x="23198" y="2457"/>
                </a:lnTo>
                <a:lnTo>
                  <a:pt x="23198" y="-26514"/>
                </a:lnTo>
                <a:lnTo>
                  <a:pt x="20595" y="-32861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34 г. – «Букварь» (Василий Бурц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48 г. – «Грамматика» (Мелетий Смотриц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74 г.. – «Синопсис» (Иннокентий Гиз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94 г. – «Большой букварь» и «Полис» (Карион Истом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ис Годунов (1598-16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07320" y="4365720"/>
            <a:ext cx="2236680" cy="2492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4520" y="6353280"/>
            <a:ext cx="1954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рис Годун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его Фед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268280"/>
            <a:ext cx="6480000" cy="79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598 г. Земский собор избрал царем Бориса Году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885400">
            <a:off x="324000" y="1699920"/>
            <a:ext cx="1150920" cy="122400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2565360"/>
            <a:ext cx="4392360" cy="792360"/>
          </a:xfrm>
          <a:prstGeom prst="flowChartOffpage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од 1601-1603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280" y="3500280"/>
            <a:ext cx="463644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тни тысяч людей поги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сячи крестьян бежали на ю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ись восс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осстание Хлопка в 160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стрились социальные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илился экономический и 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3500280"/>
            <a:ext cx="4824360" cy="252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ча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ажданск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Сму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25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1413000"/>
            <a:ext cx="4248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жанр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тир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Шемякином суд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весть о Ерше Ершовиче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весть о Фоме и Ере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6000" y="1413000"/>
            <a:ext cx="39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граф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с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весть об Улиане Осорг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биограф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тие» протопопа Аввак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2781360"/>
            <a:ext cx="820872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ц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 отсталости Росси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овеса дней» И.Хворости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писание Московского государства» Г.Котоши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литика» Ю.Крижан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4221000"/>
            <a:ext cx="8208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еон Полоцк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новы русского стихосложения (силлабическ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и «Рифмологион» и «Вертоград многоцвет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4941720"/>
            <a:ext cx="432108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стихотворные пь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5516640"/>
            <a:ext cx="691344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72 г. при дворе царя Алексея Михайловича появи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театр в России («Артаксерксово действо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1413000"/>
            <a:ext cx="288144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еред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тровый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3640" y="1341360"/>
            <a:ext cx="324036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иарх Ни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тил 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тровых хра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288144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ышки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сковское) барок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02160" y="6127920"/>
            <a:ext cx="26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рковь Покрова в Фил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90-16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5805360"/>
            <a:ext cx="4033800" cy="505080"/>
          </a:xfrm>
          <a:prstGeom prst="wedgeRectCallout">
            <a:avLst>
              <a:gd name="adj1" fmla="val 35870"/>
              <a:gd name="adj2" fmla="val -1908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ядность, элегантность дек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гая симметр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1825560" cy="273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4" name=""/>
          <p:cNvSpPr/>
          <p:nvPr/>
        </p:nvSpPr>
        <p:spPr>
          <a:xfrm>
            <a:off x="3066840" y="2565360"/>
            <a:ext cx="371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рковь Троицы Живонач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роицком-Голенищеве  1644-1645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74640" cy="266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-0.51181 -1.48148E-006 E">
                                      <p:cBhvr>
                                        <p:cTn id="1224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1413000"/>
            <a:ext cx="403200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он Уш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626-168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 Оружейной па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 к изоб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ого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4365720"/>
            <a:ext cx="403200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с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ртреты, напис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конописной манер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ной техник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оске яичными крас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00000" y="3508200"/>
            <a:ext cx="3024360" cy="2700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52040" y="6237360"/>
            <a:ext cx="33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нязь М.В. Скопин-Шуйский. Парсу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1905120" cy="238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5724360" y="3645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ас Нерукотворный. 167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67560" y="2924280"/>
            <a:ext cx="2476440" cy="3047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жедмитри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Григорий Отрепье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50520" y="5877000"/>
            <a:ext cx="19882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на Мниш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оми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71640" y="2565000"/>
            <a:ext cx="3744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-575280" y="3248640"/>
            <a:ext cx="23749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ь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1080" y="285264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520" y="179244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преле 16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 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88000" y="184464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4790160" y="2276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нь 16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3284640"/>
            <a:ext cx="396072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яки не были довольны тем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ередал обещанные земл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братил русских в кат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4005360"/>
            <a:ext cx="439272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славное духовенство опас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аря, пренебрегаю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гией и обыча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4724280"/>
            <a:ext cx="475308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жилые люди были обижены близ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царю пол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229360"/>
            <a:ext cx="547236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тели Москвы страдали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гостившихся» пол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734080"/>
            <a:ext cx="576108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е и казаки обманулись в 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жиданиях на улучшения их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5600" y="2708280"/>
            <a:ext cx="1559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ад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мая 16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341360"/>
            <a:ext cx="5688000" cy="574920"/>
          </a:xfrm>
          <a:prstGeom prst="rightArrow">
            <a:avLst>
              <a:gd name="adj1" fmla="val 41880"/>
              <a:gd name="adj2" fmla="val 17327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бит в результате заговора 17 мая 16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силий Шуйский (1606-1610) и Иван Боло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557360"/>
            <a:ext cx="3311640" cy="792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крикнут» 19 мая 16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расной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1484280"/>
            <a:ext cx="4825800" cy="100800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стоцеловаль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ление вместе с Боярской ду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 налагать опал и не казнить без су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1484280"/>
            <a:ext cx="48258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ещания не выпол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589720"/>
            <a:ext cx="266364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 Бол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вший боевой холо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ил себя воево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аря Дми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07640" y="5589720"/>
            <a:ext cx="1800360" cy="936360"/>
          </a:xfrm>
          <a:custGeom>
            <a:avLst/>
            <a:gdLst>
              <a:gd name="textAreaLeft" fmla="*/ -360 w 1800360"/>
              <a:gd name="textAreaRight" fmla="*/ 1800360 w 1800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256536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26920" y="3213000"/>
            <a:ext cx="865080" cy="21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924280"/>
            <a:ext cx="3960720" cy="936360"/>
          </a:xfrm>
          <a:prstGeom prst="wedgeRectCallout">
            <a:avLst>
              <a:gd name="adj1" fmla="val -75129"/>
              <a:gd name="adj2" fmla="val -1949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яне во главе с Пашковым и Ляпуновым перешли к ца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декабря 1606 г. болотникоцы были разгром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4076640"/>
            <a:ext cx="792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л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71640" y="3213000"/>
            <a:ext cx="151272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437000"/>
            <a:ext cx="1295280" cy="504720"/>
          </a:xfrm>
          <a:prstGeom prst="wedgeRectCallout">
            <a:avLst>
              <a:gd name="adj1" fmla="val -24509"/>
              <a:gd name="adj2" fmla="val -770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месяцев об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08000" y="4221000"/>
            <a:ext cx="792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у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221000"/>
            <a:ext cx="57636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4292640"/>
            <a:ext cx="3887640" cy="936720"/>
          </a:xfrm>
          <a:prstGeom prst="wedgeRectCallout">
            <a:avLst>
              <a:gd name="adj1" fmla="val -74416"/>
              <a:gd name="adj2" fmla="val -4745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ские войска затопил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октября 1607 г. восставшие сдались. Болотникова ослепили,а затем утоп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силий Шуйский и Лжедмитри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5400000">
            <a:off x="-575280" y="3967920"/>
            <a:ext cx="237492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ь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08720" y="321300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042920" y="3644640"/>
            <a:ext cx="41767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3800" y="4365720"/>
            <a:ext cx="898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3960" y="328464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Туши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1773360"/>
            <a:ext cx="4753080" cy="769680"/>
          </a:xfrm>
          <a:prstGeom prst="downArrowCallout">
            <a:avLst>
              <a:gd name="adj1" fmla="val 154285"/>
              <a:gd name="adj2" fmla="val 154385"/>
              <a:gd name="adj3" fmla="val 24306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В. Скопин-Шуйский +шведы (Делагар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7680" y="5373720"/>
            <a:ext cx="5472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01" y="3117"/>
                </a:moveTo>
                <a:lnTo>
                  <a:pt x="22853" y="3117"/>
                </a:lnTo>
                <a:lnTo>
                  <a:pt x="22853" y="-30430"/>
                </a:lnTo>
                <a:lnTo>
                  <a:pt x="16292" y="-48221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марта 1610 г. самозванец был раз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жедмитри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ежал в Калугу, где был убит своими же охранниками 11 декабря 1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645000"/>
            <a:ext cx="1655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573360"/>
            <a:ext cx="1429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7440" y="3213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84280"/>
            <a:ext cx="2232000" cy="1440000"/>
          </a:xfrm>
          <a:prstGeom prst="cloudCallout">
            <a:avLst>
              <a:gd name="adj1" fmla="val -33712"/>
              <a:gd name="adj2" fmla="val 5628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ентябре 1609 г. под предлогом заключения русско-шведского союза Польша начала войну проти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284640"/>
            <a:ext cx="20509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июля 1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илий Шу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 сверг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естол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ан поля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781360"/>
            <a:ext cx="1584360" cy="360360"/>
          </a:xfrm>
          <a:prstGeom prst="wedgeRectCallout">
            <a:avLst>
              <a:gd name="adj1" fmla="val -43486"/>
              <a:gd name="adj2" fmla="val 10198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месяц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1.94444E-006 0.10139 E">
                                      <p:cBhvr>
                                        <p:cTn id="2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ибоярщина (1610-16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71280"/>
            <a:ext cx="4465440" cy="360360"/>
          </a:xfrm>
          <a:prstGeom prst="wedgeRectCallout">
            <a:avLst>
              <a:gd name="adj1" fmla="val -27708"/>
              <a:gd name="adj2" fmla="val 12577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бояр во главе с Ф.И. Мстислав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2205000"/>
            <a:ext cx="604836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или договор о призвании на русский пре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ьского королевича Владислава под услов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ятия им прав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3068640"/>
            <a:ext cx="604836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очь на 21 сентября 1610 г. тайно впуст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оскву и в Кремль польски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005360"/>
            <a:ext cx="6769440" cy="2087640"/>
          </a:xfrm>
          <a:prstGeom prst="upArrowCallout">
            <a:avLst>
              <a:gd name="adj1" fmla="val 81073"/>
              <a:gd name="adj2" fmla="val 81066"/>
              <a:gd name="adj3" fmla="val 23542"/>
              <a:gd name="adj4" fmla="val 6666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ский король Сигизмун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ягивал переговоры, намеревая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ватить Московское государств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соединить его к своим вла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268280"/>
            <a:ext cx="7991280" cy="64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веция, узнав о русско-польском союзе, оккупиро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о-западные земли (Новгор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ута получила характер национальной вой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торой русские стремились освободиться от гнета интерв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е (рязанское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олчение 161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306864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1989000"/>
            <a:ext cx="475308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о в феврале-марте 16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637000"/>
            <a:ext cx="475308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занский воевода Прокопий Ляп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язь Дмитрий Труб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ман Иван Зару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411280" y="3213000"/>
            <a:ext cx="136872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349360"/>
            <a:ext cx="2664000" cy="609840"/>
          </a:xfrm>
          <a:prstGeom prst="wedgeRectCallout">
            <a:avLst>
              <a:gd name="adj1" fmla="val -7328"/>
              <a:gd name="adj2" fmla="val 700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преле 1611 г. заняли Белы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4437000"/>
            <a:ext cx="4465800" cy="936720"/>
          </a:xfrm>
          <a:prstGeom prst="wedgeRectCallout">
            <a:avLst>
              <a:gd name="adj1" fmla="val -32333"/>
              <a:gd name="adj2" fmla="val -142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июля 1611 г. казаки убили Ляпу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олчение распалось. Под столицей остались лишь казачьи отря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262728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 време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юне 1611 г. пол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ли 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е (нижегородское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олчение 161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1989000"/>
            <a:ext cx="475308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о в конце 1611 – начале 16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637000"/>
            <a:ext cx="4753080" cy="93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ский староста Кузьма Ми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язь Дмитрий Пож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3068640"/>
            <a:ext cx="1495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43280" y="3213000"/>
            <a:ext cx="93672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844640"/>
            <a:ext cx="2664000" cy="936720"/>
          </a:xfrm>
          <a:prstGeom prst="wedgeRectCallout">
            <a:avLst>
              <a:gd name="adj1" fmla="val -13944"/>
              <a:gd name="adj2" fmla="val 7949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вгусте 1612 г. разгромили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тмана Ходкеви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860640"/>
            <a:ext cx="2664000" cy="936720"/>
          </a:xfrm>
          <a:prstGeom prst="wedgeRectCallout">
            <a:avLst>
              <a:gd name="adj1" fmla="val 37069"/>
              <a:gd name="adj2" fmla="val -81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октября 1612 г. сдался польский гарнизон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5013360"/>
            <a:ext cx="5400720" cy="934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оябре 1612 г. было объя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созыве Земского собора для избрания ц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3480" y="3716280"/>
            <a:ext cx="2216160" cy="299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16:10Z</dcterms:created>
  <dc:creator>Свечников С.К.</dc:creator>
  <dc:description/>
  <dc:language>en-US</dc:language>
  <cp:lastModifiedBy>UserXP</cp:lastModifiedBy>
  <dcterms:modified xsi:type="dcterms:W3CDTF">2010-08-05T13:01:54Z</dcterms:modified>
  <cp:revision>64</cp:revision>
  <dc:subject/>
  <dc:title>Слайд 1</dc:title>
</cp:coreProperties>
</file>