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DEE-FD38-4344-83CD-CB0306C8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E61-6753-476D-B591-175898A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3A6-5E42-4092-9BD6-2725BF2E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AFC-38B6-4B72-87B5-8365A854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ADB-6D82-48DE-8B96-8601AA4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72C-EB73-435A-BE11-9350A9E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187-E521-46DC-B226-C9913B9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9A9-7BAB-4736-AD72-D42CE68B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965-84E8-40ED-814F-1F71CABF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903-BEBC-4611-A047-2B4826F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65B-7884-4E53-B13B-2FFAE84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EB7-C672-4D23-851E-FA954E2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854-28B9-4BB5-A7F3-564D89B67806}" type="slidenum">
              <a:rPr b="0" lang="ru-RU" sz="1200" spc="-1" strike="noStrike">
                <a:solidFill>
                  <a:srgbClr val="898989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98240"/>
            <a:ext cx="7772400" cy="121140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еминар-практикум для воспитател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Делаем игрушки своими руками»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519080"/>
            <a:ext cx="6858000" cy="17910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вел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това Г.Н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спитатель высшей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валификационной категори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4.Вырезаем бороду и клюв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58" name="Picture 5" descr="Птицы из картона своими руками (48)"/>
          <p:cNvPicPr/>
          <p:nvPr/>
        </p:nvPicPr>
        <p:blipFill>
          <a:blip r:embed="rId1"/>
          <a:stretch/>
        </p:blipFill>
        <p:spPr>
          <a:xfrm>
            <a:off x="1349280" y="1876320"/>
            <a:ext cx="64454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48104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5.Приклеиваем гребешок  ,бородку и клюв, глаза.</a:t>
            </a:r>
            <a:br>
              <a:rPr sz="4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60" name="Picture 7" descr="Птицы из картона своими руками (49)"/>
          <p:cNvPicPr/>
          <p:nvPr/>
        </p:nvPicPr>
        <p:blipFill>
          <a:blip r:embed="rId1"/>
          <a:stretch/>
        </p:blipFill>
        <p:spPr>
          <a:xfrm>
            <a:off x="1262160" y="1481040"/>
            <a:ext cx="70308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6. Намазываем клеем и соединяем  детали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62" name="Picture 8" descr="Птицы из картона своими руками (50)"/>
          <p:cNvPicPr/>
          <p:nvPr/>
        </p:nvPicPr>
        <p:blipFill>
          <a:blip r:embed="rId1"/>
          <a:stretch/>
        </p:blipFill>
        <p:spPr>
          <a:xfrm>
            <a:off x="923760" y="1741320"/>
            <a:ext cx="7053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одержимое 2"/>
          <p:cNvSpPr/>
          <p:nvPr/>
        </p:nvSpPr>
        <p:spPr>
          <a:xfrm>
            <a:off x="1841400" y="1825560"/>
            <a:ext cx="54468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5040" y="-360"/>
            <a:ext cx="4162320" cy="1676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7.Зажимаем      скрепкой или    зажимом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65" name="Picture 8" descr="Птицы из картона своими руками (51)"/>
          <p:cNvPicPr/>
          <p:nvPr/>
        </p:nvPicPr>
        <p:blipFill>
          <a:blip r:embed="rId1"/>
          <a:stretch/>
        </p:blipFill>
        <p:spPr>
          <a:xfrm>
            <a:off x="2705040" y="1676520"/>
            <a:ext cx="4162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Свечк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67" name="Picture 5" descr="Идеи поделок из бумаги15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 rot="10800000">
            <a:off x="0" y="318600"/>
            <a:ext cx="7886880" cy="4608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tIns="360" bIns="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-360"/>
            <a:ext cx="9144000" cy="71089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0000"/>
          </a:bodyPr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ечка из бумаги – красивая и оригинальная новогодняя поделка для детей от 5-6 л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ая свеча – совершенно пожаробезопасна, поэтому вы можете украсить ею все что угодно – ветки елки, новогодний стол или полочку с книг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свечки подойдет обычная белая офисная бумаг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о, конечно, если вам хочется цветные свечи ,то берите цветную бумагу. Желательно только, чтобы она была окрашена с двух сторо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оме белого цвета традиционным для рождественских свечей является красный. Кроме складывания из бумаги в этой новогодней поделке используется аппликация – для имитации язычка пламе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у вас нет желания возиться с аппликацией, огонь можно просто нарисовать цветными карандашами или фломастерами, вырезать и наклеить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я работы понадобится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Белый и цветной  двусторонний картон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Клей ПВА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Ножницы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Прищепка;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двусторонний скотч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82880" indent="-18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7040" y="364680"/>
            <a:ext cx="2975040" cy="61009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-Берём обычную белую офисную бумагу и нарезаем на полосы шириной 2,5-3 см (длина полосок получилась примерно 30 см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ля каждой свечки вам понадобится две таких полоск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лоски склеиваем друг с другом с одного конца под углом в 90 градус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1" name="Picture 4" descr="paper_can_05"/>
          <p:cNvPicPr/>
          <p:nvPr/>
        </p:nvPicPr>
        <p:blipFill>
          <a:blip r:embed="rId1"/>
          <a:stretch/>
        </p:blipFill>
        <p:spPr>
          <a:xfrm>
            <a:off x="3232080" y="1252440"/>
            <a:ext cx="59119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3308400" cy="618984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чинаем из полосок бумаги складывать гармошк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реворачиваем первую полоску (которая находится ниже) на другую сторону. Затем также переворачиваем вторую полосу на противоположную сторону и так дале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 время складывания следите, чтобы полосы ложились аккуратно, параллельно краю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3" name="Picture 2" descr="paper_can_06"/>
          <p:cNvPicPr/>
          <p:nvPr/>
        </p:nvPicPr>
        <p:blipFill>
          <a:blip r:embed="rId1"/>
          <a:stretch/>
        </p:blipFill>
        <p:spPr>
          <a:xfrm>
            <a:off x="3308400" y="888840"/>
            <a:ext cx="57340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aper_can_12"/>
          <p:cNvPicPr/>
          <p:nvPr/>
        </p:nvPicPr>
        <p:blipFill>
          <a:blip r:embed="rId1"/>
          <a:stretch/>
        </p:blipFill>
        <p:spPr>
          <a:xfrm>
            <a:off x="628560" y="1622520"/>
            <a:ext cx="7886880" cy="4776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541440"/>
            <a:ext cx="7886880" cy="9777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полосы закончатся, отрежьте лишние кусочки бумаги ножницами и склейте последние участки полосо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 rot="10800000">
            <a:off x="628560" y="3503520"/>
            <a:ext cx="7886880" cy="17431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4186080"/>
            <a:ext cx="7886880" cy="19908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56000"/>
          </a:bodyPr>
          <a:p>
            <a:pPr marL="127800" indent="-12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7800" indent="-12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7800" indent="-12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перь делаем имитацию огня свечи. Для этого нарежьте небольшие прямоугольники цветной бумаги желтого, оранжевого и красного цвета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7800" indent="-127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7800" indent="-127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27800" indent="-127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Picture 16" descr="Свечка6"/>
          <p:cNvPicPr/>
          <p:nvPr/>
        </p:nvPicPr>
        <p:blipFill>
          <a:blip r:embed="rId1"/>
          <a:stretch/>
        </p:blipFill>
        <p:spPr>
          <a:xfrm>
            <a:off x="1893960" y="334800"/>
            <a:ext cx="617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96640" y="2466720"/>
            <a:ext cx="8461080" cy="36226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"Лучшей игрушкой для ребёнка будет та,которую он создал своими руками".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19240" y="0"/>
            <a:ext cx="4055760" cy="68580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режьте из прямоугольника бумаги желтого цвета небольшую кривую полоску, имитирующую пламя свечи. Наклейте эту полоску на прямоугольник бумаги оранжевого цвета и вырежьте еще раз с небольшим отступом. Не стремитесь, чтобы отступы были везде одинаковыми. У вас получилось пламя свечи двух цветов. Приклеиваем пламя к прямоугольнику красной бумаги и еще раз вырезаем. Огонь для бумажной свечи гото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ного загибаем край пламени под углом 90 градусов и приклеиваем к свечк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0" name="Picture 9" descr="Свечка7"/>
          <p:cNvPicPr/>
          <p:nvPr/>
        </p:nvPicPr>
        <p:blipFill>
          <a:blip r:embed="rId1"/>
          <a:stretch/>
        </p:blipFill>
        <p:spPr>
          <a:xfrm>
            <a:off x="4432320" y="399960"/>
            <a:ext cx="457848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7480" y="0"/>
            <a:ext cx="8567640" cy="16905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ы можете использовать тот же метод для изготовления других поделок  , крепить их на ёлку можно с помощью прищепки ,которую приклеивают к поделке клеем Момент или двусторонним скотчем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2" name="Picture 7" descr="http://luchikivnuchiki.ru/wp-content/uploads/2015/11/Idei-podelok-iz-bumagi2.jpg"/>
          <p:cNvPicPr/>
          <p:nvPr/>
        </p:nvPicPr>
        <p:blipFill>
          <a:blip r:embed="rId1"/>
          <a:stretch/>
        </p:blipFill>
        <p:spPr>
          <a:xfrm>
            <a:off x="447840" y="1822320"/>
            <a:ext cx="3646440" cy="486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://luchikivnuchiki.ru/wp-content/uploads/2015/11/Idei-podelok-iz-bumagi3.jpg"/>
          <p:cNvPicPr/>
          <p:nvPr/>
        </p:nvPicPr>
        <p:blipFill>
          <a:blip r:embed="rId2"/>
          <a:stretch/>
        </p:blipFill>
        <p:spPr>
          <a:xfrm>
            <a:off x="4265640" y="1822320"/>
            <a:ext cx="47498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http://luchikivnuchiki.ru/wp-content/uploads/2015/11/Idei-podelok-iz-bumagi4.jpg"/>
          <p:cNvPicPr/>
          <p:nvPr/>
        </p:nvPicPr>
        <p:blipFill>
          <a:blip r:embed="rId1"/>
          <a:stretch/>
        </p:blipFill>
        <p:spPr>
          <a:xfrm>
            <a:off x="0" y="0"/>
            <a:ext cx="4803840" cy="401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luchikivnuchiki.ru/wp-content/uploads/2015/11/Idei-podelok-iz-bumagi5.jpg"/>
          <p:cNvPicPr/>
          <p:nvPr/>
        </p:nvPicPr>
        <p:blipFill>
          <a:blip r:embed="rId2"/>
          <a:stretch/>
        </p:blipFill>
        <p:spPr>
          <a:xfrm>
            <a:off x="5065560" y="54000"/>
            <a:ext cx="3937320" cy="391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luchikivnuchiki.ru/wp-content/uploads/2015/11/Idei-podelok-iz-bumagi12.jpg"/>
          <p:cNvPicPr/>
          <p:nvPr/>
        </p:nvPicPr>
        <p:blipFill>
          <a:blip r:embed="rId3"/>
          <a:stretch/>
        </p:blipFill>
        <p:spPr>
          <a:xfrm>
            <a:off x="3076560" y="3475080"/>
            <a:ext cx="37209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luchikivnuchiki.ru/wp-content/uploads/2015/11/Idei-podelok-iz-bumagi14.jpg"/>
          <p:cNvPicPr/>
          <p:nvPr/>
        </p:nvPicPr>
        <p:blipFill>
          <a:blip r:embed="rId1"/>
          <a:stretch/>
        </p:blipFill>
        <p:spPr>
          <a:xfrm>
            <a:off x="0" y="2624040"/>
            <a:ext cx="4675320" cy="423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ttp://luchikivnuchiki.ru/wp-content/uploads/2015/11/Idei-podelok-iz-bumagi13.jpg"/>
          <p:cNvPicPr/>
          <p:nvPr/>
        </p:nvPicPr>
        <p:blipFill>
          <a:blip r:embed="rId2"/>
          <a:stretch/>
        </p:blipFill>
        <p:spPr>
          <a:xfrm>
            <a:off x="4675320" y="0"/>
            <a:ext cx="44686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петушок 2017 своими руками"/>
          <p:cNvPicPr/>
          <p:nvPr/>
        </p:nvPicPr>
        <p:blipFill>
          <a:blip r:embed="rId1"/>
          <a:stretch/>
        </p:blipFill>
        <p:spPr>
          <a:xfrm>
            <a:off x="3494160" y="1185840"/>
            <a:ext cx="5649840" cy="4694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2057400"/>
            <a:ext cx="3297240" cy="38116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етушок из конус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7800" y="10800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Снежинк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Этапы складывани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2" name="Picture 5" descr="как сделать снежинку из бумаги "/>
          <p:cNvPicPr/>
          <p:nvPr/>
        </p:nvPicPr>
        <p:blipFill>
          <a:blip r:embed="rId1"/>
          <a:stretch/>
        </p:blipFill>
        <p:spPr>
          <a:xfrm>
            <a:off x="1535040" y="1690560"/>
            <a:ext cx="62373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90180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Виды  снежинки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4" name="Picture 5" descr="http://www.toysew.ru/wp-content/uploads/2014/12/elochnaya-igrushka-022.jpg"/>
          <p:cNvPicPr/>
          <p:nvPr/>
        </p:nvPicPr>
        <p:blipFill>
          <a:blip r:embed="rId1"/>
          <a:stretch/>
        </p:blipFill>
        <p:spPr>
          <a:xfrm>
            <a:off x="2382840" y="901800"/>
            <a:ext cx="4529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ождественский ангелочек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нгел – Хранитель в христианстве – добрый дух, данный человеку Богом при крещении для помощи и руководства. По православным и католическим представлениям, ангел-хранитель невидимо находится при человеке на протяжении всей его жизни. Задача ангела – способствовать спасению подопечного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пусть Ангел, сделанный детскими руками, всегда будет рядом, защитит от любых невзгод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kladraz.ru/upload/blogs/1362_bb2f6d82787848b8a45113617a82745b.jpg"/>
          <p:cNvPicPr/>
          <p:nvPr/>
        </p:nvPicPr>
        <p:blipFill>
          <a:blip r:embed="rId1"/>
          <a:stretch/>
        </p:blipFill>
        <p:spPr>
          <a:xfrm>
            <a:off x="773280" y="0"/>
            <a:ext cx="76374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Вам потребуетс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листа от бумаги для замето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ист  офисной бумаги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крашения (по желанию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687680"/>
            <a:ext cx="9144000" cy="527976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юбимый всеми Новый год – это праздник, когда даже очень серьезные взрослые становятся немного детьми, свято верящими в грядущие чудеса, которые обязательно принесет это пронизанное сказкой торжество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верное, поэтому и мал и стар не прочь украсить дом самодельными гирляндами, шарами и прочими симпатичными безделушками. А где дом, там и елка – центр праздника, и она обязательно должна быть самой красивой и оригинально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смотря на то, что сегодня магазины с наступлением зимы полнятся всевозможными стильными украшениями на все вкусы и кошельки, значительно интереснее и полезнее посвятить пару вечеров творчеству  вместе со своими детьми и запастись собственноручно сделанными, и поэтому уникальными елочными украшениями. Такие точно не найти ни в одном магазине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76520" cy="685800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Берём 1 листок бумаги, складываем попола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Затем каждую половинку ещё попола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Затем прикладываем нижний край бумаги к противоположной 1 линии сгиб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То же самое проделываем с другим крае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Складываем гармошк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-Получилось 8 делен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сли хотите, чтобы получилось более пышное платье, надо каждое деление сложить ещё раз попола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1" name="Picture 2" descr="http://kladraz.ru/upload/blogs/1362_433c8b7308b0413900f33cdc16c5ff65.jpg"/>
          <p:cNvPicPr/>
          <p:nvPr/>
        </p:nvPicPr>
        <p:blipFill>
          <a:blip r:embed="rId1"/>
          <a:stretch/>
        </p:blipFill>
        <p:spPr>
          <a:xfrm>
            <a:off x="3611520" y="1693800"/>
            <a:ext cx="55324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360" y="365040"/>
            <a:ext cx="3168720" cy="64929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-Отмеряем 1/3 длины и отгибаем в сторону, это будет рукав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иклеиваем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-Берём 2 лист бумаги и делаем то же сам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3" name="Picture 4" descr="http://kladraz.ru/upload/blogs/1362_d7e5979a7e7b2e47f4edf449a9eadb68.jpg"/>
          <p:cNvPicPr/>
          <p:nvPr/>
        </p:nvPicPr>
        <p:blipFill>
          <a:blip r:embed="rId1"/>
          <a:stretch/>
        </p:blipFill>
        <p:spPr>
          <a:xfrm>
            <a:off x="3611520" y="1494000"/>
            <a:ext cx="55324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960" y="365040"/>
            <a:ext cx="3322440" cy="581184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Берём 2 лист бумаги и делаем то же самое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Соединяем 2 части клеем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-Платье ангела готово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5" name="Picture 6" descr="http://kladraz.ru/upload/blogs/1362_350905100e3d490ec3263e827ac52901.jpg"/>
          <p:cNvPicPr/>
          <p:nvPr/>
        </p:nvPicPr>
        <p:blipFill>
          <a:blip r:embed="rId1"/>
          <a:stretch/>
        </p:blipFill>
        <p:spPr>
          <a:xfrm>
            <a:off x="4054320" y="11592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kladraz.ru/upload/blogs/1362_671381ca0def9929a87ddb92faad4b46.jpg"/>
          <p:cNvPicPr/>
          <p:nvPr/>
        </p:nvPicPr>
        <p:blipFill>
          <a:blip r:embed="rId2"/>
          <a:stretch/>
        </p:blipFill>
        <p:spPr>
          <a:xfrm>
            <a:off x="4070520" y="3564000"/>
            <a:ext cx="43956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31800" y="2576160"/>
            <a:ext cx="8408880" cy="39402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ткладываем платье в сторону, делаем голову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ерём лист бумаги и отрезаем полоску шириной в ширину боковины плать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еперь закручиваем полоску в « колёсико» и оставляем край полосы  примерно 5-7см, это будет нимб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жем плечи ангела клеем и приклеиваем голову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 желанию можете украсить платье пайетками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4800" y="365040"/>
            <a:ext cx="692172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Аналогичным способом можно сделать вот такие гирлянды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9" name="Picture 4" descr="новогодние украшения из бумаги (2)"/>
          <p:cNvPicPr/>
          <p:nvPr/>
        </p:nvPicPr>
        <p:blipFill>
          <a:blip r:embed="rId1"/>
          <a:stretch/>
        </p:blipFill>
        <p:spPr>
          <a:xfrm>
            <a:off x="582480" y="1690560"/>
            <a:ext cx="7686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446200"/>
            <a:ext cx="8566200" cy="40831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Благодарю за внимание.</a:t>
            </a: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Счастливого 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Нового года!</a:t>
            </a:r>
            <a:endParaRPr b="0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5920" y="1403280"/>
            <a:ext cx="8604000" cy="54547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учной труд по изготовлению различных поделок из бумаги - увлекательное занятие для детей дошкольного возраста, имеющее большое значение в развитии их художественного вкуса, творческого воображения, конструктивного мышления. В процессе этой деятельности совершенствуются трудовые умения ребёнка, связанные с необходимостью овладеть разными приёмами и способами обработки бумаги, такими как сгибание, многократное складывание, надрезание, склеивание. При этом происходит развитие глазомера, точности движений и координированная работа обеих рук, умение детей подбирать и целенаправленно использовать материалы и инструменты. Всё это позволяет рассматривать как средство подготовки детей к обучению в школ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2730240"/>
            <a:ext cx="2614680" cy="363204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етушок-золотой гребешок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47" name="Picture 2" descr="http://vashechudo.ru/images/petushok5.jpg"/>
          <p:cNvPicPr/>
          <p:nvPr/>
        </p:nvPicPr>
        <p:blipFill>
          <a:blip r:embed="rId1"/>
          <a:stretch/>
        </p:blipFill>
        <p:spPr>
          <a:xfrm>
            <a:off x="3048120" y="19080"/>
            <a:ext cx="60958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Вам потребуется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Цветная двусторонняя бумаг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стой карандаш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инейк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крепка или зажим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Этапы изготовления петушка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1.Переводим шаблон на цветную бумагу.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51" name="Picture 7" descr="Птицы из картона своими руками (45)"/>
          <p:cNvPicPr/>
          <p:nvPr/>
        </p:nvPicPr>
        <p:blipFill>
          <a:blip r:embed="rId1"/>
          <a:stretch/>
        </p:blipFill>
        <p:spPr>
          <a:xfrm>
            <a:off x="1647720" y="1917720"/>
            <a:ext cx="6208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2.Надрезаем по линиям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30280" y="1828800"/>
            <a:ext cx="6361200" cy="49068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" name="Picture 5" descr="http://www.iz-bumagi-svoimi-rukami.ru/wp-content/uploads/2015/12/Ptitsy-iz-kartona-svoimi-rukami-46.jpg"/>
          <p:cNvPicPr/>
          <p:nvPr/>
        </p:nvPicPr>
        <p:blipFill>
          <a:blip r:embed="rId1"/>
          <a:stretch/>
        </p:blipFill>
        <p:spPr>
          <a:xfrm>
            <a:off x="1062000" y="1690560"/>
            <a:ext cx="7056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5b9bd5">
              <a:alpha val="9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3.Вырезаем гребешок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56" name="Picture 5" descr="Птицы из картона своими руками (47)"/>
          <p:cNvPicPr/>
          <p:nvPr/>
        </p:nvPicPr>
        <p:blipFill>
          <a:blip r:embed="rId1"/>
          <a:stretch/>
        </p:blipFill>
        <p:spPr>
          <a:xfrm>
            <a:off x="1254240" y="1859040"/>
            <a:ext cx="6635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2:50:46Z</dcterms:created>
  <dc:creator>Инна</dc:creator>
  <dc:description/>
  <dc:language>en-US</dc:language>
  <cp:lastModifiedBy>Алексей</cp:lastModifiedBy>
  <dcterms:modified xsi:type="dcterms:W3CDTF">2020-03-29T17:39:54Z</dcterms:modified>
  <cp:revision>90</cp:revision>
  <dc:subject/>
  <dc:title>Презентация PowerPoint</dc:title>
</cp:coreProperties>
</file>