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CAD2-FDF0-4AF7-A14F-C5F729A1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B7AB-147A-42B0-AF5C-F618D19E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0114-466F-42DA-BB44-729B4A02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2916-BB4B-410F-8E7C-AAA3244B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B284-9C2B-4606-9646-E5EE6945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05ED-F6DC-494A-AB45-5C7AD19B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ACE6-F7E6-4910-9DFA-088829A1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7C20-9FC1-4014-9402-5F961740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FC02-8ADA-458A-8DD7-49BCE635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51D7-4341-417F-9472-D109DB67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8660-9572-4A75-BD7E-39F2CD01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26C9-43CA-44EF-931C-78ED622F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6E0E-930E-45DE-A2FC-3D5BDA5A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BC11-70D2-40D9-ACFB-1C13159C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0386-E96A-42CB-A7DB-521E9E7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CEAA-B199-4828-9411-C82AADA4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BAD8-D02B-40F0-AB8D-7AB77D81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DE58-5AA2-4619-87A0-07005572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60EB-09F3-4A59-ABD5-5B2786E6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9954-57BF-4C9F-A23F-D27F9853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E077-F079-40B1-8AAE-B904FBAC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A417-1A2A-4D08-8706-92F0D43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9A20-E29A-469E-B674-33071567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38A7-CE46-479E-B87C-56DB361A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CA01-8881-4C06-B64A-A4255BF27D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CCA4-CD48-480B-9239-C9E0C5063C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6312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зентация преподавателя ГБПОУ СКИСиГ Серовой Т.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дисциплине «История изобразительного искусства»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тему:  «Французская  живопись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ка. Рокок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367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ноша  торопливо  похищает  поцелуй  у  прелестной  девицы,  У  другой  девицы  проказник  Амур  похищает  ее  рубашку.  Третья  красавица  качается  в  парке  на  качелях,  ветер  раздувает  е  юбочки,  а  восхищенный  поклонник  любуется  ее  снизу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ако  в  этих  сценках  у  Фрагонара  гораздо  больше  жизненности,  чем  у  Буше:  есть  в  них  юмор,  живая  наблюдательность,  незаметно  переводящие  условный  рокайльный  жанр  в  план  просто  бытового  жанра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«Похищение  рубашки  Амуром»,  «Купающиеся  наяды»,  «Качели»,   «Поцелуй  украдкой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4246560" cy="384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2906640" cy="339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0364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гонар – замечательно  одаренный  и  очень  артистичный  живописец  и  график,  настоящие  свет  и  воздух  трепещут  в  его  картин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 избирал  «галантные  сюжеты»,  потому  что  так  было  принято,  любил  же  он  по – настоящему  хорошую  живопис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 раздались  раскаты  революционной  грозы  1789  года,  старый  Фрагонар,  последний  художник  рококо,  перестал  писать  и  стал  хранителем  Лув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2530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66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 эпоху  Людовика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дежда,  прически,  сама  внешность  челове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тали  больше, чем  когда – либо,  произведением  искусства.  Людей  опознавали  и  ценили  по  платью.  Должностным  лицам  присваивался  особый  наряд.  Даже  палачу  предписывалось  появляться  в  завитом  парике,  камзоле  и  туфлях  с  ба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й  же  изысканностью  отличались  туалеты  высокопоставленных  дам.  Тонкость  талии  доводилась  до  предела  с  помощью  корсета,  а  пышность  юбок  усиливалась  фижмами  и  кринолинами,  так  что  фигура  приобретала  силуэт  совершенно  не  естественный  реальному  телу,  и  при  этом  окружалась  мерцающими  облаками  кружев,  перьев  и  лен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осы,  собранные  в  высокие  башнеобразные  прически  и  осыпанные светлой  пудрой,  увеличивали  рост,  придавали  нежность  лицу;  лицо  покрывали  слоем  румян  и  белил;  черные  бархотки  на  шее  и  черные  мушки  на  белом  личике  придавали  пикантность.  Женщина,  наряженная  и  причесанная,  как  игрушка,  и  обутая  в  узенькие  башмачки  на  каблуках,  должна  была  ступать  очень  осторожно,  чтобы  сохранить  равновесие – это  выработало  привычку  к  плывущей  походке  и  плавным  движениям  менуэ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6553080" y="858960"/>
            <a:ext cx="2414880" cy="3554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ый  Трианон  в  Верс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о  заметить,  что  в планировке  зданий  и  облике  фасадов  стиль  рококо  проявился  мало,  тут  продолжалась  линия  развития  от  барокко  к  классицизму,  и  влияние  рококо  заключалось  в  том,  что  формы  становились  более  легкими,  грациозным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ром  может  служить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лый  Трианон  в  Верса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маленький  дворец  в  глубине  парка,  интимные  покои  короля;  его  строил  знаменитый  зодчий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бриэ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риэль  также  проектировал  Площадь  согласия – один  из  самых  гармоничных  архитектурных  ансамблей  Пари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248000" cy="34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ьер  Гатчинского  з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751640" cy="367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95640" y="2133360"/>
            <a:ext cx="30970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цело  в  духе  рококо  строились  только  павильоны,  беседки,  увеселительные  и  декоративные  соору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 главной  сферой  рококо  в  архитектуре  было  убранство  интерьеров.  В  интерьерах  рококо  плоскость  стены  уничтожалась  декоративными  панно  и  зеркалами,  отражающимися  друг  в  друге,  ни  одной  прямой  линии,  ни  одного  прямого  угла – сплошной  хоровод  виньет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бель  в  стиле  рок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38163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упкие  столики  и  пуфы  стоят  на  тонких,  загнутых  книзу  ножках.  Рококо  заставляет  каждую  вещь  быть  актером,  играть  роль,  не  вытекающую  из  ее  структуры.  Каждую  вещь  покрыта  гирляндами  завитков,  инкрустациями  и  нежными  цветистыми  узорами,  маскирующими  строение 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и  популярны  изящные  безделушки – ларчики  с  секретами,  табакерки,  фарфоровые  фигу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5418000" y="1125360"/>
            <a:ext cx="2826000" cy="430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н  Батист  Шард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н  Батист  Шард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стер  бытового  жан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портре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439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68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68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6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5200" y="456840"/>
            <a:ext cx="78516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любивая  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809880" cy="44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560" y="2533320"/>
            <a:ext cx="3201840" cy="23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 изображал  добронравных  хозяек,  матерей  семейства,  занятых  хлопотами  по  хозяйству  и 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33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ны  и  скромны  его  натюрморты,  чаще  всего  составленные  из самых  простых  домашних  предметов:  медный  бак,  кувшины,  ведра,  корз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4470120" cy="36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sh dir="r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 с  атрибутами 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124000" y="2168640"/>
            <a:ext cx="6318360" cy="38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ан  Антуан  Ват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738600" cy="45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004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ана  Антуана  Ватто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684 – 1721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 считать  основоположником  рококо  в  живопис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  Ватто  вышел  из  простой среды,  был сыном  кровельщик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 любил  бытовой  жанр,  копировал  полотна  голландцев,  очень  много  зарисовывал  с  натуры.  Вместе  с  тем  его  влекло  к  декоративной  живописи  и  к  театру,  к  итальянской  комед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лав  бытового,  декоративного  и  театрального  в  интимных  лирических фантазиях – в  этом  весь  Ватто,  но  в  этом  также  и  характер  рокайльного  сти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рет Ватто работы Розальбы Карь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итва  перед  обе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526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 этот  мирный  живописец  был  по – своему  борцом  и  новатором.  Сама  его  спокойная  простота,  его  приверженность  к  чисто  житейским  мотивам  являлась  в  те  времена  вызовом  аристократическим  вкусам.  С  трудом  верится,  что  скромнейшие  хозяйки  Шардена  в  белых  чепчиках – современницы  тех  искусственных  женщин,  которых  писал  Б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809880" cy="447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omb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льные  пузы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374328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е  с  тем  Шарден  творит  в  духе  времени:  та  же  приглушенность  страстей,  томность,  легкая  сентиментальность,  мягкие,  неяркие,  очень  тонкие  колористические  гармонии  («Кормилица»,  «Натюрморт»,  «Мыльные  пузыри»  и 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4356000" y="1197000"/>
            <a:ext cx="431964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sh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 и 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 вклад  в  историю  живописи  внёс  Жан  Антуан  Ват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 анализ  одного  из  произведений  Ват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 характерно  для  творчества Франсуа  Бу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 вклад  в  развитие  живописи  внёс  Жан  Оноре  Фрагон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жите  об  основных  принципах  стиля  рококо  в  живописи,  архитектуре,  украшении  интерьеров,  причёс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 отличает  творчество  Жана  Батиста  Шардена  от  выше  перечисленных  художников?  Что  сближает  его  с  н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98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98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98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98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ящные  праз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360036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тто  писал  мельчайшими  бисерными  мазками,  ткал  волшебную  сеть  с  золотистыми,  серебристыми  и  пепельными  переливами;  нежные,  неяркие  оттенки  и  сочетания  («Квартет»,  «Общество  в  парке», «Праздник  любви»,  «Жиль»,  «Отплытие  на  остров  Киферу»  и 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006800" y="1587600"/>
            <a:ext cx="4680000" cy="368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8000" y="1699920"/>
            <a:ext cx="3384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 бы  ни  писал   Ватто,  оттенок  печальной  иронии  есть  во  все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– игра,  театр,  сон,  а  искусство – реальность  сна.  Особая  сила  Ватто  в  том,  что  он  не  просто  уходил  в  царство  мечты,  а  выражал  и  действительные  переживания  реального 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046160" y="1522440"/>
            <a:ext cx="3525840" cy="44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ансуа  Бу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колько  Ватто  глубок,  настолько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суа  Бу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1703 – 1770)  внешен,  хотя  по  виду  между  ними  много  общего  и  Буше  считал  себя  верным  учеником  Ват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 преуспевающий  художник,  пользовавшийся  особым  покровительством  мадам  де  Помпадур,  создал  типичный  вариант  придворного  рокайля,  легковесного  и манер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рет Франсуа Буше кисти Густава Лундбе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4859280" y="1763640"/>
            <a:ext cx="3529080" cy="43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питер  и  Калли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rcRect l="0" t="0" r="0" b="1538"/>
          <a:stretch/>
        </p:blipFill>
        <p:spPr>
          <a:xfrm>
            <a:off x="684360" y="1557360"/>
            <a:ext cx="3889080" cy="46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58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 писал  пасторальные  сцены  с  жеманными  пастухами  и  пастушками,  эротические  сцены,  пухленьких  обнаженных  прелестниц  под  видом  Диан  и  Венер,  писал  и  сельские  пейзажи – какие – нибудь  заброшенные  мельницы  и  поэтические  хижины,  не  лишенные  интимной  привлекательности,  но  все  больше  похожие  на  театральные  деко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 подбирает  краски,  как  цветы  для  букета,  однако  букет  крас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на  после  ох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4272120" y="1143000"/>
            <a:ext cx="4187520" cy="270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Rectangle 5"/>
          <p:cNvSpPr/>
          <p:nvPr/>
        </p:nvSpPr>
        <p:spPr>
          <a:xfrm>
            <a:off x="684360" y="3573360"/>
            <a:ext cx="37432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живописи  рококо  легкие оттенки  тона  изолируются  как самостоятельные  цвета.  Им  давали  названия:  «цвет  бедра  испуганной  нимфы»,  «цвет  потерянного  времени»  и  т.д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а  для  гобеленов  Франсуа  Бу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9360" y="3789000"/>
            <a:ext cx="33116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обными  утонченными  красками  расцвечивались  и  произведения  прикладного  искусств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т  же  Буше,  мастер  очень  искусный,  много  работал  в  области  декоративной  живописи,  делал  эскизы  для  гобеленов,  для  росписи  по  фарфор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3995640" y="1628640"/>
            <a:ext cx="4535640" cy="314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н  Оноре  Фрагон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09480" y="1652760"/>
            <a:ext cx="3602160" cy="5632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526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  Оноре  Фрагонар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732 – 1806)  был  учеником  Буше  и  Шардена  и  в  своем  творчестве  осуществил  альянс  этих  разных  течени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 у  Буше  у  Фрагонара  всевозможные  вариации  той  «игры  в  любовь»,  которую  двор  Людовика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звел  в  ранг  великосветской  м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порт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dowh@yandex.ru</cp:lastModifiedBy>
  <dcterms:modified xsi:type="dcterms:W3CDTF">2020-04-09T12:32:09Z</dcterms:modified>
  <cp:revision>21</cp:revision>
  <dc:subject/>
  <dc:title>PowerPoint Presentation</dc:title>
</cp:coreProperties>
</file>