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2D0-6B64-45C3-9FB8-5D214E97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0E2-DC6D-49E6-9BA5-EADAA57E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70B-5E3E-45A5-B5BA-CE6C0C99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A80-B69B-48CC-A74B-75254AEF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8524-BEB7-4EFB-AEEC-26AF34DA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21F2-ACEC-4B68-84FD-904DC0DC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123B-AFC4-415D-BC74-124611F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C669-0892-482E-B0DA-09119A5B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358E-7F4C-491D-A477-AD748908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15A0-FEE4-4D01-89C3-46044122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53B6-72FF-48A2-A62E-699A09BD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DA5-719C-4469-A6CB-34CCE30B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1BC4-2912-49BE-A008-404F9D0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4AF1-EB88-488B-B21B-37F1E16E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6198-6E7B-43BB-9178-8147C33B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9C48-FDA2-4C32-A79C-F482A7EB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1D26-8DA9-47CD-B955-6C0F6011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DD2-CC61-47E4-9484-BE73BBD4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943-878E-4FCA-951B-FE297B5A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B52-9C6B-4A88-A6CE-561E1032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89E-CDD3-4780-979E-360CDFFE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899-3CAA-4BF5-9FF0-EA4F1EDE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DA6-4D1A-444E-8E04-9C42A59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81E-E1AD-4016-9B2F-8482567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0213-E948-455A-A425-4CA5BB77AE9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C06-3512-4BE6-BC41-5E2E4793B55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1924_&#1075;&#1086;&#1076;" TargetMode="External"/><Relationship Id="rId3" Type="http://schemas.openxmlformats.org/officeDocument/2006/relationships/hyperlink" Target="http://ru.wikipedia.org/wiki/1926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47760" y="-36360"/>
            <a:ext cx="9051840" cy="1920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sholohov.uvao.ru.jpg"/>
          <p:cNvPicPr/>
          <p:nvPr/>
        </p:nvPicPr>
        <p:blipFill>
          <a:blip r:embed="rId2"/>
          <a:stretch/>
        </p:blipFill>
        <p:spPr>
          <a:xfrm>
            <a:off x="4495680" y="1700280"/>
            <a:ext cx="4456080" cy="3024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1294311309_mixail-sholoxov-donskie-rasskazy.jpg"/>
          <p:cNvPicPr/>
          <p:nvPr/>
        </p:nvPicPr>
        <p:blipFill>
          <a:blip r:embed="rId3"/>
          <a:stretch/>
        </p:blipFill>
        <p:spPr>
          <a:xfrm>
            <a:off x="171360" y="3475080"/>
            <a:ext cx="2711520" cy="3389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0" y="206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траницы рассказов густо окрашены кровью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. Г. Бирю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4067280" y="508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…проба пера, проба литературных сил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. А. Шоло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84120" y="-73080"/>
            <a:ext cx="8412120" cy="17258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357120" y="857160"/>
            <a:ext cx="5438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чиная 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1924 год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в журналах появляются рассказы  М. А. Шолохова, объединённые впоследствии в сборники «Донские рассказы» и «Лазоревая степь» (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1926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Родинка» ( первый рассказ М. А. Шолохо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«О Колчаке, крапиве и проче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«Кало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Оби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Продкомисса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Пастух»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Донские рассказы»  написаны по горячим следам событий гражданской войны и заслуживают внимания как документы истории. М. А. Шолохов сказал: « В «Донских рассказах» я старался писать правду о жизни, писать о том, что более всего волновало меня, что было злобой дня для партии и народа…». Это было страшное время, пропахшее порохом и залитое кров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аким стал человек – основная проблема расска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C:\Users\1\Desktop\imagesллдлл.jpg"/>
          <p:cNvPicPr/>
          <p:nvPr/>
        </p:nvPicPr>
        <p:blipFill>
          <a:blip r:embed="rId4"/>
          <a:stretch/>
        </p:blipFill>
        <p:spPr>
          <a:xfrm>
            <a:off x="5724360" y="1700280"/>
            <a:ext cx="32004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38120" y="171360"/>
            <a:ext cx="8267760" cy="1266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1\Desktop\images99090.jpg"/>
          <p:cNvPicPr/>
          <p:nvPr/>
        </p:nvPicPr>
        <p:blipFill>
          <a:blip r:embed="rId2"/>
          <a:stretch/>
        </p:blipFill>
        <p:spPr>
          <a:xfrm>
            <a:off x="179280" y="1628640"/>
            <a:ext cx="2995560" cy="397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1\Desktop\images.jpg"/>
          <p:cNvPicPr/>
          <p:nvPr/>
        </p:nvPicPr>
        <p:blipFill>
          <a:blip r:embed="rId3"/>
          <a:stretch/>
        </p:blipFill>
        <p:spPr>
          <a:xfrm>
            <a:off x="6156360" y="1628640"/>
            <a:ext cx="2847960" cy="4400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3203640" y="1484280"/>
            <a:ext cx="29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 И ЧЕЛОВЕК «Донские рассказы» – это не прощание, а встреча с оружием, это стихия ожесточения. Молодой писатель воссоздал притихшую после Врангеля и Колчака Донщину, но раздул угасающие огоньки вражды, превращая мелкие банды в целые воюющие армии. Основным сюжетом являются сцены кровопролитий, братоубийств на почве классового размеже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274680" y="66600"/>
            <a:ext cx="5383080" cy="3299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1\Desktop\imagesва.jpg"/>
          <p:cNvPicPr/>
          <p:nvPr/>
        </p:nvPicPr>
        <p:blipFill>
          <a:blip r:embed="rId2"/>
          <a:stretch/>
        </p:blipFill>
        <p:spPr>
          <a:xfrm>
            <a:off x="5867280" y="115920"/>
            <a:ext cx="3114720" cy="475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1\Desktop\imagesжжжж.jpg"/>
          <p:cNvPicPr/>
          <p:nvPr/>
        </p:nvPicPr>
        <p:blipFill>
          <a:blip r:embed="rId3"/>
          <a:stretch/>
        </p:blipFill>
        <p:spPr>
          <a:xfrm>
            <a:off x="108000" y="3481560"/>
            <a:ext cx="2502000" cy="33764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2627280" y="3357720"/>
            <a:ext cx="301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. А. Шолохов поддерживает гражданскую войну и революцию. Но он наследник вольнолюбивого казачества на Дону. Втянутый в водоворот хлебозаготовок, он пишет: «… помогаю тем, кого несправедливо обижают, … наблюдаю и шибко скорблю душой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614920" y="508464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сатель умело передаёт мироощущение  героев , понимает и раскрывает их глубину, показывая порой совсем неожидан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577960" y="96840"/>
            <a:ext cx="3322800" cy="43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1\Desktop\imagesннн.jpg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78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1\Desktop\imagesшш.jpg"/>
          <p:cNvPicPr/>
          <p:nvPr/>
        </p:nvPicPr>
        <p:blipFill>
          <a:blip r:embed="rId3"/>
          <a:stretch/>
        </p:blipFill>
        <p:spPr>
          <a:xfrm>
            <a:off x="0" y="0"/>
            <a:ext cx="2579760" cy="371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1\Desktop\imagesнн.jpg"/>
          <p:cNvPicPr/>
          <p:nvPr/>
        </p:nvPicPr>
        <p:blipFill>
          <a:blip r:embed="rId4"/>
          <a:stretch/>
        </p:blipFill>
        <p:spPr>
          <a:xfrm>
            <a:off x="6156360" y="3213000"/>
            <a:ext cx="2843280" cy="3132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8"/>
          <p:cNvSpPr/>
          <p:nvPr/>
        </p:nvSpPr>
        <p:spPr>
          <a:xfrm>
            <a:off x="1258920" y="4549680"/>
            <a:ext cx="4572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олоховские герои -  люди норовистые, упрямые. Они не смолчат, когда увидят несправедливость, зло, беззаконие. Персонажи «Донских рассказов» не перекладывают ответственность на другого. Произведения пронизаны образом сильного, волевого, мужественного человека, расчищающего дорогу к будущ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14360" y="-66600"/>
            <a:ext cx="8643960" cy="17240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179280" y="1428840"/>
            <a:ext cx="4537080" cy="5306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 Донские рассказы» подчёркнуто антиромантичны, натуралистичны, в языковом плане обращены к  достоверной просторечной народной стихии языка. Присутствуют такие словечки и речевые обороты, как  «откель, играйся, опосля, вы для меня есть порожнее ничтожество» и др.Они призваны подчеркнуть будничность и натуральность всего происходящего.       М. А. Шолохов стягивал все события в рамки «малоформатных» рассказов, к достоинствам  которых относятся  острота  и свежесть тематики, стремление автора показать новое, нарождающееся, напряженность конфликтов. А.С.Серафимович отмечал: « Просто, ярко и рассказываемое чувствуешь – перед глазами стоит… Сжато, и эта сжатость полна жизни, напряжения и правд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C:\Users\1\Desktop\imagesрр.jpg"/>
          <p:cNvPicPr/>
          <p:nvPr/>
        </p:nvPicPr>
        <p:blipFill>
          <a:blip r:embed="rId2"/>
          <a:stretch/>
        </p:blipFill>
        <p:spPr>
          <a:xfrm>
            <a:off x="4859280" y="2492280"/>
            <a:ext cx="4140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84120" y="49320"/>
            <a:ext cx="8521920" cy="16938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79280" y="1700280"/>
            <a:ext cx="3745080" cy="5031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Донские рассказы» - предвестники  «Тихого Дона» . С одной стороны, они действительно подготовили будущую эпопею, помогли писателю показать борьбу за установление власти Советов на Дону.  «Тихий  Дон» развивал многое, что робко пробивалось в «Донских рассказах». Но, с другой стороны,  М.А.Шолохов в «Тихом Доне» преодолевал культ насилия, идею бойца как винтика революции, вводил романтическую красоту героев. Рисуя острую борьбу  старого и нового в жизни и сознании народа, М.А.Шолохов доказывает: торжествует новое, светл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C:\Users\1\Desktop\untitledкк.png"/>
          <p:cNvPicPr/>
          <p:nvPr/>
        </p:nvPicPr>
        <p:blipFill>
          <a:blip r:embed="rId2"/>
          <a:stretch/>
        </p:blipFill>
        <p:spPr>
          <a:xfrm>
            <a:off x="5148360" y="1484280"/>
            <a:ext cx="2950920" cy="31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1\Desktop\untitledкк4444.png"/>
          <p:cNvPicPr/>
          <p:nvPr/>
        </p:nvPicPr>
        <p:blipFill>
          <a:blip r:embed="rId3"/>
          <a:stretch/>
        </p:blipFill>
        <p:spPr>
          <a:xfrm>
            <a:off x="5003640" y="4221000"/>
            <a:ext cx="34768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7:53:47Z</dcterms:created>
  <dc:creator>BASIC</dc:creator>
  <dc:description/>
  <dc:language>en-US</dc:language>
  <cp:lastModifiedBy>Admin</cp:lastModifiedBy>
  <dcterms:modified xsi:type="dcterms:W3CDTF">2020-04-10T04:45:13Z</dcterms:modified>
  <cp:revision>26</cp:revision>
  <dc:subject/>
  <dc:title>М. А. Шолохов  «Донские рассказы»</dc:title>
</cp:coreProperties>
</file>