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C5B4-77C6-4C6A-8CB5-D83F0875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B52-B7C2-4644-9EBE-1E76CD49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860-3E1D-4309-B957-F16051E5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510-B11C-4D07-BA03-47859A83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8373-291D-4FF9-8DDD-3348E2DD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B6F5-BC76-49B3-BF6D-EB56A66C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368A-1678-41BD-933A-88E96CAB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8FA4-2DA8-4B49-BF93-B7348248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A898-770D-43CB-BF47-4A2A762F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3D71-D373-43C1-805B-B6ACA571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971B-5761-4BCF-BEE3-A6E50B05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204-5A73-4E92-B09C-68B872E0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BB9E-4879-4B90-942E-1B3C190E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45BD-4E51-449B-B54D-CDAFABCE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5044-CE77-4D27-88F6-B1B0260B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66E1-46ED-405C-8871-929FA1E1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9794-444F-4014-B7B7-98A9A9A0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FEE-C1D9-431A-8709-98FAEB0C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D86-3B29-4A82-A9D4-45314D5E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D38-1943-4D3A-A848-581F0DD2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131-68CE-43F5-ACE9-FD4B1429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BBD-B6DB-4DD2-8BE6-96983F76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FBD2-3E70-40F5-AA35-F7C4076F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9DD-56CB-44B0-B1ED-E29CD384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3829-CBB2-4062-9E9E-0EBABB9333B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0D1D-5D62-4F1E-A054-B8E708A4A2D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ru.wikipedia.org/wiki/1924_&#1075;&#1086;&#1076;" TargetMode="External"/><Relationship Id="rId3" Type="http://schemas.openxmlformats.org/officeDocument/2006/relationships/hyperlink" Target="http://ru.wikipedia.org/wiki/1926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47760" y="-36360"/>
            <a:ext cx="9051840" cy="1920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sholohov.uvao.ru.jpg"/>
          <p:cNvPicPr/>
          <p:nvPr/>
        </p:nvPicPr>
        <p:blipFill>
          <a:blip r:embed="rId2"/>
          <a:stretch/>
        </p:blipFill>
        <p:spPr>
          <a:xfrm>
            <a:off x="4495680" y="1700280"/>
            <a:ext cx="4456080" cy="3024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1294311309_mixail-sholoxov-donskie-rasskazy.jpg"/>
          <p:cNvPicPr/>
          <p:nvPr/>
        </p:nvPicPr>
        <p:blipFill>
          <a:blip r:embed="rId3"/>
          <a:stretch/>
        </p:blipFill>
        <p:spPr>
          <a:xfrm>
            <a:off x="171360" y="3475080"/>
            <a:ext cx="2711520" cy="33894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5"/>
          <p:cNvSpPr/>
          <p:nvPr/>
        </p:nvSpPr>
        <p:spPr>
          <a:xfrm>
            <a:off x="0" y="2060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Страницы рассказов густо окрашены кровью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. Г. Бирю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4067280" y="508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…проба пера, проба литературных сил.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. А. Шоло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384120" y="-73080"/>
            <a:ext cx="8412120" cy="17258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357120" y="857160"/>
            <a:ext cx="5438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Начиная с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1924 года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в журналах появляются рассказы  М. А. Шолохова, объединённые впоследствии в сборники «Донские рассказы» и «Лазоревая степь» (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1926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«Родинка» ( первый рассказ М. А. Шолохов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«О Колчаке, крапиве и проче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«Калош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«Обид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«Продкомисса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«Пастух»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«Донские рассказы»  написаны по горячим следам событий гражданской войны и заслуживают внимания как документы истории. М. А. Шолохов сказал: « В «Донских рассказах» я старался писать правду о жизни, писать о том, что более всего волновало меня, что было злобой дня для партии и народа…». Это было страшное время, пропахшее порохом и залитое кровь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Каким стал человек – основная проблема рассказ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C:\Users\1\Desktop\imagesллдлл.jpg"/>
          <p:cNvPicPr/>
          <p:nvPr/>
        </p:nvPicPr>
        <p:blipFill>
          <a:blip r:embed="rId4"/>
          <a:stretch/>
        </p:blipFill>
        <p:spPr>
          <a:xfrm>
            <a:off x="5724360" y="1700280"/>
            <a:ext cx="32004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38120" y="171360"/>
            <a:ext cx="8267760" cy="1266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1\Desktop\images99090.jpg"/>
          <p:cNvPicPr/>
          <p:nvPr/>
        </p:nvPicPr>
        <p:blipFill>
          <a:blip r:embed="rId2"/>
          <a:stretch/>
        </p:blipFill>
        <p:spPr>
          <a:xfrm>
            <a:off x="179280" y="1628640"/>
            <a:ext cx="2995560" cy="397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1\Desktop\images.jpg"/>
          <p:cNvPicPr/>
          <p:nvPr/>
        </p:nvPicPr>
        <p:blipFill>
          <a:blip r:embed="rId3"/>
          <a:stretch/>
        </p:blipFill>
        <p:spPr>
          <a:xfrm>
            <a:off x="6156360" y="1628640"/>
            <a:ext cx="2847960" cy="44006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3203640" y="1484280"/>
            <a:ext cx="295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ЙНА И ЧЕЛОВЕК «Донские рассказы» – это не прощание, а встреча с оружием, это стихия ожесточения. Молодой писатель воссоздал притихшую после Врангеля и Колчака Донщину, но раздул угасающие огоньки вражды, превращая мелкие банды в целые воюющие армии. Основным сюжетом являются сцены кровопролитий, братоубийств на почве классового размеже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274680" y="66600"/>
            <a:ext cx="5383080" cy="3299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1\Desktop\imagesва.jpg"/>
          <p:cNvPicPr/>
          <p:nvPr/>
        </p:nvPicPr>
        <p:blipFill>
          <a:blip r:embed="rId2"/>
          <a:stretch/>
        </p:blipFill>
        <p:spPr>
          <a:xfrm>
            <a:off x="5867280" y="115920"/>
            <a:ext cx="3114720" cy="4753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1\Desktop\imagesжжжж.jpg"/>
          <p:cNvPicPr/>
          <p:nvPr/>
        </p:nvPicPr>
        <p:blipFill>
          <a:blip r:embed="rId3"/>
          <a:stretch/>
        </p:blipFill>
        <p:spPr>
          <a:xfrm>
            <a:off x="108000" y="3481560"/>
            <a:ext cx="2502000" cy="33764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2627280" y="3357720"/>
            <a:ext cx="301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. А. Шолохов поддерживает гражданскую войну и революцию. Но он наследник вольнолюбивого казачества на Дону. Втянутый в водоворот хлебозаготовок, он пишет: «… помогаю тем, кого несправедливо обижают, … наблюдаю и шибко скорблю душой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614920" y="5084640"/>
            <a:ext cx="35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сатель умело передаёт мироощущение  героев , понимает и раскрывает их глубину, показывая порой совсем неожиданные ст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2577960" y="96840"/>
            <a:ext cx="3322800" cy="43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1\Desktop\imagesннн.jpg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781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1\Desktop\imagesшш.jpg"/>
          <p:cNvPicPr/>
          <p:nvPr/>
        </p:nvPicPr>
        <p:blipFill>
          <a:blip r:embed="rId3"/>
          <a:stretch/>
        </p:blipFill>
        <p:spPr>
          <a:xfrm>
            <a:off x="0" y="0"/>
            <a:ext cx="2579760" cy="371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Users\1\Desktop\imagesнн.jpg"/>
          <p:cNvPicPr/>
          <p:nvPr/>
        </p:nvPicPr>
        <p:blipFill>
          <a:blip r:embed="rId4"/>
          <a:stretch/>
        </p:blipFill>
        <p:spPr>
          <a:xfrm>
            <a:off x="6156360" y="3213000"/>
            <a:ext cx="2843280" cy="31323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8"/>
          <p:cNvSpPr/>
          <p:nvPr/>
        </p:nvSpPr>
        <p:spPr>
          <a:xfrm>
            <a:off x="1258920" y="4549680"/>
            <a:ext cx="45720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олоховские герои -  люди норовистые, упрямые. Они не смолчат, когда увидят несправедливость, зло, беззаконие. Персонажи «Донских рассказов» не перекладывают ответственность на другого. Произведения пронизаны образом сильного, волевого, мужественного человека, расчищающего дорогу к будуще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14360" y="-66600"/>
            <a:ext cx="8643960" cy="17240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"/>
          <p:cNvSpPr/>
          <p:nvPr/>
        </p:nvSpPr>
        <p:spPr>
          <a:xfrm>
            <a:off x="179280" y="1428840"/>
            <a:ext cx="4537080" cy="53060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 Донские рассказы» подчёркнуто антиромантичны, натуралистичны, в языковом плане обращены к  достоверной просторечной народной стихии языка. Присутствуют такие словечки и речевые обороты, как  «откель, играйся, опосля, вы для меня есть порожнее ничтожество» и др.Они призваны подчеркнуть будничность и натуральность всего происходящего.       М. А. Шолохов стягивал все события в рамки «малоформатных» рассказов, к достоинствам  которых относятся  острота  и свежесть тематики, стремление автора показать новое, нарождающееся, напряженность конфликтов. А.С.Серафимович отмечал: « Просто, ярко и рассказываемое чувствуешь – перед глазами стоит… Сжато, и эта сжатость полна жизни, напряжения и правд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C:\Users\1\Desktop\imagesрр.jpg"/>
          <p:cNvPicPr/>
          <p:nvPr/>
        </p:nvPicPr>
        <p:blipFill>
          <a:blip r:embed="rId2"/>
          <a:stretch/>
        </p:blipFill>
        <p:spPr>
          <a:xfrm>
            <a:off x="4859280" y="2492280"/>
            <a:ext cx="4140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384120" y="49320"/>
            <a:ext cx="8521920" cy="16938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179280" y="1700280"/>
            <a:ext cx="3745080" cy="5031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Донские рассказы» - предвестники  «Тихого Дона» . С одной стороны, они действительно подготовили будущую эпопею, помогли писателю показать борьбу за установление власти Советов на Дону.  «Тихий  Дон» развивал многое, что робко пробивалось в «Донских рассказах». Но, с другой стороны,  М.А.Шолохов в «Тихом Доне» преодолевал культ насилия, идею бойца как винтика революции, вводил романтическую красоту героев. Рисуя острую борьбу  старого и нового в жизни и сознании народа, М.А.Шолохов доказывает: торжествует новое, светл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C:\Users\1\Desktop\untitledкк.png"/>
          <p:cNvPicPr/>
          <p:nvPr/>
        </p:nvPicPr>
        <p:blipFill>
          <a:blip r:embed="rId2"/>
          <a:stretch/>
        </p:blipFill>
        <p:spPr>
          <a:xfrm>
            <a:off x="5148360" y="1484280"/>
            <a:ext cx="2950920" cy="31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1\Desktop\untitledкк4444.png"/>
          <p:cNvPicPr/>
          <p:nvPr/>
        </p:nvPicPr>
        <p:blipFill>
          <a:blip r:embed="rId3"/>
          <a:stretch/>
        </p:blipFill>
        <p:spPr>
          <a:xfrm>
            <a:off x="5003640" y="4221000"/>
            <a:ext cx="34768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7:53:47Z</dcterms:created>
  <dc:creator>BASIC</dc:creator>
  <dc:description/>
  <dc:language>en-US</dc:language>
  <cp:lastModifiedBy>Admin</cp:lastModifiedBy>
  <dcterms:modified xsi:type="dcterms:W3CDTF">2020-04-10T04:45:13Z</dcterms:modified>
  <cp:revision>26</cp:revision>
  <dc:subject/>
  <dc:title>М. А. Шолохов  «Донские рассказы»</dc:title>
</cp:coreProperties>
</file>