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CF6-B7E4-4F74-8B9F-AA2DBA2D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78C-93AA-4275-9A7D-C95896DC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243-9D9E-40F3-8396-0F0354E4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0B2-B961-4344-80ED-0FDAD111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EFBD-B30A-48F4-B8E6-2E306C43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7C25-7C36-4C7E-9E14-5C9EE77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085-FE6A-4F36-908D-53CE95B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B225-FB1A-4584-83DA-EA003CF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F769-208E-4CFD-A6C0-096498CD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3EA7-C6D0-4F17-B193-C9787955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AD05-82F3-46D1-BE45-CA65EFCF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EFA-923D-47BF-9260-69A009E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9BF1-24D0-4B07-9B29-3C907E7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A792-2545-4E57-8EF7-CC7E423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929-7A3D-4C22-BBBC-9B586CC0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973-782F-49A6-98CB-6794A24C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F1A6-61DC-45AD-80F4-F682A3F2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4731-409D-4579-ABB6-64FD2F74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320F-E383-4324-91AB-D674BDB3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17E5-7BAC-4C9A-B48A-7BC12B0D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656A-049A-4E36-AC21-9FE26433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18BC-CE15-45AD-ADA9-AB94A430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A26-6594-46F8-89C4-ADE6CF82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5DBF-B4C6-430F-AF35-0386A21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672A-8971-4773-806F-FA42E82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36EA-5EFB-4E3D-A810-AB0E14D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A473-1B96-471C-A7E1-C33707E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1923-8225-4EA5-B245-4CD067D7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9746-1367-4CE5-B832-5C26A7D7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2170-B966-4C97-94DB-2053902C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3731-081E-4895-8B2C-1275CD6A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492D-C30D-464B-863D-7E3FD10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56F6-048A-4812-9C63-1EACCE6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7E8-68C0-4F49-B157-449CE067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6D82-EFBE-46B1-9CE5-E32E1071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DF01-1DC1-4F0E-A33B-B1065B3D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24B9-CEED-4ACA-8322-F462324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80F4-53AF-4E6B-87E9-FE7965F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3E93-A202-4890-B5A9-0CBA4E5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F1BD-BABE-455B-BB33-F683412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D08E-9FE0-49D0-A0B6-21D63433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09F3-C050-4F53-B646-1982D4E4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1F93-0D93-481E-A665-8FF26420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FD61-B1B1-4623-ACAB-81E76C12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219-1BDD-40C8-B129-95E39710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3DA5-CC10-4804-A65E-67D8C10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4F1B-D215-41DD-9C79-B9C5709E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D7F2-2346-4EB7-9463-2FCF66F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9A9F-5B0F-4F27-B6A1-CD3F2E99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D47A-5181-495C-9C59-C57E757C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F092-3A7A-4E1F-8FB1-C6A7379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C03F9-035A-478E-8CB3-8E613B3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531C-4716-4849-8484-42C2369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A02A-E1BC-4E13-AE1A-FBE45733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896B-7381-4709-851D-0777F337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101-BDE3-4DBC-9183-403BC668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9DF8-3073-48ED-88DC-0B6368C8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0A436-549C-47D4-A150-0326580F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F069D-87E3-4D1B-80EB-A38A029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B3151-D35A-42AE-ACDC-231CD56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E28DC-E10B-4D2E-B707-0955791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BA2B7-BA8A-4700-B000-ACBE24A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7E74B-9B82-4E4A-AB2C-7A2CF19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C44D3-D6F3-46D8-8A9D-3DAA7CA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3624E-42D2-4790-9767-D0FBFDA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349D6-3450-448B-8ED3-ED873EF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BA5-D171-46A1-A16D-F7A12F5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125AA-7BED-4089-9A3D-EC14AEBF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1F9A6-C05E-491C-892C-747649EA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FB923-873C-402E-8A09-58D4ACE5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4A3C-DBE1-408D-B642-4C668C55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5D83B-6801-497D-9CEA-492B9FD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F8CA5-39B8-487F-B19D-5AD5D22F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9DE4-3AEB-4EA7-8456-AF119C35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BB6B-F1ED-4229-AD75-76FFEC4C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D960-635F-4E73-85BC-EE05A8A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83EA-F923-41EF-95A3-1C94C24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CB3-ED9D-4C52-829E-4398E4B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50A39-5980-44EC-B73C-005663E7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FFA0-1450-49D1-8408-22370DEE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F7E3-B3BC-4A4F-B8D7-58D13A2B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62577-DF6A-4DAA-B4BA-F7D6085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2165C-DB29-41F6-BED2-AD414D14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136-59AD-4508-86F0-2CF3E04E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0861-A597-49E3-B611-C9E482D2EED6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2BE-0221-409A-9080-AE695099C880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F8AE-1A4C-4D94-847C-AAC602EB5869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FC9F-AAF6-4B58-AA04-DED85BE882A9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47BD-4273-434D-ACDB-300BEBB8EB0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E6A-9A7E-4E41-A60D-92AE3202211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A127-DA48-4C3D-AF44-D8BEE18FC5AA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17680" y="63972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9880" y="1557000"/>
            <a:ext cx="46180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ременный ребенок «поколения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3" name="Заголовок 1"/>
          <p:cNvSpPr/>
          <p:nvPr/>
        </p:nvSpPr>
        <p:spPr>
          <a:xfrm>
            <a:off x="539640" y="62064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юджетное дошкольное образовательное учреждение г. Омс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Детский сад № 88 комбинированного вид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549360" y="1673280"/>
            <a:ext cx="2482920" cy="1901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481480" cy="2065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3919680" y="3962520"/>
            <a:ext cx="2511360" cy="19634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2"/>
          <p:cNvSpPr/>
          <p:nvPr/>
        </p:nvSpPr>
        <p:spPr>
          <a:xfrm>
            <a:off x="6431040" y="4206960"/>
            <a:ext cx="24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: Педагог-псих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А. Кул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cc0000"/>
                </a:solidFill>
                <a:uFillTx/>
                <a:latin typeface="Georgia"/>
              </a:rPr>
              <a:t>ЧЕМ Z ОТЛИЧАЕТСЯ ОТ </a:t>
            </a:r>
            <a:br>
              <a:rPr sz="2500"/>
            </a:br>
            <a:br>
              <a:rPr sz="2500"/>
            </a:br>
            <a:r>
              <a:rPr b="1" lang="ru-RU" sz="2500" spc="-1" strike="noStrike" u="sng">
                <a:solidFill>
                  <a:srgbClr val="cc0000"/>
                </a:solidFill>
                <a:uFillTx/>
                <a:latin typeface="Georgia"/>
              </a:rPr>
              <a:t>ПРЕДЫДУЩИХ  ПОКОЛЕНИЙ?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  </a:t>
            </a: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Это дети мультимедийных технологий: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 </a:t>
            </a: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они более зависимы от цифровых технологий; 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они нетерпеливы и сосредоточены, в основном, на  краткосрочных целях;  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они более ориентированы на потребление и более 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 </a:t>
            </a: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индивидуалистичны;   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почти всю информацию они получают из Сети;   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 </a:t>
            </a: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отдают предпочтение общению в виртуальном  пространстве; 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 </a:t>
            </a:r>
            <a:r>
              <a:rPr b="0" lang="ru-RU" sz="2000" spc="-1" strike="noStrike">
                <a:solidFill>
                  <a:srgbClr val="111115"/>
                </a:solidFill>
                <a:latin typeface="initial"/>
              </a:rPr>
              <a:t>это поколение отличает максимальная  приближенность к информации, с которой они  отлично работают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КАК  ВОСПИТЫВАТЬ И ОБУЧАТЬ  ПОКОЛЕНИЕ  Z  ?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55280" y="1888920"/>
            <a:ext cx="748836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орошо структурируйте  учебный процесс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обеспечивайте  обратную связь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сделайте учебный материал ярким и зримым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текстовые материалы должны быть простыми  для восприятия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руководите мудро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помните о важности устной коммуникаци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подавайте материал в оптимистичном тоне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ваши требования должны быть ясны, а  информация точна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используйте время эффективно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информация, которую вы преподносите  обучающимся, не должна быть избыточной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5"/>
                </a:solidFill>
                <a:latin typeface="Times New Roman"/>
              </a:rPr>
              <a:t>очень важна устная речь.  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Book Antiqua"/>
              </a:rPr>
              <a:t>ТЕОРИЯ ПОКОЛЕНИЙ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тцы-основатели: Отцы-основатели: Джамбаттиста Вико (1668-1744), итальянский философ эпохи Просвещения. Карл Маркс (1818-1883), немецкий философ, экономист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ейли Хоув-экономист, Уильям Штраус-драматург, историк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России теория – Евгения Шамиз координатор проект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12760" y="258840"/>
            <a:ext cx="8680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ru-RU" sz="2900" spc="-1" strike="noStrike" u="sng">
                <a:solidFill>
                  <a:srgbClr val="ff0000"/>
                </a:solidFill>
                <a:uFillTx/>
                <a:latin typeface="Book Antiqua"/>
                <a:ea typeface="Vrinda"/>
              </a:rPr>
              <a:t>ПОКОЛЕНИЕ GI – </a:t>
            </a:r>
            <a:br>
              <a:rPr sz="2900"/>
            </a:br>
            <a:r>
              <a:rPr b="0" lang="ru-RU" sz="2900" spc="-1" strike="noStrike" u="sng">
                <a:solidFill>
                  <a:srgbClr val="ff0000"/>
                </a:solidFill>
                <a:uFillTx/>
                <a:latin typeface="Book Antiqua"/>
                <a:ea typeface="Vrinda"/>
              </a:rPr>
              <a:t>(1900 – 1923Г.Р.)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0520" y="2205000"/>
            <a:ext cx="85647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формировавшиеся ценности: трудолюбие, ответственность, вера в светлое будущее, приверженность идеологии, семья и семейные традиции, категоричность суждений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entury Gothic"/>
              </a:rPr>
              <a:t>любимые дети, которые вынесли бремя войны. Постоянная деятельность до самой старости. высокие культурные потребности. ценность дела, которому служат. с проблемами и трудностями стараются справляться сами . не любят принимать помощь, для них это признак их слабости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2338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900" spc="-1" strike="noStrike" u="sng">
                <a:solidFill>
                  <a:srgbClr val="ff0000"/>
                </a:solidFill>
                <a:uFillTx/>
                <a:latin typeface="Book Antiqua"/>
                <a:ea typeface="Simplified Arabic"/>
              </a:rPr>
              <a:t>МОЛЧАЛИВОЕ ПОКОЛЕНИЕ – </a:t>
            </a:r>
            <a:br>
              <a:rPr sz="2900"/>
            </a:br>
            <a:r>
              <a:rPr b="0" lang="ru-RU" sz="2900" spc="-1" strike="noStrike" u="sng">
                <a:solidFill>
                  <a:srgbClr val="ff0000"/>
                </a:solidFill>
                <a:uFillTx/>
                <a:latin typeface="Book Antiqua"/>
                <a:ea typeface="Simplified Arabic"/>
              </a:rPr>
              <a:t>(1923 – 1943 Г.Р. )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3640" y="2468160"/>
            <a:ext cx="84690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83838"/>
                </a:solidFill>
                <a:latin typeface="Open Sans"/>
              </a:rPr>
              <a:t>Сформировавшиеся ценности: преданность, соблюдение правил, законов, уважение к должности и статусу, честь, терпен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entury Gothic"/>
              </a:rPr>
              <a:t>переживание горя и потерь , нет роскоши, много читали, мало говорили, многодетные семьи. закон и порядок , семья очень важна, потому что для них это единственное место, где можно быть самим собой; обезличивание. (протест – стиляги) Убеждения: «стены имеют уши», «надо жить по правилам, чтобы выжить». «блага можно получить только за труд», «завтра всё может измениться», «всех накормить и дать с собой, «здоровье и тепло одеваться (подштанники с начесом )», подарки в виде еды, всё на «черный» день, стирают пакетики, нет излишеств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БЕБИ – БУМЕРОВ – </a:t>
            </a: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(1943 – 1963 Г.Р.) </a:t>
            </a:r>
            <a:br>
              <a:rPr sz="2500"/>
            </a:b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6560" y="2060280"/>
            <a:ext cx="77583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Century Gothic"/>
              </a:rPr>
              <a:t>Сформировавшиеся ценности: оптимизм, коллективизм, заинтересованность в личном росте</a:t>
            </a:r>
            <a:r>
              <a:rPr b="0" lang="ru-RU" sz="1700" spc="-1" strike="noStrike">
                <a:solidFill>
                  <a:srgbClr val="0d0d0d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Century Gothic"/>
              </a:rPr>
              <a:t>с детства СОБЛЮДЕНИЕ правила и законы, по которым нужно жить ; воспитание средствами детской организации; понятная жизненная перспектива; чувство социальной защищенности; безупречное оказание медицинской помощи для каждого гражданина; единая программа школьного обучения ; организованный летний отдых; страна , которой можно гордиться; родители – герои- победители; лучший спорт; пионерские лагеря; можно говорить; обещали , что будут жить при коммунизме; гордость за предков; футбол без границ; шахматы на разряд; дворовые и настольные игры; двор безопасен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ПОКОЛЕНИЕ X – </a:t>
            </a: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(1963 – 1984 Г.Р)</a:t>
            </a:r>
            <a:br>
              <a:rPr sz="2500"/>
            </a:b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219348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формировавшиеся ценности: готовность к изменениям, возможность выбора, глобальная информированность, техническая грамотность, индивидуализм, стремление учиться в течение всей жизни, неформальность взглядов, поиск эмоций, прагматизм, надежда на себя, равноправие полов.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сокая адаптивность (приспособимся); полифония взглядов; полное равноправие полов; эмоциональный индивидуализм; нестандартные убеждения; важны только твой успех и твои интересы.</a:t>
            </a:r>
            <a:br>
              <a:rPr sz="2200"/>
            </a:b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ПОКОЛЕНИЕ «МИЛЛЕНИУМ»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Y</a:t>
            </a: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– </a:t>
            </a:r>
            <a:br>
              <a:rPr sz="2500"/>
            </a:br>
            <a:r>
              <a:rPr b="0" lang="ru-RU" sz="25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(1984 – 2000 Г.Р.)  </a:t>
            </a:r>
            <a:br>
              <a:rPr sz="2500"/>
            </a:b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0920" y="184464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формировавшиеся ценности: в систему ценностей этой группы уже включены такие понятия, как гражданский долг и ответственность, но при этом психологи отмечают их наивность и умение подчиняться. На первый план для представителей этого поколения выходит немедленное вознаграждение.</a:t>
            </a: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ни занимаются всем. Легко меняют сферу деятельности. фрилансеры – огромные массы людей, не учтенных на рынке труда. Как зарабатывают на жизнь – неизвестно. им очень важна страна. поглощают информацию в большом количестве.. На них сильно влияет то, в какие коммуникации они включены. мы – боги! Что ты хочешь, чтобы захватить мир? Стремление к власти. Все хотят быть лидерами. независимость и развлечения. гражданская позиция. знание своих прав и умение их отстаивать. потребность в четком инструктировании их деятельности . креативность. нежелание брать на себя сверх должностных обязанностей. ответственное родительство, желание смолоду иметь все блага.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ПОКОЛЕНИЕ Z – </a:t>
            </a:r>
            <a:br>
              <a:rPr sz="3200"/>
            </a:br>
            <a:r>
              <a:rPr b="0" lang="ru-RU" sz="3200" spc="-1" strike="noStrike" u="sng">
                <a:solidFill>
                  <a:srgbClr val="ff0000"/>
                </a:solidFill>
                <a:uFillTx/>
                <a:latin typeface="Book Antiqua"/>
                <a:ea typeface="Aharoni"/>
              </a:rPr>
              <a:t>(2000-2020  Г.Р.)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8000" y="1950840"/>
            <a:ext cx="82486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entury Gothic"/>
              </a:rPr>
              <a:t>Сформировавшиеся ценности: гиперактивны, «клиповое мышление», склонность к аутизации. мало общаются со сверстника; мало общаются в реальности, живя в виртуальном мире; практически не находятся на свежем воздухе; не следят за гигиеной; не имеют распорядка дня; пренебрегают физическим здоровьем; не контролируют количество получаемой информации, вследствие чего страдают от ее переизбытка и низкого качества; не имеют ценностей; имеют сложности с эмпатией , с выражением и контролем эмоций; растут замкнутыми в собственном мире и фантазиях; не умеют сопереживать, радоваться и любоваться красотой окружающего мира.</a:t>
            </a:r>
            <a:br>
              <a:rPr sz="2000"/>
            </a:b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rcRect l="0" t="11592" r="0" b="14670"/>
          <a:stretch/>
        </p:blipFill>
        <p:spPr>
          <a:xfrm>
            <a:off x="611280" y="189000"/>
            <a:ext cx="19270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4:49:18Z</dcterms:created>
  <dc:creator>Майоровы</dc:creator>
  <dc:description/>
  <dc:language>en-US</dc:language>
  <cp:lastModifiedBy>Кристина Архипова</cp:lastModifiedBy>
  <dcterms:modified xsi:type="dcterms:W3CDTF">2020-03-23T08:34:04Z</dcterms:modified>
  <cp:revision>32</cp:revision>
  <dc:subject/>
  <dc:title>Агрессивный ребенок</dc:title>
</cp:coreProperties>
</file>