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8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27.png" ContentType="image/png"/>
  <Override PartName="/ppt/media/image26.png" ContentType="image/png"/>
  <Override PartName="/ppt/media/image14.png" ContentType="image/png"/>
  <Override PartName="/ppt/media/image22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6458-1716-41E3-8F5E-B163ECE0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A165-C406-46E6-841E-EAE51096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F284-7B21-477B-8505-C38DDCA9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D8E2-1C8A-486D-9974-8F4235C1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926B-73B3-4798-A198-A9A7BA2F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380B-3C46-4C02-88FA-51224C4A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2BA2-D707-46B6-AA75-0E59C080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2D98-B9A6-49E5-A861-BBEFF3E9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17D1-DD52-487B-9C44-2493A493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56E4-3980-41B8-BFDB-FE93BD69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1D6D-1DDF-49D4-B346-D6E8FD38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6C29-1214-4F15-9335-D18B2D49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6028-AD00-48C1-9C17-D467315B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8DC4-525F-4C4C-B286-2380A411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1E0A-FA7E-4572-89F8-203790FD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799E-E580-4C54-8BF8-EBE04D438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4B4D-D295-4032-A4E1-70085B2A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53D5-B252-4D80-817E-74049D2C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4A32-588A-4C13-8A33-9BD2CC2A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E9CC-5A0D-4A0B-9652-97D20573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218A-E58B-44C2-9B4D-E77E2CE2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0420-3D74-43C9-A8AA-ABE9174C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44DF-CABE-4F56-BC97-1167E85A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9E5F-3E8E-43D7-9C6E-50FB7CEB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F349-A2B6-454F-B43B-386D3F6D8E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F687-CC38-4782-9CB9-6988179D3AB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1.png"/><Relationship Id="rId3" Type="http://schemas.openxmlformats.org/officeDocument/2006/relationships/image" Target="../media/image1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jpeg"/><Relationship Id="rId7" Type="http://schemas.openxmlformats.org/officeDocument/2006/relationships/image" Target="../media/image12.jpe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C630-7963-400E-A872-C38CD60391E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5761080" y="1762200"/>
            <a:ext cx="3004920" cy="36813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"/>
          <p:cNvSpPr/>
          <p:nvPr/>
        </p:nvSpPr>
        <p:spPr>
          <a:xfrm>
            <a:off x="500040" y="1857240"/>
            <a:ext cx="4857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ма урока: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Технология сварки конструкций из  стале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928800" y="844560"/>
            <a:ext cx="74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ГАПОУ «Ровеньский политехнический технику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4464000" y="565776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аботала:  Кравцов М. А. мастер производственного обуч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7F93-D7E0-4D5D-88E2-EAAD943015C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зница между металлами, обладающими хорошей и плохой </a:t>
            </a:r>
            <a:r>
              <a:rPr b="1" lang="ru-RU" sz="3600" spc="-1" strike="noStrike">
                <a:solidFill>
                  <a:srgbClr val="ffc000"/>
                </a:solidFill>
                <a:latin typeface="Times New Roman"/>
              </a:rPr>
              <a:t>свариваемостью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, заключается в том, что при сварке последних необходима более сложная технология 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рогое соблюдение параметров режим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едварительный подогрев, термическая обработк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пециальная подготовкака кромок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следующая термообработка и т.д.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8920" y="277920"/>
            <a:ext cx="8713800" cy="13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bf81"/>
                </a:solidFill>
                <a:latin typeface="Arial"/>
              </a:rPr>
              <a:t>Свариваемость  стали </a:t>
            </a:r>
            <a:br>
              <a:rPr sz="3600"/>
            </a:br>
            <a:r>
              <a:rPr b="1" lang="ru-RU" sz="3600" spc="-1" strike="noStrike">
                <a:solidFill>
                  <a:srgbClr val="fdbf81"/>
                </a:solidFill>
                <a:latin typeface="Arial"/>
              </a:rPr>
              <a:t> зависит  от ее химического состава</a:t>
            </a:r>
            <a:endParaRPr b="1" lang="en-US" sz="36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8360" y="1700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ибольшее влияние на свариваемость стали оказывает количество содержащегося в не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углерода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легирующих  компонент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93E4-6E1E-4AA9-95C9-3C4FA540069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85840" y="4653000"/>
            <a:ext cx="860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da30"/>
                </a:solidFill>
                <a:latin typeface="Times New Roman"/>
              </a:rPr>
              <a:t>С увеличением содержания углерод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da30"/>
                </a:solidFill>
                <a:latin typeface="Times New Roman"/>
              </a:rPr>
              <a:t>и ряда легирующих элементов свариваемость сталей ухудшается</a:t>
            </a:r>
            <a:r>
              <a:rPr b="0" lang="ru-RU" sz="3600" spc="-1" strike="noStrike">
                <a:solidFill>
                  <a:srgbClr val="fdda3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C600-B4E1-4B3D-A404-719D1C5A6FC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2" descr="C:\Users\Teacher\Desktop\конкурс 2017\конкурс 2017-2\конкурсный урок\сварив ВЛ(3\Слайд2.JPG"/>
          <p:cNvPicPr/>
          <p:nvPr/>
        </p:nvPicPr>
        <p:blipFill>
          <a:blip r:embed="rId1"/>
          <a:stretch/>
        </p:blipFill>
        <p:spPr>
          <a:xfrm>
            <a:off x="324000" y="476280"/>
            <a:ext cx="84931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4F73-B8C7-4131-8C1B-64642A7CEAE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Прямоугольник 2"/>
          <p:cNvSpPr/>
          <p:nvPr/>
        </p:nvSpPr>
        <p:spPr>
          <a:xfrm>
            <a:off x="1000080" y="214200"/>
            <a:ext cx="71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щие свойства низколегированной стале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Прямоугольник 3"/>
          <p:cNvSpPr/>
          <p:nvPr/>
        </p:nvSpPr>
        <p:spPr>
          <a:xfrm>
            <a:off x="500040" y="1428840"/>
            <a:ext cx="84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клонность к    образованию   закалочных структу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49" descr=""/>
          <p:cNvPicPr/>
          <p:nvPr/>
        </p:nvPicPr>
        <p:blipFill>
          <a:blip r:embed="rId1"/>
          <a:stretch/>
        </p:blipFill>
        <p:spPr>
          <a:xfrm>
            <a:off x="1214280" y="2428920"/>
            <a:ext cx="1785960" cy="665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2"/>
          <a:stretch/>
        </p:blipFill>
        <p:spPr>
          <a:xfrm>
            <a:off x="4357800" y="2428920"/>
            <a:ext cx="3143160" cy="66528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6"/>
          <p:cNvSpPr/>
          <p:nvPr/>
        </p:nvSpPr>
        <p:spPr>
          <a:xfrm>
            <a:off x="357120" y="4071960"/>
            <a:ext cx="813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2. </a:t>
            </a: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Увеличенный  коэффициент линейного расшир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4" descr="а"/>
          <p:cNvPicPr/>
          <p:nvPr/>
        </p:nvPicPr>
        <p:blipFill>
          <a:blip r:embed="rId3"/>
          <a:stretch/>
        </p:blipFill>
        <p:spPr>
          <a:xfrm>
            <a:off x="2643120" y="4857840"/>
            <a:ext cx="27338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1ABA-14B2-4953-87BD-920D76994ED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Заголовок 7"/>
          <p:cNvSpPr/>
          <p:nvPr/>
        </p:nvSpPr>
        <p:spPr>
          <a:xfrm>
            <a:off x="430200" y="0"/>
            <a:ext cx="82519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Особенности сварки низколегированных стале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Прямоугольник 3"/>
          <p:cNvSpPr/>
          <p:nvPr/>
        </p:nvSpPr>
        <p:spPr>
          <a:xfrm>
            <a:off x="642960" y="171468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ктроды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сварки низколегированных сталей  имеют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изководородно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фтористо-кальциевое покрытие. Широко применяют электроды типа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70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ОСТ 9467-75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Прямоугольник 4"/>
          <p:cNvSpPr/>
          <p:nvPr/>
        </p:nvSpPr>
        <p:spPr>
          <a:xfrm>
            <a:off x="285840" y="559764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арку выполняют постоянным током при обратной полярност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Прямоугольник 5"/>
          <p:cNvSpPr/>
          <p:nvPr/>
        </p:nvSpPr>
        <p:spPr>
          <a:xfrm>
            <a:off x="500040" y="321480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алл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лавленный электродами, должен соответствовать следующему химическому составу, %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до 0,10 ;  Mn 0.8…1,2 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0,2…0.4;  Cr 0,6…1,0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 0,2…0.4 ;  Ni 1,3…1,8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до 0,03 ;    Р до 0,03%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FD08-D42C-495B-9E11-FA4B45D8DEA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Заголовок 7"/>
          <p:cNvSpPr/>
          <p:nvPr/>
        </p:nvSpPr>
        <p:spPr>
          <a:xfrm>
            <a:off x="430200" y="0"/>
            <a:ext cx="82519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Особенности сварки низколегированных стале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28760" y="1724040"/>
            <a:ext cx="8072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Сварочный ток 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выбирают в зависимости от марки и диаметра электрода, при этом учитывают положение шва в пространстве, вид соединения и толщину свариваемого металл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Сварку технологических участков нужно производить без перерывов, не допуская охлаждения сварного соединения ниже температуры предварительного подогрева и нагрева его перед выполнением следующего прохода выше 200С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D50A-8E63-4330-A5C8-D2453F8A800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Прямоугольник 2"/>
          <p:cNvSpPr/>
          <p:nvPr/>
        </p:nvSpPr>
        <p:spPr>
          <a:xfrm>
            <a:off x="857160" y="1643040"/>
            <a:ext cx="7858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ля сварки популярных низколегированных сталей 15ХСНД и 14Г2 используют сварочные электроды Э55 и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50А, которые перед использованием необходимо прокаливать. При сварке сталей 09Г2С, 14Г2 и 10Г2С1 используются электроды, имеющие в своем составе 18 процентов углерода. Этими электродами являются:  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Э42; Э46 и Э50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Заголовок 1"/>
          <p:cNvSpPr/>
          <p:nvPr/>
        </p:nvSpPr>
        <p:spPr>
          <a:xfrm>
            <a:off x="430200" y="285840"/>
            <a:ext cx="825192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Марки электродов для сварки низколегированных стал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Прямоугольник 4"/>
          <p:cNvSpPr/>
          <p:nvPr/>
        </p:nvSpPr>
        <p:spPr>
          <a:xfrm>
            <a:off x="785880" y="4721400"/>
            <a:ext cx="792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Для сварки таких видов сталей можно использовать электроды  марок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ОНИ 13/55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;  АНО-4; АНО-25; ОЗС-6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ТМУ-21У; ПСК-50 и СК-50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73BF-A0AA-4392-9CB5-8CFBF10571E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285840" y="428760"/>
            <a:ext cx="85741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хема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технологического  процесса изготовления конструкций из низкоуглеродистых стале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56A1-23DF-4F93-96E0-C332CF48BBE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395280" y="428760"/>
            <a:ext cx="846468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хема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технологического  процесса изготовления конструкций из низкоуглеродистых стале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684360" y="2421000"/>
            <a:ext cx="7488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Подготовке  материалов и деталей к сварк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Сбор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Режим свар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Техника свар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276720" y="3068640"/>
            <a:ext cx="1857240" cy="857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"/>
          <p:cNvPicPr/>
          <p:nvPr/>
        </p:nvPicPr>
        <p:blipFill>
          <a:blip r:embed="rId2"/>
          <a:stretch/>
        </p:blipFill>
        <p:spPr>
          <a:xfrm>
            <a:off x="7093080" y="3213000"/>
            <a:ext cx="1285920" cy="1143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3"/>
          <a:stretch/>
        </p:blipFill>
        <p:spPr>
          <a:xfrm>
            <a:off x="900000" y="3645000"/>
            <a:ext cx="2200320" cy="1071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impuls01"/>
          <p:cNvPicPr/>
          <p:nvPr/>
        </p:nvPicPr>
        <p:blipFill>
          <a:blip r:embed="rId4"/>
          <a:stretch/>
        </p:blipFill>
        <p:spPr>
          <a:xfrm>
            <a:off x="5219640" y="3068640"/>
            <a:ext cx="1571760" cy="2214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5"/>
          <a:stretch/>
        </p:blipFill>
        <p:spPr>
          <a:xfrm>
            <a:off x="4572000" y="5286240"/>
            <a:ext cx="29289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2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2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2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0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90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9756-E92C-4812-9D5D-26CC07C16D6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Заголовок 1"/>
          <p:cNvSpPr/>
          <p:nvPr/>
        </p:nvSpPr>
        <p:spPr>
          <a:xfrm>
            <a:off x="430200" y="0"/>
            <a:ext cx="82519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собенности технологии сварки среднелегированных стале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Содержимое 2"/>
          <p:cNvSpPr/>
          <p:nvPr/>
        </p:nvSpPr>
        <p:spPr>
          <a:xfrm>
            <a:off x="214200" y="1214280"/>
            <a:ext cx="846792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ариваемость таких сталей зависит от содержания углерода и легирующих компонентов и ухудшается с ростом содержания углерода и легирующих компонентов. Стали кремне-марганцевой группы 15Г2С, 18Г2С и 25Г2С сваривают электродами типа Э60А марки УОНИ-13/65. Перед сваркой кромки тщательно зачищают от грязи, ржавчины и окалины. Сварку выполняют предельно короткой дугой. Изделие перед сваркой подогревают до температуры 200° С, электроды перед сваркой прокаливают при 400° С в течение одного час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2" descr="http://st6.stpulscen.ru/images/product/060/692/847_medium.jpg"/>
          <p:cNvPicPr/>
          <p:nvPr/>
        </p:nvPicPr>
        <p:blipFill>
          <a:blip r:embed="rId1"/>
          <a:stretch/>
        </p:blipFill>
        <p:spPr>
          <a:xfrm>
            <a:off x="1143000" y="5286240"/>
            <a:ext cx="1905120" cy="127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http://img.board.com.ua/a/1042998562/wm/0-prodam-balku-dvutavrovuyu-60sh2-demontazh.jpg"/>
          <p:cNvPicPr/>
          <p:nvPr/>
        </p:nvPicPr>
        <p:blipFill>
          <a:blip r:embed="rId2"/>
          <a:stretch/>
        </p:blipFill>
        <p:spPr>
          <a:xfrm>
            <a:off x="5295960" y="4786200"/>
            <a:ext cx="35622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B871-F6B8-4E72-A7F8-90F964E46BC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Прямоугольник 2"/>
          <p:cNvSpPr/>
          <p:nvPr/>
        </p:nvSpPr>
        <p:spPr>
          <a:xfrm>
            <a:off x="785880" y="500040"/>
            <a:ext cx="73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Цель занят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1"/>
          <p:cNvSpPr/>
          <p:nvPr/>
        </p:nvSpPr>
        <p:spPr>
          <a:xfrm>
            <a:off x="642960" y="1055160"/>
            <a:ext cx="7715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обретение теоретических знаний по выполнению  сварки сталей для применения их в профессиональной деятель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2" descr="C:\Users\Teacher\Desktop\конкурс 2017\конкурс 2017-2\сварив ВЛ(3\Слайд4.JPG"/>
          <p:cNvPicPr/>
          <p:nvPr/>
        </p:nvPicPr>
        <p:blipFill>
          <a:blip r:embed="rId1"/>
          <a:stretch/>
        </p:blipFill>
        <p:spPr>
          <a:xfrm>
            <a:off x="642960" y="3286080"/>
            <a:ext cx="78580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2E17-8C74-43C4-8F6B-F3575DF8D18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Заголовок 1"/>
          <p:cNvSpPr/>
          <p:nvPr/>
        </p:nvSpPr>
        <p:spPr>
          <a:xfrm>
            <a:off x="430200" y="285840"/>
            <a:ext cx="825192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Марки электродов для сварки среднелегированных стал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Содержимое 3" descr="Технологические характеристики электродов для сварки некоторых легированных сталей"/>
          <p:cNvPicPr/>
          <p:nvPr/>
        </p:nvPicPr>
        <p:blipFill>
          <a:blip r:embed="rId1"/>
          <a:stretch/>
        </p:blipFill>
        <p:spPr>
          <a:xfrm>
            <a:off x="214200" y="1357200"/>
            <a:ext cx="864396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1B86-2F0A-4232-B182-AB84D0D7971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Прямоугольник 2"/>
          <p:cNvSpPr/>
          <p:nvPr/>
        </p:nvSpPr>
        <p:spPr>
          <a:xfrm>
            <a:off x="428760" y="28584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щие свойства высоколегированной стале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Прямоугольник 3"/>
          <p:cNvSpPr/>
          <p:nvPr/>
        </p:nvSpPr>
        <p:spPr>
          <a:xfrm>
            <a:off x="500040" y="1428840"/>
            <a:ext cx="84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клонность к    образованию   закалочных структу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Picture 49" descr=""/>
          <p:cNvPicPr/>
          <p:nvPr/>
        </p:nvPicPr>
        <p:blipFill>
          <a:blip r:embed="rId1"/>
          <a:stretch/>
        </p:blipFill>
        <p:spPr>
          <a:xfrm>
            <a:off x="642960" y="1981080"/>
            <a:ext cx="1785960" cy="665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"/>
          <p:cNvPicPr/>
          <p:nvPr/>
        </p:nvPicPr>
        <p:blipFill>
          <a:blip r:embed="rId2"/>
          <a:stretch/>
        </p:blipFill>
        <p:spPr>
          <a:xfrm>
            <a:off x="2786040" y="2028960"/>
            <a:ext cx="2428920" cy="617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"/>
          <p:cNvPicPr/>
          <p:nvPr/>
        </p:nvPicPr>
        <p:blipFill>
          <a:blip r:embed="rId3"/>
          <a:stretch/>
        </p:blipFill>
        <p:spPr>
          <a:xfrm>
            <a:off x="5572080" y="1981080"/>
            <a:ext cx="3143160" cy="66528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7"/>
          <p:cNvSpPr/>
          <p:nvPr/>
        </p:nvSpPr>
        <p:spPr>
          <a:xfrm>
            <a:off x="500040" y="2724120"/>
            <a:ext cx="81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.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ниженный коэффициент теплопровод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4"/>
          <a:stretch/>
        </p:blipFill>
        <p:spPr>
          <a:xfrm>
            <a:off x="2286000" y="3286080"/>
            <a:ext cx="1733400" cy="827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"/>
          <p:cNvPicPr/>
          <p:nvPr/>
        </p:nvPicPr>
        <p:blipFill>
          <a:blip r:embed="rId5"/>
          <a:stretch/>
        </p:blipFill>
        <p:spPr>
          <a:xfrm>
            <a:off x="4500720" y="3213000"/>
            <a:ext cx="1790640" cy="90504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10"/>
          <p:cNvSpPr/>
          <p:nvPr/>
        </p:nvSpPr>
        <p:spPr>
          <a:xfrm>
            <a:off x="357120" y="4071960"/>
            <a:ext cx="813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3</a:t>
            </a:r>
            <a:r>
              <a:rPr b="1" lang="ru-RU" sz="18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. </a:t>
            </a:r>
            <a:r>
              <a:rPr b="1" lang="ru-RU" sz="24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Увеличенный  коэффициент линейного расшир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5" descr="б"/>
          <p:cNvPicPr/>
          <p:nvPr/>
        </p:nvPicPr>
        <p:blipFill>
          <a:blip r:embed="rId6"/>
          <a:stretch/>
        </p:blipFill>
        <p:spPr>
          <a:xfrm>
            <a:off x="588960" y="4659480"/>
            <a:ext cx="2736720" cy="585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а"/>
          <p:cNvPicPr/>
          <p:nvPr/>
        </p:nvPicPr>
        <p:blipFill>
          <a:blip r:embed="rId7"/>
          <a:stretch/>
        </p:blipFill>
        <p:spPr>
          <a:xfrm>
            <a:off x="5929200" y="4572000"/>
            <a:ext cx="2733840" cy="75564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13"/>
          <p:cNvSpPr/>
          <p:nvPr/>
        </p:nvSpPr>
        <p:spPr>
          <a:xfrm>
            <a:off x="428760" y="531180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4</a:t>
            </a: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.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Насыщение металла шва водородо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8"/>
          <a:stretch/>
        </p:blipFill>
        <p:spPr>
          <a:xfrm>
            <a:off x="789120" y="5749920"/>
            <a:ext cx="2286000" cy="919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4" descr=""/>
          <p:cNvPicPr/>
          <p:nvPr/>
        </p:nvPicPr>
        <p:blipFill>
          <a:blip r:embed="rId9"/>
          <a:stretch/>
        </p:blipFill>
        <p:spPr>
          <a:xfrm>
            <a:off x="3857760" y="5786280"/>
            <a:ext cx="1676160" cy="819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"/>
          <p:cNvPicPr/>
          <p:nvPr/>
        </p:nvPicPr>
        <p:blipFill>
          <a:blip r:embed="rId10"/>
          <a:stretch/>
        </p:blipFill>
        <p:spPr>
          <a:xfrm>
            <a:off x="6643800" y="5857920"/>
            <a:ext cx="203040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0F6C-440C-419D-AA0E-DA6F650381A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Спасибо за внимани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A7FE-A8E8-4F33-96A3-C35145288DA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Свариваемость</a:t>
            </a: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 сталей</a:t>
            </a:r>
            <a:br>
              <a:rPr sz="5400"/>
            </a:br>
            <a:endParaRPr b="1" lang="en-US" sz="5400" spc="-1" strike="noStrike">
              <a:solidFill>
                <a:srgbClr val="feec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EC1F-1E31-4C09-B09A-5041DE0437E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78920" y="549000"/>
            <a:ext cx="8713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c000"/>
                </a:solidFill>
                <a:latin typeface="Times New Roman"/>
              </a:rPr>
              <a:t>Свариваемость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– способность стали (металла) или сочетания металлов образовывать при установленной технологии сварки  соединение,  отвечающее эксплуатационным требованиям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29D2-BB6F-4669-BD76-22038E23693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74200" y="260280"/>
            <a:ext cx="80298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Любые металлы при сварке плавлением могут образовывать сварные соединения удовлетворительного качества.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"/>
              </a:rPr>
              <a:t>Физическая свариваемость</a:t>
            </a: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991640" cy="3978360"/>
          </a:xfrm>
          <a:prstGeom prst="rect">
            <a:avLst/>
          </a:prstGeom>
          <a:ln w="0">
            <a:noFill/>
          </a:ln>
        </p:spPr>
      </p:pic>
      <p:sp>
        <p:nvSpPr>
          <p:cNvPr id="137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07D0-563C-45E6-93A6-F436A350A86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Arial"/>
              </a:rPr>
              <a:t>Технологическая свариваемость</a:t>
            </a:r>
            <a:endParaRPr b="1" lang="en-US" sz="40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14200" y="4285800"/>
            <a:ext cx="8715600" cy="14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тойкость к образованию горячих            и холодных трещи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1"/>
          <a:stretch/>
        </p:blipFill>
        <p:spPr>
          <a:xfrm>
            <a:off x="214200" y="1000080"/>
            <a:ext cx="4357800" cy="276084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pic>
        <p:nvPicPr>
          <p:cNvPr id="141" name="Picture 11" descr=""/>
          <p:cNvPicPr/>
          <p:nvPr/>
        </p:nvPicPr>
        <p:blipFill>
          <a:blip r:embed="rId2"/>
          <a:stretch/>
        </p:blipFill>
        <p:spPr>
          <a:xfrm>
            <a:off x="4786200" y="1000080"/>
            <a:ext cx="4178520" cy="273528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sp>
        <p:nvSpPr>
          <p:cNvPr id="142" name="Номер слайда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E33B-C1F1-4AA6-813E-8726C97B6B5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Arial"/>
              </a:rPr>
              <a:t>Технологическая свариваемость</a:t>
            </a:r>
            <a:endParaRPr b="1" lang="en-US" sz="4000" spc="-1" strike="noStrike">
              <a:solidFill>
                <a:srgbClr val="feec94"/>
              </a:solidFill>
              <a:latin typeface="Arial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6985080" cy="29574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58560" y="5084280"/>
            <a:ext cx="878508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тсутствие пор и шлаковых включени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CF27-61FC-4A5F-BCE6-45D853E04BD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Arial"/>
              </a:rPr>
              <a:t>Технологическая свариваемость</a:t>
            </a:r>
            <a:endParaRPr b="1" lang="en-US" sz="4000" spc="-1" strike="noStrike">
              <a:solidFill>
                <a:srgbClr val="feec94"/>
              </a:solidFill>
              <a:latin typeface="Arial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6624720" cy="29242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4723920"/>
            <a:ext cx="7859880" cy="14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тсутствие оксидных пленок на поверхности металл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F6B2-5A49-4C18-8893-215173B59B1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12:07:54Z</dcterms:created>
  <dc:creator>Admin</dc:creator>
  <dc:description/>
  <dc:language>en-US</dc:language>
  <cp:lastModifiedBy>днс</cp:lastModifiedBy>
  <dcterms:modified xsi:type="dcterms:W3CDTF">2020-04-07T10:40:20Z</dcterms:modified>
  <cp:revision>64</cp:revision>
  <dc:subject/>
  <dc:title>Слайд 1</dc:title>
</cp:coreProperties>
</file>