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A7F-04C5-4543-B423-CB928733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09B-ED3B-47EE-B357-9332B204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118-56CF-41C1-A732-E9AC90B0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BC6-D9FC-405E-ABEB-EC3220C8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A8C-15FD-4952-8851-D19D8EDD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503C-4FF4-4994-996C-8E3EDA24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9534-7C08-48FA-B146-88EB6FA6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3666-5555-4BA6-B635-54AEEE45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E602-A305-430E-9C02-9CC93334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0ADB-9314-4DB8-8BED-4AC41927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67B8-C799-4214-BA11-42B4ABA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BAE-145F-41C9-A2F3-EC06BF33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C2E5-E25D-43CA-B0F9-410BBFFC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5AE5-627D-4673-BB36-2DF5F95B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BE5F-1B2E-4320-96C0-472510F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FECF-45DC-4DCA-BAA5-59DBB509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4BFE-D922-4F06-B1E8-F3697109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541-CAAB-4044-BE88-4346B4CC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640-F0E0-4242-9441-46F1552F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FDE-CCE1-4DCA-A9F7-7E149ED6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CCF-A55E-4AF6-8D62-67DE2A18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9D4-F61C-436A-8960-D2E7DEE3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555-CC76-4D06-8848-2C02ABE0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702-F2A2-466D-8F5B-EF34278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CF9-9656-48B7-8FAA-AA6DF3FD72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895B-483C-4039-B348-5C5BD15BEA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12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05EF-5D85-4746-A904-9B727D0357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761080" y="1762200"/>
            <a:ext cx="3004920" cy="3681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500040" y="1857240"/>
            <a:ext cx="4857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ма урока: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Технология сварки конструкций из  стал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928800" y="84456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ГАПОУ «Ровеньский политехнический технику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464000" y="56577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ла:  Кравцов М. А. мастер производственного обуч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0E0D-3E8E-4828-9DA3-DBE013A34A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зница между металлами, обладающими хорошей и плохой 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свариваемостью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, заключается в том, что при сварке последних необходима более сложная технология 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огое соблюдение параметров режим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дварительный подогрев, термическая обработк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пециальная подготовкака кромок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ледующая термообработка и т.д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bf81"/>
                </a:solidFill>
                <a:latin typeface="Arial"/>
              </a:rPr>
              <a:t>Свариваемость  стали </a:t>
            </a:r>
            <a:br>
              <a:rPr sz="3600"/>
            </a:br>
            <a:r>
              <a:rPr b="1" lang="ru-RU" sz="3600" spc="-1" strike="noStrike">
                <a:solidFill>
                  <a:srgbClr val="fdbf81"/>
                </a:solidFill>
                <a:latin typeface="Arial"/>
              </a:rPr>
              <a:t> зависит  от ее химического состава</a:t>
            </a:r>
            <a:endParaRPr b="1" lang="en-US" sz="36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70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ьшее влияние на свариваемость стали оказывает количество содержащегося в н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глерод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легирующих  компоне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09FF-573A-492A-94A1-BEE967ACDE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5840" y="4653000"/>
            <a:ext cx="860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da30"/>
                </a:solidFill>
                <a:latin typeface="Times New Roman"/>
              </a:rPr>
              <a:t>С увеличением содержания углерод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da30"/>
                </a:solidFill>
                <a:latin typeface="Times New Roman"/>
              </a:rPr>
              <a:t>и ряда легирующих элементов свариваемость сталей ухудшается</a:t>
            </a:r>
            <a:r>
              <a:rPr b="0" lang="ru-RU" sz="3600" spc="-1" strike="noStrike">
                <a:solidFill>
                  <a:srgbClr val="fdda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14D2-E427-4416-B140-6E97BB6A49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C:\Users\Teacher\Desktop\конкурс 2017\конкурс 2017-2\конкурсный урок\сварив ВЛ(3\Слайд2.JPG"/>
          <p:cNvPicPr/>
          <p:nvPr/>
        </p:nvPicPr>
        <p:blipFill>
          <a:blip r:embed="rId1"/>
          <a:stretch/>
        </p:blipFill>
        <p:spPr>
          <a:xfrm>
            <a:off x="324000" y="476280"/>
            <a:ext cx="84931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81B8-CAD2-43DF-BBF8-2D65F7B476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1000080" y="2142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е свойства низколегированной ста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500040" y="142884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клонность к    образованию   закалочных структ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9" descr=""/>
          <p:cNvPicPr/>
          <p:nvPr/>
        </p:nvPicPr>
        <p:blipFill>
          <a:blip r:embed="rId1"/>
          <a:stretch/>
        </p:blipFill>
        <p:spPr>
          <a:xfrm>
            <a:off x="1214280" y="2428920"/>
            <a:ext cx="1785960" cy="66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3143160" cy="6652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"/>
          <p:cNvSpPr/>
          <p:nvPr/>
        </p:nvSpPr>
        <p:spPr>
          <a:xfrm>
            <a:off x="357120" y="4071960"/>
            <a:ext cx="81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величенный  коэффициент линейного расши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а"/>
          <p:cNvPicPr/>
          <p:nvPr/>
        </p:nvPicPr>
        <p:blipFill>
          <a:blip r:embed="rId3"/>
          <a:stretch/>
        </p:blipFill>
        <p:spPr>
          <a:xfrm>
            <a:off x="2643120" y="4857840"/>
            <a:ext cx="27338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7E56-0D4B-4B4A-8C8F-F3082AB4AD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Заголовок 7"/>
          <p:cNvSpPr/>
          <p:nvPr/>
        </p:nvSpPr>
        <p:spPr>
          <a:xfrm>
            <a:off x="430200" y="0"/>
            <a:ext cx="82519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Особенности сварки низколегированных стал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642960" y="17146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д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варки низколегированных сталей  имеют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ководородн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тористо-кальциевое покрытие. Широко применяют электроды тип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70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ОСТ 9467-75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285840" y="55976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арку выполняют постоянным током при обратной поляр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500040" y="32148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лл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лавленный электродами, должен соответствовать следующему химическому составу, 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до 0,10 ;  Mn 0.8…1,2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0,2…0.4;  Cr 0,6…1,0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 0,2…0.4 ;  Ni 1,3…1,8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до 0,03 ;    Р до 0,03%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7BF9-56B9-4584-9A32-85DA99AF44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Заголовок 7"/>
          <p:cNvSpPr/>
          <p:nvPr/>
        </p:nvSpPr>
        <p:spPr>
          <a:xfrm>
            <a:off x="430200" y="0"/>
            <a:ext cx="82519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Особенности сварки низколегированных стале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8760" y="172404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Сварочный ток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выбирают в зависимости от марки и диаметра электрода, при этом учитывают положение шва в пространстве, вид соединения и толщину свариваемого метал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варку технологических участков нужно производить без перерывов, не допуская охлаждения сварного соединения ниже температуры предварительного подогрева и нагрева его перед выполнением следующего прохода выше 200С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55D4-D66E-43DB-972D-F1A298F76C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857160" y="1643040"/>
            <a:ext cx="785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сварки популярных низколегированных сталей 15ХСНД и 14Г2 используют сварочные электроды Э55 и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50А, которые перед использованием необходимо прокаливать. При сварке сталей 09Г2С, 14Г2 и 10Г2С1 используются электроды, имеющие в своем составе 18 процентов углерода. Этими электродами являются: 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Э42; Э46 и Э50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Заголовок 1"/>
          <p:cNvSpPr/>
          <p:nvPr/>
        </p:nvSpPr>
        <p:spPr>
          <a:xfrm>
            <a:off x="430200" y="285840"/>
            <a:ext cx="82519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арки электродов для сварки низколегированных ста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785880" y="4721400"/>
            <a:ext cx="79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ля сварки таких видов сталей можно использовать электроды  марок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ОНИ 13/55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;  АНО-4; АНО-25; ОЗС-6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МУ-21У; ПСК-50 и СК-50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0824-EA6B-405B-A6EA-AA9F084A3D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85840" y="428760"/>
            <a:ext cx="8574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хема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ехнологического  процесса изготовления конструкций из низкоуглеродистых стал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1760-178A-414B-AFDD-170515AF49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428760"/>
            <a:ext cx="84646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хема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ехнологического  процесса изготовления конструкций из низкоуглеродистых стал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684360" y="2421000"/>
            <a:ext cx="748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дготовке  материалов и деталей к свар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бор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Режим свар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Техника свар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1857240" cy="857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7093080" y="321300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2200320" cy="1071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impuls01"/>
          <p:cNvPicPr/>
          <p:nvPr/>
        </p:nvPicPr>
        <p:blipFill>
          <a:blip r:embed="rId4"/>
          <a:stretch/>
        </p:blipFill>
        <p:spPr>
          <a:xfrm>
            <a:off x="5219640" y="3068640"/>
            <a:ext cx="1571760" cy="2214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5"/>
          <a:stretch/>
        </p:blipFill>
        <p:spPr>
          <a:xfrm>
            <a:off x="4572000" y="5286240"/>
            <a:ext cx="29289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8BFE-D55F-4C14-8174-FB6AAEE12B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430200" y="0"/>
            <a:ext cx="8251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собенности технологии сварки среднелегированных ста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Содержимое 2"/>
          <p:cNvSpPr/>
          <p:nvPr/>
        </p:nvSpPr>
        <p:spPr>
          <a:xfrm>
            <a:off x="214200" y="1214280"/>
            <a:ext cx="8467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риваемость таких сталей зависит от содержания углерода и легирующих компонентов и ухудшается с ростом содержания углерода и легирующих компонентов. Стали кремне-марганцевой группы 15Г2С, 18Г2С и 25Г2С сваривают электродами типа Э60А марки УОНИ-13/65. Перед сваркой кромки тщательно зачищают от грязи, ржавчины и окалины. Сварку выполняют предельно короткой дугой. Изделие перед сваркой подогревают до температуры 200° С, электроды перед сваркой прокаливают при 400° С в течение одного ча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2" descr="http://st6.stpulscen.ru/images/product/060/692/847_medium.jpg"/>
          <p:cNvPicPr/>
          <p:nvPr/>
        </p:nvPicPr>
        <p:blipFill>
          <a:blip r:embed="rId1"/>
          <a:stretch/>
        </p:blipFill>
        <p:spPr>
          <a:xfrm>
            <a:off x="1143000" y="5286240"/>
            <a:ext cx="1905120" cy="127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img.board.com.ua/a/1042998562/wm/0-prodam-balku-dvutavrovuyu-60sh2-demontazh.jpg"/>
          <p:cNvPicPr/>
          <p:nvPr/>
        </p:nvPicPr>
        <p:blipFill>
          <a:blip r:embed="rId2"/>
          <a:stretch/>
        </p:blipFill>
        <p:spPr>
          <a:xfrm>
            <a:off x="5295960" y="4786200"/>
            <a:ext cx="3562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C381-0843-4AD5-8C1E-7EC7BC034C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785880" y="50004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Цель заня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642960" y="1055160"/>
            <a:ext cx="771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ретение теоретических знаний по выполнению  сварки сталей для применения их в профессиональн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C:\Users\Teacher\Desktop\конкурс 2017\конкурс 2017-2\сварив ВЛ(3\Слайд4.JPG"/>
          <p:cNvPicPr/>
          <p:nvPr/>
        </p:nvPicPr>
        <p:blipFill>
          <a:blip r:embed="rId1"/>
          <a:stretch/>
        </p:blipFill>
        <p:spPr>
          <a:xfrm>
            <a:off x="642960" y="3286080"/>
            <a:ext cx="7858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816E-2445-42A4-818B-D25A1FEF15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430200" y="285840"/>
            <a:ext cx="82519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арки электродов для сварки среднелегированных ста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Содержимое 3" descr="Технологические характеристики электродов для сварки некоторых легированных сталей"/>
          <p:cNvPicPr/>
          <p:nvPr/>
        </p:nvPicPr>
        <p:blipFill>
          <a:blip r:embed="rId1"/>
          <a:stretch/>
        </p:blipFill>
        <p:spPr>
          <a:xfrm>
            <a:off x="214200" y="1357200"/>
            <a:ext cx="86439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D496-A512-4FC7-AAE1-AB0C8F9742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428760" y="28584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е свойства высоколегированной ста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500040" y="142884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клонность к    образованию   закалочных структ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9" descr=""/>
          <p:cNvPicPr/>
          <p:nvPr/>
        </p:nvPicPr>
        <p:blipFill>
          <a:blip r:embed="rId1"/>
          <a:stretch/>
        </p:blipFill>
        <p:spPr>
          <a:xfrm>
            <a:off x="642960" y="1981080"/>
            <a:ext cx="1785960" cy="66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2"/>
          <a:stretch/>
        </p:blipFill>
        <p:spPr>
          <a:xfrm>
            <a:off x="2786040" y="2028960"/>
            <a:ext cx="2428920" cy="6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3"/>
          <a:stretch/>
        </p:blipFill>
        <p:spPr>
          <a:xfrm>
            <a:off x="5572080" y="1981080"/>
            <a:ext cx="3143160" cy="6652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7"/>
          <p:cNvSpPr/>
          <p:nvPr/>
        </p:nvSpPr>
        <p:spPr>
          <a:xfrm>
            <a:off x="500040" y="272412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ниженный коэффициент теплопровод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4"/>
          <a:stretch/>
        </p:blipFill>
        <p:spPr>
          <a:xfrm>
            <a:off x="2286000" y="3286080"/>
            <a:ext cx="1733400" cy="827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5"/>
          <a:stretch/>
        </p:blipFill>
        <p:spPr>
          <a:xfrm>
            <a:off x="4500720" y="3213000"/>
            <a:ext cx="1790640" cy="9050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0"/>
          <p:cNvSpPr/>
          <p:nvPr/>
        </p:nvSpPr>
        <p:spPr>
          <a:xfrm>
            <a:off x="357120" y="4071960"/>
            <a:ext cx="81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Увеличенный  коэффициент линейного расши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5" descr="б"/>
          <p:cNvPicPr/>
          <p:nvPr/>
        </p:nvPicPr>
        <p:blipFill>
          <a:blip r:embed="rId6"/>
          <a:stretch/>
        </p:blipFill>
        <p:spPr>
          <a:xfrm>
            <a:off x="588960" y="4659480"/>
            <a:ext cx="2736720" cy="585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а"/>
          <p:cNvPicPr/>
          <p:nvPr/>
        </p:nvPicPr>
        <p:blipFill>
          <a:blip r:embed="rId7"/>
          <a:stretch/>
        </p:blipFill>
        <p:spPr>
          <a:xfrm>
            <a:off x="5929200" y="4572000"/>
            <a:ext cx="273384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3"/>
          <p:cNvSpPr/>
          <p:nvPr/>
        </p:nvSpPr>
        <p:spPr>
          <a:xfrm>
            <a:off x="428760" y="53118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сыщение металла шва водород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8"/>
          <a:stretch/>
        </p:blipFill>
        <p:spPr>
          <a:xfrm>
            <a:off x="789120" y="5749920"/>
            <a:ext cx="2286000" cy="919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4" descr=""/>
          <p:cNvPicPr/>
          <p:nvPr/>
        </p:nvPicPr>
        <p:blipFill>
          <a:blip r:embed="rId9"/>
          <a:stretch/>
        </p:blipFill>
        <p:spPr>
          <a:xfrm>
            <a:off x="3857760" y="5786280"/>
            <a:ext cx="1676160" cy="819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10"/>
          <a:stretch/>
        </p:blipFill>
        <p:spPr>
          <a:xfrm>
            <a:off x="6643800" y="5857920"/>
            <a:ext cx="203040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9583-A3B6-4F76-996B-A40B085858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4B57-D003-4539-BAFD-1F7CBB47B5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вариваемость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сталей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41AB-510A-4FD9-9A3C-50B669FA76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Свариваемость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– способность стали (металла) или сочетания металлов образовывать при установленной технологии сварки  соединение,  отвечающее эксплуатационным требования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BB5E-478A-4659-AA92-320060290E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74200" y="260280"/>
            <a:ext cx="8029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Любые металлы при сварке плавлением могут образовывать сварные соединения удовлетворительного качества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Физическая свариваемость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3978360"/>
          </a:xfrm>
          <a:prstGeom prst="rect">
            <a:avLst/>
          </a:prstGeom>
          <a:ln w="0">
            <a:noFill/>
          </a:ln>
        </p:spPr>
      </p:pic>
      <p:sp>
        <p:nvSpPr>
          <p:cNvPr id="13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9243-2E9D-4EB0-A370-72C7C9BE2F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Технологическая свариваемость</a:t>
            </a:r>
            <a:endParaRPr b="1" lang="en-US" sz="40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4200" y="4285800"/>
            <a:ext cx="8715600" cy="14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тойкость к образованию горячих            и холодных трещ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357800" cy="27608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4786200" y="1000080"/>
            <a:ext cx="4178520" cy="2735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42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94DF-CB7B-468D-BAB1-FF82013A59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Технологическая свариваемость</a:t>
            </a:r>
            <a:endParaRPr b="1" lang="en-US" sz="4000" spc="-1" strike="noStrike">
              <a:solidFill>
                <a:srgbClr val="feec94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2957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8560" y="5084280"/>
            <a:ext cx="8785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сутствие пор и шлаковых включ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536D-6F0A-4289-B318-13FA740848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Технологическая свариваемость</a:t>
            </a:r>
            <a:endParaRPr b="1" lang="en-US" sz="4000" spc="-1" strike="noStrike">
              <a:solidFill>
                <a:srgbClr val="feec94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624720" cy="2924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4723920"/>
            <a:ext cx="785988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сутствие оксидных пленок на поверхности металл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8716-B8DC-4F37-9A03-0DCF5B8340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2:07:54Z</dcterms:created>
  <dc:creator>Admin</dc:creator>
  <dc:description/>
  <dc:language>en-US</dc:language>
  <cp:lastModifiedBy>днс</cp:lastModifiedBy>
  <dcterms:modified xsi:type="dcterms:W3CDTF">2020-04-07T10:40:20Z</dcterms:modified>
  <cp:revision>64</cp:revision>
  <dc:subject/>
  <dc:title>Слайд 1</dc:title>
</cp:coreProperties>
</file>