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0DD-708E-4E2D-ACF1-D35F8BD4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10A-996B-4C65-AA9A-542452F1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52B-9C49-41B6-95BF-8F9AAF82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44D-2608-4002-A553-0D4DF43A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6CFC-BFE8-4DF8-9217-4ED45732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2A61-0BA1-4A17-B5BB-E4983DFC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9CF6-286E-4714-9614-E7B24F1E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7C3E-E3FF-49FC-98E2-633428EB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59E1-7338-41FC-9D0F-03C0F4E5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E867-8338-4BA0-ABF5-4C5620DD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9920-1C53-45B4-8FFE-D2CCD233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51B-FE67-41AC-9063-FBC46E3E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1846-674A-44BD-ACB5-155BE00C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AB06-8087-4DD4-A00E-D85C9957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9695-5841-4EC1-B18C-696A2BC8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74F8-29BF-42B5-8971-44ADCE10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CA57-F5B9-4794-9813-AB46A974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2A6-9F20-4285-ABD9-6088F999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373-AB5E-46CE-81F0-C3BE0F13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052-ADAE-4C6F-A97E-0FC79B53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A34-7073-47E2-9810-98B5BDD4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0DC-98B2-4C7B-9A8D-D2EFE493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482-E5C7-45A6-93BB-639D1FE0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C9F-B515-4878-84EB-4F74CA40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0B8F-EBA5-47CE-B8E8-426BB6026C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635B-6F17-4CA2-8457-F3C889139766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128000" cy="25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БОУ «Пожарская СОШ»</a:t>
            </a:r>
            <a:br>
              <a:rPr sz="28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ворческий проект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«Ёжик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012000" y="5373360"/>
            <a:ext cx="33480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Андержанова Рената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уководитель:Егошин Игорь Леонидович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6" descr="IMG_20180523_191506"/>
          <p:cNvPicPr/>
          <p:nvPr/>
        </p:nvPicPr>
        <p:blipFill>
          <a:blip r:embed="rId1"/>
          <a:stretch/>
        </p:blipFill>
        <p:spPr>
          <a:xfrm>
            <a:off x="2987640" y="2637000"/>
            <a:ext cx="29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кономическая оцен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07732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счетом себестоимости я занялась перед изготовлением изделия, чтобы убедиться в экономической целесообразности выполнения проект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95280" y="3068640"/>
          <a:ext cx="8209080" cy="2901960"/>
        </p:xfrm>
        <a:graphic>
          <a:graphicData uri="http://schemas.openxmlformats.org/drawingml/2006/table">
            <a:tbl>
              <a:tblPr/>
              <a:tblGrid>
                <a:gridCol w="2735280"/>
                <a:gridCol w="2738520"/>
                <a:gridCol w="273528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Цен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Цветная шерсть для валяния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лента 46 руб 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бор 390 руб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лизелин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2*100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0 руб.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*2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 руб.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тог: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98 руб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кологическая оцен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термин «экологичность изделия» входит, прежде всего, такое понятие, как использование натуральных и качественных материалов, позволяющих обеспечить безопасность окружающих. Это очень важно, так как применение недоброкачественных  материалов  может вызвать у человека различные аллергические реакции и даже вызвать заболевания различного род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оё изделие сделано из экологически чистых материалов. Шерсть, являющаяся основным материалом в данной поделке, это натуральные волокна животного происхождения, не наносящие  совершенно никакого вреда здоровью челове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едовательно, моё изделие можно назвать экологически чистым по всем параметрам и с полной уверенностью рекомендовать к использовани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хнологическая карта изготовления издел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одготовка к началу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Цветная шерсть, флизелин, пинцет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ыкладывание рисун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одготовка фона – настилание шерсти. Ткань, шер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4. Делаю букетик. Вставляю в рам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Picture 4" descr="ИНФА 3252"/>
          <p:cNvPicPr/>
          <p:nvPr/>
        </p:nvPicPr>
        <p:blipFill>
          <a:blip r:embed="rId1"/>
          <a:stretch/>
        </p:blipFill>
        <p:spPr>
          <a:xfrm>
            <a:off x="684360" y="2276640"/>
            <a:ext cx="1636560" cy="1871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ИНФА 3255"/>
          <p:cNvPicPr/>
          <p:nvPr/>
        </p:nvPicPr>
        <p:blipFill>
          <a:blip r:embed="rId2"/>
          <a:stretch/>
        </p:blipFill>
        <p:spPr>
          <a:xfrm>
            <a:off x="5435640" y="2565360"/>
            <a:ext cx="1314360" cy="1305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ИНФА 3258"/>
          <p:cNvPicPr/>
          <p:nvPr/>
        </p:nvPicPr>
        <p:blipFill>
          <a:blip r:embed="rId3"/>
          <a:stretch/>
        </p:blipFill>
        <p:spPr>
          <a:xfrm>
            <a:off x="7020000" y="2565360"/>
            <a:ext cx="1247760" cy="1305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ИНФА 3262"/>
          <p:cNvPicPr/>
          <p:nvPr/>
        </p:nvPicPr>
        <p:blipFill>
          <a:blip r:embed="rId4"/>
          <a:stretch/>
        </p:blipFill>
        <p:spPr>
          <a:xfrm>
            <a:off x="179280" y="4653000"/>
            <a:ext cx="1467000" cy="1944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ИНФА 3338"/>
          <p:cNvPicPr/>
          <p:nvPr/>
        </p:nvPicPr>
        <p:blipFill>
          <a:blip r:embed="rId5"/>
          <a:stretch/>
        </p:blipFill>
        <p:spPr>
          <a:xfrm>
            <a:off x="1908000" y="4653000"/>
            <a:ext cx="1471680" cy="1944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IMG_20180520_123505"/>
          <p:cNvPicPr/>
          <p:nvPr/>
        </p:nvPicPr>
        <p:blipFill>
          <a:blip r:embed="rId6"/>
          <a:stretch/>
        </p:blipFill>
        <p:spPr>
          <a:xfrm>
            <a:off x="4500720" y="4581360"/>
            <a:ext cx="1519200" cy="2016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IMG_20180520_130413"/>
          <p:cNvPicPr/>
          <p:nvPr/>
        </p:nvPicPr>
        <p:blipFill>
          <a:blip r:embed="rId7"/>
          <a:stretch/>
        </p:blipFill>
        <p:spPr>
          <a:xfrm>
            <a:off x="6084720" y="4437000"/>
            <a:ext cx="1648080" cy="2195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IMG_20180523_191506"/>
          <p:cNvPicPr/>
          <p:nvPr/>
        </p:nvPicPr>
        <p:blipFill>
          <a:blip r:embed="rId8"/>
          <a:stretch/>
        </p:blipFill>
        <p:spPr>
          <a:xfrm>
            <a:off x="7651800" y="4724280"/>
            <a:ext cx="14922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отовое изделие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5300640"/>
            <a:ext cx="807084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сле выполнения  каждого вида работ проводила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самоконтроль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и соблюдала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ПТБ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IMG_20180523_191506"/>
          <p:cNvPicPr/>
          <p:nvPr/>
        </p:nvPicPr>
        <p:blipFill>
          <a:blip r:embed="rId1"/>
          <a:stretch/>
        </p:blipFill>
        <p:spPr>
          <a:xfrm>
            <a:off x="2771640" y="907920"/>
            <a:ext cx="3529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нализ выполненной работы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полненное мною изделие относится к изделиям средней сложности. На мой взгляд, картина получилась довольно качественной, эстетичной, а главное недорог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процессе работы я познакомились с историей данного вида рукоделия, узнала, что валяние из шерсти - древняя техника, распространённая в разных странах. Познакомилась с множеством работ в социальной сет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«Шерстяная живопись» - достаточно интересное занятие, я так увлеклась им, что эта работа доставила мне огромное удовольствие. Конечно, небольшие недочеты есть, так как это моя первая работа и я думаю, что в следующий раз получится гораздо лучше, ведь я набралась опыта. Родителям, моя картина понравилась. Да и мне она принесла массу положительных эмоций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ак что, в итоге своей работой я осталась довольн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Рекламный проспект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Фирма «Умелец» - находка для настоящих любителей простоты и изящества. Изделия из шерсти - это дешёвые, но красивые и добротные приобретения для вашего дома. Выполненные вручную поделки высоко ценятся в наше время: ведь именно они наполняют дом уютом и теплом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Приобретайте изделия от фирмы «Умелец»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писок литературы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1988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. Журналы по рукодели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rnet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страниц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. Красникова Г., Бублик В., Мамонова М. : Все о войлоке и фильцевании. Издательство: Агентство Дистрибьютор Прессы"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. Ксения Шинковская .Вещицы из войлока., Издательство: АСТ-ПРЕСС.,2008Г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держание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бор и обоснование темы проект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бор информаци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хем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сторическая справ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бор вариантов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бор материалов и инструментов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ебования к изделию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кономическая оцен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кологическая оценк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ческая карт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нализ выполненной работы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кламный проспект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исок литературы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бор и обоснование темы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Я с удовольствием наблюдаю, как быстро и уверенно шерсть завоевывает сердца людей и пространство в нашей жизни. Изделия ручной работы наконец-то приобретают популярность не только за границей, но и на просторах Росс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которое время я копила в себе знания, вдохновение и твердую уверенность, что придет время, когда я тоже что-нибудь «нарисую шерстью». Я твердо решила: хватит откладывать в долгий ящик, пора! Мой порыв вылился в простенького и милого «Ёжика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так, я определила цель работы – попробовать свои силы в «рисовании шерстью» и самостоятельно изготовить изделие, которое будет действительно востребовано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аким образом, задачи определились сами собой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ть вариант будущей картины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рганизовать рабочее место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добрать необходимые материалы и инструменты для работы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зготовить изделия в технике «шерстяная живопись»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ить качество выполненного издел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жде чем приступить к изготовлению проекта, мне пришлось поработать с журналами по рукоделию, исторической литературой, книгами о валянии из шерсти, рассмотреть несколько вариантов картин в сети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ernet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После работы с этими источниками информации у меня появилось несколько идей выполнения задуманного, которые я объединила в следующую схему. Эта схема явилась своеобразным алгоритмом выполнения моего проект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24"/>
          <p:cNvSpPr/>
          <p:nvPr/>
        </p:nvSpPr>
        <p:spPr>
          <a:xfrm>
            <a:off x="3419640" y="404640"/>
            <a:ext cx="1849320" cy="733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требн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5003640" y="765000"/>
            <a:ext cx="1909800" cy="6955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рия валяния из шерст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AutoShape 22"/>
          <p:cNvSpPr/>
          <p:nvPr/>
        </p:nvSpPr>
        <p:spPr>
          <a:xfrm>
            <a:off x="1258920" y="765000"/>
            <a:ext cx="2138400" cy="8384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бесто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1403280" y="2997360"/>
            <a:ext cx="1725840" cy="936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материал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AutoShape 20"/>
          <p:cNvSpPr/>
          <p:nvPr/>
        </p:nvSpPr>
        <p:spPr>
          <a:xfrm>
            <a:off x="5796000" y="2708280"/>
            <a:ext cx="1655640" cy="936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бор информаци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1258920" y="1844640"/>
            <a:ext cx="1940040" cy="9367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инструмен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5796000" y="1557360"/>
            <a:ext cx="1944720" cy="9349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вариан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5435640" y="3933720"/>
            <a:ext cx="1800360" cy="790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бова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4292640"/>
            <a:ext cx="1822680" cy="9032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ика безопасност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3780000" y="4581360"/>
            <a:ext cx="1800000" cy="86364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изготовления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3708360" y="2349360"/>
            <a:ext cx="1511280" cy="126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100000">
                <a:srgbClr val="f0ecf4"/>
              </a:gs>
            </a:gsLst>
            <a:lin ang="5400000"/>
          </a:gradFill>
          <a:ln w="12600">
            <a:solidFill>
              <a:srgbClr val="0d0d0d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и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34" name="AutoShape 13"/>
          <p:cNvCxnSpPr/>
          <p:nvPr/>
        </p:nvCxnSpPr>
        <p:spPr>
          <a:xfrm flipH="1" flipV="1">
            <a:off x="4357800" y="1125000"/>
            <a:ext cx="70200" cy="1224720"/>
          </a:xfrm>
          <a:prstGeom prst="straightConnector1">
            <a:avLst/>
          </a:prstGeom>
          <a:ln w="38160">
            <a:solidFill>
              <a:srgbClr val="002060"/>
            </a:solidFill>
            <a:miter/>
          </a:ln>
        </p:spPr>
      </p:cxnSp>
      <p:cxnSp>
        <p:nvCxnSpPr>
          <p:cNvPr id="235" name="AutoShape 12"/>
          <p:cNvCxnSpPr/>
          <p:nvPr/>
        </p:nvCxnSpPr>
        <p:spPr>
          <a:xfrm flipV="1">
            <a:off x="4500360" y="3644640"/>
            <a:ext cx="1080" cy="924480"/>
          </a:xfrm>
          <a:prstGeom prst="straightConnector1">
            <a:avLst/>
          </a:prstGeom>
          <a:ln w="38160">
            <a:solidFill>
              <a:srgbClr val="002060"/>
            </a:solidFill>
            <a:miter/>
          </a:ln>
        </p:spPr>
      </p:cxnSp>
      <p:cxnSp>
        <p:nvCxnSpPr>
          <p:cNvPr id="236" name="AutoShape 11"/>
          <p:cNvCxnSpPr/>
          <p:nvPr/>
        </p:nvCxnSpPr>
        <p:spPr>
          <a:xfrm>
            <a:off x="5219640" y="2997000"/>
            <a:ext cx="573840" cy="146520"/>
          </a:xfrm>
          <a:prstGeom prst="straightConnector1">
            <a:avLst/>
          </a:prstGeom>
          <a:ln w="38160">
            <a:solidFill>
              <a:srgbClr val="002060"/>
            </a:solidFill>
            <a:miter/>
          </a:ln>
        </p:spPr>
      </p:cxnSp>
      <p:cxnSp>
        <p:nvCxnSpPr>
          <p:cNvPr id="237" name="AutoShape 10"/>
          <p:cNvCxnSpPr/>
          <p:nvPr/>
        </p:nvCxnSpPr>
        <p:spPr>
          <a:xfrm flipH="1" flipV="1">
            <a:off x="5148000" y="3572640"/>
            <a:ext cx="265680" cy="531000"/>
          </a:xfrm>
          <a:prstGeom prst="straightConnector1">
            <a:avLst/>
          </a:prstGeom>
          <a:ln w="38160">
            <a:solidFill>
              <a:srgbClr val="002060"/>
            </a:solidFill>
            <a:miter/>
          </a:ln>
        </p:spPr>
      </p:cxnSp>
      <p:cxnSp>
        <p:nvCxnSpPr>
          <p:cNvPr id="238" name="AutoShape 9"/>
          <p:cNvCxnSpPr/>
          <p:nvPr/>
        </p:nvCxnSpPr>
        <p:spPr>
          <a:xfrm flipV="1">
            <a:off x="4716360" y="1412280"/>
            <a:ext cx="340200" cy="937080"/>
          </a:xfrm>
          <a:prstGeom prst="straightConnector1">
            <a:avLst/>
          </a:prstGeom>
          <a:ln w="38160">
            <a:solidFill>
              <a:srgbClr val="002060"/>
            </a:solidFill>
            <a:miter/>
          </a:ln>
        </p:spPr>
      </p:cxnSp>
      <p:cxnSp>
        <p:nvCxnSpPr>
          <p:cNvPr id="239" name="AutoShape 8"/>
          <p:cNvCxnSpPr/>
          <p:nvPr/>
        </p:nvCxnSpPr>
        <p:spPr>
          <a:xfrm flipH="1">
            <a:off x="5218920" y="2060280"/>
            <a:ext cx="59940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</a:ln>
        </p:spPr>
      </p:cxnSp>
      <p:cxnSp>
        <p:nvCxnSpPr>
          <p:cNvPr id="240" name="AutoShape 7"/>
          <p:cNvCxnSpPr/>
          <p:nvPr/>
        </p:nvCxnSpPr>
        <p:spPr>
          <a:xfrm flipH="1" flipV="1">
            <a:off x="3347640" y="1483920"/>
            <a:ext cx="432720" cy="937440"/>
          </a:xfrm>
          <a:prstGeom prst="straightConnector1">
            <a:avLst/>
          </a:prstGeom>
          <a:ln w="38160">
            <a:solidFill>
              <a:srgbClr val="002060"/>
            </a:solidFill>
            <a:miter/>
          </a:ln>
        </p:spPr>
      </p:cxnSp>
      <p:cxnSp>
        <p:nvCxnSpPr>
          <p:cNvPr id="241" name="AutoShape 6"/>
          <p:cNvCxnSpPr/>
          <p:nvPr/>
        </p:nvCxnSpPr>
        <p:spPr>
          <a:xfrm flipH="1" flipV="1">
            <a:off x="3203280" y="2420280"/>
            <a:ext cx="50544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</a:ln>
        </p:spPr>
      </p:cxnSp>
      <p:cxnSp>
        <p:nvCxnSpPr>
          <p:cNvPr id="242" name="AutoShape 5"/>
          <p:cNvCxnSpPr/>
          <p:nvPr/>
        </p:nvCxnSpPr>
        <p:spPr>
          <a:xfrm flipH="1">
            <a:off x="3131280" y="3284280"/>
            <a:ext cx="577080" cy="75240"/>
          </a:xfrm>
          <a:prstGeom prst="straightConnector1">
            <a:avLst/>
          </a:prstGeom>
          <a:ln w="38160">
            <a:solidFill>
              <a:srgbClr val="002060"/>
            </a:solidFill>
            <a:miter/>
          </a:ln>
        </p:spPr>
      </p:cxnSp>
      <p:cxnSp>
        <p:nvCxnSpPr>
          <p:cNvPr id="243" name="AutoShape 4"/>
          <p:cNvCxnSpPr/>
          <p:nvPr/>
        </p:nvCxnSpPr>
        <p:spPr>
          <a:xfrm flipV="1">
            <a:off x="3564000" y="3572640"/>
            <a:ext cx="288000" cy="793080"/>
          </a:xfrm>
          <a:prstGeom prst="straightConnector1">
            <a:avLst/>
          </a:prstGeom>
          <a:ln w="38160">
            <a:solidFill>
              <a:srgbClr val="002060"/>
            </a:solidFill>
            <a:miter/>
          </a:ln>
        </p:spPr>
      </p:cxnSp>
      <p:sp>
        <p:nvSpPr>
          <p:cNvPr id="244" name="Rectangle 25"/>
          <p:cNvSpPr/>
          <p:nvPr/>
        </p:nvSpPr>
        <p:spPr>
          <a:xfrm>
            <a:off x="25092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0" y="94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торическая справка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стория этого необыкновенного вида рукоделия уходит корнями в далекое прошлое. Валяние -  самая древняя техника изготовления текстиля на Земле. Археологи датируют возникновение первых валяных изделий 8000 летним возрастом. Древние люди начинали валять из найденной шерсти диких, а затем и одомашненных животных. И только потом они научились прясть, вязать и изготавливать ткани. Валять шерсть можно несколькими способами, существенно отличающимися по технике выполнен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хое валя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окрое валя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новаляние (нуно-войлок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шанная техника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ика «шерстяная живопись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аляние в стиралтной машинк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6204240" cy="51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Банк ид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4581360"/>
            <a:ext cx="4541760" cy="12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ариант3. Замечательное дополнение к интерьеру любой из комнат в вашем доме, яркие и выразительные розы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12" descr="ÐÐ°ÑÑÐ¸Ð½ÐºÐ¸ Ð¿Ð¾ Ð·Ð°Ð¿ÑÐ¾ÑÑ ÐºÐ°ÑÑÐ¸Ð½Ñ Ð²Ð°Ð»ÑÐ½Ð¸Ñ Ð¸Ð· ÑÐµÑÑÑÐ¸ ÐµÐ¶Ð¸Ðº"/>
          <p:cNvPicPr/>
          <p:nvPr/>
        </p:nvPicPr>
        <p:blipFill>
          <a:blip r:embed="rId1"/>
          <a:stretch/>
        </p:blipFill>
        <p:spPr>
          <a:xfrm>
            <a:off x="900000" y="1700280"/>
            <a:ext cx="1546200" cy="2171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ÐÐ°ÑÑÐ¸Ð½ÐºÐ¸ Ð¿Ð¾ Ð·Ð°Ð¿ÑÐ¾ÑÑ ÐºÐ°ÑÑÐ¸Ð½Ñ Ð²Ð°Ð»ÑÐ½Ð¸Ñ Ð¸Ð· ÑÐµÑÑÑÐ¸ ÑÐ½ÐµÐ³Ð¸ÑÐ¸"/>
          <p:cNvPicPr/>
          <p:nvPr/>
        </p:nvPicPr>
        <p:blipFill>
          <a:blip r:embed="rId2"/>
          <a:stretch/>
        </p:blipFill>
        <p:spPr>
          <a:xfrm>
            <a:off x="5292720" y="1844640"/>
            <a:ext cx="3124080" cy="2173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ÐÐ°ÑÑÐ¸Ð½ÐºÐ¸ Ð¿Ð¾ Ð·Ð°Ð¿ÑÐ¾ÑÑ ÐºÐ°ÑÑÐ¸Ð½Ñ Ð²Ð°Ð»ÑÐ½Ð¸Ñ Ð¸Ð· ÑÐµÑÑÑÐ¸"/>
          <p:cNvPicPr/>
          <p:nvPr/>
        </p:nvPicPr>
        <p:blipFill>
          <a:blip r:embed="rId3"/>
          <a:stretch/>
        </p:blipFill>
        <p:spPr>
          <a:xfrm>
            <a:off x="5292720" y="4365720"/>
            <a:ext cx="2911320" cy="21733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5"/>
          <p:cNvSpPr/>
          <p:nvPr/>
        </p:nvSpPr>
        <p:spPr>
          <a:xfrm>
            <a:off x="179280" y="47628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ариант 1. Ёж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вой выбор я остановила на Ёжике, так как больше подходит под интерьер моей комнат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425840" y="1181880"/>
            <a:ext cx="28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ариант 2. Снегири…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ребования к издел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Я решила, что мое изделие должно соответствовать следующим требования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зделие должно быть экологически безопасно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ртина должна быть эстетичной, соответствовать интерьеру комнаты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зделие должно иметь низкую себестоимость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ртина должна быть качественн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4T12:29:26Z</dcterms:created>
  <dc:creator>Admin</dc:creator>
  <dc:description/>
  <dc:language>en-US</dc:language>
  <cp:lastModifiedBy>user</cp:lastModifiedBy>
  <dcterms:modified xsi:type="dcterms:W3CDTF">2019-04-03T07:25:10Z</dcterms:modified>
  <cp:revision>10</cp:revision>
  <dc:subject/>
  <dc:title>Тв пр пэладо</dc:title>
</cp:coreProperties>
</file>