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DD4-8DF0-478C-B4C1-59CBBCA90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898-339F-4CFC-9FDB-AAA3D8F9B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100-5827-4961-9064-66C4C63C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473-98A4-4496-B4D6-67750609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FDD-F640-4A85-87A2-650E5717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9A6-B342-4A18-9F2E-0AABDC2D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805-98DA-4B16-B738-D5445BF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C7FB-BD15-43E6-B7EF-35DCD6B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90C6-56DF-4DD7-AF4C-0165C0C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AE80-69E6-49B1-9CA7-2349E777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74D4-810A-4168-89A6-77D96FA3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66B-93E3-4DBD-958A-CAA25B8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271-85BA-429B-B4FB-6FFE67E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BC5-2D36-488F-85AE-74B8618A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878-060C-46C9-B271-B0EE548E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CE9B-40BC-459E-AAE6-B085174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0921-6B58-48A3-BF16-A3F29E2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193-1FE9-4240-BAA6-789F0AA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8ED5-23A9-44EC-A2DC-9EE14C93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2A2-86EA-4755-8395-4F223110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BC2-0D3C-47A1-8F53-1B4A89E7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6B1-54E8-48A2-912E-127070AE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5B3-0EA6-463D-B8B2-FC1818E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361-8CED-4F07-B99A-F8B9347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8F3-A990-4683-8F7B-97C8EF1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0BA-1D3A-4AE4-A687-4DCAA88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A39-DDE0-41B1-8423-652B66A1D0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8E2-DE10-4FD9-BCBE-EC9125613E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"/>
          <p:cNvSpPr/>
          <p:nvPr/>
        </p:nvSpPr>
        <p:spPr>
          <a:xfrm rot="396600">
            <a:off x="2917440" y="3087360"/>
            <a:ext cx="392040" cy="1312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24000" y="3789360"/>
            <a:ext cx="657360" cy="8920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 rot="17884200">
            <a:off x="6118560" y="5293440"/>
            <a:ext cx="758880" cy="10238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8073000">
            <a:off x="5893560" y="4101480"/>
            <a:ext cx="814320" cy="815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7524720" y="4221000"/>
            <a:ext cx="831960" cy="879480"/>
          </a:xfrm>
          <a:prstGeom prst="rtTriangl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GEOMTRY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050920" y="3068640"/>
            <a:ext cx="5400720" cy="31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исунок3"/>
          <p:cNvPicPr/>
          <p:nvPr/>
        </p:nvPicPr>
        <p:blipFill>
          <a:blip r:embed="rId2"/>
          <a:stretch/>
        </p:blipFill>
        <p:spPr>
          <a:xfrm>
            <a:off x="-108000" y="-387360"/>
            <a:ext cx="36673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1844280"/>
            <a:ext cx="6292800" cy="3861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умму длин всех стор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еугольника называют его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имет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=а+в+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501040" y="6337440"/>
            <a:ext cx="642960" cy="520560"/>
          </a:xfrm>
          <a:custGeom>
            <a:avLst/>
            <a:gdLst>
              <a:gd name="textAreaLeft" fmla="*/ 33480 w 642960"/>
              <a:gd name="textAreaRight" fmla="*/ 609480 w 6429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6675" h="21600">
                <a:moveTo>
                  <a:pt x="0" y="0"/>
                </a:moveTo>
                <a:lnTo>
                  <a:pt x="26675" y="0"/>
                </a:lnTo>
                <a:lnTo>
                  <a:pt x="26675" y="21600"/>
                </a:lnTo>
                <a:lnTo>
                  <a:pt x="0" y="21600"/>
                </a:lnTo>
                <a:close/>
              </a:path>
              <a:path fill="lightenLess" w="26675" h="21600">
                <a:moveTo>
                  <a:pt x="0" y="0"/>
                </a:moveTo>
                <a:lnTo>
                  <a:pt x="26675" y="0"/>
                </a:lnTo>
                <a:lnTo>
                  <a:pt x="25275" y="1400"/>
                </a:lnTo>
                <a:lnTo>
                  <a:pt x="1400" y="1400"/>
                </a:lnTo>
                <a:close/>
              </a:path>
              <a:path fill="darken" w="26675" h="21600">
                <a:moveTo>
                  <a:pt x="26675" y="0"/>
                </a:moveTo>
                <a:lnTo>
                  <a:pt x="26675" y="21600"/>
                </a:lnTo>
                <a:lnTo>
                  <a:pt x="25275" y="20200"/>
                </a:lnTo>
                <a:lnTo>
                  <a:pt x="25275" y="1400"/>
                </a:lnTo>
                <a:close/>
              </a:path>
              <a:path fill="darkenLess" w="26675" h="21600">
                <a:moveTo>
                  <a:pt x="26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5" y="20200"/>
                </a:lnTo>
                <a:close/>
              </a:path>
              <a:path fill="lighten" w="26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5" h="21600">
                <a:moveTo>
                  <a:pt x="6331" y="3794"/>
                </a:moveTo>
                <a:lnTo>
                  <a:pt x="20344" y="10800"/>
                </a:lnTo>
                <a:lnTo>
                  <a:pt x="633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домой 5"/>
          <p:cNvSpPr/>
          <p:nvPr/>
        </p:nvSpPr>
        <p:spPr>
          <a:xfrm>
            <a:off x="77151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976040" y="692280"/>
            <a:ext cx="316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Schoolbook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3" descr="250-2102-cmexl5.jpg"/>
          <p:cNvPicPr/>
          <p:nvPr/>
        </p:nvPicPr>
        <p:blipFill>
          <a:blip r:embed="rId1"/>
          <a:stretch/>
        </p:blipFill>
        <p:spPr>
          <a:xfrm>
            <a:off x="2214720" y="29289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742cc73664b0t.jpg"/>
          <p:cNvPicPr/>
          <p:nvPr/>
        </p:nvPicPr>
        <p:blipFill>
          <a:blip r:embed="rId2"/>
          <a:stretch/>
        </p:blipFill>
        <p:spPr>
          <a:xfrm>
            <a:off x="5000760" y="3000240"/>
            <a:ext cx="128592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cfca7fa1f6c9t.jpg"/>
          <p:cNvPicPr/>
          <p:nvPr/>
        </p:nvPicPr>
        <p:blipFill>
          <a:blip r:embed="rId3"/>
          <a:stretch/>
        </p:blipFill>
        <p:spPr>
          <a:xfrm>
            <a:off x="3357720" y="2857680"/>
            <a:ext cx="20383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500040"/>
            <a:ext cx="7956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треуголь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1680" y="4571640"/>
            <a:ext cx="82483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  -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это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гура, состоящая из трёх точек, не лежащих на одной прямой и трёх отрезков, соединяющих эти точ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3"/>
          <p:cNvSpPr/>
          <p:nvPr/>
        </p:nvSpPr>
        <p:spPr>
          <a:xfrm>
            <a:off x="150012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271476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4286160" y="2571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500120" y="2643120"/>
            <a:ext cx="135756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0"/>
          <p:cNvSpPr/>
          <p:nvPr/>
        </p:nvSpPr>
        <p:spPr>
          <a:xfrm>
            <a:off x="2857680" y="2643120"/>
            <a:ext cx="150012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571760" y="214308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786040" y="2143080"/>
            <a:ext cx="2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214880" y="20001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4"/>
          <p:cNvSpPr/>
          <p:nvPr/>
        </p:nvSpPr>
        <p:spPr>
          <a:xfrm>
            <a:off x="5072040" y="3786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6286680" y="18572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6"/>
          <p:cNvSpPr/>
          <p:nvPr/>
        </p:nvSpPr>
        <p:spPr>
          <a:xfrm>
            <a:off x="7858080" y="3714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 flipV="1">
            <a:off x="5092560" y="1979640"/>
            <a:ext cx="1316160" cy="1827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1"/>
          <p:cNvSpPr/>
          <p:nvPr/>
        </p:nvSpPr>
        <p:spPr>
          <a:xfrm>
            <a:off x="6408000" y="1979640"/>
            <a:ext cx="1521000" cy="17352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3"/>
          <p:cNvSpPr/>
          <p:nvPr/>
        </p:nvSpPr>
        <p:spPr>
          <a:xfrm flipH="1">
            <a:off x="5092200" y="3786120"/>
            <a:ext cx="2908440" cy="208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5072040" y="39290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6357960" y="1500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7929720" y="3786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алее 20">
            <a:hlinkClick r:id="" action="ppaction://hlinkshowjump?jump=nextslide"/>
          </p:cNvPr>
          <p:cNvSpPr/>
          <p:nvPr/>
        </p:nvSpPr>
        <p:spPr>
          <a:xfrm>
            <a:off x="8572680" y="64292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7929720" y="64292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10800"/>
                </a:moveTo>
                <a:lnTo>
                  <a:pt x="21394" y="3794"/>
                </a:lnTo>
                <a:lnTo>
                  <a:pt x="213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http://festival.1september.ru/articles/505238/img-1.gif"/>
          <p:cNvPicPr/>
          <p:nvPr/>
        </p:nvPicPr>
        <p:blipFill>
          <a:blip r:embed="rId1"/>
          <a:stretch/>
        </p:blipFill>
        <p:spPr>
          <a:xfrm>
            <a:off x="214200" y="40719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http://festival.1september.ru/articles/505238/img-2.gif"/>
          <p:cNvPicPr/>
          <p:nvPr/>
        </p:nvPicPr>
        <p:blipFill>
          <a:blip r:embed="rId2"/>
          <a:stretch/>
        </p:blipFill>
        <p:spPr>
          <a:xfrm>
            <a:off x="6286680" y="3929040"/>
            <a:ext cx="257148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http://festival.1september.ru/articles/505238/img-3.gif"/>
          <p:cNvPicPr/>
          <p:nvPr/>
        </p:nvPicPr>
        <p:blipFill>
          <a:blip r:embed="rId3"/>
          <a:stretch/>
        </p:blipFill>
        <p:spPr>
          <a:xfrm>
            <a:off x="5181480" y="690480"/>
            <a:ext cx="3962520" cy="2048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http://festival.1september.ru/articles/505238/img-4.gif"/>
          <p:cNvPicPr/>
          <p:nvPr/>
        </p:nvPicPr>
        <p:blipFill>
          <a:blip r:embed="rId4"/>
          <a:stretch/>
        </p:blipFill>
        <p:spPr>
          <a:xfrm>
            <a:off x="3429000" y="3929040"/>
            <a:ext cx="2643120" cy="2928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14800" y="428400"/>
            <a:ext cx="56433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2" name="Управляющая кнопка: домой 7"/>
          <p:cNvSpPr/>
          <p:nvPr/>
        </p:nvSpPr>
        <p:spPr>
          <a:xfrm>
            <a:off x="850104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6" descr=""/>
          <p:cNvPicPr/>
          <p:nvPr/>
        </p:nvPicPr>
        <p:blipFill>
          <a:blip r:embed="rId6"/>
          <a:stretch/>
        </p:blipFill>
        <p:spPr>
          <a:xfrm>
            <a:off x="2262240" y="374760"/>
            <a:ext cx="952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Uk_Arbat"/>
              </a:rPr>
              <a:t>Тема:  Виды треугольник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000" y="3284640"/>
            <a:ext cx="202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-360" y="393336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Calibri"/>
              </a:rPr>
              <a:t>узнать какие виды треугольников бываю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4606920" y="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по названию  уг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оугольны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упоуголь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651640" y="6093000"/>
            <a:ext cx="2879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 flipV="1">
            <a:off x="7164000" y="3499920"/>
            <a:ext cx="136836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H="1">
            <a:off x="5651640" y="3500280"/>
            <a:ext cx="151128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724360" y="3428640"/>
            <a:ext cx="0" cy="2521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5724360" y="3429000"/>
            <a:ext cx="2880000" cy="25210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140360" y="3573360"/>
            <a:ext cx="1512720" cy="2521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140360" y="3573360"/>
            <a:ext cx="4392360" cy="2521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5651640" y="6021360"/>
            <a:ext cx="28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724360" y="5950080"/>
            <a:ext cx="2880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1189080" y="5732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>
            <a:off x="2627280" y="3284640"/>
            <a:ext cx="144000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H="1">
            <a:off x="1160280" y="3284640"/>
            <a:ext cx="1439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28"/>
          <p:cNvSpPr/>
          <p:nvPr/>
        </p:nvSpPr>
        <p:spPr>
          <a:xfrm rot="2508000">
            <a:off x="1213920" y="5265360"/>
            <a:ext cx="611280" cy="744480"/>
          </a:xfrm>
          <a:custGeom>
            <a:avLst/>
            <a:gdLst>
              <a:gd name="textAreaLeft" fmla="*/ 0 w 611280"/>
              <a:gd name="textAreaRight" fmla="*/ 611640 w 61128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fill="none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</a:path>
              <a:path stroke="0" w="15729" h="21600">
                <a:moveTo>
                  <a:pt x="-1" y="0"/>
                </a:moveTo>
                <a:cubicBezTo>
                  <a:pt x="5955" y="0"/>
                  <a:pt x="11647" y="2459"/>
                  <a:pt x="15729" y="67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29"/>
          <p:cNvSpPr/>
          <p:nvPr/>
        </p:nvSpPr>
        <p:spPr>
          <a:xfrm rot="15983400">
            <a:off x="3291480" y="5239080"/>
            <a:ext cx="506160" cy="362160"/>
          </a:xfrm>
          <a:custGeom>
            <a:avLst/>
            <a:gdLst>
              <a:gd name="textAreaLeft" fmla="*/ 0 w 506160"/>
              <a:gd name="textAreaRight" fmla="*/ 506520 w 50616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0"/>
          <p:cNvSpPr/>
          <p:nvPr/>
        </p:nvSpPr>
        <p:spPr>
          <a:xfrm rot="8422200">
            <a:off x="2342520" y="3697200"/>
            <a:ext cx="546120" cy="432000"/>
          </a:xfrm>
          <a:custGeom>
            <a:avLst/>
            <a:gdLst>
              <a:gd name="textAreaLeft" fmla="*/ 0 w 546120"/>
              <a:gd name="textAreaRight" fmla="*/ 546120 w 5461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900000" y="126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 ст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900000" y="17082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3 уг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3 вер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21" descr=""/>
          <p:cNvPicPr/>
          <p:nvPr/>
        </p:nvPicPr>
        <p:blipFill>
          <a:blip r:embed="rId1"/>
          <a:stretch/>
        </p:blipFill>
        <p:spPr>
          <a:xfrm>
            <a:off x="665280" y="73080"/>
            <a:ext cx="36385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Равнобедренный треугольник 1"/>
          <p:cNvSpPr/>
          <p:nvPr/>
        </p:nvSpPr>
        <p:spPr>
          <a:xfrm>
            <a:off x="3214800" y="642960"/>
            <a:ext cx="2982960" cy="25718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928960" y="11430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286240" y="114300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214880" y="3286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00040" y="407196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все стороны равны, называют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вносторонни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ый треугольник 1"/>
          <p:cNvSpPr/>
          <p:nvPr/>
        </p:nvSpPr>
        <p:spPr>
          <a:xfrm rot="6540600">
            <a:off x="4278600" y="-102240"/>
            <a:ext cx="1299960" cy="4060800"/>
          </a:xfrm>
          <a:prstGeom prst="rtTriangle">
            <a:avLst/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43040" y="785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5500800" y="714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7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714840" y="2286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63680" y="3357720"/>
            <a:ext cx="821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все стороны неравны, наз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зносторонни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Равнобедренный треугольник 1"/>
          <p:cNvSpPr/>
          <p:nvPr/>
        </p:nvSpPr>
        <p:spPr>
          <a:xfrm>
            <a:off x="3714840" y="285840"/>
            <a:ext cx="1714320" cy="314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28760" y="4071960"/>
            <a:ext cx="8286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Треугольник, у которого равны две стороны, назы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равнобедренным.</a:t>
            </a: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571840" y="10000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214960" y="10000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000680" y="35719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entury Schoolbook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63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роны разной дли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зносторон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вны две сторо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 назы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внобедр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угольники, у котор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вны все три сторон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ываются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равносторон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78850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6588000" y="1557360"/>
            <a:ext cx="2303640" cy="3603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6588000" y="1557360"/>
            <a:ext cx="503280" cy="720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7093080" y="1915920"/>
            <a:ext cx="1800000" cy="3603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6588000" y="3645000"/>
            <a:ext cx="21592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6588000" y="3213000"/>
            <a:ext cx="1079640" cy="432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7667640" y="3213000"/>
            <a:ext cx="1079640" cy="4320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6948360" y="5589720"/>
            <a:ext cx="158436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6948360" y="4653000"/>
            <a:ext cx="792360" cy="936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7740720" y="4653000"/>
            <a:ext cx="792000" cy="93672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15" descr=""/>
          <p:cNvPicPr/>
          <p:nvPr/>
        </p:nvPicPr>
        <p:blipFill>
          <a:blip r:embed="rId1"/>
          <a:stretch/>
        </p:blipFill>
        <p:spPr>
          <a:xfrm>
            <a:off x="725400" y="42840"/>
            <a:ext cx="7772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46:51Z</dcterms:created>
  <dc:creator>Анатолий</dc:creator>
  <dc:description/>
  <dc:language>en-US</dc:language>
  <cp:lastModifiedBy>user</cp:lastModifiedBy>
  <dcterms:modified xsi:type="dcterms:W3CDTF">2020-04-10T09:07:04Z</dcterms:modified>
  <cp:revision>132</cp:revision>
  <dc:subject/>
  <dc:title>Слайд 1</dc:title>
</cp:coreProperties>
</file>