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F2A8-FEAC-43C0-978C-DD10F2F6C5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6D59-682D-430A-AC41-98F4C720D0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5A51-E8B4-4102-87E9-4B5516A16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2422-B261-492F-B43F-CC9CE6C4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5025-712B-42E6-8652-B96586840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48EC-E78B-4DDC-AE9D-EDEFA0374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5DBC5-6CE9-4416-8DCB-42378A44D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1285-F5F7-4B62-8648-84AACA93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DE14-8F58-4268-8835-AC35334C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CFEE9-A1D1-44EA-8B44-E927BCC6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3E94-4231-4C52-BF7A-C9E111C5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50BD-3F32-47FB-988C-E5104BC2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4950-0DB1-4493-8782-72355E36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6E27-6D95-4F96-8939-0AF4C869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79F4-8D08-4726-B042-0E4DA5A8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29A5-9DDD-40A7-A29A-6F688677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C843-0AF7-49DA-92F0-335E1CF4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B19B3-AE93-49DE-9AD0-980B6670B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1B49-BB9B-4CBA-9E45-9BC61F244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D90D-BE28-4F0A-BA6D-85250937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0319-9486-4AF3-886F-72FFF2A7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192D-6ADC-468A-9058-5D5440D5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E85F-40CB-4158-8B59-B66E716D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67FE-C9D6-4BE7-B68A-74403FC3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80CC-53BD-4681-B0D6-C12A33AF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9965-B703-4777-B076-B7893CA6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F2A3-CC7C-4CDE-A083-B137711B656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2813-C8A9-4809-9570-E043B5705DC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8"/>
          <p:cNvSpPr/>
          <p:nvPr/>
        </p:nvSpPr>
        <p:spPr>
          <a:xfrm rot="396600">
            <a:off x="2917440" y="3087360"/>
            <a:ext cx="392040" cy="131292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2124000" y="3789360"/>
            <a:ext cx="657360" cy="89208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 rot="17884200">
            <a:off x="6118560" y="5293440"/>
            <a:ext cx="758880" cy="102384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"/>
          <p:cNvSpPr/>
          <p:nvPr/>
        </p:nvSpPr>
        <p:spPr>
          <a:xfrm rot="8073000">
            <a:off x="5893560" y="4101480"/>
            <a:ext cx="814320" cy="81576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7524720" y="4221000"/>
            <a:ext cx="831960" cy="879480"/>
          </a:xfrm>
          <a:prstGeom prst="rtTriangl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GEOMTRY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2050920" y="3068640"/>
            <a:ext cx="5400720" cy="3144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Рисунок3"/>
          <p:cNvPicPr/>
          <p:nvPr/>
        </p:nvPicPr>
        <p:blipFill>
          <a:blip r:embed="rId2"/>
          <a:stretch/>
        </p:blipFill>
        <p:spPr>
          <a:xfrm>
            <a:off x="-108000" y="-387360"/>
            <a:ext cx="366732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258920" y="1844280"/>
            <a:ext cx="6292800" cy="386100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Сумму длин всех сторон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реугольника называют его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ериметро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Р=а+в+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501040" y="6337440"/>
            <a:ext cx="642960" cy="520560"/>
          </a:xfrm>
          <a:custGeom>
            <a:avLst/>
            <a:gdLst>
              <a:gd name="textAreaLeft" fmla="*/ 33480 w 642960"/>
              <a:gd name="textAreaRight" fmla="*/ 609480 w 6429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6675" h="21600">
                <a:moveTo>
                  <a:pt x="0" y="0"/>
                </a:moveTo>
                <a:lnTo>
                  <a:pt x="26675" y="0"/>
                </a:lnTo>
                <a:lnTo>
                  <a:pt x="26675" y="21600"/>
                </a:lnTo>
                <a:lnTo>
                  <a:pt x="0" y="21600"/>
                </a:lnTo>
                <a:close/>
              </a:path>
              <a:path fill="lightenLess" w="26675" h="21600">
                <a:moveTo>
                  <a:pt x="0" y="0"/>
                </a:moveTo>
                <a:lnTo>
                  <a:pt x="26675" y="0"/>
                </a:lnTo>
                <a:lnTo>
                  <a:pt x="25275" y="1400"/>
                </a:lnTo>
                <a:lnTo>
                  <a:pt x="1400" y="1400"/>
                </a:lnTo>
                <a:close/>
              </a:path>
              <a:path fill="darken" w="26675" h="21600">
                <a:moveTo>
                  <a:pt x="26675" y="0"/>
                </a:moveTo>
                <a:lnTo>
                  <a:pt x="26675" y="21600"/>
                </a:lnTo>
                <a:lnTo>
                  <a:pt x="25275" y="20200"/>
                </a:lnTo>
                <a:lnTo>
                  <a:pt x="25275" y="1400"/>
                </a:lnTo>
                <a:close/>
              </a:path>
              <a:path fill="darkenLess" w="26675" h="21600">
                <a:moveTo>
                  <a:pt x="266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75" y="20200"/>
                </a:lnTo>
                <a:close/>
              </a:path>
              <a:path fill="lighten" w="266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75" h="21600">
                <a:moveTo>
                  <a:pt x="6331" y="3794"/>
                </a:moveTo>
                <a:lnTo>
                  <a:pt x="20344" y="10800"/>
                </a:lnTo>
                <a:lnTo>
                  <a:pt x="6331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Управляющая кнопка: домой 5"/>
          <p:cNvSpPr/>
          <p:nvPr/>
        </p:nvSpPr>
        <p:spPr>
          <a:xfrm>
            <a:off x="7715160" y="6357960"/>
            <a:ext cx="642960" cy="500040"/>
          </a:xfrm>
          <a:custGeom>
            <a:avLst/>
            <a:gdLst>
              <a:gd name="textAreaLeft" fmla="*/ 32400 w 642960"/>
              <a:gd name="textAreaRight" fmla="*/ 610560 w 6429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7769" h="21600">
                <a:moveTo>
                  <a:pt x="0" y="0"/>
                </a:moveTo>
                <a:lnTo>
                  <a:pt x="27769" y="0"/>
                </a:lnTo>
                <a:lnTo>
                  <a:pt x="27769" y="21600"/>
                </a:lnTo>
                <a:lnTo>
                  <a:pt x="0" y="21600"/>
                </a:lnTo>
                <a:close/>
              </a:path>
              <a:path fill="lightenLess" w="27769" h="21600">
                <a:moveTo>
                  <a:pt x="0" y="0"/>
                </a:moveTo>
                <a:lnTo>
                  <a:pt x="27769" y="0"/>
                </a:lnTo>
                <a:lnTo>
                  <a:pt x="26369" y="1400"/>
                </a:lnTo>
                <a:lnTo>
                  <a:pt x="1400" y="1400"/>
                </a:lnTo>
                <a:close/>
              </a:path>
              <a:path fill="darken" w="27769" h="21600">
                <a:moveTo>
                  <a:pt x="27769" y="0"/>
                </a:moveTo>
                <a:lnTo>
                  <a:pt x="27769" y="21600"/>
                </a:lnTo>
                <a:lnTo>
                  <a:pt x="26369" y="20200"/>
                </a:lnTo>
                <a:lnTo>
                  <a:pt x="26369" y="1400"/>
                </a:lnTo>
                <a:close/>
              </a:path>
              <a:path fill="darkenLess" w="27769" h="21600">
                <a:moveTo>
                  <a:pt x="2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9" y="20200"/>
                </a:lnTo>
                <a:close/>
              </a:path>
              <a:path fill="lighten" w="2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9" h="21600">
                <a:moveTo>
                  <a:pt x="13885" y="3837"/>
                </a:moveTo>
                <a:lnTo>
                  <a:pt x="16461" y="6448"/>
                </a:lnTo>
                <a:lnTo>
                  <a:pt x="16461" y="4707"/>
                </a:lnTo>
                <a:lnTo>
                  <a:pt x="18236" y="4707"/>
                </a:lnTo>
                <a:lnTo>
                  <a:pt x="18236" y="8224"/>
                </a:lnTo>
                <a:lnTo>
                  <a:pt x="20848" y="10800"/>
                </a:lnTo>
                <a:lnTo>
                  <a:pt x="19194" y="10800"/>
                </a:lnTo>
                <a:lnTo>
                  <a:pt x="19194" y="17989"/>
                </a:lnTo>
                <a:lnTo>
                  <a:pt x="8575" y="17989"/>
                </a:lnTo>
                <a:lnTo>
                  <a:pt x="8575" y="10800"/>
                </a:lnTo>
                <a:lnTo>
                  <a:pt x="6922" y="10800"/>
                </a:lnTo>
                <a:close/>
              </a:path>
              <a:path fill="darkenLess" w="27769" h="21600">
                <a:moveTo>
                  <a:pt x="16461" y="6448"/>
                </a:moveTo>
                <a:lnTo>
                  <a:pt x="16461" y="4707"/>
                </a:lnTo>
                <a:lnTo>
                  <a:pt x="18236" y="4707"/>
                </a:lnTo>
                <a:lnTo>
                  <a:pt x="18236" y="8224"/>
                </a:lnTo>
                <a:close/>
              </a:path>
              <a:path fill="darkenLess" w="27769" h="21600">
                <a:moveTo>
                  <a:pt x="12962" y="14299"/>
                </a:moveTo>
                <a:lnTo>
                  <a:pt x="14807" y="14299"/>
                </a:lnTo>
                <a:lnTo>
                  <a:pt x="14807" y="17989"/>
                </a:lnTo>
                <a:lnTo>
                  <a:pt x="19194" y="17989"/>
                </a:lnTo>
                <a:lnTo>
                  <a:pt x="19194" y="10800"/>
                </a:lnTo>
                <a:lnTo>
                  <a:pt x="8575" y="10800"/>
                </a:lnTo>
                <a:lnTo>
                  <a:pt x="8575" y="17989"/>
                </a:lnTo>
                <a:lnTo>
                  <a:pt x="12962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1976040" y="692280"/>
            <a:ext cx="316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помни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8760" y="1571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entury Schoolbook"/>
              </a:rPr>
              <a:t>Спасибо за работу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Рисунок 3" descr="250-2102-cmexl5.jpg"/>
          <p:cNvPicPr/>
          <p:nvPr/>
        </p:nvPicPr>
        <p:blipFill>
          <a:blip r:embed="rId1"/>
          <a:stretch/>
        </p:blipFill>
        <p:spPr>
          <a:xfrm>
            <a:off x="2214720" y="2928960"/>
            <a:ext cx="1500120" cy="200016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4" descr="742cc73664b0t.jpg"/>
          <p:cNvPicPr/>
          <p:nvPr/>
        </p:nvPicPr>
        <p:blipFill>
          <a:blip r:embed="rId2"/>
          <a:stretch/>
        </p:blipFill>
        <p:spPr>
          <a:xfrm>
            <a:off x="5000760" y="3000240"/>
            <a:ext cx="1285920" cy="190512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5" descr="cfca7fa1f6c9t.jpg"/>
          <p:cNvPicPr/>
          <p:nvPr/>
        </p:nvPicPr>
        <p:blipFill>
          <a:blip r:embed="rId3"/>
          <a:stretch/>
        </p:blipFill>
        <p:spPr>
          <a:xfrm>
            <a:off x="3357720" y="2857680"/>
            <a:ext cx="203832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7280" y="500040"/>
            <a:ext cx="7956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пределение треугольн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71680" y="4571640"/>
            <a:ext cx="824832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еугольник  -</a:t>
            </a: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это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игура, состоящая из трёх точек, не лежащих на одной прямой и трёх отрезков, соединяющих эти точк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Овал 3"/>
          <p:cNvSpPr/>
          <p:nvPr/>
        </p:nvSpPr>
        <p:spPr>
          <a:xfrm>
            <a:off x="1500120" y="257184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5"/>
          <p:cNvSpPr/>
          <p:nvPr/>
        </p:nvSpPr>
        <p:spPr>
          <a:xfrm>
            <a:off x="2714760" y="257184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 7"/>
          <p:cNvSpPr/>
          <p:nvPr/>
        </p:nvSpPr>
        <p:spPr>
          <a:xfrm>
            <a:off x="4286160" y="257184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8"/>
          <p:cNvSpPr/>
          <p:nvPr/>
        </p:nvSpPr>
        <p:spPr>
          <a:xfrm>
            <a:off x="1500120" y="2643120"/>
            <a:ext cx="1357560" cy="4608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0"/>
          <p:cNvSpPr/>
          <p:nvPr/>
        </p:nvSpPr>
        <p:spPr>
          <a:xfrm>
            <a:off x="2857680" y="2643120"/>
            <a:ext cx="1500120" cy="4608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1571760" y="2143080"/>
            <a:ext cx="4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2786040" y="2143080"/>
            <a:ext cx="2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4214880" y="200016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14"/>
          <p:cNvSpPr/>
          <p:nvPr/>
        </p:nvSpPr>
        <p:spPr>
          <a:xfrm>
            <a:off x="5072040" y="378612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5"/>
          <p:cNvSpPr/>
          <p:nvPr/>
        </p:nvSpPr>
        <p:spPr>
          <a:xfrm>
            <a:off x="6286680" y="1857240"/>
            <a:ext cx="142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6"/>
          <p:cNvSpPr/>
          <p:nvPr/>
        </p:nvSpPr>
        <p:spPr>
          <a:xfrm>
            <a:off x="7858080" y="371484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25"/>
          <p:cNvSpPr/>
          <p:nvPr/>
        </p:nvSpPr>
        <p:spPr>
          <a:xfrm flipV="1">
            <a:off x="5092560" y="1979640"/>
            <a:ext cx="1316160" cy="182736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31"/>
          <p:cNvSpPr/>
          <p:nvPr/>
        </p:nvSpPr>
        <p:spPr>
          <a:xfrm>
            <a:off x="6408000" y="1979640"/>
            <a:ext cx="1521000" cy="173520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33"/>
          <p:cNvSpPr/>
          <p:nvPr/>
        </p:nvSpPr>
        <p:spPr>
          <a:xfrm flipH="1">
            <a:off x="5092200" y="3786120"/>
            <a:ext cx="2908440" cy="2088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5"/>
          <p:cNvSpPr/>
          <p:nvPr/>
        </p:nvSpPr>
        <p:spPr>
          <a:xfrm>
            <a:off x="5072040" y="392904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6"/>
          <p:cNvSpPr/>
          <p:nvPr/>
        </p:nvSpPr>
        <p:spPr>
          <a:xfrm>
            <a:off x="6357960" y="150012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7"/>
          <p:cNvSpPr/>
          <p:nvPr/>
        </p:nvSpPr>
        <p:spPr>
          <a:xfrm>
            <a:off x="7929720" y="378612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Управляющая кнопка: далее 20">
            <a:hlinkClick r:id="" action="ppaction://hlinkshowjump?jump=nextslide"/>
          </p:cNvPr>
          <p:cNvSpPr/>
          <p:nvPr/>
        </p:nvSpPr>
        <p:spPr>
          <a:xfrm>
            <a:off x="8572680" y="6429240"/>
            <a:ext cx="571320" cy="428760"/>
          </a:xfrm>
          <a:custGeom>
            <a:avLst/>
            <a:gdLst>
              <a:gd name="textAreaLeft" fmla="*/ 27720 w 571320"/>
              <a:gd name="textAreaRight" fmla="*/ 543600 w 57132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76" h="21600">
                <a:moveTo>
                  <a:pt x="0" y="0"/>
                </a:moveTo>
                <a:lnTo>
                  <a:pt x="28776" y="0"/>
                </a:lnTo>
                <a:lnTo>
                  <a:pt x="28776" y="21600"/>
                </a:lnTo>
                <a:lnTo>
                  <a:pt x="0" y="21600"/>
                </a:lnTo>
                <a:close/>
              </a:path>
              <a:path fill="lightenLess" w="28776" h="21600">
                <a:moveTo>
                  <a:pt x="0" y="0"/>
                </a:moveTo>
                <a:lnTo>
                  <a:pt x="28776" y="0"/>
                </a:lnTo>
                <a:lnTo>
                  <a:pt x="27376" y="1400"/>
                </a:lnTo>
                <a:lnTo>
                  <a:pt x="1400" y="1400"/>
                </a:lnTo>
                <a:close/>
              </a:path>
              <a:path fill="darken" w="28776" h="21600">
                <a:moveTo>
                  <a:pt x="28776" y="0"/>
                </a:moveTo>
                <a:lnTo>
                  <a:pt x="28776" y="21600"/>
                </a:lnTo>
                <a:lnTo>
                  <a:pt x="27376" y="20200"/>
                </a:lnTo>
                <a:lnTo>
                  <a:pt x="27376" y="1400"/>
                </a:lnTo>
                <a:close/>
              </a:path>
              <a:path fill="darkenLess" w="28776" h="21600">
                <a:moveTo>
                  <a:pt x="28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6" y="20200"/>
                </a:lnTo>
                <a:close/>
              </a:path>
              <a:path fill="lighten" w="28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6" h="21600">
                <a:moveTo>
                  <a:pt x="7381" y="3794"/>
                </a:moveTo>
                <a:lnTo>
                  <a:pt x="21394" y="10800"/>
                </a:lnTo>
                <a:lnTo>
                  <a:pt x="7381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Управляющая кнопка: назад 21">
            <a:hlinkClick r:id="" action="ppaction://hlinkshowjump?jump=previousslide"/>
          </p:cNvPr>
          <p:cNvSpPr/>
          <p:nvPr/>
        </p:nvSpPr>
        <p:spPr>
          <a:xfrm>
            <a:off x="7929720" y="6429240"/>
            <a:ext cx="571320" cy="428760"/>
          </a:xfrm>
          <a:custGeom>
            <a:avLst/>
            <a:gdLst>
              <a:gd name="textAreaLeft" fmla="*/ 27720 w 571320"/>
              <a:gd name="textAreaRight" fmla="*/ 543600 w 57132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76" h="21600">
                <a:moveTo>
                  <a:pt x="0" y="0"/>
                </a:moveTo>
                <a:lnTo>
                  <a:pt x="28776" y="0"/>
                </a:lnTo>
                <a:lnTo>
                  <a:pt x="28776" y="21600"/>
                </a:lnTo>
                <a:lnTo>
                  <a:pt x="0" y="21600"/>
                </a:lnTo>
                <a:close/>
              </a:path>
              <a:path fill="lightenLess" w="28776" h="21600">
                <a:moveTo>
                  <a:pt x="0" y="0"/>
                </a:moveTo>
                <a:lnTo>
                  <a:pt x="28776" y="0"/>
                </a:lnTo>
                <a:lnTo>
                  <a:pt x="27376" y="1400"/>
                </a:lnTo>
                <a:lnTo>
                  <a:pt x="1400" y="1400"/>
                </a:lnTo>
                <a:close/>
              </a:path>
              <a:path fill="darken" w="28776" h="21600">
                <a:moveTo>
                  <a:pt x="28776" y="0"/>
                </a:moveTo>
                <a:lnTo>
                  <a:pt x="28776" y="21600"/>
                </a:lnTo>
                <a:lnTo>
                  <a:pt x="27376" y="20200"/>
                </a:lnTo>
                <a:lnTo>
                  <a:pt x="27376" y="1400"/>
                </a:lnTo>
                <a:close/>
              </a:path>
              <a:path fill="darkenLess" w="28776" h="21600">
                <a:moveTo>
                  <a:pt x="28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6" y="20200"/>
                </a:lnTo>
                <a:close/>
              </a:path>
              <a:path fill="lighten" w="28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6" h="21600">
                <a:moveTo>
                  <a:pt x="7381" y="10800"/>
                </a:moveTo>
                <a:lnTo>
                  <a:pt x="21394" y="3794"/>
                </a:lnTo>
                <a:lnTo>
                  <a:pt x="213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3" descr="http://festival.1september.ru/articles/505238/img-1.gif"/>
          <p:cNvPicPr/>
          <p:nvPr/>
        </p:nvPicPr>
        <p:blipFill>
          <a:blip r:embed="rId1"/>
          <a:stretch/>
        </p:blipFill>
        <p:spPr>
          <a:xfrm>
            <a:off x="214200" y="4071960"/>
            <a:ext cx="3000600" cy="278604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4" descr="http://festival.1september.ru/articles/505238/img-2.gif"/>
          <p:cNvPicPr/>
          <p:nvPr/>
        </p:nvPicPr>
        <p:blipFill>
          <a:blip r:embed="rId2"/>
          <a:stretch/>
        </p:blipFill>
        <p:spPr>
          <a:xfrm>
            <a:off x="6286680" y="3929040"/>
            <a:ext cx="2571480" cy="292896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5" descr="http://festival.1september.ru/articles/505238/img-3.gif"/>
          <p:cNvPicPr/>
          <p:nvPr/>
        </p:nvPicPr>
        <p:blipFill>
          <a:blip r:embed="rId3"/>
          <a:stretch/>
        </p:blipFill>
        <p:spPr>
          <a:xfrm>
            <a:off x="5181480" y="690480"/>
            <a:ext cx="3962520" cy="204804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6" descr="http://festival.1september.ru/articles/505238/img-4.gif"/>
          <p:cNvPicPr/>
          <p:nvPr/>
        </p:nvPicPr>
        <p:blipFill>
          <a:blip r:embed="rId4"/>
          <a:stretch/>
        </p:blipFill>
        <p:spPr>
          <a:xfrm>
            <a:off x="3429000" y="3929040"/>
            <a:ext cx="2643120" cy="29289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14800" y="428400"/>
            <a:ext cx="564336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22" name="Управляющая кнопка: домой 7"/>
          <p:cNvSpPr/>
          <p:nvPr/>
        </p:nvSpPr>
        <p:spPr>
          <a:xfrm>
            <a:off x="8501040" y="621504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5"/>
          <a:stretch/>
        </p:blipFill>
        <p:spPr>
          <a:xfrm>
            <a:off x="108000" y="1159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6" descr=""/>
          <p:cNvPicPr/>
          <p:nvPr/>
        </p:nvPicPr>
        <p:blipFill>
          <a:blip r:embed="rId6"/>
          <a:stretch/>
        </p:blipFill>
        <p:spPr>
          <a:xfrm>
            <a:off x="2262240" y="374760"/>
            <a:ext cx="952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Uk_Arbat"/>
              </a:rPr>
              <a:t>Тема:  Виды треугольников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68000" y="3284640"/>
            <a:ext cx="20271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Calibri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-360" y="3933360"/>
            <a:ext cx="87138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cc"/>
                </a:solidFill>
                <a:latin typeface="Calibri"/>
              </a:rPr>
              <a:t>узнать какие виды треугольников бываю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6"/>
          <p:cNvSpPr/>
          <p:nvPr/>
        </p:nvSpPr>
        <p:spPr>
          <a:xfrm>
            <a:off x="4606920" y="0"/>
            <a:ext cx="453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треугольников по названию  угл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троугольный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ямоуголь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тупоугольны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7"/>
          <p:cNvSpPr/>
          <p:nvPr/>
        </p:nvSpPr>
        <p:spPr>
          <a:xfrm>
            <a:off x="5651640" y="6093000"/>
            <a:ext cx="287964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9"/>
          <p:cNvSpPr/>
          <p:nvPr/>
        </p:nvSpPr>
        <p:spPr>
          <a:xfrm flipH="1" flipV="1">
            <a:off x="7164000" y="3499920"/>
            <a:ext cx="1368360" cy="2521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 flipH="1">
            <a:off x="5651640" y="3500280"/>
            <a:ext cx="1511280" cy="2521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"/>
          <p:cNvSpPr/>
          <p:nvPr/>
        </p:nvSpPr>
        <p:spPr>
          <a:xfrm flipV="1">
            <a:off x="5724360" y="3428640"/>
            <a:ext cx="0" cy="252108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5724360" y="3429000"/>
            <a:ext cx="2880000" cy="252108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3"/>
          <p:cNvSpPr/>
          <p:nvPr/>
        </p:nvSpPr>
        <p:spPr>
          <a:xfrm>
            <a:off x="4140360" y="3573360"/>
            <a:ext cx="1512720" cy="252108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5"/>
          <p:cNvSpPr/>
          <p:nvPr/>
        </p:nvSpPr>
        <p:spPr>
          <a:xfrm>
            <a:off x="4140360" y="3573360"/>
            <a:ext cx="4392360" cy="252108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5651640" y="6021360"/>
            <a:ext cx="2881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0"/>
          <p:cNvSpPr/>
          <p:nvPr/>
        </p:nvSpPr>
        <p:spPr>
          <a:xfrm>
            <a:off x="5724360" y="5950080"/>
            <a:ext cx="2880000" cy="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3"/>
          <p:cNvSpPr/>
          <p:nvPr/>
        </p:nvSpPr>
        <p:spPr>
          <a:xfrm>
            <a:off x="1189080" y="5732640"/>
            <a:ext cx="2879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5"/>
          <p:cNvSpPr/>
          <p:nvPr/>
        </p:nvSpPr>
        <p:spPr>
          <a:xfrm>
            <a:off x="2627280" y="3284640"/>
            <a:ext cx="1440000" cy="244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6"/>
          <p:cNvSpPr/>
          <p:nvPr/>
        </p:nvSpPr>
        <p:spPr>
          <a:xfrm flipH="1">
            <a:off x="1160280" y="3284640"/>
            <a:ext cx="1439640" cy="244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rc 28"/>
          <p:cNvSpPr/>
          <p:nvPr/>
        </p:nvSpPr>
        <p:spPr>
          <a:xfrm rot="2508000">
            <a:off x="1213920" y="5265360"/>
            <a:ext cx="611280" cy="744480"/>
          </a:xfrm>
          <a:custGeom>
            <a:avLst/>
            <a:gdLst>
              <a:gd name="textAreaLeft" fmla="*/ 0 w 611280"/>
              <a:gd name="textAreaRight" fmla="*/ 611640 w 611280"/>
              <a:gd name="textAreaTop" fmla="*/ 0 h 744480"/>
              <a:gd name="textAreaBottom" fmla="*/ 744840 h 744480"/>
            </a:gdLst>
            <a:ahLst/>
            <a:rect l="textAreaLeft" t="textAreaTop" r="textAreaRight" b="textAreaBottom"/>
            <a:pathLst>
              <a:path fill="none" w="15729" h="21600">
                <a:moveTo>
                  <a:pt x="-1" y="0"/>
                </a:moveTo>
                <a:cubicBezTo>
                  <a:pt x="5955" y="0"/>
                  <a:pt x="11647" y="2459"/>
                  <a:pt x="15729" y="6795"/>
                </a:cubicBezTo>
              </a:path>
              <a:path stroke="0" w="15729" h="21600">
                <a:moveTo>
                  <a:pt x="-1" y="0"/>
                </a:moveTo>
                <a:cubicBezTo>
                  <a:pt x="5955" y="0"/>
                  <a:pt x="11647" y="2459"/>
                  <a:pt x="15729" y="679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rc 29"/>
          <p:cNvSpPr/>
          <p:nvPr/>
        </p:nvSpPr>
        <p:spPr>
          <a:xfrm rot="15983400">
            <a:off x="3291480" y="5239080"/>
            <a:ext cx="506160" cy="362160"/>
          </a:xfrm>
          <a:custGeom>
            <a:avLst/>
            <a:gdLst>
              <a:gd name="textAreaLeft" fmla="*/ 0 w 506160"/>
              <a:gd name="textAreaRight" fmla="*/ 506520 w 506160"/>
              <a:gd name="textAreaTop" fmla="*/ 0 h 362160"/>
              <a:gd name="textAreaBottom" fmla="*/ 362160 h 3621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rc 30"/>
          <p:cNvSpPr/>
          <p:nvPr/>
        </p:nvSpPr>
        <p:spPr>
          <a:xfrm rot="8422200">
            <a:off x="2342520" y="3697200"/>
            <a:ext cx="546120" cy="432000"/>
          </a:xfrm>
          <a:custGeom>
            <a:avLst/>
            <a:gdLst>
              <a:gd name="textAreaLeft" fmla="*/ 0 w 546120"/>
              <a:gd name="textAreaRight" fmla="*/ 546120 w 54612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4"/>
          <p:cNvSpPr/>
          <p:nvPr/>
        </p:nvSpPr>
        <p:spPr>
          <a:xfrm>
            <a:off x="900000" y="12682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3 сторо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5"/>
          <p:cNvSpPr/>
          <p:nvPr/>
        </p:nvSpPr>
        <p:spPr>
          <a:xfrm>
            <a:off x="900000" y="1708200"/>
            <a:ext cx="35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3 угл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3 верш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Прямоугольник 21" descr=""/>
          <p:cNvPicPr/>
          <p:nvPr/>
        </p:nvPicPr>
        <p:blipFill>
          <a:blip r:embed="rId1"/>
          <a:stretch/>
        </p:blipFill>
        <p:spPr>
          <a:xfrm>
            <a:off x="665280" y="73080"/>
            <a:ext cx="363852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Равнобедренный треугольник 1"/>
          <p:cNvSpPr/>
          <p:nvPr/>
        </p:nvSpPr>
        <p:spPr>
          <a:xfrm>
            <a:off x="3214800" y="642960"/>
            <a:ext cx="2982960" cy="25718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"/>
          <p:cNvSpPr/>
          <p:nvPr/>
        </p:nvSpPr>
        <p:spPr>
          <a:xfrm>
            <a:off x="2928960" y="114300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entury Schoolbook"/>
              </a:rPr>
              <a:t>5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5"/>
          <p:cNvSpPr/>
          <p:nvPr/>
        </p:nvSpPr>
        <p:spPr>
          <a:xfrm>
            <a:off x="5286240" y="1143000"/>
            <a:ext cx="10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entury Schoolbook"/>
              </a:rPr>
              <a:t>5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4214880" y="328608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entury Schoolbook"/>
              </a:rPr>
              <a:t>5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>
            <a:off x="500040" y="4071960"/>
            <a:ext cx="8143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Century Schoolbook"/>
              </a:rPr>
              <a:t>Треугольник, у которого все стороны равны, называют </a:t>
            </a:r>
            <a:r>
              <a:rPr b="1" lang="ru-RU" sz="4400" spc="-1" strike="noStrike">
                <a:solidFill>
                  <a:srgbClr val="ff0000"/>
                </a:solidFill>
                <a:latin typeface="Century Schoolbook"/>
              </a:rPr>
              <a:t>равносторонним.</a:t>
            </a:r>
            <a:r>
              <a:rPr b="0" lang="ru-RU" sz="4400" spc="-1" strike="noStrike">
                <a:solidFill>
                  <a:srgbClr val="ff0000"/>
                </a:solidFill>
                <a:latin typeface="Century Schoolboo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ый треугольник 1"/>
          <p:cNvSpPr/>
          <p:nvPr/>
        </p:nvSpPr>
        <p:spPr>
          <a:xfrm rot="6540600">
            <a:off x="4278600" y="-102240"/>
            <a:ext cx="1299960" cy="4060800"/>
          </a:xfrm>
          <a:prstGeom prst="rtTriangle">
            <a:avLst/>
          </a:prstGeom>
          <a:solidFill>
            <a:srgbClr val="ff9900"/>
          </a:solidFill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"/>
          <p:cNvSpPr/>
          <p:nvPr/>
        </p:nvSpPr>
        <p:spPr>
          <a:xfrm>
            <a:off x="1643040" y="78588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entury Schoolbook"/>
              </a:rPr>
              <a:t>4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4"/>
          <p:cNvSpPr/>
          <p:nvPr/>
        </p:nvSpPr>
        <p:spPr>
          <a:xfrm>
            <a:off x="5500800" y="7142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entury Schoolbook"/>
              </a:rPr>
              <a:t>7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3714840" y="228600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entury Schoolbook"/>
              </a:rPr>
              <a:t>10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463680" y="3357720"/>
            <a:ext cx="8216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Century Schoolbook"/>
              </a:rPr>
              <a:t>Треугольник, у которого все стороны неравны, называю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Century Schoolbook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Century Schoolbook"/>
              </a:rPr>
              <a:t>разносторонним.</a:t>
            </a:r>
            <a:r>
              <a:rPr b="0" lang="ru-RU" sz="4400" spc="-1" strike="noStrike">
                <a:solidFill>
                  <a:srgbClr val="ff0000"/>
                </a:solidFill>
                <a:latin typeface="Century Schoolboo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Равнобедренный треугольник 1"/>
          <p:cNvSpPr/>
          <p:nvPr/>
        </p:nvSpPr>
        <p:spPr>
          <a:xfrm>
            <a:off x="3714840" y="285840"/>
            <a:ext cx="1714320" cy="31431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428760" y="4071960"/>
            <a:ext cx="82864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Century Schoolbook"/>
              </a:rPr>
              <a:t>Треугольник, у которого равны две стороны, называю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Century Schoolbook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Century Schoolbook"/>
              </a:rPr>
              <a:t>равнобедренным.</a:t>
            </a:r>
            <a:r>
              <a:rPr b="0" lang="ru-RU" sz="4400" spc="-1" strike="noStrike">
                <a:solidFill>
                  <a:srgbClr val="ff0000"/>
                </a:solidFill>
                <a:latin typeface="Century Schoolboo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"/>
          <p:cNvSpPr/>
          <p:nvPr/>
        </p:nvSpPr>
        <p:spPr>
          <a:xfrm>
            <a:off x="2571840" y="1000080"/>
            <a:ext cx="157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entury Schoolbook"/>
              </a:rPr>
              <a:t>6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5214960" y="10000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entury Schoolbook"/>
              </a:rPr>
              <a:t>6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4000680" y="357192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entury Schoolbook"/>
              </a:rPr>
              <a:t>3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900000" y="1125000"/>
            <a:ext cx="6336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еугольники, у которых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с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тороны разной длины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зываются 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разносторонни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еугольник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еугольники, у которы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равны две стороны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 называю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равнобедр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еугольники, у которы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равны все три стороны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зываются 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равносторонни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Line 6"/>
          <p:cNvSpPr/>
          <p:nvPr/>
        </p:nvSpPr>
        <p:spPr>
          <a:xfrm>
            <a:off x="7885080" y="134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6"/>
          <p:cNvSpPr/>
          <p:nvPr/>
        </p:nvSpPr>
        <p:spPr>
          <a:xfrm>
            <a:off x="6588000" y="1557360"/>
            <a:ext cx="2303640" cy="36036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7"/>
          <p:cNvSpPr/>
          <p:nvPr/>
        </p:nvSpPr>
        <p:spPr>
          <a:xfrm>
            <a:off x="6588000" y="1557360"/>
            <a:ext cx="503280" cy="72072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8"/>
          <p:cNvSpPr/>
          <p:nvPr/>
        </p:nvSpPr>
        <p:spPr>
          <a:xfrm flipV="1">
            <a:off x="7093080" y="1915920"/>
            <a:ext cx="1800000" cy="36036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9"/>
          <p:cNvSpPr/>
          <p:nvPr/>
        </p:nvSpPr>
        <p:spPr>
          <a:xfrm>
            <a:off x="6588000" y="3645000"/>
            <a:ext cx="215928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0"/>
          <p:cNvSpPr/>
          <p:nvPr/>
        </p:nvSpPr>
        <p:spPr>
          <a:xfrm flipV="1">
            <a:off x="6588000" y="3213000"/>
            <a:ext cx="1079640" cy="43200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"/>
          <p:cNvSpPr/>
          <p:nvPr/>
        </p:nvSpPr>
        <p:spPr>
          <a:xfrm>
            <a:off x="7667640" y="3213000"/>
            <a:ext cx="1079640" cy="43200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2"/>
          <p:cNvSpPr/>
          <p:nvPr/>
        </p:nvSpPr>
        <p:spPr>
          <a:xfrm>
            <a:off x="6948360" y="5589720"/>
            <a:ext cx="158436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3"/>
          <p:cNvSpPr/>
          <p:nvPr/>
        </p:nvSpPr>
        <p:spPr>
          <a:xfrm flipV="1">
            <a:off x="6948360" y="4653000"/>
            <a:ext cx="792360" cy="93672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4"/>
          <p:cNvSpPr/>
          <p:nvPr/>
        </p:nvSpPr>
        <p:spPr>
          <a:xfrm>
            <a:off x="7740720" y="4653000"/>
            <a:ext cx="792000" cy="93672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Прямоугольник 15" descr=""/>
          <p:cNvPicPr/>
          <p:nvPr/>
        </p:nvPicPr>
        <p:blipFill>
          <a:blip r:embed="rId1"/>
          <a:stretch/>
        </p:blipFill>
        <p:spPr>
          <a:xfrm>
            <a:off x="725400" y="42840"/>
            <a:ext cx="77724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3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840"/>
                            </p:stCondLst>
                            <p:childTnLst>
                              <p:par>
                                <p:cTn id="3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8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3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8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4320"/>
                            </p:stCondLst>
                            <p:childTnLst>
                              <p:par>
                                <p:cTn id="3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8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3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6040"/>
                            </p:stCondLst>
                            <p:childTnLst>
                              <p:par>
                                <p:cTn id="3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8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6080"/>
                            </p:stCondLst>
                            <p:childTnLst>
                              <p:par>
                                <p:cTn id="3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80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6960"/>
                            </p:stCondLst>
                            <p:childTnLst>
                              <p:par>
                                <p:cTn id="3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7760"/>
                            </p:stCondLst>
                            <p:childTnLst>
                              <p:par>
                                <p:cTn id="3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80"/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6:46:51Z</dcterms:created>
  <dc:creator>Анатолий</dc:creator>
  <dc:description/>
  <dc:language>en-US</dc:language>
  <cp:lastModifiedBy>user</cp:lastModifiedBy>
  <dcterms:modified xsi:type="dcterms:W3CDTF">2020-04-10T09:07:04Z</dcterms:modified>
  <cp:revision>132</cp:revision>
  <dc:subject/>
  <dc:title>Слайд 1</dc:title>
</cp:coreProperties>
</file>