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1.jpeg" ContentType="image/jpeg"/>
  <Override PartName="/ppt/media/image23.wmf" ContentType="image/x-wmf"/>
  <Override PartName="/ppt/media/image7.wmf" ContentType="image/x-wmf"/>
  <Override PartName="/ppt/media/image6.wmf" ContentType="image/x-wmf"/>
  <Override PartName="/ppt/media/image22.wmf" ContentType="image/x-wmf"/>
  <Override PartName="/ppt/media/image21.jpeg" ContentType="image/jpeg"/>
  <Override PartName="/ppt/media/image16.png" ContentType="image/png"/>
  <Override PartName="/ppt/media/image15.wmf" ContentType="image/x-wmf"/>
  <Override PartName="/ppt/media/image19.wmf" ContentType="image/x-wmf"/>
  <Override PartName="/ppt/media/image1.wmf" ContentType="image/x-wmf"/>
  <Override PartName="/ppt/media/image13.jpeg" ContentType="image/jpeg"/>
  <Override PartName="/ppt/media/image20.wmf" ContentType="image/x-wmf"/>
  <Override PartName="/ppt/media/image18.wmf" ContentType="image/x-wmf"/>
  <Override PartName="/ppt/media/image17.wmf" ContentType="image/x-wmf"/>
  <Override PartName="/ppt/media/image14.wmf" ContentType="image/x-wmf"/>
  <Override PartName="/ppt/media/image3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585F-1641-4AA6-808B-8217F818B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69F3-43BE-4527-8867-157D392A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2EED-E6A8-4B5A-91B3-F725AB08C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835E-096F-4C44-8358-611E3A496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2D1D-DBFD-493D-AD84-4BD58D71A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8DA7-DE77-4C8B-A4FF-6817E1DA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528D-551D-479E-B39B-FFB80148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3E6B-2301-448D-BF58-83F076E3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87DC-743D-49E7-AA2F-4C9E1510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20A2-0844-4C46-9583-9E0565EB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82A4-736A-4102-B52F-A74A5408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2196-A5C3-4EE3-9E1E-6A7CF9BD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4269-1CDE-4D11-A81F-2DF39A71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AD8B-F316-47E1-B9E1-DED23730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43C7-11CE-48CA-94AF-88D180E9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B21D-4C2A-4473-9DB8-4B1B79CD5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35D0-AB65-4969-AE5C-08758EB6E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4279-A614-43B0-A054-828A5987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FEE5-50E0-4406-98A7-59C8009A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0CCE-2410-4D26-A1DC-92A8673D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5618-2AA3-4494-9AEE-2F4B3475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126D-DD9F-49F7-943E-692D37EC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FC34-4B8D-4101-A9A1-2651E150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89AC-F685-40C3-A9B6-1B2D22AF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4b269"/>
                </a:gs>
                <a:gs pos="50000">
                  <a:srgbClr val="e9d47d"/>
                </a:gs>
                <a:gs pos="100000">
                  <a:srgbClr val="c4b2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16542"/>
                </a:gs>
                <a:gs pos="50000">
                  <a:srgbClr val="d4dd91"/>
                </a:gs>
                <a:gs pos="100000">
                  <a:srgbClr val="6165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C944-8A3B-495A-B6AE-BFEC25EB843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4b269"/>
                </a:gs>
                <a:gs pos="50000">
                  <a:srgbClr val="e9d47d"/>
                </a:gs>
                <a:gs pos="100000">
                  <a:srgbClr val="c4b2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16542"/>
                </a:gs>
                <a:gs pos="50000">
                  <a:srgbClr val="d4dd91"/>
                </a:gs>
                <a:gs pos="100000">
                  <a:srgbClr val="6165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1D48-4A84-4D7F-B8A6-45E140C0B0C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35280" y="198864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12815"/>
                </a:solidFill>
                <a:latin typeface="Comic Sans MS"/>
              </a:rPr>
              <a:t>Времена года</a:t>
            </a:r>
            <a:endParaRPr b="0" lang="en-US" sz="6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68360" y="4076280"/>
            <a:ext cx="5640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Подготов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Воспитатель МДОУ ЦР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д/с №27 «Родничо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Суслова А.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2097000" cy="208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1270080" y="513000"/>
            <a:ext cx="5128200" cy="5833080"/>
            <a:chOff x="1270080" y="513000"/>
            <a:chExt cx="5128200" cy="5833080"/>
          </a:xfrm>
        </p:grpSpPr>
        <p:sp>
          <p:nvSpPr>
            <p:cNvPr id="196" name="_s241711"/>
            <p:cNvSpPr/>
            <p:nvPr/>
          </p:nvSpPr>
          <p:spPr>
            <a:xfrm>
              <a:off x="2090520" y="513000"/>
              <a:ext cx="3487320" cy="3966480"/>
            </a:xfrm>
            <a:custGeom>
              <a:avLst/>
              <a:gdLst>
                <a:gd name="textAreaLeft" fmla="*/ 0 w 3487320"/>
                <a:gd name="textAreaRight" fmla="*/ 3487680 w 3487320"/>
                <a:gd name="textAreaTop" fmla="*/ 0 h 3966480"/>
                <a:gd name="textAreaBottom" fmla="*/ 3966840 h 396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241716"/>
            <p:cNvSpPr/>
            <p:nvPr/>
          </p:nvSpPr>
          <p:spPr>
            <a:xfrm rot="5400000">
              <a:off x="2671200" y="1685520"/>
              <a:ext cx="3966480" cy="3487320"/>
            </a:xfrm>
            <a:custGeom>
              <a:avLst/>
              <a:gdLst>
                <a:gd name="textAreaLeft" fmla="*/ 0 w 3966480"/>
                <a:gd name="textAreaRight" fmla="*/ 3966840 w 3966480"/>
                <a:gd name="textAreaTop" fmla="*/ 0 h 3487320"/>
                <a:gd name="textAreaBottom" fmla="*/ 3487680 h 348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241712"/>
            <p:cNvSpPr/>
            <p:nvPr/>
          </p:nvSpPr>
          <p:spPr>
            <a:xfrm rot="10800000">
              <a:off x="2090160" y="2379600"/>
              <a:ext cx="3487320" cy="3966480"/>
            </a:xfrm>
            <a:custGeom>
              <a:avLst/>
              <a:gdLst>
                <a:gd name="textAreaLeft" fmla="*/ 0 w 3487320"/>
                <a:gd name="textAreaRight" fmla="*/ 3487680 w 3487320"/>
                <a:gd name="textAreaTop" fmla="*/ 0 h 3966480"/>
                <a:gd name="textAreaBottom" fmla="*/ 3966840 h 396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241714"/>
            <p:cNvSpPr/>
            <p:nvPr/>
          </p:nvSpPr>
          <p:spPr>
            <a:xfrm rot="16200000">
              <a:off x="1030320" y="1685520"/>
              <a:ext cx="3966480" cy="3487320"/>
            </a:xfrm>
            <a:custGeom>
              <a:avLst/>
              <a:gdLst>
                <a:gd name="textAreaLeft" fmla="*/ 0 w 3966480"/>
                <a:gd name="textAreaRight" fmla="*/ 3966840 w 3966480"/>
                <a:gd name="textAreaTop" fmla="*/ 0 h 3487320"/>
                <a:gd name="textAreaBottom" fmla="*/ 3487680 h 348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241709"/>
            <p:cNvSpPr/>
            <p:nvPr/>
          </p:nvSpPr>
          <p:spPr>
            <a:xfrm>
              <a:off x="4762440" y="876960"/>
              <a:ext cx="1314720" cy="14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8000"/>
                  </a:solidFill>
                  <a:latin typeface="Times New Roman"/>
                </a:rPr>
                <a:t>Весн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241710"/>
            <p:cNvSpPr/>
            <p:nvPr/>
          </p:nvSpPr>
          <p:spPr>
            <a:xfrm>
              <a:off x="1593360" y="4487400"/>
              <a:ext cx="1314360" cy="14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3300"/>
                  </a:solidFill>
                  <a:latin typeface="Times New Roman"/>
                </a:rPr>
                <a:t>Осен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241713"/>
            <p:cNvSpPr/>
            <p:nvPr/>
          </p:nvSpPr>
          <p:spPr>
            <a:xfrm>
              <a:off x="1590120" y="880560"/>
              <a:ext cx="1314720" cy="14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Зим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_s241715"/>
            <p:cNvSpPr/>
            <p:nvPr/>
          </p:nvSpPr>
          <p:spPr>
            <a:xfrm>
              <a:off x="4764240" y="4483440"/>
              <a:ext cx="1314360" cy="14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00"/>
                  </a:solidFill>
                  <a:latin typeface="Times New Roman"/>
                </a:rPr>
                <a:t>Лет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627280" y="1700280"/>
            <a:ext cx="273672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Comic Sans MS"/>
              </a:rPr>
              <a:t>Осень</a:t>
            </a:r>
            <a:endParaRPr b="0" lang="en-US" sz="5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003640" y="2205000"/>
            <a:ext cx="25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3527280" cy="27828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500720" y="184464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Сентяб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00720" y="270828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Ок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тяб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356000" y="350028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Нояб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1280" y="4365720"/>
            <a:ext cx="6048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Ходит осень по дорож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Промочила в луже 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Льют дожди, и нет прос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Затерялось где – то ле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1417680" cy="17906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6084720" y="5013360"/>
            <a:ext cx="15224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114300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Зима</a:t>
            </a:r>
            <a:endParaRPr b="0" lang="en-US" sz="54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105080" cy="27338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643280" y="177336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Декаб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43280" y="2565360"/>
            <a:ext cx="25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Янва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643280" y="335772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Февр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6084720" y="260280"/>
            <a:ext cx="1400400" cy="1800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443640" y="5057640"/>
            <a:ext cx="1400040" cy="18003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79280" y="4221000"/>
            <a:ext cx="6696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Вот зима пришла серебрист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Белым снегом замела поле чист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Днем с детьми на коньках все кат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Ночью в снежных огоньках рассыпается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Times New Roman"/>
              </a:rPr>
              <a:t>Весна</a:t>
            </a:r>
            <a:endParaRPr b="0" lang="en-US" sz="54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657600" cy="24573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140360" y="191628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М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356000" y="2708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imes New Roman"/>
              </a:rPr>
              <a:t>Апр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40360" y="350028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1822680" cy="1531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50920" y="4005360"/>
            <a:ext cx="4537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По опушке шла ВЕС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Ведра с дождиком не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Опустилась на пригорке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Опрокинула ведер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284720" y="5661000"/>
            <a:ext cx="352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Зазвенели капл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Загалдели цапл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80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00"/>
                </a:solidFill>
                <a:latin typeface="Times New Roman"/>
              </a:rPr>
              <a:t>Лето</a:t>
            </a:r>
            <a:endParaRPr b="0" lang="en-US" sz="54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3255840" cy="33843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6372360" y="333360"/>
            <a:ext cx="1180800" cy="11811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356000" y="1916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Ию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24360" y="2781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Ию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067280" y="364500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2207"/>
                </a:solidFill>
                <a:latin typeface="Times New Roman"/>
              </a:rPr>
              <a:t>Авгу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8360" y="4869000"/>
            <a:ext cx="5400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Уж ты, ласточка, ты касаточ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Ты возьми ключи, лети на неб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Ты запри зиму, отопри ле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Найди ошибку</a:t>
            </a:r>
            <a:endParaRPr b="0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692360" y="3860640"/>
            <a:ext cx="2343240" cy="19767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3924360" y="1557360"/>
            <a:ext cx="2325600" cy="19429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4067280" y="3860640"/>
            <a:ext cx="2060640" cy="19954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1835280" y="1628640"/>
            <a:ext cx="1944720" cy="1916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5148360" y="6021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Ле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292720" y="328464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З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60213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Вес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-252360" y="3284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Ос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25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7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1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33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774072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547640" y="836640"/>
            <a:ext cx="538488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332000" y="3933720"/>
            <a:ext cx="5618160" cy="158436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50920" y="4365720"/>
            <a:ext cx="51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Желаем успехов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 rot="16200000">
            <a:off x="6454800" y="204480"/>
            <a:ext cx="1413000" cy="10033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 rot="10657800">
            <a:off x="0" y="5854320"/>
            <a:ext cx="1413000" cy="10033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0" y="189000"/>
            <a:ext cx="168264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02:09:23Z</dcterms:created>
  <dc:creator>Анютка</dc:creator>
  <dc:description/>
  <dc:language>en-US</dc:language>
  <cp:lastModifiedBy>Анютка</cp:lastModifiedBy>
  <dcterms:modified xsi:type="dcterms:W3CDTF">2010-10-29T13:54:48Z</dcterms:modified>
  <cp:revision>45</cp:revision>
  <dc:subject/>
  <dc:title>Времена года</dc:title>
</cp:coreProperties>
</file>