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157-4BD1-4CDF-B747-472F37C0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398-329E-4546-8294-BD87BCD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94A-914E-4EAA-9730-65DC318F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9E2-8F05-4925-9F8A-E56DAED0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BC7A-0215-4774-9B65-2C6481B2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780A-44C5-443A-B9A4-CB019A0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A46-E04A-421D-B19F-B6D16683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2898-6240-4989-9EA8-CF76CF66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1BE0-C309-4C70-B790-E1142368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A82B-EDE6-4381-BE85-0EF7526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B9B8-D329-4C61-A9E0-F7BBCAC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3A6-BECA-470D-A2FE-B5C880F3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D9A-60B3-49E7-816E-7919E29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C2B-98E0-4572-8DC7-9309703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A94-3B03-44BC-8DA7-97797CBE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BD0-7780-473F-8C7A-E949D1D4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9276-CE32-4E2D-8802-5881D554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4AF-CA5F-4257-A86C-7FEDB98B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926-AF8F-4639-8111-5303866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B2B-9B3D-4402-A9EF-18170DF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1D1-8682-4387-907F-3542743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694-7F28-4417-BFD2-D4A15D1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6B7-E1AA-4752-8B0D-ABD4D82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450-948C-4589-A25F-D586CD8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F683-A28A-4E61-8427-8E9424FEB6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842-AEA6-4BC4-BBEE-A9176E2D639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Ю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гары нерв эшчәнлеге үзенчәлекләр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263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Фикерләү (Мышл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Сөйләм (Реч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Хәтер (Памя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Дикъкать (Вним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Эмо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Ихтыяр (Воля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характеристик объёма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484880"/>
        </p:xfrm>
        <a:graphic>
          <a:graphicData uri="http://schemas.openxmlformats.org/drawingml/2006/table">
            <a:tbl>
              <a:tblPr/>
              <a:tblGrid>
                <a:gridCol w="2176560"/>
                <a:gridCol w="605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Числ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Характеристика пам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6 и 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низкий. Желательно регулярно тренировать памя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7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чуть ниже средне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3 - 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хорош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8 -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бъём памяти отличны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Свыше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Ваша память феноменаль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ыт №2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объёма зрительной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Определите объём своей зритель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памяти: в течении 1 минуты изуч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фигуры на рисунке №1, а затем найд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их на рисунке №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Подсчитайте процент фигур назв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унок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905120"/>
          <a:ext cx="7848360" cy="44766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24"/>
          <p:cNvSpPr/>
          <p:nvPr/>
        </p:nvSpPr>
        <p:spPr>
          <a:xfrm>
            <a:off x="1403280" y="2205000"/>
            <a:ext cx="115272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4067280" y="2205000"/>
            <a:ext cx="1081080" cy="936720"/>
          </a:xfrm>
          <a:prstGeom prst="flowChartCollat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6588000" y="2276640"/>
            <a:ext cx="505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27"/>
          <p:cNvSpPr/>
          <p:nvPr/>
        </p:nvSpPr>
        <p:spPr>
          <a:xfrm flipV="1">
            <a:off x="7093080" y="227628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709308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36"/>
          <p:cNvSpPr/>
          <p:nvPr/>
        </p:nvSpPr>
        <p:spPr>
          <a:xfrm>
            <a:off x="1403280" y="3573360"/>
            <a:ext cx="115272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40"/>
          <p:cNvSpPr/>
          <p:nvPr/>
        </p:nvSpPr>
        <p:spPr>
          <a:xfrm rot="10800000">
            <a:off x="6516720" y="3573000"/>
            <a:ext cx="1295280" cy="1150920"/>
          </a:xfrm>
          <a:custGeom>
            <a:avLst/>
            <a:gdLst>
              <a:gd name="textAreaLeft" fmla="*/ 0 w 1295280"/>
              <a:gd name="textAreaRight" fmla="*/ 1110240 w 1295280"/>
              <a:gd name="textAreaTop" fmla="*/ 76752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41"/>
          <p:cNvSpPr/>
          <p:nvPr/>
        </p:nvSpPr>
        <p:spPr>
          <a:xfrm>
            <a:off x="1403280" y="5084640"/>
            <a:ext cx="1152720" cy="115272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2"/>
          <p:cNvSpPr/>
          <p:nvPr/>
        </p:nvSpPr>
        <p:spPr>
          <a:xfrm>
            <a:off x="4572000" y="5157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3"/>
          <p:cNvSpPr/>
          <p:nvPr/>
        </p:nvSpPr>
        <p:spPr>
          <a:xfrm>
            <a:off x="4140360" y="5589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44"/>
          <p:cNvSpPr/>
          <p:nvPr/>
        </p:nvSpPr>
        <p:spPr>
          <a:xfrm rot="16200000">
            <a:off x="6696720" y="519300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46"/>
          <p:cNvSpPr/>
          <p:nvPr/>
        </p:nvSpPr>
        <p:spPr>
          <a:xfrm>
            <a:off x="4067280" y="3500280"/>
            <a:ext cx="1296720" cy="1297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4284720" y="3716280"/>
            <a:ext cx="86364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60000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унок №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052640"/>
          <a:ext cx="8713800" cy="55623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38"/>
          <p:cNvSpPr/>
          <p:nvPr/>
        </p:nvSpPr>
        <p:spPr>
          <a:xfrm>
            <a:off x="611280" y="1268280"/>
            <a:ext cx="108108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39"/>
          <p:cNvSpPr/>
          <p:nvPr/>
        </p:nvSpPr>
        <p:spPr>
          <a:xfrm rot="16200000">
            <a:off x="2322360" y="1287000"/>
            <a:ext cx="1008360" cy="900360"/>
          </a:xfrm>
          <a:prstGeom prst="flowChartCollat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4067280" y="1268280"/>
            <a:ext cx="1081080" cy="1008360"/>
          </a:xfrm>
          <a:prstGeom prst="flowChartOr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1"/>
          <p:cNvSpPr/>
          <p:nvPr/>
        </p:nvSpPr>
        <p:spPr>
          <a:xfrm rot="10800000">
            <a:off x="5796000" y="1341000"/>
            <a:ext cx="1008000" cy="863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8101080" y="126828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43"/>
          <p:cNvSpPr/>
          <p:nvPr/>
        </p:nvSpPr>
        <p:spPr>
          <a:xfrm>
            <a:off x="7596360" y="1773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44"/>
          <p:cNvSpPr/>
          <p:nvPr/>
        </p:nvSpPr>
        <p:spPr>
          <a:xfrm>
            <a:off x="1116000" y="2637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46"/>
          <p:cNvSpPr/>
          <p:nvPr/>
        </p:nvSpPr>
        <p:spPr>
          <a:xfrm>
            <a:off x="684360" y="2637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7"/>
          <p:cNvSpPr/>
          <p:nvPr/>
        </p:nvSpPr>
        <p:spPr>
          <a:xfrm>
            <a:off x="684360" y="3645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8"/>
          <p:cNvSpPr/>
          <p:nvPr/>
        </p:nvSpPr>
        <p:spPr>
          <a:xfrm>
            <a:off x="2484360" y="2637000"/>
            <a:ext cx="935280" cy="1008000"/>
          </a:xfrm>
          <a:prstGeom prst="flowChartDelay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9"/>
          <p:cNvSpPr/>
          <p:nvPr/>
        </p:nvSpPr>
        <p:spPr>
          <a:xfrm>
            <a:off x="4140360" y="2637000"/>
            <a:ext cx="1008000" cy="100800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5867280" y="2708280"/>
            <a:ext cx="1081080" cy="865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53"/>
          <p:cNvSpPr/>
          <p:nvPr/>
        </p:nvSpPr>
        <p:spPr>
          <a:xfrm>
            <a:off x="7667640" y="2708280"/>
            <a:ext cx="93672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54"/>
          <p:cNvSpPr/>
          <p:nvPr/>
        </p:nvSpPr>
        <p:spPr>
          <a:xfrm>
            <a:off x="7667640" y="2708280"/>
            <a:ext cx="93672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56"/>
          <p:cNvSpPr/>
          <p:nvPr/>
        </p:nvSpPr>
        <p:spPr>
          <a:xfrm>
            <a:off x="468360" y="3933720"/>
            <a:ext cx="122400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7"/>
          <p:cNvSpPr/>
          <p:nvPr/>
        </p:nvSpPr>
        <p:spPr>
          <a:xfrm>
            <a:off x="2340000" y="3933720"/>
            <a:ext cx="1152360" cy="1150920"/>
          </a:xfrm>
          <a:custGeom>
            <a:avLst/>
            <a:gdLst>
              <a:gd name="textAreaLeft" fmla="*/ 0 w 1152360"/>
              <a:gd name="textAreaRight" fmla="*/ 987840 w 1152360"/>
              <a:gd name="textAreaTop" fmla="*/ 76752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58"/>
          <p:cNvSpPr/>
          <p:nvPr/>
        </p:nvSpPr>
        <p:spPr>
          <a:xfrm>
            <a:off x="3924360" y="407664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59"/>
          <p:cNvSpPr/>
          <p:nvPr/>
        </p:nvSpPr>
        <p:spPr>
          <a:xfrm flipH="1">
            <a:off x="3995280" y="4508640"/>
            <a:ext cx="50508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60"/>
          <p:cNvSpPr/>
          <p:nvPr/>
        </p:nvSpPr>
        <p:spPr>
          <a:xfrm>
            <a:off x="4500720" y="4508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6156360" y="4005360"/>
            <a:ext cx="50328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62"/>
          <p:cNvSpPr/>
          <p:nvPr/>
        </p:nvSpPr>
        <p:spPr>
          <a:xfrm>
            <a:off x="7524720" y="414972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63"/>
          <p:cNvSpPr/>
          <p:nvPr/>
        </p:nvSpPr>
        <p:spPr>
          <a:xfrm>
            <a:off x="7524720" y="501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64"/>
          <p:cNvSpPr/>
          <p:nvPr/>
        </p:nvSpPr>
        <p:spPr>
          <a:xfrm>
            <a:off x="7667640" y="400536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8459640" y="400536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66"/>
          <p:cNvSpPr/>
          <p:nvPr/>
        </p:nvSpPr>
        <p:spPr>
          <a:xfrm>
            <a:off x="539640" y="5300640"/>
            <a:ext cx="1152720" cy="1224000"/>
          </a:xfrm>
          <a:prstGeom prst="flowChartSummingJunction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67"/>
          <p:cNvSpPr/>
          <p:nvPr/>
        </p:nvSpPr>
        <p:spPr>
          <a:xfrm>
            <a:off x="2556000" y="5300640"/>
            <a:ext cx="720720" cy="1224000"/>
          </a:xfrm>
          <a:prstGeom prst="flowChartSor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68"/>
          <p:cNvSpPr/>
          <p:nvPr/>
        </p:nvSpPr>
        <p:spPr>
          <a:xfrm>
            <a:off x="3995640" y="5300640"/>
            <a:ext cx="129708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4211640" y="5445000"/>
            <a:ext cx="86508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70"/>
          <p:cNvSpPr/>
          <p:nvPr/>
        </p:nvSpPr>
        <p:spPr>
          <a:xfrm>
            <a:off x="5940360" y="5445000"/>
            <a:ext cx="1079640" cy="100836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71"/>
          <p:cNvSpPr/>
          <p:nvPr/>
        </p:nvSpPr>
        <p:spPr>
          <a:xfrm>
            <a:off x="7524720" y="5373720"/>
            <a:ext cx="1079640" cy="1079640"/>
          </a:xfrm>
          <a:prstGeom prst="diamond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6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258920" y="1989000"/>
            <a:ext cx="129528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51280" y="2060640"/>
            <a:ext cx="1368360" cy="122400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6588000" y="1989000"/>
            <a:ext cx="12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059280" y="37893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2195640" y="465300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5148360" y="4005360"/>
            <a:ext cx="1439640" cy="143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364000" y="4221000"/>
            <a:ext cx="1008360" cy="10083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тели зрительной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90 – 100 % - отли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70 – 90 % - очень хорош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50 – 70 % -  хорош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30 – 50 % - удовлетвори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10 -30 % -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0 -10 % - очень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ъкать (внимание ) – 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шчәнлектә,объектта,вакыйгада аңның юнәлешлелеге һәм тупланганлыг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ыт №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устойчивости вним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Внимательно присмотритесь к рисун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на котором изображена проекция усечён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ной пирамиды в течении 30 секунд. П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каждом изменении восприятия не гляд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в тетрадь делаете штрих. После оконча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ния опыта результат удваиваете и сравнива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с таблицей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826920" y="549360"/>
            <a:ext cx="7490160" cy="5618160"/>
          </a:xfrm>
          <a:prstGeom prst="bevel">
            <a:avLst>
              <a:gd name="adj" fmla="val 34190"/>
            </a:avLst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0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фикерләү (Мышление)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чынбарлыкны гомумиләштереп,арадашлы танып белү.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 u="sng">
                <a:solidFill>
                  <a:srgbClr val="ff0000"/>
                </a:solidFill>
                <a:uFillTx/>
                <a:latin typeface="Calibri"/>
              </a:rPr>
              <a:t>Акыл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– кеше фикерләвенең индивидуаль үзенчәлекләре җыелма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7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характера устойчивости вним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Частота изменения изобра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Характеристика вним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Не более 1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Очень устойчи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2 -2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Средней устойчив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Более 2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Недостаточно устойчи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сөйләм (Реч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вторая сигнальная система)) – сүзләрдән төзелә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өрләре: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держимое 2"/>
          <p:cNvSpPr/>
          <p:nvPr/>
        </p:nvSpPr>
        <p:spPr>
          <a:xfrm>
            <a:off x="781200" y="1341360"/>
            <a:ext cx="74991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Тышк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сөйләшү ярдәмендә аралаш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Эчк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үзеңә юнәлтелгә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Телдә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сүзләр ярдәменд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alibri"/>
              </a:rPr>
              <a:t>Язмач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Хәтер (Память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информаистә калдыру,саклау,хәтердә яңарту.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төрләре: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Дәвамлылыгы буенча: озак вакытлы, кыска вакытлы (операти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Күрү хәтере, ишетү хәтере, хәрәкәт хәте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Логик хәтер, механик хә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ыт №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вление объёма кратковремен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В течении 1 минуты внимательно прочит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предложенные слова и постарайтесь запом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В течении 5 минут запишите все слова,</a:t>
            </a:r>
            <a:r>
              <a:rPr b="0" lang="ru-RU" sz="2800" spc="-1" strike="noStrike">
                <a:solidFill>
                  <a:srgbClr val="33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которые в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удалось запомнить, в любом поряд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Подсчитайте число правильно написанных слов, 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каждое правильное слово начислите себе 1 бал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Полученный результат сравните с таблицей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Calibri"/>
              </a:rPr>
              <a:t>сделайте выв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Calibri"/>
              </a:rPr>
              <a:t>Сено, ключ, самолёт, поезд, картина, месяц, певец, радио, трава, перевал, автомобиль, сердце, букет, тротуар, столетие, фильм, аромат, горы, океан, неподвижность, календарь, мужчина, женщина, абстракция, верт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0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30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00"/>
                </a:solidFill>
                <a:latin typeface="Arial Black"/>
              </a:rPr>
              <a:t>СТО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00"/>
                </a:solidFill>
                <a:latin typeface="Calibri"/>
              </a:rPr>
              <a:t>Сено, ключ, самолёт, поезд, картина, месяц, певец, радио, трава, перевал, автомобиль, сердце, букет, тротуар, столетие, фильм, аромат, горы, океан, неподвижность, календарь, мужчина, женщина, абстракция, верт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3:06:35Z</dcterms:created>
  <dc:creator>1</dc:creator>
  <dc:description/>
  <dc:language>en-US</dc:language>
  <cp:lastModifiedBy>User</cp:lastModifiedBy>
  <dcterms:modified xsi:type="dcterms:W3CDTF">2020-04-10T10:52:53Z</dcterms:modified>
  <cp:revision>31</cp:revision>
  <dc:subject/>
  <dc:title>Слайд 1</dc:title>
</cp:coreProperties>
</file>