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A8A-4828-46B4-B383-2786BD69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44C-02D2-4A23-848F-1CD0A0B9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33D-77C8-47C7-ACD0-2405C9B7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309-5149-4528-8BC8-B6204308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45AB-CF9F-422E-A4BF-922CA1EB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8A6A-4F35-49F8-A353-22ED0800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E858-3B1A-410D-B24F-9A7CE638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3FC8-3BFB-4932-A449-36DD7722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CAFB-8129-4E08-8D25-CD186EFD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451C-50B8-4347-B36E-D07295F4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6426-63A4-4A73-B213-0FA27B6E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BC8-DAC5-4756-8909-017D9D21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56CE-3988-467A-87AA-97AAF9F4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B779-0880-4568-9208-FC29F9D9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8710-D3D5-4455-BB95-BA0ECDBB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2475-50D2-4DE6-9147-D48FEEB4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7E76-6B9D-46E6-8636-8EF858B4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743-5B69-4F80-B47C-9C153A05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9A5B-4340-45E9-9231-D57909CD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E7D-9D42-472F-8379-E170FD27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A94-15F5-4C06-8448-FD323453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3ABF-34BA-4EBE-9635-62A6FCC4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2C0-0D0E-40B3-8505-101BCD3B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BBE-ABF7-4CA8-BF33-5F83618C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3a0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723a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3a0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723a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3a0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723a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3a0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723a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3a0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723a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3a0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3a0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3a0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3a0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74F7-6761-4A32-AC18-9746AE3137CC}" type="slidenum">
              <a:rPr b="0" lang="en-US" sz="1400" spc="-1" strike="noStrike">
                <a:solidFill>
                  <a:srgbClr val="723a0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8f8f8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3a0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723a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3a0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723a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3a0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723a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3a0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723a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3a0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723a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3a0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3a0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3a0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3FA5-9BDB-4628-8FB9-9F8343BAC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3880" y="928800"/>
            <a:ext cx="735804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Презентация </a:t>
            </a: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«Животные в годы ВОВ»</a:t>
            </a:r>
            <a:endParaRPr b="0" lang="en-US" sz="3600" spc="-1" strike="noStrike">
              <a:solidFill>
                <a:srgbClr val="723a0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8400" y="4076280"/>
            <a:ext cx="7715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3a0c"/>
                </a:solidFill>
                <a:latin typeface="Arial"/>
              </a:rPr>
              <a:t>Воспитатель: Колесникова Д.С.</a:t>
            </a: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3a0c"/>
                </a:solidFill>
                <a:latin typeface="Arial"/>
              </a:rPr>
              <a:t>2 «Б» класс</a:t>
            </a:r>
            <a:endParaRPr b="0" lang="en-US" sz="3200" spc="-1" strike="noStrike">
              <a:solidFill>
                <a:srgbClr val="723a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5580000" y="1628640"/>
            <a:ext cx="324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 Великой Отечественной войны родилась новая специальность собаки: борьба с вражескими тан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971640" y="5013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аки-подрывники уничтожили более 300 вражеских танков – примерно две дивизи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09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95280" y="765000"/>
            <a:ext cx="4968720" cy="372924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41580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580000" y="1484280"/>
            <a:ext cx="32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и случаи, когда, увидев выпущенных четвероногих подрывников, гитлеровцы поспешно отступ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0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5280" y="1197000"/>
            <a:ext cx="4968720" cy="302400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118" name="Rectangle 9"/>
          <p:cNvSpPr/>
          <p:nvPr/>
        </p:nvSpPr>
        <p:spPr>
          <a:xfrm>
            <a:off x="826920" y="508464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жатый выпускал собак из окопа прямо на танк. С привязанным к телу смертоносным зарядом, они бросались на движущуюся креп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Саперы ведут разминирование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619280" y="692280"/>
            <a:ext cx="6121440" cy="386208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120" name="Rectangle 3"/>
          <p:cNvSpPr/>
          <p:nvPr/>
        </p:nvSpPr>
        <p:spPr>
          <a:xfrm>
            <a:off x="539640" y="479736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е одна военная специальность собаки – служба миноискания. Для этого использовались собаки с острым чутьем служебных и охотничьих п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4284720" y="47628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оногие саперы по запаху находили зарытый «сюрприз» и садились рядом, а человек осторожно извлекал и обезвреживал смертоносную наход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0" y="3432240"/>
            <a:ext cx="54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Рисунокк"/>
          <p:cNvPicPr/>
          <p:nvPr/>
        </p:nvPicPr>
        <p:blipFill>
          <a:blip r:embed="rId1">
            <a:lum bright="12000"/>
          </a:blip>
          <a:srcRect l="0" t="0" r="5176" b="16520"/>
          <a:stretch/>
        </p:blipFill>
        <p:spPr>
          <a:xfrm>
            <a:off x="4284720" y="3213000"/>
            <a:ext cx="4392720" cy="324180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124" name="Rectangle 5"/>
          <p:cNvSpPr/>
          <p:nvPr/>
        </p:nvSpPr>
        <p:spPr>
          <a:xfrm>
            <a:off x="468360" y="443700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4 000 000 мин было обнаружено соба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01_s"/>
          <p:cNvPicPr/>
          <p:nvPr/>
        </p:nvPicPr>
        <p:blipFill>
          <a:blip r:embed="rId2"/>
          <a:stretch/>
        </p:blipFill>
        <p:spPr>
          <a:xfrm>
            <a:off x="395280" y="476280"/>
            <a:ext cx="3760920" cy="282096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s07312"/>
          <p:cNvPicPr/>
          <p:nvPr/>
        </p:nvPicPr>
        <p:blipFill>
          <a:blip r:embed="rId1"/>
          <a:stretch/>
        </p:blipFill>
        <p:spPr>
          <a:xfrm>
            <a:off x="755640" y="1700280"/>
            <a:ext cx="7705800" cy="337032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127" name="Rectangle 4"/>
          <p:cNvSpPr/>
          <p:nvPr/>
        </p:nvSpPr>
        <p:spPr>
          <a:xfrm>
            <a:off x="684360" y="47628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200 000 важных боевых донесений доставили собаки за неполных 4 военных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834920" y="5661000"/>
            <a:ext cx="54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протянули около 8000 км каб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468360" y="788040"/>
            <a:ext cx="831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ануне нападения гитлеровской Германии на СССР собаки являлись вполне полноправными бойцами Красной Армии. В годы Великой Отечественной войны на фронтах сражались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68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тыс. псов со своими вожатыми. Они уничтожили или подбили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30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танков противника, доставили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20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тыс. донесений, размотали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788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км телефонного кабеля, вывезли с передовой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68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тыс. раненых, отыскали четыре миллиона мин и взрывных устройст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-4627440" y="35211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187280" y="836640"/>
            <a:ext cx="7056720" cy="545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 Rounded MT Bold"/>
              </a:rPr>
              <a:t>Немало четвероногих ветеранов после войны не вернулось домой, а на погибших псов, так же, как и на всех солдат, бывшим хозяевам приходили похоронк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27480" y="171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826920" y="1700280"/>
            <a:ext cx="756144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723a0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ошади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723a0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41497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шади старались, как уме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несли героев из атак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 герои в песнях прогреме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не споют о лошадях…</a:t>
            </a:r>
            <a:endParaRPr b="0" lang="en-US" sz="2400" spc="-1" strike="noStrike">
              <a:solidFill>
                <a:srgbClr val="723a0c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611280" y="415800"/>
            <a:ext cx="7684920" cy="367992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Кавалерийская атака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258920" y="404640"/>
            <a:ext cx="6767640" cy="437832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137" name="Rectangle 3"/>
          <p:cNvSpPr/>
          <p:nvPr/>
        </p:nvSpPr>
        <p:spPr>
          <a:xfrm>
            <a:off x="395280" y="49417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ли лихих всадников и тянули обозы безотказные лошади. Никто не знает, сколько их простужалось, уставало, голодало, вместе с людьми терпело страх и боль…и выполнило свой дол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572000" y="4076640"/>
            <a:ext cx="433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Rounded MT Bold"/>
              </a:rPr>
              <a:t>Они помогли нашему народу одержать победу в Великой Отечественной вой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468360" y="260280"/>
            <a:ext cx="842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723a0c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вотные в боевом </a:t>
            </a:r>
            <a:endParaRPr b="1" i="1" lang="en-US" sz="2400" spc="1" strike="noStrike">
              <a:ln w="19080">
                <a:solidFill>
                  <a:srgbClr val="723a0c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723a0c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ою...</a:t>
            </a:r>
            <a:endParaRPr b="1" i="1" lang="en-US" sz="2400" spc="1" strike="noStrike">
              <a:ln w="19080">
                <a:solidFill>
                  <a:srgbClr val="723a0c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" name="Picture 4" descr="Рисунок2еее"/>
          <p:cNvPicPr/>
          <p:nvPr/>
        </p:nvPicPr>
        <p:blipFill>
          <a:blip r:embed="rId1"/>
          <a:stretch/>
        </p:blipFill>
        <p:spPr>
          <a:xfrm>
            <a:off x="324000" y="2708280"/>
            <a:ext cx="419076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65040" y="41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42920" y="436572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ь слабее мотоцикла. Он бежит со скоростью 10-20 км. в час, одолевая за сутки максимум 100 км. Но зато лошадь проскачет там, где машину придется нести на ру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24000" y="4508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пнгпнгп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116000" y="179280"/>
            <a:ext cx="6696000" cy="411012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Колонна советских солдат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547640" y="476280"/>
            <a:ext cx="5689800" cy="426564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143" name="Rectangle 4"/>
          <p:cNvSpPr/>
          <p:nvPr/>
        </p:nvSpPr>
        <p:spPr>
          <a:xfrm>
            <a:off x="395280" y="5013360"/>
            <a:ext cx="846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ые и неутомимые, целые партизанские соединения иногда проходили незамеченными в нескольких метрах от фаш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mage_28"/>
          <p:cNvPicPr/>
          <p:nvPr/>
        </p:nvPicPr>
        <p:blipFill>
          <a:blip r:embed="rId1"/>
          <a:stretch/>
        </p:blipFill>
        <p:spPr>
          <a:xfrm>
            <a:off x="395280" y="476280"/>
            <a:ext cx="4010040" cy="300816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pic>
        <p:nvPicPr>
          <p:cNvPr id="145" name="Picture 4" descr="Ополчение Сталинградской области, сформированное из работник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4788000" y="476280"/>
            <a:ext cx="4025880" cy="301932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146" name="Rectangle 5"/>
          <p:cNvSpPr/>
          <p:nvPr/>
        </p:nvSpPr>
        <p:spPr>
          <a:xfrm>
            <a:off x="468360" y="494172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ница всегда идет по кратчайшему пути через овраги и болота, форсируя реки и просачиваясь сквозь лесные чащ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После боя в районе Кенигсберга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468360" y="3429000"/>
            <a:ext cx="3887640" cy="291636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pic>
        <p:nvPicPr>
          <p:cNvPr id="148" name="Picture 4" descr="Санитар перевязывает раненого кавалериста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4500720" y="3573360"/>
            <a:ext cx="4171680" cy="289584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395280" y="119520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 лошадей пало на полях сражений. Лошадь не могла спрятаться в блиндаже от пуль и осколков снаря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Колонна возвращающихся беженцев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403280" y="765000"/>
            <a:ext cx="5904000" cy="379440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151" name="Rectangle 3"/>
          <p:cNvSpPr/>
          <p:nvPr/>
        </p:nvSpPr>
        <p:spPr>
          <a:xfrm>
            <a:off x="900000" y="5084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 тылу, и на оккупированных территориях животные и человек вместе переносили тяготы и лишения суровой поры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Рисунок27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580000" y="549360"/>
            <a:ext cx="3133800" cy="446400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153" name="Rectangle 5"/>
          <p:cNvSpPr/>
          <p:nvPr/>
        </p:nvSpPr>
        <p:spPr>
          <a:xfrm>
            <a:off x="900000" y="2057760"/>
            <a:ext cx="398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сведению, за участие в обороне Москвы около 30 солдат - голубеводов были награждены боевыми орденами и меда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9640" y="515592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шь за один месяц наступательных боев за освобождение Прибалтики воздушные связисты доставили с передовых позиций 2569 боевых депе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4788000" y="1844640"/>
            <a:ext cx="37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Rounded MT Bold"/>
              </a:rPr>
              <a:t>После войны в Ростове-на-Дону открыли парк имени Вити Черевичкина, где установлен памятник, на котором мальчик прижимает к плечу голу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Рисунок26"/>
          <p:cNvPicPr/>
          <p:nvPr/>
        </p:nvPicPr>
        <p:blipFill>
          <a:blip r:embed="rId1">
            <a:lum contrast="-6000"/>
          </a:blip>
          <a:srcRect l="0" t="2268" r="9186" b="0"/>
          <a:stretch/>
        </p:blipFill>
        <p:spPr>
          <a:xfrm>
            <a:off x="512640" y="620640"/>
            <a:ext cx="3446640" cy="561672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6238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 сожалению, нет ни одного памятника животным, верно служившим человек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 суровые военные год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684360" y="4292640"/>
            <a:ext cx="807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о они помогли нашему народу одержать победу в Великой Отечественн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611280" y="1989000"/>
            <a:ext cx="8064360" cy="244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723a0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баки</a:t>
            </a:r>
            <a:endParaRPr b="1" lang="en-US" sz="2400" spc="1" strike="noStrike">
              <a:ln w="28440">
                <a:solidFill>
                  <a:srgbClr val="ffffff"/>
                </a:solidFill>
                <a:miter/>
              </a:ln>
              <a:solidFill>
                <a:srgbClr val="723a0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3860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Rounded MT Bold"/>
              </a:rPr>
              <a:t>У нас уважают собаку недаром.</a:t>
            </a:r>
            <a:endParaRPr b="0" lang="en-US" sz="2400" spc="-1" strike="noStrike">
              <a:solidFill>
                <a:srgbClr val="723a0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Rounded MT Bold"/>
              </a:rPr>
              <a:t>Собака на фронте была санитаром,</a:t>
            </a:r>
            <a:endParaRPr b="0" lang="en-US" sz="2400" spc="-1" strike="noStrike">
              <a:solidFill>
                <a:srgbClr val="723a0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Rounded MT Bold"/>
              </a:rPr>
              <a:t>Связистом, сапёром. Порою собаки</a:t>
            </a:r>
            <a:endParaRPr b="0" lang="en-US" sz="2400" spc="-1" strike="noStrike">
              <a:solidFill>
                <a:srgbClr val="723a0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Rounded MT Bold"/>
              </a:rPr>
              <a:t>На танки бросались в атаки.</a:t>
            </a:r>
            <a:endParaRPr b="0" lang="en-US" sz="2400" spc="-1" strike="noStrike">
              <a:solidFill>
                <a:srgbClr val="723a0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Rounded MT Bold"/>
              </a:rPr>
              <a:t>Да, на войне получалось и так,</a:t>
            </a:r>
            <a:endParaRPr b="0" lang="en-US" sz="2400" spc="-1" strike="noStrike">
              <a:solidFill>
                <a:srgbClr val="723a0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Rounded MT Bold"/>
              </a:rPr>
              <a:t>Что «тигры», «пантеры» боялись собак</a:t>
            </a:r>
            <a:endParaRPr b="0" lang="en-US" sz="2400" spc="-1" strike="noStrike">
              <a:solidFill>
                <a:srgbClr val="723a0c"/>
              </a:solidFill>
              <a:latin typeface="Arial"/>
            </a:endParaRPr>
          </a:p>
        </p:txBody>
      </p:sp>
      <p:pic>
        <p:nvPicPr>
          <p:cNvPr id="90" name="Picture 3" descr="Рисунок1й"/>
          <p:cNvPicPr/>
          <p:nvPr/>
        </p:nvPicPr>
        <p:blipFill>
          <a:blip r:embed="rId1">
            <a:lum bright="18000"/>
          </a:blip>
          <a:srcRect l="-756" t="2608" r="0" b="0"/>
          <a:stretch/>
        </p:blipFill>
        <p:spPr>
          <a:xfrm>
            <a:off x="1763640" y="333360"/>
            <a:ext cx="5832720" cy="349560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s48735"/>
          <p:cNvPicPr/>
          <p:nvPr/>
        </p:nvPicPr>
        <p:blipFill>
          <a:blip r:embed="rId1"/>
          <a:stretch/>
        </p:blipFill>
        <p:spPr>
          <a:xfrm>
            <a:off x="4067280" y="907920"/>
            <a:ext cx="4713120" cy="271008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pic>
        <p:nvPicPr>
          <p:cNvPr id="92" name="Picture 4" descr="s70306"/>
          <p:cNvPicPr/>
          <p:nvPr/>
        </p:nvPicPr>
        <p:blipFill>
          <a:blip r:embed="rId2">
            <a:lum bright="12000"/>
          </a:blip>
          <a:srcRect l="5669" t="4905" r="5499" b="8977"/>
          <a:stretch/>
        </p:blipFill>
        <p:spPr>
          <a:xfrm>
            <a:off x="1042920" y="3645000"/>
            <a:ext cx="3745080" cy="280512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93" name="Rectangle 6"/>
          <p:cNvSpPr/>
          <p:nvPr/>
        </p:nvSpPr>
        <p:spPr>
          <a:xfrm>
            <a:off x="755640" y="836640"/>
            <a:ext cx="284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аки являлись вполне полноправными бойцами Красной Ар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95280" y="504504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 Rounded MT Bold"/>
              </a:rPr>
              <a:t>Во время Великой Отечественной войны в прифронтовой полосе особой любовью пользовались собаки-санитары, отыскивающие раненых, приносившие им воду, перевязочны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1557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0" y="4575240"/>
            <a:ext cx="598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Рисунок1ц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50920" y="404640"/>
            <a:ext cx="4508280" cy="278136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pic>
        <p:nvPicPr>
          <p:cNvPr id="98" name="Picture 7" descr="Рисунок1у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427640" y="1989000"/>
            <a:ext cx="4552920" cy="290196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Рисунок1иииолоьлю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853920"/>
            <a:ext cx="4111560" cy="302904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100" name="Rectangle 9"/>
          <p:cNvSpPr/>
          <p:nvPr/>
        </p:nvSpPr>
        <p:spPr>
          <a:xfrm>
            <a:off x="539640" y="465300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концу войны насчитывалось немало упряжек, которые перевезли по 800-900 раненых, доставили на передовую по 20-30 тонн груза – боеприпасов, продуктов питания, медика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571"/>
          <p:cNvPicPr/>
          <p:nvPr/>
        </p:nvPicPr>
        <p:blipFill>
          <a:blip r:embed="rId2"/>
          <a:stretch/>
        </p:blipFill>
        <p:spPr>
          <a:xfrm>
            <a:off x="4494240" y="3376440"/>
            <a:ext cx="155520" cy="105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571"/>
          <p:cNvPicPr/>
          <p:nvPr/>
        </p:nvPicPr>
        <p:blipFill>
          <a:blip r:embed="rId3"/>
          <a:stretch/>
        </p:blipFill>
        <p:spPr>
          <a:xfrm>
            <a:off x="4494240" y="3376440"/>
            <a:ext cx="155520" cy="105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571"/>
          <p:cNvPicPr/>
          <p:nvPr/>
        </p:nvPicPr>
        <p:blipFill>
          <a:blip r:embed="rId4"/>
          <a:stretch/>
        </p:blipFill>
        <p:spPr>
          <a:xfrm>
            <a:off x="4494240" y="3376440"/>
            <a:ext cx="155520" cy="1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Копия 571"/>
          <p:cNvPicPr/>
          <p:nvPr/>
        </p:nvPicPr>
        <p:blipFill>
          <a:blip r:embed="rId5"/>
          <a:stretch/>
        </p:blipFill>
        <p:spPr>
          <a:xfrm>
            <a:off x="4494240" y="3376440"/>
            <a:ext cx="155520" cy="105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Копия 571"/>
          <p:cNvPicPr/>
          <p:nvPr/>
        </p:nvPicPr>
        <p:blipFill>
          <a:blip r:embed="rId6"/>
          <a:stretch/>
        </p:blipFill>
        <p:spPr>
          <a:xfrm>
            <a:off x="4494240" y="3376440"/>
            <a:ext cx="155520" cy="10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Копия 571"/>
          <p:cNvPicPr/>
          <p:nvPr/>
        </p:nvPicPr>
        <p:blipFill>
          <a:blip r:embed="rId7">
            <a:lum bright="12000"/>
          </a:blip>
          <a:srcRect l="0" t="0" r="12702" b="-341"/>
          <a:stretch/>
        </p:blipFill>
        <p:spPr>
          <a:xfrm>
            <a:off x="4716360" y="828720"/>
            <a:ext cx="3959280" cy="307188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image_27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547640" y="476280"/>
            <a:ext cx="5832720" cy="437508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sp>
        <p:nvSpPr>
          <p:cNvPr id="108" name="Text Box 4"/>
          <p:cNvSpPr/>
          <p:nvPr/>
        </p:nvSpPr>
        <p:spPr>
          <a:xfrm>
            <a:off x="539640" y="53737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468360" y="515772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23a0c"/>
                </a:solidFill>
                <a:latin typeface="Arial"/>
              </a:rPr>
              <a:t>Всего же ездовые собаки вывезли с поля боя 680 тысяч</a:t>
            </a:r>
            <a:br>
              <a:rPr sz="2400"/>
            </a:br>
            <a:r>
              <a:rPr b="0" lang="ru-RU" sz="2400" spc="-1" strike="noStrike">
                <a:solidFill>
                  <a:srgbClr val="723a0c"/>
                </a:solidFill>
                <a:latin typeface="Arial"/>
              </a:rPr>
              <a:t>раненых солдат и офицеров</a:t>
            </a:r>
            <a:br>
              <a:rPr sz="2400"/>
            </a:br>
            <a:r>
              <a:rPr b="0" lang="ru-RU" sz="2400" spc="-1" strike="noStrike">
                <a:solidFill>
                  <a:srgbClr val="723a0c"/>
                </a:solidFill>
                <a:latin typeface="Arial"/>
              </a:rPr>
              <a:t>и доставили на линию фронта 5862 тонны боеприп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900000" y="5084640"/>
            <a:ext cx="73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 войны на собачьих упряжках под огнем врага доставляли на передний край боеприпасы и продукты, привозили даже легкие ору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191198500e71"/>
          <p:cNvPicPr/>
          <p:nvPr/>
        </p:nvPicPr>
        <p:blipFill>
          <a:blip r:embed="rId1"/>
          <a:stretch/>
        </p:blipFill>
        <p:spPr>
          <a:xfrm>
            <a:off x="1476360" y="765000"/>
            <a:ext cx="5830920" cy="375300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5T11:16:10Z</dcterms:created>
  <dc:creator>*</dc:creator>
  <dc:description/>
  <dc:language>en-US</dc:language>
  <cp:lastModifiedBy>351</cp:lastModifiedBy>
  <dcterms:modified xsi:type="dcterms:W3CDTF">2020-04-09T12:58:35Z</dcterms:modified>
  <cp:revision>15</cp:revision>
  <dc:subject/>
  <dc:title>Слайд 1</dc:title>
</cp:coreProperties>
</file>