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AAF-1D87-4CF4-89DD-B23B4643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5ED-8375-40C9-B01F-DFF43E81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7F2-81E4-42F1-A83E-D732B152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48B-8B80-4FE7-8911-709F00D7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716-E030-4C6B-AC85-F83173D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D64-D4A3-4486-BD0D-78452CA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158-00E5-47A3-91AA-58CAFD7A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766-0A1F-4433-A68C-2A6A7F2F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CB9-03A7-4951-842C-6EFA5C46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637-1640-4653-A998-F187647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31B-2AEC-4DD8-ACBC-B6EAA05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041-ACE8-431A-9586-2C0A2A08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99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54D8-A81F-458A-879A-59EAA6E62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к сохранить зрение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Gimnastika-dlya-glaz"/>
          <p:cNvPicPr/>
          <p:nvPr/>
        </p:nvPicPr>
        <p:blipFill>
          <a:blip r:embed="rId1"/>
          <a:stretch/>
        </p:blipFill>
        <p:spPr>
          <a:xfrm>
            <a:off x="0" y="304920"/>
            <a:ext cx="91533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я исследование, мы выяснили причины ухудшения зрения, научились бережно относиться к своим глазам, вовремя помогать им при переутом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ыдвинутая нами гипотеза о том, что если правильно следить за здоровьем глаз, то можно сохранить здоровье надолго, полностью подтвердилась. Если долго и усердно помогать своим глазам, то можно сохранить свое зрение. А самое главное, если зрение ухудшилось, то его можно поправить, соблюдая простые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imgpreview?key=46cbd73feba7449b&amp;mb=imgdb_preview_713"/>
          <p:cNvPicPr/>
          <p:nvPr/>
        </p:nvPicPr>
        <p:blipFill>
          <a:blip r:embed="rId1"/>
          <a:stretch/>
        </p:blipFill>
        <p:spPr>
          <a:xfrm>
            <a:off x="304920" y="152280"/>
            <a:ext cx="2695320" cy="141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kak-sohranit-zrenie"/>
          <p:cNvPicPr/>
          <p:nvPr/>
        </p:nvPicPr>
        <p:blipFill>
          <a:blip r:embed="rId2"/>
          <a:stretch/>
        </p:blipFill>
        <p:spPr>
          <a:xfrm>
            <a:off x="6553080" y="152280"/>
            <a:ext cx="24386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слушайся! Когда хотя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б вещь служила нам без срок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даром люди говорят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Храните как зеницу ока!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чтоб глаза твои, дружо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гли надолго сохраниться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омни два десятка стро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заключительной странице:</a:t>
            </a:r>
            <a:br>
              <a:rPr sz="36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_1358855903"/>
          <p:cNvPicPr/>
          <p:nvPr/>
        </p:nvPicPr>
        <p:blipFill>
          <a:blip r:embed="rId1"/>
          <a:stretch/>
        </p:blipFill>
        <p:spPr>
          <a:xfrm>
            <a:off x="2971800" y="69840"/>
            <a:ext cx="3429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аз поранить очень просто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 играй предметом острым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аза не три, не засоряй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жа книгу не читай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яркий свет смотреть нельзя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оже портятся глаз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315888296_1"/>
          <p:cNvPicPr/>
          <p:nvPr/>
        </p:nvPicPr>
        <p:blipFill>
          <a:blip r:embed="rId1"/>
          <a:stretch/>
        </p:blipFill>
        <p:spPr>
          <a:xfrm>
            <a:off x="2819520" y="92160"/>
            <a:ext cx="38862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7920" y="3124080"/>
            <a:ext cx="6248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левизор в доме есть —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прекать не стану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, пожалуйста, не лез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 самому экрану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смотри не все подряд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передачи для ребя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1293695532_airena-wallapack-175-2"/>
          <p:cNvPicPr/>
          <p:nvPr/>
        </p:nvPicPr>
        <p:blipFill>
          <a:blip r:embed="rId1"/>
          <a:stretch/>
        </p:blipFill>
        <p:spPr>
          <a:xfrm>
            <a:off x="304920" y="152280"/>
            <a:ext cx="39592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пиши, склонившись низк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держи учебник близк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над книгой каждый раз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сгибайся, как от ветр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 стола до самых глаз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лжно быть сорок сантиметров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dd_small"/>
          <p:cNvPicPr/>
          <p:nvPr/>
        </p:nvPicPr>
        <p:blipFill>
          <a:blip r:embed="rId1"/>
          <a:stretch/>
        </p:blipFill>
        <p:spPr>
          <a:xfrm>
            <a:off x="3048120" y="2286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128520" y="4127400"/>
            <a:ext cx="9021960" cy="231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04920" y="457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Я ХОЧУ ПРЕДОСТЕРЕЧ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УЖНО ВСЕМ ГЛАЗА БЕРЕЧ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Исследовательский проект </a:t>
            </a:r>
            <a:r>
              <a:rPr b="1" i="1" lang="ru-RU" sz="5400" spc="-1" strike="noStrike">
                <a:solidFill>
                  <a:srgbClr val="0033cc"/>
                </a:solidFill>
                <a:latin typeface="Times New Roman"/>
              </a:rPr>
              <a:t>«Как сохранить зрени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РФМ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тель: Колесникова Д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 исследования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за как органы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дмет исследования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бережное отношение к своему з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ипотез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дположим, если правильно следить за здоровьем глаз, то можно сохранить хорошее зрение надол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человек воспринимает окружающий м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лаза - орган зрени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ольше всего сведений об окружающем мире человек получает с помощью зрени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рение помогает различать цве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метов, их размер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рму, узнавать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алеко     они или близ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вижутся   или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подвиж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ig"/>
          <p:cNvPicPr/>
          <p:nvPr/>
        </p:nvPicPr>
        <p:blipFill>
          <a:blip r:embed="rId1"/>
          <a:stretch/>
        </p:blipFill>
        <p:spPr>
          <a:xfrm>
            <a:off x="4800600" y="3413160"/>
            <a:ext cx="41911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30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43440" y="5715000"/>
            <a:ext cx="11430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Зеркало души"/>
          <p:cNvPicPr/>
          <p:nvPr/>
        </p:nvPicPr>
        <p:blipFill>
          <a:blip r:embed="rId1"/>
          <a:stretch/>
        </p:blipFill>
        <p:spPr>
          <a:xfrm>
            <a:off x="7086600" y="520056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DSCF4588"/>
          <p:cNvPicPr/>
          <p:nvPr/>
        </p:nvPicPr>
        <p:blipFill>
          <a:blip r:embed="rId2"/>
          <a:stretch/>
        </p:blipFill>
        <p:spPr>
          <a:xfrm>
            <a:off x="152280" y="15228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SCF4592"/>
          <p:cNvPicPr/>
          <p:nvPr/>
        </p:nvPicPr>
        <p:blipFill>
          <a:blip r:embed="rId3"/>
          <a:stretch/>
        </p:blipFill>
        <p:spPr>
          <a:xfrm>
            <a:off x="4495680" y="1523880"/>
            <a:ext cx="4648320" cy="33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DSCF4594"/>
          <p:cNvPicPr/>
          <p:nvPr/>
        </p:nvPicPr>
        <p:blipFill>
          <a:blip r:embed="rId4"/>
          <a:stretch/>
        </p:blipFill>
        <p:spPr>
          <a:xfrm>
            <a:off x="152280" y="35053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ывают оч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1146"/>
          <p:cNvPicPr/>
          <p:nvPr/>
        </p:nvPicPr>
        <p:blipFill>
          <a:blip r:embed="rId1"/>
          <a:stretch/>
        </p:blipFill>
        <p:spPr>
          <a:xfrm>
            <a:off x="5181480" y="1600200"/>
            <a:ext cx="314352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7306343"/>
          <p:cNvPicPr/>
          <p:nvPr/>
        </p:nvPicPr>
        <p:blipFill>
          <a:blip r:embed="rId2"/>
          <a:stretch/>
        </p:blipFill>
        <p:spPr>
          <a:xfrm>
            <a:off x="838080" y="4191120"/>
            <a:ext cx="3124440" cy="166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_________________516477ba4b3fc"/>
          <p:cNvPicPr/>
          <p:nvPr/>
        </p:nvPicPr>
        <p:blipFill>
          <a:blip r:embed="rId3"/>
          <a:stretch/>
        </p:blipFill>
        <p:spPr>
          <a:xfrm>
            <a:off x="838080" y="13716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1"/>
          <p:cNvPicPr/>
          <p:nvPr/>
        </p:nvPicPr>
        <p:blipFill>
          <a:blip r:embed="rId4"/>
          <a:stretch/>
        </p:blipFill>
        <p:spPr>
          <a:xfrm>
            <a:off x="4800600" y="3733920"/>
            <a:ext cx="39085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ядьте, крепко зажмурьте глаза на 3-5 секунд, затем откройте глаза на такое же время. Повторите упражнение 6-8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ение для снижения утомления при длительной работе на близком расстоянии (чтении, письме). Встаньте. Посмотрите перед собой 2-3 секунды, затем, поднесите палец на 25-30 см перед глазами и смотрите на него 3-4 секунды. Опустите руку. Повторите упражнение 10-12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жнения, укрепляющие мышцы глаз, выполняют стоя. Держите палец правой руки на расстоянии 25-30 см от глаз и смотрите на конец пальца 3-5 секунд. Затем повторить то же самое с левой ру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уроке после 25-30 минут работы можно выполнять простое упражнение: закройте глаза и посидите 1 минуту, поморгать глазами 30 секунд, посмотреть неподвижно на одну точку 30 секунд, посмотри вверх и быстро переведи глаза вниз, в стороны, а потом вверх-вниз, вправо-в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07236513_Bolezni_glaz"/>
          <p:cNvPicPr/>
          <p:nvPr/>
        </p:nvPicPr>
        <p:blipFill>
          <a:blip r:embed="rId1"/>
          <a:stretch/>
        </p:blipFill>
        <p:spPr>
          <a:xfrm>
            <a:off x="155520" y="46080"/>
            <a:ext cx="19782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дукты для сохранения з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ща – поставщик витаминов и микроэлементов, в которых нуждаются все наши органы, в том числе и зрения. Все знают, что для глаз очень полезна морковь. А какие продукты еще должны присутствовать в рацио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пинат, тыква, ревень, щав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й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ый 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е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ый шоко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окколи, все  виды капу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getImage?photoId=499923996552&amp;photoType=17"/>
          <p:cNvPicPr/>
          <p:nvPr/>
        </p:nvPicPr>
        <p:blipFill>
          <a:blip r:embed="rId1"/>
          <a:stretch/>
        </p:blipFill>
        <p:spPr>
          <a:xfrm>
            <a:off x="6248520" y="4876920"/>
            <a:ext cx="2705040" cy="183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rink4health09"/>
          <p:cNvPicPr/>
          <p:nvPr/>
        </p:nvPicPr>
        <p:blipFill>
          <a:blip r:embed="rId2"/>
          <a:stretch/>
        </p:blipFill>
        <p:spPr>
          <a:xfrm>
            <a:off x="0" y="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авила бережного отношения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 зрени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ть только при хорошем освещ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ать расстояние от глаз до книги или компьютера  25-30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треть телевизор на расстоянии не менее 3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ещать окулиста 1 раз в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ьно пит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ять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YjU5NjNj"/>
          <p:cNvPicPr/>
          <p:nvPr/>
        </p:nvPicPr>
        <p:blipFill>
          <a:blip r:embed="rId1"/>
          <a:stretch/>
        </p:blipFill>
        <p:spPr>
          <a:xfrm>
            <a:off x="6324480" y="3973680"/>
            <a:ext cx="281952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51</cp:lastModifiedBy>
  <dcterms:modified xsi:type="dcterms:W3CDTF">2020-04-10T17:56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