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7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0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6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827-41CA-412B-BB75-CD610328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4A05-FF15-4371-98E7-A5CC652B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5546-15E1-4501-A7DD-DD5A1F0F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5BF7-A344-413A-BFCC-7F23AA6D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4F36-5055-43F5-9F72-34D08BBA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EE92-3F7C-48F5-A312-4C7FE08A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08FF-67A8-44B4-AEC1-FCC77F6E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0D6D-E6C8-4D28-93CF-46697981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32C2-F43D-4DAB-A163-6A4E049E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06F8-596B-4E11-BC1E-DD84FA00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E4F9-3A8A-4E83-9B91-3F4D71F1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51FE-A711-4C15-811E-1BA99E30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72DB-6634-4462-BEA1-CF680224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722F-30EB-4B91-8D38-A46A9985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0955-6097-4D4B-B333-9845072D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AB18-7B63-4ED0-8168-F6ACDA42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64A0-D969-4D18-98DC-AF7388BD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F7A-CC21-4AC4-982D-9465A9A1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2CA-71CF-4877-BF2A-B97F9752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DAD-2001-4C82-80C3-D68AB4A0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941-CFE1-4ED8-997F-9F7B9A4F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FA55-F356-4DC2-81C6-59F2DF72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6B23-052D-49AF-8F96-129F4766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BBC4-F813-4EE8-BBB7-889F2A1F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D2A9-01F4-4EC6-B517-99A8544196F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8588-7752-4D8A-B77F-4A8FDEC08AF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0c9f8"/>
                </a:solidFill>
                <a:latin typeface="Calibri"/>
              </a:rPr>
              <a:t>Рыба и морепродукты</a:t>
            </a:r>
            <a:endParaRPr b="0" lang="en-US" sz="6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96" name="Содержимое 3" descr="00013942.JPG"/>
          <p:cNvPicPr/>
          <p:nvPr/>
        </p:nvPicPr>
        <p:blipFill>
          <a:blip r:embed="rId1"/>
          <a:stretch/>
        </p:blipFill>
        <p:spPr>
          <a:xfrm>
            <a:off x="1036800" y="1935000"/>
            <a:ext cx="7070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20c9f8"/>
                </a:solidFill>
                <a:latin typeface="Calibri"/>
              </a:rPr>
              <a:t>Первичная обработка рыбы.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таивание (для мороженной рыбы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даление плавник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чистка от чешу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резание жаб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зание брюш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даление внутренностей, голо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мывание и пластован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даление кожи для получения чистого фел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езание порционными куска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20c9f8"/>
                </a:solidFill>
                <a:latin typeface="Calibri"/>
              </a:rPr>
              <a:t>Кухонный инвентарь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Нож кухонный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ctr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Рыбочистк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ctr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Разделочная доск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0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20c9f8"/>
                </a:solidFill>
                <a:latin typeface="Calibri"/>
              </a:rPr>
              <a:t>Санитарные требования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920960"/>
            <a:ext cx="83296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азделывать рыбу на специальной доске и желательно на отдельном стол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о и после разделки промыть рыбу холодной проточной водо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далить полученные рыбные отходы сразу после раздел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 окончании работы вымыть кухонный инвентарь моющим средством и убрать рабочее место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6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0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0c9f8"/>
                </a:solidFill>
                <a:latin typeface="Calibri"/>
              </a:rPr>
              <a:t>Способы </a:t>
            </a:r>
            <a:br>
              <a:rPr sz="4800"/>
            </a:br>
            <a:r>
              <a:rPr b="0" lang="ru-RU" sz="4800" spc="-1" strike="noStrike">
                <a:solidFill>
                  <a:srgbClr val="20c9f8"/>
                </a:solidFill>
                <a:latin typeface="Calibri"/>
              </a:rPr>
              <a:t>тепловой обработки рыбы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Отваривание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Припускание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Жарение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Запекание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Тушение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480" y="571680"/>
            <a:ext cx="8643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20c9f8"/>
                </a:solidFill>
                <a:latin typeface="Calibri"/>
              </a:rPr>
              <a:t>Требования,</a:t>
            </a:r>
            <a:br>
              <a:rPr sz="4000"/>
            </a:br>
            <a:r>
              <a:rPr b="0" lang="ru-RU" sz="4000" spc="-1" strike="noStrike">
                <a:solidFill>
                  <a:srgbClr val="20c9f8"/>
                </a:solidFill>
                <a:latin typeface="Calibri"/>
              </a:rPr>
              <a:t> предъявляемые к готовым блюдам.</a:t>
            </a:r>
            <a:br>
              <a:rPr sz="4800"/>
            </a:b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якоть мягкая, отстает от косте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т запаха сырост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 проколе спинки рыбы вилкой она свободно входит в мякоть, при этом выделяется прозрачный сок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203400" y="6273720"/>
            <a:ext cx="55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задание: списать в тетрад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20c9f8"/>
                </a:solidFill>
                <a:latin typeface="Calibri"/>
              </a:rPr>
              <a:t>Блюда из рыбы.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1" name="Содержимое 3" descr="00011127.jpg"/>
          <p:cNvPicPr/>
          <p:nvPr/>
        </p:nvPicPr>
        <p:blipFill>
          <a:blip r:embed="rId1"/>
          <a:stretch/>
        </p:blipFill>
        <p:spPr>
          <a:xfrm>
            <a:off x="214200" y="1000080"/>
            <a:ext cx="2357640" cy="2978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Documents and Settings\User\Рабочий стол\Разработки мои\урок\00011047.jpg"/>
          <p:cNvPicPr/>
          <p:nvPr/>
        </p:nvPicPr>
        <p:blipFill>
          <a:blip r:embed="rId2"/>
          <a:stretch/>
        </p:blipFill>
        <p:spPr>
          <a:xfrm rot="922800">
            <a:off x="5878440" y="1784520"/>
            <a:ext cx="3003480" cy="23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Documents and Settings\User\Рабочий стол\Разработки мои\урок\00011058.jpg"/>
          <p:cNvPicPr/>
          <p:nvPr/>
        </p:nvPicPr>
        <p:blipFill>
          <a:blip r:embed="rId3"/>
          <a:stretch/>
        </p:blipFill>
        <p:spPr>
          <a:xfrm>
            <a:off x="3143160" y="4653000"/>
            <a:ext cx="3000600" cy="19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Documents and Settings\User\Рабочий стол\Разработки мои\урок\рыбы1\щука в кляре.bmp"/>
          <p:cNvPicPr/>
          <p:nvPr/>
        </p:nvPicPr>
        <p:blipFill>
          <a:blip r:embed="rId4"/>
          <a:stretch/>
        </p:blipFill>
        <p:spPr>
          <a:xfrm rot="1144200">
            <a:off x="6589440" y="4500360"/>
            <a:ext cx="2006640" cy="2006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Documents and Settings\User\Рабочий стол\Разработки мои\урок\блюда\камбала.bmp"/>
          <p:cNvPicPr/>
          <p:nvPr/>
        </p:nvPicPr>
        <p:blipFill>
          <a:blip r:embed="rId5"/>
          <a:stretch/>
        </p:blipFill>
        <p:spPr>
          <a:xfrm>
            <a:off x="3214800" y="2071800"/>
            <a:ext cx="2193840" cy="2047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Documents and Settings\User\Рабочий стол\Разработки мои\урок\блюда\салат мимоза.bmp"/>
          <p:cNvPicPr/>
          <p:nvPr/>
        </p:nvPicPr>
        <p:blipFill>
          <a:blip r:embed="rId6"/>
          <a:stretch/>
        </p:blipFill>
        <p:spPr>
          <a:xfrm rot="20188200">
            <a:off x="349200" y="4525560"/>
            <a:ext cx="23497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20c9f8"/>
                </a:solidFill>
                <a:latin typeface="Calibri"/>
              </a:rPr>
              <a:t>Блюда из рыбы.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8" name="Picture 2" descr="C:\Documents and Settings\User\Рабочий стол\Разработки мои\урок\блюда\1.bmp"/>
          <p:cNvPicPr/>
          <p:nvPr/>
        </p:nvPicPr>
        <p:blipFill>
          <a:blip r:embed="rId1"/>
          <a:stretch/>
        </p:blipFill>
        <p:spPr>
          <a:xfrm rot="20264400">
            <a:off x="340920" y="1390320"/>
            <a:ext cx="2254320" cy="2241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Documents and Settings\User\Рабочий стол\Разработки мои\урок\блюда\Безымянный.bmp"/>
          <p:cNvPicPr/>
          <p:nvPr/>
        </p:nvPicPr>
        <p:blipFill>
          <a:blip r:embed="rId2"/>
          <a:stretch/>
        </p:blipFill>
        <p:spPr>
          <a:xfrm>
            <a:off x="3357720" y="1714680"/>
            <a:ext cx="2085840" cy="257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Documents and Settings\User\Рабочий стол\Разработки мои\урок\блюда\кафаль.bmp"/>
          <p:cNvPicPr/>
          <p:nvPr/>
        </p:nvPicPr>
        <p:blipFill>
          <a:blip r:embed="rId3"/>
          <a:stretch/>
        </p:blipFill>
        <p:spPr>
          <a:xfrm rot="20689200">
            <a:off x="461520" y="3935520"/>
            <a:ext cx="2532240" cy="2228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Documents and Settings\User\Рабочий стол\Разработки мои\урок\блюда\рыбные катлеты в геркулесе.bmp"/>
          <p:cNvPicPr/>
          <p:nvPr/>
        </p:nvPicPr>
        <p:blipFill>
          <a:blip r:embed="rId4"/>
          <a:stretch/>
        </p:blipFill>
        <p:spPr>
          <a:xfrm rot="978000">
            <a:off x="6311880" y="1561680"/>
            <a:ext cx="2333520" cy="254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Documents and Settings\User\Рабочий стол\Разработки мои\урок\блюда\сельдь под шубой.bmp"/>
          <p:cNvPicPr/>
          <p:nvPr/>
        </p:nvPicPr>
        <p:blipFill>
          <a:blip r:embed="rId5"/>
          <a:stretch/>
        </p:blipFill>
        <p:spPr>
          <a:xfrm rot="1002600">
            <a:off x="6135840" y="4448160"/>
            <a:ext cx="2381040" cy="1785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C:\Documents and Settings\User\Рабочий стол\Разработки мои\урок\блюда\тунец с картофелем.bmp"/>
          <p:cNvPicPr/>
          <p:nvPr/>
        </p:nvPicPr>
        <p:blipFill>
          <a:blip r:embed="rId6"/>
          <a:stretch/>
        </p:blipFill>
        <p:spPr>
          <a:xfrm>
            <a:off x="3429000" y="4500720"/>
            <a:ext cx="211932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20c9f8"/>
                </a:solidFill>
                <a:latin typeface="Calibri"/>
              </a:rPr>
              <a:t>Блюда из морепродуктов.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5" name="Picture 3" descr="C:\Documents and Settings\User\Рабочий стол\Разработки мои\урок\00011088.jpg"/>
          <p:cNvPicPr/>
          <p:nvPr/>
        </p:nvPicPr>
        <p:blipFill>
          <a:blip r:embed="rId1"/>
          <a:stretch/>
        </p:blipFill>
        <p:spPr>
          <a:xfrm rot="19954800">
            <a:off x="276120" y="2046240"/>
            <a:ext cx="2836800" cy="1893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Documents and Settings\User\Рабочий стол\Разработки мои\урок\00011073.jpg"/>
          <p:cNvPicPr/>
          <p:nvPr/>
        </p:nvPicPr>
        <p:blipFill>
          <a:blip r:embed="rId2"/>
          <a:stretch/>
        </p:blipFill>
        <p:spPr>
          <a:xfrm rot="20446800">
            <a:off x="604800" y="4346280"/>
            <a:ext cx="2428920" cy="1920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Documents and Settings\User\Рабочий стол\Разработки мои\урок\блюда\кальмары в соусе.bmp"/>
          <p:cNvPicPr/>
          <p:nvPr/>
        </p:nvPicPr>
        <p:blipFill>
          <a:blip r:embed="rId3"/>
          <a:stretch/>
        </p:blipFill>
        <p:spPr>
          <a:xfrm rot="1429800">
            <a:off x="6145200" y="1750680"/>
            <a:ext cx="2646360" cy="1985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Documents and Settings\User\Рабочий стол\Разработки мои\урок\блюда\креветки.bmp"/>
          <p:cNvPicPr/>
          <p:nvPr/>
        </p:nvPicPr>
        <p:blipFill>
          <a:blip r:embed="rId4"/>
          <a:stretch/>
        </p:blipFill>
        <p:spPr>
          <a:xfrm rot="1431000">
            <a:off x="6094080" y="4309560"/>
            <a:ext cx="2657520" cy="1994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Documents and Settings\User\Рабочий стол\Разработки мои\урок\блюда\с мидиями.bmp"/>
          <p:cNvPicPr/>
          <p:nvPr/>
        </p:nvPicPr>
        <p:blipFill>
          <a:blip r:embed="rId5"/>
          <a:stretch/>
        </p:blipFill>
        <p:spPr>
          <a:xfrm rot="20731200">
            <a:off x="3693600" y="3132000"/>
            <a:ext cx="1849680" cy="1781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User\Рабочий стол\Разработки мои\урок\блюда\салат из кальмаров.bmp"/>
          <p:cNvPicPr/>
          <p:nvPr/>
        </p:nvPicPr>
        <p:blipFill>
          <a:blip r:embed="rId6"/>
          <a:stretch/>
        </p:blipFill>
        <p:spPr>
          <a:xfrm>
            <a:off x="3500280" y="500076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User\Рабочий стол\Разработки мои\урок\блюда\салат с креветками.bmp"/>
          <p:cNvPicPr/>
          <p:nvPr/>
        </p:nvPicPr>
        <p:blipFill>
          <a:blip r:embed="rId7"/>
          <a:stretch/>
        </p:blipFill>
        <p:spPr>
          <a:xfrm>
            <a:off x="3456000" y="1428840"/>
            <a:ext cx="21160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20c9f8"/>
                </a:solidFill>
                <a:latin typeface="Calibri"/>
              </a:rPr>
              <a:t>Домашнее задание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1.Списать информацию со слайдов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2.Перечислить морскую рыбу (не менее 5 шт) и речную рыбу (не менее 5 шт)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0c9f8"/>
                </a:solidFill>
                <a:latin typeface="Calibri"/>
              </a:rPr>
              <a:t>Морская рыба.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98" name="Содержимое 3" descr="анчоус хамса.bmp"/>
          <p:cNvPicPr/>
          <p:nvPr/>
        </p:nvPicPr>
        <p:blipFill>
          <a:blip r:embed="rId1"/>
          <a:stretch/>
        </p:blipFill>
        <p:spPr>
          <a:xfrm rot="1210200">
            <a:off x="6097320" y="1423800"/>
            <a:ext cx="2689200" cy="1633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Documents and Settings\User\Рабочий стол\Разработки мои\урок\рыбы1\мойва.bmp"/>
          <p:cNvPicPr/>
          <p:nvPr/>
        </p:nvPicPr>
        <p:blipFill>
          <a:blip r:embed="rId2"/>
          <a:stretch/>
        </p:blipFill>
        <p:spPr>
          <a:xfrm rot="957000">
            <a:off x="5943600" y="3541680"/>
            <a:ext cx="2989440" cy="66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User\Рабочий стол\Разработки мои\урок\рыбы1\морск щука.bmp"/>
          <p:cNvPicPr/>
          <p:nvPr/>
        </p:nvPicPr>
        <p:blipFill>
          <a:blip r:embed="rId3"/>
          <a:stretch/>
        </p:blipFill>
        <p:spPr>
          <a:xfrm rot="1350600">
            <a:off x="6035400" y="4457880"/>
            <a:ext cx="2365200" cy="1771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User\Рабочий стол\Разработки мои\урок\рыбы1\окунь.bmp"/>
          <p:cNvPicPr/>
          <p:nvPr/>
        </p:nvPicPr>
        <p:blipFill>
          <a:blip r:embed="rId4"/>
          <a:stretch/>
        </p:blipFill>
        <p:spPr>
          <a:xfrm rot="10282200">
            <a:off x="547200" y="4438440"/>
            <a:ext cx="2156040" cy="174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Documents and Settings\User\Рабочий стол\Разработки мои\урок\рыбы1\сельдь.bmp"/>
          <p:cNvPicPr/>
          <p:nvPr/>
        </p:nvPicPr>
        <p:blipFill>
          <a:blip r:embed="rId5"/>
          <a:stretch/>
        </p:blipFill>
        <p:spPr>
          <a:xfrm>
            <a:off x="3143160" y="2786040"/>
            <a:ext cx="2481480" cy="1606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Documents and Settings\User\Рабочий стол\Разработки мои\урок\рыбы1\треска.bmp"/>
          <p:cNvPicPr/>
          <p:nvPr/>
        </p:nvPicPr>
        <p:blipFill>
          <a:blip r:embed="rId6"/>
          <a:stretch/>
        </p:blipFill>
        <p:spPr>
          <a:xfrm rot="19596000">
            <a:off x="325440" y="2128320"/>
            <a:ext cx="3137040" cy="1231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Documents and Settings\User\Рабочий стол\Разработки мои\урок\рыбы1\лещ.bmp"/>
          <p:cNvPicPr/>
          <p:nvPr/>
        </p:nvPicPr>
        <p:blipFill>
          <a:blip r:embed="rId7"/>
          <a:stretch/>
        </p:blipFill>
        <p:spPr>
          <a:xfrm>
            <a:off x="3214800" y="4643280"/>
            <a:ext cx="234144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8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0c9f8"/>
                </a:solidFill>
                <a:latin typeface="Calibri"/>
              </a:rPr>
              <a:t>Пресноводная рыб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6" name="Picture 5" descr="C:\Documents and Settings\User\Рабочий стол\Разработки мои\урок\рыбы1\осетр.bmp"/>
          <p:cNvPicPr/>
          <p:nvPr/>
        </p:nvPicPr>
        <p:blipFill>
          <a:blip r:embed="rId1"/>
          <a:stretch/>
        </p:blipFill>
        <p:spPr>
          <a:xfrm rot="20188800">
            <a:off x="248760" y="1752120"/>
            <a:ext cx="2716200" cy="1811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Documents and Settings\User\Рабочий стол\Разработки мои\урок\рыбы1\щука.bmp"/>
          <p:cNvPicPr/>
          <p:nvPr/>
        </p:nvPicPr>
        <p:blipFill>
          <a:blip r:embed="rId2"/>
          <a:stretch/>
        </p:blipFill>
        <p:spPr>
          <a:xfrm rot="20701200">
            <a:off x="169920" y="4206600"/>
            <a:ext cx="2363760" cy="1623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Documents and Settings\User\Рабочий стол\Разработки мои\урок\рыбы1\сом.bmp"/>
          <p:cNvPicPr/>
          <p:nvPr/>
        </p:nvPicPr>
        <p:blipFill>
          <a:blip r:embed="rId3"/>
          <a:stretch/>
        </p:blipFill>
        <p:spPr>
          <a:xfrm rot="1231200">
            <a:off x="6008760" y="4184280"/>
            <a:ext cx="2658960" cy="199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Documents and Settings\User\Рабочий стол\Разработки мои\урок\рыбы1\photo_karpa3.jpg"/>
          <p:cNvPicPr/>
          <p:nvPr/>
        </p:nvPicPr>
        <p:blipFill>
          <a:blip r:embed="rId4"/>
          <a:stretch/>
        </p:blipFill>
        <p:spPr>
          <a:xfrm rot="676800">
            <a:off x="6221520" y="1518840"/>
            <a:ext cx="2552760" cy="1771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Documents and Settings\User\Рабочий стол\Разработки мои\урок\рыбы1\пикша.bmp"/>
          <p:cNvPicPr/>
          <p:nvPr/>
        </p:nvPicPr>
        <p:blipFill>
          <a:blip r:embed="rId5"/>
          <a:stretch/>
        </p:blipFill>
        <p:spPr>
          <a:xfrm rot="20499600">
            <a:off x="2768400" y="4949640"/>
            <a:ext cx="2598480" cy="1212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:\Documents and Settings\User\Рабочий стол\Разработки мои\урок\рыбы1\речная рыбы.bmp"/>
          <p:cNvPicPr/>
          <p:nvPr/>
        </p:nvPicPr>
        <p:blipFill>
          <a:blip r:embed="rId6"/>
          <a:stretch/>
        </p:blipFill>
        <p:spPr>
          <a:xfrm>
            <a:off x="2928960" y="2928960"/>
            <a:ext cx="30481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0c9f8"/>
                </a:solidFill>
                <a:latin typeface="Calibri"/>
              </a:rPr>
              <a:t>Морепродукты.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3" name="Содержимое 6" descr="00011071.jpg"/>
          <p:cNvPicPr/>
          <p:nvPr/>
        </p:nvPicPr>
        <p:blipFill>
          <a:blip r:embed="rId1"/>
          <a:stretch/>
        </p:blipFill>
        <p:spPr>
          <a:xfrm rot="20162400">
            <a:off x="428400" y="1857240"/>
            <a:ext cx="3093840" cy="192888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7" descr="00011101.jpg"/>
          <p:cNvPicPr/>
          <p:nvPr/>
        </p:nvPicPr>
        <p:blipFill>
          <a:blip r:embed="rId2"/>
          <a:stretch/>
        </p:blipFill>
        <p:spPr>
          <a:xfrm rot="763800">
            <a:off x="6643440" y="1500120"/>
            <a:ext cx="2052360" cy="2806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Documents and Settings\User\Рабочий стол\Разработки мои\урок\блюда\криветки1.bmp"/>
          <p:cNvPicPr/>
          <p:nvPr/>
        </p:nvPicPr>
        <p:blipFill>
          <a:blip r:embed="rId3"/>
          <a:stretch/>
        </p:blipFill>
        <p:spPr>
          <a:xfrm>
            <a:off x="2857680" y="4429080"/>
            <a:ext cx="2881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0c9f8"/>
                </a:solidFill>
                <a:latin typeface="Calibri"/>
              </a:rPr>
              <a:t>Классификация промысловых рыб: 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71760"/>
            <a:ext cx="81867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орская – 80 %,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ельдь, сардины, килька, анчоус, кета, семга, горбуша, нерка, скумбрия, ставрида, сардинелла, тунец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онные: треска, хек, путассу, навага, налим, минтай, камбала, палтус, терпуг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ресноводная – 20 %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арп, сазан, лещ, вобла, карась, толстолобик, окунь, судак, ерш, осетр, ,стерледь, северюга, щука, сом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20c9f8"/>
                </a:solidFill>
                <a:latin typeface="Calibri"/>
              </a:rPr>
              <a:t>Виды рыбных товаров.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357200"/>
            <a:ext cx="8258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живая,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хлажденная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орожен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ле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ялен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горячего копч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олодного копчения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кр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ыбные консерв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езерв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5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9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7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1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5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9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3" dur="2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7" dur="2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20c9f8"/>
                </a:solidFill>
                <a:latin typeface="Calibri"/>
              </a:rPr>
              <a:t>Нерыбные продукты моря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20960"/>
            <a:ext cx="34005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кообраз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люс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глокож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рская капуст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29040" y="1920960"/>
            <a:ext cx="47577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рабы, лангусты, омары, раки, крил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ицы, мидии, гребешки, кальмар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репанг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20c9f8"/>
                </a:solidFill>
                <a:latin typeface="Calibri"/>
              </a:rPr>
              <a:t>Пищевая ценность рыбы.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4" name="Содержимое 3" descr="00011050.jpg"/>
          <p:cNvPicPr/>
          <p:nvPr/>
        </p:nvPicPr>
        <p:blipFill>
          <a:blip r:embed="rId1"/>
          <a:stretch/>
        </p:blipFill>
        <p:spPr>
          <a:xfrm>
            <a:off x="163440" y="2357280"/>
            <a:ext cx="3808440" cy="2803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000680" y="2071440"/>
            <a:ext cx="4929120" cy="4273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Белок 20 - 26 %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Жиры 0,1 – 30 %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итамины:  А и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, гр. В, Е, С, РР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инеральные вещества: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йод, фосфор, кальций, калий, натрий, магни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20 аминокислот 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203400" y="6273720"/>
            <a:ext cx="55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задание: списать в тетрад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6760" y="704880"/>
            <a:ext cx="857268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c9f8"/>
                </a:solidFill>
                <a:latin typeface="Calibri"/>
              </a:rPr>
              <a:t>Определение доброкачественности рыбы.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охранена цельность рыбы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Чешуя гладкая, чиста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Глаза выпуклые, прозрачны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Жабры ярко-красны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якоть с трудом отделяется от костей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вежий, характерный рыбный запах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User PK</cp:lastModifiedBy>
  <dcterms:modified xsi:type="dcterms:W3CDTF">2020-04-07T14:32:38Z</dcterms:modified>
  <cp:revision>88</cp:revision>
  <dc:subject/>
  <dc:title>Слайд 1</dc:title>
</cp:coreProperties>
</file>