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4.jpeg" ContentType="image/jpeg"/>
  <Override PartName="/ppt/media/image23.jpeg" ContentType="image/jpeg"/>
  <Override PartName="/ppt/media/image12.png" ContentType="image/png"/>
  <Override PartName="/ppt/media/image21.jpeg" ContentType="image/jpeg"/>
  <Override PartName="/ppt/media/image19.jpeg" ContentType="image/jpeg"/>
  <Override PartName="/ppt/media/image18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27.jpeg" ContentType="image/jpeg"/>
  <Override PartName="/ppt/media/image29.jpeg" ContentType="image/jpeg"/>
  <Override PartName="/ppt/media/image13.jpeg" ContentType="image/jpeg"/>
  <Override PartName="/ppt/media/image40.jpeg" ContentType="image/jpeg"/>
  <Override PartName="/ppt/media/image38.jpeg" ContentType="image/jpeg"/>
  <Override PartName="/ppt/media/image11.jpeg" ContentType="image/jpeg"/>
  <Override PartName="/ppt/media/image36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37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20.jpeg" ContentType="image/jpeg"/>
  <Override PartName="/ppt/media/image34.jpeg" ContentType="image/jpeg"/>
  <Override PartName="/ppt/media/image7.png" ContentType="image/png"/>
  <Override PartName="/ppt/media/image9.png" ContentType="image/png"/>
  <Override PartName="/ppt/media/image22.jpeg" ContentType="image/jpeg"/>
  <Override PartName="/ppt/media/image35.jpeg" ContentType="image/jpeg"/>
  <Override PartName="/ppt/media/image10.png" ContentType="image/png"/>
  <Override PartName="/ppt/media/image1.jpeg" ContentType="image/jpeg"/>
  <Override PartName="/ppt/media/image6.png" ContentType="image/png"/>
  <Override PartName="/ppt/media/image3.png" ContentType="image/png"/>
  <Override PartName="/ppt/media/image1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2C1AA-5E55-4DDB-B646-9B9B8884A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3226D-C08E-45F2-9AC9-2A0F8CB47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384AD-4564-41D1-87AB-7B36C0D84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E5D21-7C75-4BF7-9A8F-91A2B602F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3BBDD-B357-4A85-AED8-43E74E222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427CA-52DC-4535-B75A-FE4EFD5D6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7EBE6-9AE4-4F26-BB4F-5D7EEEEC3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EB08B-27F4-4D20-93F4-E3ACEC703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BFA95-AC64-494E-801A-DD2C06B14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2EFF4-5E4A-4B70-8973-814312770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1F3AA-9CE5-4A2D-AC47-A67EF67B3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EE4CD-3F88-4349-8472-534572C7C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9D7AD-EC94-4ED3-AB01-9CD0DC20F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51672-5176-45F3-9E46-E00D362C8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C7AB8-46FC-444A-ACD7-A0C274E33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40503-2A69-4851-9F83-F887174B6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EB349-44BB-42CD-A45D-E55D6E68D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CDD0B-3C8A-4D1E-80E0-7E7F4C57F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F82D8-B6E7-4DD7-B4DE-79F0CD497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7744E-7EC6-4211-9C7B-06575957B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65F14-B67D-4CEC-8332-06882F74D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CFB40-F572-4BB6-A926-C7D32E38F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40133-6D8E-4BBC-A7F4-210105145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76BA5-DC97-4DF5-9A85-9B7E73173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76C23-2208-429C-9AF4-5390F0052F5E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4680" y="203040"/>
                <a:ext cx="91389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Text Box 11"/>
              <p:cNvSpPr/>
              <p:nvPr/>
            </p:nvSpPr>
            <p:spPr>
              <a:xfrm rot="21435600">
                <a:off x="-18720" y="47772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2880" y="248040"/>
                <a:ext cx="916488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Text Box 14"/>
              <p:cNvSpPr/>
              <p:nvPr/>
            </p:nvSpPr>
            <p:spPr>
              <a:xfrm rot="21435600">
                <a:off x="-18720" y="523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с одним вырезанным скругленным углом 8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Прямоугольный треугольник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Полилиния 9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Полилиния 10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2813E-867D-4708-B6DF-21D2D21FC14A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image" Target="../media/image27.jpe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image" Target="../media/image33.jpe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image" Target="../media/image38.jpeg"/><Relationship Id="rId6" Type="http://schemas.openxmlformats.org/officeDocument/2006/relationships/image" Target="../media/image39.jpeg"/><Relationship Id="rId7" Type="http://schemas.openxmlformats.org/officeDocument/2006/relationships/image" Target="../media/image40.jpeg"/><Relationship Id="rId8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jpe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png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20c9f8"/>
                </a:solidFill>
                <a:latin typeface="Calibri"/>
              </a:rPr>
              <a:t>Рыба и морепродукты</a:t>
            </a:r>
            <a:endParaRPr b="0" lang="en-US" sz="60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96" name="Содержимое 3" descr="00013942.JPG"/>
          <p:cNvPicPr/>
          <p:nvPr/>
        </p:nvPicPr>
        <p:blipFill>
          <a:blip r:embed="rId1"/>
          <a:stretch/>
        </p:blipFill>
        <p:spPr>
          <a:xfrm>
            <a:off x="1036800" y="1935000"/>
            <a:ext cx="70704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20c9f8"/>
                </a:solidFill>
                <a:latin typeface="Calibri"/>
              </a:rPr>
              <a:t>Первичная обработка рыбы.</a:t>
            </a:r>
            <a:endParaRPr b="0" lang="en-US" sz="45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Оттаивание (для мороженной рыбы)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Удаление плавников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Очистка от чешуи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Вырезание жабр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Разрезание брюшка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Удаление внутренностей, головы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Промывание и пластование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Удаление кожи для получения чистого феле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Нарезание порционными кусками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nodeType="clickEffect" fill="hold">
                      <p:stCondLst>
                        <p:cond delay="0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2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2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2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2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2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20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20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20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20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3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20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20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3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20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20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35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2000" fill="hold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2000" fill="hold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36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2000" fill="hold"/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2000" fill="hold"/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36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2000" fill="hold"/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2000" fill="hold"/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20c9f8"/>
                </a:solidFill>
                <a:latin typeface="Calibri"/>
              </a:rPr>
              <a:t>Кухонный инвентарь</a:t>
            </a:r>
            <a:endParaRPr b="0" lang="en-US" sz="45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ctr">
              <a:spcBef>
                <a:spcPts val="10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onstantia"/>
              </a:rPr>
              <a:t>Нож кухонный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marL="514440" indent="-514440" algn="ctr">
              <a:spcBef>
                <a:spcPts val="10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onstantia"/>
              </a:rPr>
              <a:t>Рыбочистка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marL="514440" indent="-514440" algn="ctr">
              <a:spcBef>
                <a:spcPts val="10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onstantia"/>
              </a:rPr>
              <a:t>Разделочная доска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nodeType="clickEffect" fill="hold">
                      <p:stCondLst>
                        <p:cond delay="0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7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80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82" dur="2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84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86" dur="20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88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90" dur="20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866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20c9f8"/>
                </a:solidFill>
                <a:latin typeface="Calibri"/>
              </a:rPr>
              <a:t>Санитарные требования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1920960"/>
            <a:ext cx="83296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Разделывать рыбу на специальной доске и желательно на отдельном столе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just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До и после разделки промыть рыбу холодной проточной водой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just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Удалить полученные рыбные отходы сразу после разделки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just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По окончании работы вымыть кухонный инвентарь моющим средством и убрать рабочее место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nodeType="clickEffect" fill="hold">
                      <p:stCondLst>
                        <p:cond delay="0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8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0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03" dur="2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05" nodeType="afterEffect" fill="hold" presetClass="entr" presetID="2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1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13" nodeType="afterEffect" fill="hold" presetClass="entr" presetID="2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15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17" nodeType="afterEffect" fill="hold" presetClass="entr" presetID="2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3" dur="5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642960"/>
            <a:ext cx="822960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20c9f8"/>
                </a:solidFill>
                <a:latin typeface="Calibri"/>
              </a:rPr>
              <a:t>Способы </a:t>
            </a:r>
            <a:br>
              <a:rPr sz="4800"/>
            </a:br>
            <a:r>
              <a:rPr b="0" lang="ru-RU" sz="4800" spc="-1" strike="noStrike">
                <a:solidFill>
                  <a:srgbClr val="20c9f8"/>
                </a:solidFill>
                <a:latin typeface="Calibri"/>
              </a:rPr>
              <a:t>тепловой обработки рыбы</a:t>
            </a:r>
            <a:endParaRPr b="0" lang="en-US" sz="48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2499840"/>
            <a:ext cx="8229600" cy="38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onstantia"/>
              </a:rPr>
              <a:t>Отваривание  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onstantia"/>
              </a:rPr>
              <a:t>Припускание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onstantia"/>
              </a:rPr>
              <a:t>Жарение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onstantia"/>
              </a:rPr>
              <a:t>Запекание 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onstantia"/>
              </a:rPr>
              <a:t>Тушение 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nodeType="clickEffect" fill="hold">
                      <p:stCondLst>
                        <p:cond delay="0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1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34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39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2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2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44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2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2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49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454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20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20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85480" y="571680"/>
            <a:ext cx="8643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20c9f8"/>
                </a:solidFill>
                <a:latin typeface="Calibri"/>
              </a:rPr>
              <a:t>Требования,</a:t>
            </a:r>
            <a:br>
              <a:rPr sz="4000"/>
            </a:br>
            <a:r>
              <a:rPr b="0" lang="ru-RU" sz="4000" spc="-1" strike="noStrike">
                <a:solidFill>
                  <a:srgbClr val="20c9f8"/>
                </a:solidFill>
                <a:latin typeface="Calibri"/>
              </a:rPr>
              <a:t> предъявляемые к готовым блюдам.</a:t>
            </a:r>
            <a:br>
              <a:rPr sz="4800"/>
            </a:br>
            <a:endParaRPr b="0" lang="en-US" sz="4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2499840"/>
            <a:ext cx="8229600" cy="38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Мякоть мягкая, отстает от костей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Нет запаха сырости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При проколе спинки рыбы вилкой она свободно входит в мякоть, при этом выделяется прозрачный сок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9" name="Прямоугольник 3"/>
          <p:cNvSpPr/>
          <p:nvPr/>
        </p:nvSpPr>
        <p:spPr>
          <a:xfrm>
            <a:off x="203400" y="6273720"/>
            <a:ext cx="556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задание: списать в тетрадь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nodeType="clickEffect" fill="hold">
                      <p:stCondLst>
                        <p:cond delay="0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4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5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6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2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2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2" dur="20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74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2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2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8" dur="20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480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20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20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4" dur="20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523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20c9f8"/>
                </a:solidFill>
                <a:latin typeface="Calibri"/>
              </a:rPr>
              <a:t>Блюда из рыбы.</a:t>
            </a:r>
            <a:endParaRPr b="0" lang="en-US" sz="45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141" name="Содержимое 3" descr="00011127.jpg"/>
          <p:cNvPicPr/>
          <p:nvPr/>
        </p:nvPicPr>
        <p:blipFill>
          <a:blip r:embed="rId1"/>
          <a:stretch/>
        </p:blipFill>
        <p:spPr>
          <a:xfrm>
            <a:off x="214200" y="1000080"/>
            <a:ext cx="2357640" cy="29782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2" descr="C:\Documents and Settings\User\Рабочий стол\Разработки мои\урок\00011047.jpg"/>
          <p:cNvPicPr/>
          <p:nvPr/>
        </p:nvPicPr>
        <p:blipFill>
          <a:blip r:embed="rId2"/>
          <a:stretch/>
        </p:blipFill>
        <p:spPr>
          <a:xfrm rot="922800">
            <a:off x="5878440" y="1784520"/>
            <a:ext cx="3003480" cy="237636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4" descr="C:\Documents and Settings\User\Рабочий стол\Разработки мои\урок\00011058.jpg"/>
          <p:cNvPicPr/>
          <p:nvPr/>
        </p:nvPicPr>
        <p:blipFill>
          <a:blip r:embed="rId3"/>
          <a:stretch/>
        </p:blipFill>
        <p:spPr>
          <a:xfrm>
            <a:off x="3143160" y="4653000"/>
            <a:ext cx="3000600" cy="19969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2" descr="C:\Documents and Settings\User\Рабочий стол\Разработки мои\урок\рыбы1\щука в кляре.bmp"/>
          <p:cNvPicPr/>
          <p:nvPr/>
        </p:nvPicPr>
        <p:blipFill>
          <a:blip r:embed="rId4"/>
          <a:stretch/>
        </p:blipFill>
        <p:spPr>
          <a:xfrm rot="1144200">
            <a:off x="6589440" y="4500360"/>
            <a:ext cx="2006640" cy="20062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2" descr="C:\Documents and Settings\User\Рабочий стол\Разработки мои\урок\блюда\камбала.bmp"/>
          <p:cNvPicPr/>
          <p:nvPr/>
        </p:nvPicPr>
        <p:blipFill>
          <a:blip r:embed="rId5"/>
          <a:stretch/>
        </p:blipFill>
        <p:spPr>
          <a:xfrm>
            <a:off x="3214800" y="2071800"/>
            <a:ext cx="2193840" cy="20476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2" descr="C:\Documents and Settings\User\Рабочий стол\Разработки мои\урок\блюда\салат мимоза.bmp"/>
          <p:cNvPicPr/>
          <p:nvPr/>
        </p:nvPicPr>
        <p:blipFill>
          <a:blip r:embed="rId6"/>
          <a:stretch/>
        </p:blipFill>
        <p:spPr>
          <a:xfrm rot="20188200">
            <a:off x="349200" y="4525560"/>
            <a:ext cx="2349720" cy="17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nodeType="clickEffect" fill="hold">
                      <p:stCondLst>
                        <p:cond delay="0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2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9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97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00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03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05" nodeType="afterEffect" fill="hold" presetClass="entr" presetID="5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507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5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510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5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513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229600" cy="9619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20c9f8"/>
                </a:solidFill>
                <a:latin typeface="Calibri"/>
              </a:rPr>
              <a:t>Блюда из рыбы.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148" name="Picture 2" descr="C:\Documents and Settings\User\Рабочий стол\Разработки мои\урок\блюда\1.bmp"/>
          <p:cNvPicPr/>
          <p:nvPr/>
        </p:nvPicPr>
        <p:blipFill>
          <a:blip r:embed="rId1"/>
          <a:stretch/>
        </p:blipFill>
        <p:spPr>
          <a:xfrm rot="20264400">
            <a:off x="340920" y="1390320"/>
            <a:ext cx="2254320" cy="22413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2" descr="C:\Documents and Settings\User\Рабочий стол\Разработки мои\урок\блюда\Безымянный.bmp"/>
          <p:cNvPicPr/>
          <p:nvPr/>
        </p:nvPicPr>
        <p:blipFill>
          <a:blip r:embed="rId2"/>
          <a:stretch/>
        </p:blipFill>
        <p:spPr>
          <a:xfrm>
            <a:off x="3357720" y="1714680"/>
            <a:ext cx="2085840" cy="25747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" descr="C:\Documents and Settings\User\Рабочий стол\Разработки мои\урок\блюда\кафаль.bmp"/>
          <p:cNvPicPr/>
          <p:nvPr/>
        </p:nvPicPr>
        <p:blipFill>
          <a:blip r:embed="rId3"/>
          <a:stretch/>
        </p:blipFill>
        <p:spPr>
          <a:xfrm rot="20689200">
            <a:off x="461520" y="3935520"/>
            <a:ext cx="2532240" cy="222876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2" descr="C:\Documents and Settings\User\Рабочий стол\Разработки мои\урок\блюда\рыбные катлеты в геркулесе.bmp"/>
          <p:cNvPicPr/>
          <p:nvPr/>
        </p:nvPicPr>
        <p:blipFill>
          <a:blip r:embed="rId4"/>
          <a:stretch/>
        </p:blipFill>
        <p:spPr>
          <a:xfrm rot="978000">
            <a:off x="6311880" y="1561680"/>
            <a:ext cx="2333520" cy="25462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3" descr="C:\Documents and Settings\User\Рабочий стол\Разработки мои\урок\блюда\сельдь под шубой.bmp"/>
          <p:cNvPicPr/>
          <p:nvPr/>
        </p:nvPicPr>
        <p:blipFill>
          <a:blip r:embed="rId5"/>
          <a:stretch/>
        </p:blipFill>
        <p:spPr>
          <a:xfrm rot="1002600">
            <a:off x="6135840" y="4448160"/>
            <a:ext cx="2381040" cy="178596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5" descr="C:\Documents and Settings\User\Рабочий стол\Разработки мои\урок\блюда\тунец с картофелем.bmp"/>
          <p:cNvPicPr/>
          <p:nvPr/>
        </p:nvPicPr>
        <p:blipFill>
          <a:blip r:embed="rId6"/>
          <a:stretch/>
        </p:blipFill>
        <p:spPr>
          <a:xfrm>
            <a:off x="3429000" y="4500720"/>
            <a:ext cx="2119320" cy="197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nodeType="clickEffect" fill="hold">
                      <p:stCondLst>
                        <p:cond delay="0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0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1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2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26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29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2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34" nodeType="afterEffect" fill="hold" presetClass="entr" presetID="1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36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39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42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239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20c9f8"/>
                </a:solidFill>
                <a:latin typeface="Calibri"/>
              </a:rPr>
              <a:t>Блюда из морепродуктов.</a:t>
            </a:r>
            <a:endParaRPr b="0" lang="en-US" sz="45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155" name="Picture 3" descr="C:\Documents and Settings\User\Рабочий стол\Разработки мои\урок\00011088.jpg"/>
          <p:cNvPicPr/>
          <p:nvPr/>
        </p:nvPicPr>
        <p:blipFill>
          <a:blip r:embed="rId1"/>
          <a:stretch/>
        </p:blipFill>
        <p:spPr>
          <a:xfrm rot="19954800">
            <a:off x="276120" y="2046240"/>
            <a:ext cx="2836800" cy="18939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2" descr="C:\Documents and Settings\User\Рабочий стол\Разработки мои\урок\00011073.jpg"/>
          <p:cNvPicPr/>
          <p:nvPr/>
        </p:nvPicPr>
        <p:blipFill>
          <a:blip r:embed="rId2"/>
          <a:stretch/>
        </p:blipFill>
        <p:spPr>
          <a:xfrm rot="20446800">
            <a:off x="604800" y="4346280"/>
            <a:ext cx="2428920" cy="19209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2" descr="C:\Documents and Settings\User\Рабочий стол\Разработки мои\урок\блюда\кальмары в соусе.bmp"/>
          <p:cNvPicPr/>
          <p:nvPr/>
        </p:nvPicPr>
        <p:blipFill>
          <a:blip r:embed="rId3"/>
          <a:stretch/>
        </p:blipFill>
        <p:spPr>
          <a:xfrm rot="1429800">
            <a:off x="6145200" y="1750680"/>
            <a:ext cx="2646360" cy="198576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2" descr="C:\Documents and Settings\User\Рабочий стол\Разработки мои\урок\блюда\креветки.bmp"/>
          <p:cNvPicPr/>
          <p:nvPr/>
        </p:nvPicPr>
        <p:blipFill>
          <a:blip r:embed="rId4"/>
          <a:stretch/>
        </p:blipFill>
        <p:spPr>
          <a:xfrm rot="1431000">
            <a:off x="6094080" y="4309560"/>
            <a:ext cx="2657520" cy="199404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2" descr="C:\Documents and Settings\User\Рабочий стол\Разработки мои\урок\блюда\с мидиями.bmp"/>
          <p:cNvPicPr/>
          <p:nvPr/>
        </p:nvPicPr>
        <p:blipFill>
          <a:blip r:embed="rId5"/>
          <a:stretch/>
        </p:blipFill>
        <p:spPr>
          <a:xfrm rot="20731200">
            <a:off x="3693600" y="3132000"/>
            <a:ext cx="1849680" cy="17812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3" descr="C:\Documents and Settings\User\Рабочий стол\Разработки мои\урок\блюда\салат из кальмаров.bmp"/>
          <p:cNvPicPr/>
          <p:nvPr/>
        </p:nvPicPr>
        <p:blipFill>
          <a:blip r:embed="rId6"/>
          <a:stretch/>
        </p:blipFill>
        <p:spPr>
          <a:xfrm>
            <a:off x="3500280" y="5000760"/>
            <a:ext cx="2286000" cy="171432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4" descr="C:\Documents and Settings\User\Рабочий стол\Разработки мои\урок\блюда\салат с креветками.bmp"/>
          <p:cNvPicPr/>
          <p:nvPr/>
        </p:nvPicPr>
        <p:blipFill>
          <a:blip r:embed="rId7"/>
          <a:stretch/>
        </p:blipFill>
        <p:spPr>
          <a:xfrm>
            <a:off x="3456000" y="1428840"/>
            <a:ext cx="2116080" cy="160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nodeType="clickEffect" fill="hold">
                      <p:stCondLst>
                        <p:cond delay="0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0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53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555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57" nodeType="afterEffect" fill="hold" presetClass="entr" presetID="6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59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6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62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6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65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567" nodeType="afterEffect" fill="hold" presetClass="entr" presetID="21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69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21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72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21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75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20c9f8"/>
                </a:solidFill>
                <a:latin typeface="Calibri"/>
              </a:rPr>
              <a:t>Домашнее задание</a:t>
            </a:r>
            <a:endParaRPr b="0" lang="en-US" sz="45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onstantia"/>
              </a:rPr>
              <a:t>1.Списать информацию со слайдов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onstantia"/>
              </a:rPr>
              <a:t>2.Перечислить морскую рыбу (не менее 5 шт) и речную рыбу (не менее 5 шт)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0c9f8"/>
                </a:solidFill>
                <a:latin typeface="Calibri"/>
              </a:rPr>
              <a:t>Морская рыба.</a:t>
            </a:r>
            <a:endParaRPr b="0" lang="en-US" sz="44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98" name="Содержимое 3" descr="анчоус хамса.bmp"/>
          <p:cNvPicPr/>
          <p:nvPr/>
        </p:nvPicPr>
        <p:blipFill>
          <a:blip r:embed="rId1"/>
          <a:stretch/>
        </p:blipFill>
        <p:spPr>
          <a:xfrm rot="1210200">
            <a:off x="6097320" y="1423800"/>
            <a:ext cx="2689200" cy="16333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2" descr="C:\Documents and Settings\User\Рабочий стол\Разработки мои\урок\рыбы1\мойва.bmp"/>
          <p:cNvPicPr/>
          <p:nvPr/>
        </p:nvPicPr>
        <p:blipFill>
          <a:blip r:embed="rId2"/>
          <a:stretch/>
        </p:blipFill>
        <p:spPr>
          <a:xfrm rot="957000">
            <a:off x="5943600" y="3541680"/>
            <a:ext cx="2989440" cy="6685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3" descr="C:\Documents and Settings\User\Рабочий стол\Разработки мои\урок\рыбы1\морск щука.bmp"/>
          <p:cNvPicPr/>
          <p:nvPr/>
        </p:nvPicPr>
        <p:blipFill>
          <a:blip r:embed="rId3"/>
          <a:stretch/>
        </p:blipFill>
        <p:spPr>
          <a:xfrm rot="1350600">
            <a:off x="6035400" y="4457880"/>
            <a:ext cx="2365200" cy="17715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4" descr="C:\Documents and Settings\User\Рабочий стол\Разработки мои\урок\рыбы1\окунь.bmp"/>
          <p:cNvPicPr/>
          <p:nvPr/>
        </p:nvPicPr>
        <p:blipFill>
          <a:blip r:embed="rId4"/>
          <a:stretch/>
        </p:blipFill>
        <p:spPr>
          <a:xfrm rot="10282200">
            <a:off x="547200" y="4438440"/>
            <a:ext cx="2156040" cy="17460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2" descr="C:\Documents and Settings\User\Рабочий стол\Разработки мои\урок\рыбы1\сельдь.bmp"/>
          <p:cNvPicPr/>
          <p:nvPr/>
        </p:nvPicPr>
        <p:blipFill>
          <a:blip r:embed="rId5"/>
          <a:stretch/>
        </p:blipFill>
        <p:spPr>
          <a:xfrm>
            <a:off x="3143160" y="2786040"/>
            <a:ext cx="2481480" cy="16066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3" descr="C:\Documents and Settings\User\Рабочий стол\Разработки мои\урок\рыбы1\треска.bmp"/>
          <p:cNvPicPr/>
          <p:nvPr/>
        </p:nvPicPr>
        <p:blipFill>
          <a:blip r:embed="rId6"/>
          <a:stretch/>
        </p:blipFill>
        <p:spPr>
          <a:xfrm rot="19596000">
            <a:off x="325440" y="2128320"/>
            <a:ext cx="3137040" cy="12319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4" descr="C:\Documents and Settings\User\Рабочий стол\Разработки мои\урок\рыбы1\лещ.bmp"/>
          <p:cNvPicPr/>
          <p:nvPr/>
        </p:nvPicPr>
        <p:blipFill>
          <a:blip r:embed="rId7"/>
          <a:stretch/>
        </p:blipFill>
        <p:spPr>
          <a:xfrm>
            <a:off x="3214800" y="4643280"/>
            <a:ext cx="2341440" cy="16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8809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20c9f8"/>
                </a:solidFill>
                <a:latin typeface="Calibri"/>
              </a:rPr>
              <a:t>Пресноводная рыба</a:t>
            </a:r>
            <a:endParaRPr b="0" lang="en-US" sz="48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106" name="Picture 5" descr="C:\Documents and Settings\User\Рабочий стол\Разработки мои\урок\рыбы1\осетр.bmp"/>
          <p:cNvPicPr/>
          <p:nvPr/>
        </p:nvPicPr>
        <p:blipFill>
          <a:blip r:embed="rId1"/>
          <a:stretch/>
        </p:blipFill>
        <p:spPr>
          <a:xfrm rot="20188800">
            <a:off x="248760" y="1752120"/>
            <a:ext cx="2716200" cy="18115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2" descr="C:\Documents and Settings\User\Рабочий стол\Разработки мои\урок\рыбы1\щука.bmp"/>
          <p:cNvPicPr/>
          <p:nvPr/>
        </p:nvPicPr>
        <p:blipFill>
          <a:blip r:embed="rId2"/>
          <a:stretch/>
        </p:blipFill>
        <p:spPr>
          <a:xfrm rot="20701200">
            <a:off x="169920" y="4206600"/>
            <a:ext cx="2363760" cy="16239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3" descr="C:\Documents and Settings\User\Рабочий стол\Разработки мои\урок\рыбы1\сом.bmp"/>
          <p:cNvPicPr/>
          <p:nvPr/>
        </p:nvPicPr>
        <p:blipFill>
          <a:blip r:embed="rId3"/>
          <a:stretch/>
        </p:blipFill>
        <p:spPr>
          <a:xfrm rot="1231200">
            <a:off x="6008760" y="4184280"/>
            <a:ext cx="2658960" cy="19954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4" descr="C:\Documents and Settings\User\Рабочий стол\Разработки мои\урок\рыбы1\photo_karpa3.jpg"/>
          <p:cNvPicPr/>
          <p:nvPr/>
        </p:nvPicPr>
        <p:blipFill>
          <a:blip r:embed="rId4"/>
          <a:stretch/>
        </p:blipFill>
        <p:spPr>
          <a:xfrm rot="676800">
            <a:off x="6221520" y="1518840"/>
            <a:ext cx="2552760" cy="17715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5" descr="C:\Documents and Settings\User\Рабочий стол\Разработки мои\урок\рыбы1\пикша.bmp"/>
          <p:cNvPicPr/>
          <p:nvPr/>
        </p:nvPicPr>
        <p:blipFill>
          <a:blip r:embed="rId5"/>
          <a:stretch/>
        </p:blipFill>
        <p:spPr>
          <a:xfrm rot="20499600">
            <a:off x="2768400" y="4949640"/>
            <a:ext cx="2598480" cy="12128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6" descr="C:\Documents and Settings\User\Рабочий стол\Разработки мои\урок\рыбы1\речная рыбы.bmp"/>
          <p:cNvPicPr/>
          <p:nvPr/>
        </p:nvPicPr>
        <p:blipFill>
          <a:blip r:embed="rId6"/>
          <a:stretch/>
        </p:blipFill>
        <p:spPr>
          <a:xfrm>
            <a:off x="2928960" y="2928960"/>
            <a:ext cx="304812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0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9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4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0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5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9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20c9f8"/>
                </a:solidFill>
                <a:latin typeface="Calibri"/>
              </a:rPr>
              <a:t>Морепродукты.</a:t>
            </a:r>
            <a:endParaRPr b="0" lang="en-US" sz="48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113" name="Содержимое 6" descr="00011071.jpg"/>
          <p:cNvPicPr/>
          <p:nvPr/>
        </p:nvPicPr>
        <p:blipFill>
          <a:blip r:embed="rId1"/>
          <a:stretch/>
        </p:blipFill>
        <p:spPr>
          <a:xfrm rot="20162400">
            <a:off x="428400" y="1857240"/>
            <a:ext cx="3093840" cy="1928880"/>
          </a:xfrm>
          <a:prstGeom prst="rect">
            <a:avLst/>
          </a:prstGeom>
          <a:ln w="0">
            <a:noFill/>
          </a:ln>
        </p:spPr>
      </p:pic>
      <p:pic>
        <p:nvPicPr>
          <p:cNvPr id="114" name="Содержимое 7" descr="00011101.jpg"/>
          <p:cNvPicPr/>
          <p:nvPr/>
        </p:nvPicPr>
        <p:blipFill>
          <a:blip r:embed="rId2"/>
          <a:stretch/>
        </p:blipFill>
        <p:spPr>
          <a:xfrm rot="763800">
            <a:off x="6643440" y="1500120"/>
            <a:ext cx="2052360" cy="28069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" descr="C:\Documents and Settings\User\Рабочий стол\Разработки мои\урок\блюда\криветки1.bmp"/>
          <p:cNvPicPr/>
          <p:nvPr/>
        </p:nvPicPr>
        <p:blipFill>
          <a:blip r:embed="rId3"/>
          <a:stretch/>
        </p:blipFill>
        <p:spPr>
          <a:xfrm>
            <a:off x="2857680" y="4429080"/>
            <a:ext cx="288108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0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4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7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0c9f8"/>
                </a:solidFill>
                <a:latin typeface="Calibri"/>
              </a:rPr>
              <a:t>Классификация промысловых рыб: </a:t>
            </a:r>
            <a:endParaRPr b="0" lang="en-US" sz="4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6840" y="1571760"/>
            <a:ext cx="8186760" cy="478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9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Морская – 80 %,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Сельдь, сардины, килька, анчоус, кета, семга, горбуша, нерка, скумбрия, ставрида, сардинелла, тунец.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Донные: треска, хек, путассу, навага, налим, минтай, камбала, палтус, терпуг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lnSpc>
                <a:spcPct val="9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Пресноводная – 20 %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Карп, сазан, лещ, вобла, карась, толстолобик, окунь, судак, ерш, осетр, ,стерледь, северюга, щука, сом.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0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3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4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49" nodeType="afterEffect" fill="hold" presetClass="entr" presetID="4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4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5712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20c9f8"/>
                </a:solidFill>
                <a:latin typeface="Calibri"/>
              </a:rPr>
              <a:t>Виды рыбных товаров.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6840" y="1357200"/>
            <a:ext cx="8258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живая,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охлажденная,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мороженная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соленая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вяленная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горячего копчения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холодного копчения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икра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рыбные консервы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презервы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0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9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71" dur="2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73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75" dur="20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77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79" dur="20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81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83" dur="20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85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87" dur="20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89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91" dur="2000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193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95" dur="2000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197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99" dur="2000"/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201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03" dur="2000"/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205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07" dur="2000"/>
                                        <p:tgtEl>
                                          <p:spTgt spid="1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57132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20c9f8"/>
                </a:solidFill>
                <a:latin typeface="Calibri"/>
              </a:rPr>
              <a:t>Нерыбные продукты моря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920960"/>
            <a:ext cx="340056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Ракообразные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Моллюски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Иглокожие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Морская капуста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929040" y="1920960"/>
            <a:ext cx="475776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Крабы, лангусты, омары, раки, криль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Устрицы, мидии, гребешки, кальмары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Трепанги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0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0" dur="1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4" dur="10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2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8" dur="10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3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2" dur="1000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3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6" dur="1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38" nodeType="afterEffect" fill="hold" presetClass="entr" presetID="16" presetSubtype="2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0" dur="10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42" nodeType="afterEffect" fill="hold" presetClass="entr" presetID="16" presetSubtype="2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4" dur="10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20c9f8"/>
                </a:solidFill>
                <a:latin typeface="Calibri"/>
              </a:rPr>
              <a:t>Пищевая ценность рыбы. 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124" name="Содержимое 3" descr="00011050.jpg"/>
          <p:cNvPicPr/>
          <p:nvPr/>
        </p:nvPicPr>
        <p:blipFill>
          <a:blip r:embed="rId1"/>
          <a:stretch/>
        </p:blipFill>
        <p:spPr>
          <a:xfrm>
            <a:off x="163440" y="2357280"/>
            <a:ext cx="3808440" cy="280368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 txBox="1"/>
          <p:nvPr/>
        </p:nvSpPr>
        <p:spPr>
          <a:xfrm>
            <a:off x="4000680" y="2071440"/>
            <a:ext cx="4929120" cy="427356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Белок 20 - 26 %,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Жиры 0,1 – 30 %,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Витамины:  А и </a:t>
            </a: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D</a:t>
            </a: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, гр. В, Е, С, РР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Минеральные вещества:</a:t>
            </a: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йод, фосфор, кальций, калий, натрий, магний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20 аминокислот 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Прямоугольник 4"/>
          <p:cNvSpPr/>
          <p:nvPr/>
        </p:nvSpPr>
        <p:spPr>
          <a:xfrm>
            <a:off x="203400" y="6273720"/>
            <a:ext cx="556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задание: списать в тетрадь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0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6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0" dur="1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6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4" dur="10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6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8" dur="10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7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2" dur="20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7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6" dur="20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56760" y="704880"/>
            <a:ext cx="8572680" cy="866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0c9f8"/>
                </a:solidFill>
                <a:latin typeface="Calibri"/>
              </a:rPr>
              <a:t>Определение доброкачественности рыбы.</a:t>
            </a:r>
            <a:endParaRPr b="0" lang="en-US" sz="36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2142720"/>
            <a:ext cx="8229600" cy="418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Сохранена цельность рыбы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Чешуя гладкая, чистая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Глаза выпуклые, прозрачные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Жабры ярко-красные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Мякоть с трудом отделяется от костей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Свежий, характерный рыбный запах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0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2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2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9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20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20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9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20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20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0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20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20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20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20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20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20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Коля</dc:creator>
  <dc:description/>
  <dc:language>en-US</dc:language>
  <cp:lastModifiedBy>User PK</cp:lastModifiedBy>
  <dcterms:modified xsi:type="dcterms:W3CDTF">2020-04-07T14:32:38Z</dcterms:modified>
  <cp:revision>88</cp:revision>
  <dc:subject/>
  <dc:title>Слайд 1</dc:title>
</cp:coreProperties>
</file>