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A57-3AFE-4D3D-8F7B-25333479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48A-9DE2-42FF-9C74-345BBB03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28C-A52C-411E-B528-1E1A5238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AB4-6D5F-4E36-8BF7-913CBB7D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16F23-EACD-4BDC-83BB-69A31DCA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FC42-1395-4596-BA32-DEE2656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A698-D58A-48EF-9488-E0759B4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0042-818F-482A-9542-1E410F9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B9B10-4A56-48E0-8585-6FFDF91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F6196-5C4A-4938-8576-BD8E52F3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4D7B7-AE5B-4EB7-B7E2-D980416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B47-7176-4353-8BC5-9B271C5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52319-0D2C-43F5-B0BD-E9909E6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9660-6648-4D6C-A11B-2F530AE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B374D-0B7E-407A-A425-8CB6CEAF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AB000-1E9B-4481-AD79-D8E84255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87C9-2E1F-4470-884F-D55CDEE0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D7F-966F-4B17-B370-D3B2761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868-8993-4576-A9CF-D66C0B6E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D96-1D45-49C8-8504-74576262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3F3-F766-463F-868B-E126B2E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63B-D30F-4D0A-AD2F-542716B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2D8-5F40-4917-B1CC-7D00914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62F-44FC-4DFD-99A1-7D293CE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7C7-3557-4247-9DAB-483CEC829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4A1-AD16-4C97-93AA-95425B0BA6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Питательная</a:t>
            </a: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ценность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8" descr="0134culi"/>
          <p:cNvPicPr/>
          <p:nvPr/>
        </p:nvPicPr>
        <p:blipFill>
          <a:blip r:embed="rId1"/>
          <a:stretch/>
        </p:blipFill>
        <p:spPr>
          <a:xfrm>
            <a:off x="3571920" y="250020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Рыба – ценный продукт, 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она содержит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85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белки – 13-21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жиры – 0,2 -3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инеральные вещества (натрий магний, фосфор и т.д.) , вода – 53,5 – 8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витамины - А, Д, В1,В2, Р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икроэлементы (медь, железо, марганец йод 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1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Строение рыб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887760" y="1844640"/>
            <a:ext cx="7492320" cy="4334760"/>
            <a:chOff x="887760" y="1844640"/>
            <a:chExt cx="7492320" cy="4334760"/>
          </a:xfrm>
        </p:grpSpPr>
        <p:sp>
          <p:nvSpPr>
            <p:cNvPr id="90" name="Text Box 27"/>
            <p:cNvSpPr/>
            <p:nvPr/>
          </p:nvSpPr>
          <p:spPr>
            <a:xfrm>
              <a:off x="6957360" y="306252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хвост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Text Box 28"/>
            <p:cNvSpPr/>
            <p:nvPr/>
          </p:nvSpPr>
          <p:spPr>
            <a:xfrm>
              <a:off x="3333960" y="58111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брюшной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2063520" y="2198880"/>
              <a:ext cx="5400720" cy="3682080"/>
              <a:chOff x="2063520" y="2198880"/>
              <a:chExt cx="5400720" cy="3682080"/>
            </a:xfrm>
          </p:grpSpPr>
          <p:pic>
            <p:nvPicPr>
              <p:cNvPr id="93" name="Picture 18" descr="0309culi"/>
              <p:cNvPicPr/>
              <p:nvPr/>
            </p:nvPicPr>
            <p:blipFill>
              <a:blip r:embed="rId1"/>
              <a:stretch/>
            </p:blipFill>
            <p:spPr>
              <a:xfrm>
                <a:off x="2557440" y="2835720"/>
                <a:ext cx="3679560" cy="28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Line 19"/>
              <p:cNvSpPr/>
              <p:nvPr/>
            </p:nvSpPr>
            <p:spPr>
              <a:xfrm>
                <a:off x="2429640" y="2835720"/>
                <a:ext cx="380520" cy="120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Line 20"/>
              <p:cNvSpPr/>
              <p:nvPr/>
            </p:nvSpPr>
            <p:spPr>
              <a:xfrm flipH="1">
                <a:off x="4777920" y="2551320"/>
                <a:ext cx="696240" cy="77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Line 21"/>
              <p:cNvSpPr/>
              <p:nvPr/>
            </p:nvSpPr>
            <p:spPr>
              <a:xfrm>
                <a:off x="3698280" y="2198880"/>
                <a:ext cx="65520" cy="2265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Line 22"/>
              <p:cNvSpPr/>
              <p:nvPr/>
            </p:nvSpPr>
            <p:spPr>
              <a:xfrm flipH="1">
                <a:off x="4270680" y="5244120"/>
                <a:ext cx="62640" cy="6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Line 23"/>
              <p:cNvSpPr/>
              <p:nvPr/>
            </p:nvSpPr>
            <p:spPr>
              <a:xfrm flipH="1">
                <a:off x="4460760" y="5101560"/>
                <a:ext cx="570240" cy="77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 flipV="1">
                <a:off x="6300000" y="3330720"/>
                <a:ext cx="825120" cy="70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Text Box 25"/>
              <p:cNvSpPr/>
              <p:nvPr/>
            </p:nvSpPr>
            <p:spPr>
              <a:xfrm>
                <a:off x="2063520" y="249552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ff3300"/>
                    </a:solidFill>
                    <a:latin typeface="Tahoma"/>
                  </a:rPr>
                  <a:t>глаза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5247360" y="2283120"/>
                <a:ext cx="221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ff3300"/>
                    </a:solidFill>
                    <a:latin typeface="Tahoma"/>
                  </a:rPr>
                  <a:t>спинной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Tahoma"/>
                  </a:rPr>
                  <a:t>плавник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Line 29"/>
              <p:cNvSpPr/>
              <p:nvPr/>
            </p:nvSpPr>
            <p:spPr>
              <a:xfrm flipH="1">
                <a:off x="2367000" y="4251960"/>
                <a:ext cx="825120" cy="106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" name="Text Box 30"/>
            <p:cNvSpPr/>
            <p:nvPr/>
          </p:nvSpPr>
          <p:spPr>
            <a:xfrm>
              <a:off x="887760" y="531468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наджабреные крыш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Text Box 31"/>
            <p:cNvSpPr/>
            <p:nvPr/>
          </p:nvSpPr>
          <p:spPr>
            <a:xfrm>
              <a:off x="2891520" y="1844640"/>
              <a:ext cx="21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грудной 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Признаки доброкачественной рыб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абры ярко-красного ц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глаза прозра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неповрежденную чеш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не вздутое брюш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упругую, плотную консистен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пецифический рыбный за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В продажу рыба поступае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0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хлажд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морож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оле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опченая, вяле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 виде полуфабрик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47_97_4p"/>
          <p:cNvPicPr/>
          <p:nvPr/>
        </p:nvPicPr>
        <p:blipFill>
          <a:blip r:embed="rId1"/>
          <a:stretch/>
        </p:blipFill>
        <p:spPr>
          <a:xfrm>
            <a:off x="7020000" y="170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20092p"/>
          <p:cNvPicPr/>
          <p:nvPr/>
        </p:nvPicPr>
        <p:blipFill>
          <a:blip r:embed="rId2"/>
          <a:stretch/>
        </p:blipFill>
        <p:spPr>
          <a:xfrm>
            <a:off x="161928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20094p"/>
          <p:cNvPicPr/>
          <p:nvPr/>
        </p:nvPicPr>
        <p:blipFill>
          <a:blip r:embed="rId3"/>
          <a:stretch/>
        </p:blipFill>
        <p:spPr>
          <a:xfrm>
            <a:off x="395280" y="2276640"/>
            <a:ext cx="180036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Этапы первичной обработки рыб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1. Размораж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2. Разделка, которая включает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очищение рыбы от чешу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удаление внутренностей, головы, плавников и хво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промы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пласт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нарезка на порционные ку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ind_68bp"/>
          <p:cNvPicPr/>
          <p:nvPr/>
        </p:nvPicPr>
        <p:blipFill>
          <a:blip r:embed="rId1"/>
          <a:stretch/>
        </p:blipFill>
        <p:spPr>
          <a:xfrm>
            <a:off x="6948360" y="1484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nd_66ap"/>
          <p:cNvPicPr/>
          <p:nvPr/>
        </p:nvPicPr>
        <p:blipFill>
          <a:blip r:embed="rId2"/>
          <a:stretch/>
        </p:blipFill>
        <p:spPr>
          <a:xfrm>
            <a:off x="7020000" y="422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Тепловая обработка рыбы включ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твари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аре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запек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зделия из котлетной масс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(котлеты, биточ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тефтели, зраз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рулеты и т.д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ch_64p"/>
          <p:cNvPicPr/>
          <p:nvPr/>
        </p:nvPicPr>
        <p:blipFill>
          <a:blip r:embed="rId1"/>
          <a:stretch/>
        </p:blipFill>
        <p:spPr>
          <a:xfrm>
            <a:off x="716436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tai_50ap"/>
          <p:cNvPicPr/>
          <p:nvPr/>
        </p:nvPicPr>
        <p:blipFill>
          <a:blip r:embed="rId2"/>
          <a:stretch/>
        </p:blipFill>
        <p:spPr>
          <a:xfrm>
            <a:off x="6227640" y="1700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pan59ap"/>
          <p:cNvPicPr/>
          <p:nvPr/>
        </p:nvPicPr>
        <p:blipFill>
          <a:blip r:embed="rId3"/>
          <a:stretch/>
        </p:blipFill>
        <p:spPr>
          <a:xfrm>
            <a:off x="5219640" y="4221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6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2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формление блюд из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D:\фото\театр_хозяюшка\SA400171.JPG"/>
          <p:cNvPicPr/>
          <p:nvPr/>
        </p:nvPicPr>
        <p:blipFill>
          <a:blip r:embed="rId1"/>
          <a:stretch/>
        </p:blipFill>
        <p:spPr>
          <a:xfrm>
            <a:off x="428760" y="1643040"/>
            <a:ext cx="321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фото\театр_хозяюшка\SA400170.JPG"/>
          <p:cNvPicPr/>
          <p:nvPr/>
        </p:nvPicPr>
        <p:blipFill>
          <a:blip r:embed="rId2"/>
          <a:stretch/>
        </p:blipFill>
        <p:spPr>
          <a:xfrm>
            <a:off x="5643720" y="1643040"/>
            <a:ext cx="300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3000240" y="4000680"/>
            <a:ext cx="32385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33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900000" y="1844640"/>
            <a:ext cx="698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33"/>
                </a:solidFill>
                <a:latin typeface="Tahoma"/>
              </a:rPr>
              <a:t>Выполнить задания в презен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33"/>
                </a:solidFill>
                <a:latin typeface="Tahoma"/>
              </a:rPr>
              <a:t>Приготовить блюдо из рыбы или морепродуктов и сфотографировать его (обязательное условие к фотографии присутствие приготовившего блюд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59:28Z</dcterms:created>
  <dc:creator>егор</dc:creator>
  <dc:description/>
  <dc:language>en-US</dc:language>
  <cp:lastModifiedBy>User PK</cp:lastModifiedBy>
  <dcterms:modified xsi:type="dcterms:W3CDTF">2020-04-07T14:31:56Z</dcterms:modified>
  <cp:revision>33</cp:revision>
  <dc:subject/>
  <dc:title>Слайд 1</dc:title>
</cp:coreProperties>
</file>