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E7F-980F-47DA-BFE4-1061AE0F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047-9858-4DAD-8416-E0AACB8D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694-0680-4A7D-B330-1FCA87F5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F21-42AE-42D7-8971-FCBCE47D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D8E5-3F0E-416A-A540-E8215C07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0A8C-F193-420C-A157-C017CC47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CF61-9033-461A-B857-3709AE22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01EC-AE3A-4841-ACA2-DBC74CD7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2CD0-079B-4365-A67A-1EB2DF1B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2B9A-6BBF-4CE2-A7A8-0CC571EC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2B2F-3E3E-4083-AB52-BA12AD61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697-AF78-4C46-9E75-34F60B3E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EA70-2C3C-4748-94E5-8A60A931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90D4-68C3-4B5E-8756-BD49E3B0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8709-9B15-44B3-8C31-9DB4E615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972A-5A16-4EF8-BB22-E67CD05B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B31A-364E-4B5E-85B9-1189C87B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8526-E4F6-4936-A54C-03F69001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E70C0-F166-4C20-80CF-B2947267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7FF3-36A0-45F6-AF01-B39CEE42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D3A7-12AE-460B-A2F0-16304140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DC9B-2F12-4A82-8DA2-A4DD8DDE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65B-B064-4CE7-A693-6C0A984A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4903-556D-4D0E-BBC7-DF68E700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30376-E9DF-49F9-8A80-1D844050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07F70-3381-46D9-B39F-06F803DA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C263-B471-400B-BB45-7A4BA13D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B0C89-82A7-416A-8181-8CB72EED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0D52-109C-449B-8842-886A022F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29D83-2F37-4A67-87AC-3C49D5E5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CF481-B8E8-4809-905E-07210DE6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1B41C-CDDA-4534-A697-C2CED083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E5541-2730-463C-9013-6DD71208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3B7-2827-4587-A04F-E8BF4012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A3230-0923-4642-8483-65BFC942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7EC58-0DDD-4FF4-A455-65BD672D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296BD-8F41-4A50-B05D-B849DDB7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A714F-77CF-420B-8A24-10B374BC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DC32F-86AA-4BCA-ACDD-D6312517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59C22-2A74-4DBE-BBBE-3F968756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C4B7B-2FDE-4D29-9007-B7C395BE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ACE9-49F2-492E-AB91-426C7F5B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893F7-325D-4CF1-8F1F-499227F6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4C2-1113-4015-8B3B-684C09F1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BF8-23FA-4C35-8DB5-45ECDBF2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7CD-8605-4D9E-8954-1A066E5F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46E-6C00-4C63-BF59-811E8CB1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33E-5456-40B9-89BF-C60E103A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5E82-0570-4E48-A211-02398C6E8C4E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FDE7-1272-4538-80D6-E1A3F79B1BB8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3017-9E12-493E-AC2F-5BB607CAF04D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825D-2037-433E-8E23-4E0242BE93DE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46b86"/>
                </a:solidFill>
                <a:latin typeface="Calibri"/>
              </a:rPr>
              <a:t>Блюда из нерыбных продуктов моря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196" name="Объект 4" descr=""/>
          <p:cNvPicPr/>
          <p:nvPr/>
        </p:nvPicPr>
        <p:blipFill>
          <a:blip r:embed="rId1"/>
          <a:stretch/>
        </p:blipFill>
        <p:spPr>
          <a:xfrm>
            <a:off x="380880" y="2309760"/>
            <a:ext cx="3810240" cy="3657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Автор: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Лобаева Татьяна               Николаевна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учитель технолог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МАОУ «СОШ № 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120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304920" y="1523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рную морскую капусту охлаждают и нарезают соломкой, кубиками или мелко рубят. С морской капустой приготавливают салаты, первые блюда, вторые горячие блюда. Она входит в состав фаршей. Для некоторых блюд морская капуста используется и в маринованном в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14156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2"/>
          <p:cNvSpPr/>
          <p:nvPr/>
        </p:nvSpPr>
        <p:spPr>
          <a:xfrm>
            <a:off x="609480" y="1720800"/>
            <a:ext cx="624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ков, мидий, креветки, крабов варят только в сильно кипящей подсоленной 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тобы мидии легко раскрылись, нужно залить их кипятком и продержать в нем 2-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льмаров отваривают целиком, опуская в соленую кипящую воду, и варят не более 5 минут; если с приправами — не более 15 мин, иначе они станут сух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14156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2"/>
          <p:cNvSpPr/>
          <p:nvPr/>
        </p:nvSpPr>
        <p:spPr>
          <a:xfrm>
            <a:off x="485640" y="1447920"/>
            <a:ext cx="5762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работанных кальмаров варят в воде с добавлением соли 5 мин с момента закип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 1 кг кальмаров берут 2 л воды и 20 г со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 варке можно добавить нарезанную петрушку или другие коренья (на 1 кг 2-3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льмары можно варить на пару 7-10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варные кальмары охлаждают в отваре и нарез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ля приготовления блюд можно использовать также консервированных кальм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3" descr=""/>
          <p:cNvPicPr/>
          <p:nvPr/>
        </p:nvPicPr>
        <p:blipFill>
          <a:blip r:embed="rId2"/>
          <a:stretch/>
        </p:blipFill>
        <p:spPr>
          <a:xfrm>
            <a:off x="6095880" y="32767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8308800" cy="154944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2"/>
          <p:cNvSpPr/>
          <p:nvPr/>
        </p:nvSpPr>
        <p:spPr>
          <a:xfrm>
            <a:off x="304920" y="185904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дии поступают  в раковинах, морожеными в брикетах и консервированными. Перед употреблением их обрабатывают: счищают ножом прилипшие к ним мелкие ракушки, освобождают от биссуса, с помощью которого мидии прикрепляются к камням и другим предметам, выдерживают в холодной воде в течение нескольких часов и хорошо промывают от пе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3" descr=""/>
          <p:cNvPicPr/>
          <p:nvPr/>
        </p:nvPicPr>
        <p:blipFill>
          <a:blip r:embed="rId2"/>
          <a:stretch/>
        </p:blipFill>
        <p:spPr>
          <a:xfrm>
            <a:off x="3505320" y="4114800"/>
            <a:ext cx="2666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1415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2"/>
          <p:cNvSpPr/>
          <p:nvPr/>
        </p:nvSpPr>
        <p:spPr>
          <a:xfrm>
            <a:off x="304920" y="1444680"/>
            <a:ext cx="655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створчатые моллюски, добываемые на Дальнем Востоке. Съедобны мышцы, замыкающие створки раковин. Мясо богато белками и ценными аминокислотами, витаминами и минеральными веществами. По вкусу очень напоминают крабы и используются примерно так же. Поступают на ПОП в основном консервированными, но также и в замороженном виде. Консервы использ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холодных закусок, заморож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шки можно разморозить и поджа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зап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4" descr="морские гребешки.bmp"/>
          <p:cNvPicPr/>
          <p:nvPr/>
        </p:nvPicPr>
        <p:blipFill>
          <a:blip r:embed="rId2"/>
          <a:stretch/>
        </p:blipFill>
        <p:spPr>
          <a:xfrm>
            <a:off x="6705720" y="2057400"/>
            <a:ext cx="20574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1415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2"/>
          <p:cNvSpPr/>
          <p:nvPr/>
        </p:nvSpPr>
        <p:spPr>
          <a:xfrm>
            <a:off x="304920" y="1276200"/>
            <a:ext cx="685800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едобные голотурии. Имеют своеобразную форму, похожую на огурец, с покрытой пупырышками поверх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и Приморья, Южного Сахалина и Курильских островов, в водах которых водятся трепанги, так и называют их - морскими огурцами. Мясо трепангов содержит белок, жир, витамины C, B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иамин, рибофлавин, минеральные элементы (фосфор, магний, кальций, йод, железо, медь, марганец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ы главным образом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ов Юго-Восточной Азии –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ском море, у берегов тихоокеан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режья Японии, а такж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режных водах Примор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3" descr="трепанг.bmp"/>
          <p:cNvPicPr/>
          <p:nvPr/>
        </p:nvPicPr>
        <p:blipFill>
          <a:blip r:embed="rId2"/>
          <a:stretch/>
        </p:blipFill>
        <p:spPr>
          <a:xfrm>
            <a:off x="6400800" y="4495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14156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2"/>
          <p:cNvSpPr/>
          <p:nvPr/>
        </p:nvSpPr>
        <p:spPr>
          <a:xfrm>
            <a:off x="76320" y="1859040"/>
            <a:ext cx="678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ют в живом виде. Их промывают и закладывают в кипящую подсоленную воду, в которую добавляют зелень ароматических кореньев, укроп, перец, лавровый лист. Варят 15—20 мин. Хранят вареных раков в отваре не более 30 мин. Отпускают в качестве закуски. Если вареные раки поступили в замороженном виде, то их варят в подсоленной воде 4—5 м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 для украшения рыб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, салатов, холодных блю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4" descr="раки отварные.bmp"/>
          <p:cNvPicPr/>
          <p:nvPr/>
        </p:nvPicPr>
        <p:blipFill>
          <a:blip r:embed="rId2"/>
          <a:stretch/>
        </p:blipFill>
        <p:spPr>
          <a:xfrm>
            <a:off x="5791320" y="4572000"/>
            <a:ext cx="2760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37808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2"/>
          <p:cNvSpPr/>
          <p:nvPr/>
        </p:nvSpPr>
        <p:spPr>
          <a:xfrm>
            <a:off x="1066680" y="241308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ветки оттаивают, промывают, закладывают в кипящую подсоленную воду и варят 3-5 мин (на 1 л воды 10 г соли). При варке можно добавить коренья и специи. Вареные креветки используют так же, как р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4" descr="королевские креветки.bmp"/>
          <p:cNvPicPr/>
          <p:nvPr/>
        </p:nvPicPr>
        <p:blipFill>
          <a:blip r:embed="rId2"/>
          <a:stretch/>
        </p:blipFill>
        <p:spPr>
          <a:xfrm>
            <a:off x="3581280" y="4191120"/>
            <a:ext cx="276228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152280" y="1582560"/>
            <a:ext cx="899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а из морской капуст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предварительно отваривают. Закладывают в посуду, заливают холодной водой, доводят до кипения, проваривают 15— 20 мин и сливают отвар. Капусту снова заливают теплой водой (50° С), доводят до кипения и проваривают еще 15—20 мин, отвар сливают. То же повторяют еще раз. Трехкратное сливание воды производят для того, чтобы удалить из капусты излишек минеральных веществ и тем сам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ить ее вкусовые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нешни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3" descr="капуста морская.bmp"/>
          <p:cNvPicPr/>
          <p:nvPr/>
        </p:nvPicPr>
        <p:blipFill>
          <a:blip r:embed="rId1"/>
          <a:stretch/>
        </p:blipFill>
        <p:spPr>
          <a:xfrm>
            <a:off x="4952880" y="4495680"/>
            <a:ext cx="3294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4-11T07:14:29Z</dcterms:modified>
  <cp:revision>24</cp:revision>
  <dc:subject/>
  <dc:title>Блюда из нерыбных продуктов моря.</dc:title>
</cp:coreProperties>
</file>