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CF5-F398-44FF-9D9C-81D493AD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A42-904B-4C53-867D-07707B76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92E-0432-4BA0-B0D1-5EF27BC5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803-C3D4-4634-A847-8E7F1648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DD9A-12DF-4D78-9C9D-245186BE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9655-AA09-4363-A1CF-48AD4BBC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2F85-1BAE-4BD1-98EC-BCFAD889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54F2-0DBB-4BD3-BE99-E953E237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5524-1754-4E91-BB4A-BDBEC465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F0AB-9A79-465E-A952-801D0E3F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1C3E-5069-45F9-9936-8D53E378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22B-0446-432B-BEBF-42D12615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0643-FFDA-48B4-A994-312BCF1B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0981-05DE-4D96-A494-76B030C1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2179-C583-4FFE-AC09-5F4E7D84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8476-390C-4F3D-87A9-0CFD031A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38D8-F930-466D-B054-E2C43980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278-4931-436B-AF61-E9367EE9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871-019E-416F-94D3-A5AEC42E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6BB-3B93-43A3-A12D-7DC6B5F0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5CB-E142-46EA-B8D4-A071FE67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666-8B23-49DC-B11E-85FDADE8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F7E-A20B-43CD-8113-50CD0F0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CFF-F229-4593-9574-BDDDB73B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63D2-B862-4663-8BDB-AE221DB4F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C9CF-EBC4-4F1D-988E-70B6D929D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РАДИЦИОННАЯ ТЕХНИКА РИСОВАНИЯ С ДЕТЬМИ РАННЕГО ВОЗРАСТ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ОЖЬЯ КОРОВ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БДОУ детский сад 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</a:rPr>
              <a:t>№67</a:t>
            </a: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комбинированного вида Фрунзен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спитатель: Козлова  Н.Г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нкт-Петербург, 2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ДЛЯ ВОСПИТАТЕЛЕЙ ГБДО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C:\Documents and Settings\Admin\Local Settings\Temporary Internet Files\Content.IE5\568XI1XW\MC900346925[1].wmf"/>
          <p:cNvPicPr/>
          <p:nvPr/>
        </p:nvPicPr>
        <p:blipFill>
          <a:blip r:embed="rId1"/>
          <a:stretch/>
        </p:blipFill>
        <p:spPr>
          <a:xfrm>
            <a:off x="6156360" y="4005360"/>
            <a:ext cx="17985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26560" y="549000"/>
            <a:ext cx="8317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и и задачи: </a:t>
            </a:r>
            <a:r>
              <a:rPr b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новой потешкой, вызвать чувство рад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малышей рисовать замкнутые линии, похожие на кру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ехнолог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техн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атериал: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ш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ечная божья коров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«тропинки» - узкая и широ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ы бумаги с божьей кор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C:\Documents and Settings\Admin\Local Settings\Temporary Internet Files\Content.IE5\568XI1XW\MC900346925[1].wmf"/>
          <p:cNvPicPr/>
          <p:nvPr/>
        </p:nvPicPr>
        <p:blipFill>
          <a:blip r:embed="rId1"/>
          <a:stretch/>
        </p:blipFill>
        <p:spPr>
          <a:xfrm>
            <a:off x="7093080" y="4653000"/>
            <a:ext cx="923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286000" y="-265478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c000"/>
                </a:solidFill>
                <a:uFillTx/>
                <a:latin typeface="Times New Roman"/>
              </a:rPr>
              <a:t>Содержание организованной деятельности детей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Занимайте вагончики, все малыши удобно сели? Отправляемся в путь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агончики, вагончик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 рельсам тарахтят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езут в лесок зелёны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мпанию ребят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от приехали мы в лес. Выходите из вагончиков. Смотрите: две тропинки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дна какая? (узкая) А другая какая? (широкая). Давайте сначала пойдём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 узкой дорожке, а потом по широкой (дети идут по тропинкам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смотрите, кто это сидит под деревом? Жучок, у которого на спинке много пятнышек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А называется он божья коровка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вайте выучим про него потешку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Божья коров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лети на неб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Там твои детк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ушают конфетки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сем по одной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А тебе – ни одной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оспитатель читает потешку ещё раз, дети повторяют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тем воспитатель говорит, что каждая букашка живёт в своём домике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даёт детям листочки с изображением божьей коровки и предлагает её разукрасить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бъясняет детям, что на спинке у божьей коровки яркие красивые пятнышки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утём примакивания дети пальчиком наносят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ятнышки на спинку божьей коровки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держание организованной деятельности детей:</a:t>
            </a:r>
            <a:br>
              <a:rPr sz="2400"/>
            </a:br>
            <a:br>
              <a:rPr sz="18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нимайте вагончики, все малыши удобно сели? Отправляемся в путь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чики, вагончи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льсам тарахтя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т в лесок зелёны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ю ребя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риехали мы в лес. Выходите из вагончиков. Смотрите: две тропинк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какая? (узкая) А другая какая? (широкая). Давайте сначала пойдё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зкой дорожке, а потом по широкой (дети идут по тропинкам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кто это сидит под деревом? Жучок, у которого на спинке много пятныше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 он божья коров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вайте выучим про него потешку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жья коров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ети на неб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твои дет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шают конфет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 одно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бе – ни одной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читает потешку ещё раз, дети повторяют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воспитатель говорит, что каждая букашка живёт в своём доми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аёт детям листочки с изображением божьей коровки и предлагает её разукрасить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ет детям, что на спинке у божьей коровки яркие красивые пятнышк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ём примакивания дети пальчиком нанося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ышки на спинку божьей коровки. 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836280"/>
            <a:ext cx="80629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едагог объясняет и показыв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C:\Users\Светлана\Desktop\CAM00533.jpg"/>
          <p:cNvPicPr/>
          <p:nvPr/>
        </p:nvPicPr>
        <p:blipFill>
          <a:blip r:embed="rId2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Светлана\Desktop\CAM00532.jpg"/>
          <p:cNvPicPr/>
          <p:nvPr/>
        </p:nvPicPr>
        <p:blipFill>
          <a:blip r:embed="rId3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авайте нарисуем нашей божьей коровке красивые пятнышки!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C:\Users\Светлана\Desktop\CAM00534.jpg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Users\Светлана\Desktop\CAM00538.jpg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тель хвалит детей: «Какие вы молодцы!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унки детей устанавливаются на мольбер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тель просит детей занять места в поезд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гончики, вагонч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рельсам тарахтя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зут обратно в групп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анию ребя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C:\Documents and Settings\Admin\Local Settings\Temporary Internet Files\Content.IE5\568XI1XW\MC900346925[1].wmf"/>
          <p:cNvPicPr/>
          <p:nvPr/>
        </p:nvPicPr>
        <p:blipFill>
          <a:blip r:embed="rId1"/>
          <a:stretch/>
        </p:blipFill>
        <p:spPr>
          <a:xfrm>
            <a:off x="6618240" y="4437000"/>
            <a:ext cx="2000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</a:rPr>
              <a:t>СПАСИБ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Nataly</cp:lastModifiedBy>
  <dcterms:modified xsi:type="dcterms:W3CDTF">2020-04-11T12:56:51Z</dcterms:modified>
  <cp:revision>8</cp:revision>
  <dc:subject/>
  <dc:title>фон облака</dc:title>
</cp:coreProperties>
</file>