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940-42BC-4967-87FB-40F95020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A9C-7DA0-4C13-8D72-876C21D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464-3630-4867-8652-EA6CAE94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AD4-05F5-482C-B7A6-567245C3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E24B-12A0-443C-81B0-098FEE2A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FADB-E154-467F-BD56-EB8C5CC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584E-9C0F-4B63-8DD8-FC3D0BA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92AE-3484-4BED-BAF7-C11B918A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A3F-5591-4985-9733-6196766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949F-2A7B-4D78-AF13-D66BED0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3570-A892-485D-B8FB-8BB5015B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98A-2B2B-4CA4-8563-ED688A1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733-52C8-4061-92E3-3F22F8E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192B-C6FB-4023-9AB3-B17ADA1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288A-8B2D-4712-917D-9073180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8FD-BC66-4AED-973A-E6426A46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930-3230-4B31-9E17-6A2DEA23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E43-D1C5-466B-B691-B5B84D3C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D9C-6EDA-4473-AB42-1E03955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0BC-F392-4C30-861D-04EB7F1D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E3A-250E-4113-8D11-217258E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805-0B6F-44FF-B87B-2BDB9073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1C3-1AB4-4B2B-844A-AACBBF4D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DF4-1897-4155-9E99-DDEEE5F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F94D-3BB4-4749-8F1B-88FC5498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D09E-C6FC-4CB3-B681-E79762ACD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АЯ ТЕХНИКА РИСОВАНИЯ С ДЕТЬМИ РАННЕГО ВОЗРАСТ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ОЖЬЯ КОРОВ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БДОУ детский сад 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</a:rPr>
              <a:t>№67</a:t>
            </a: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комбинированного вида Фрунзе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тель: Козлова  Н.Г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нкт-Петербург, 2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ДЛЯ ВОСПИТАТЕЛЕЙ ГБДО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6156360" y="4005360"/>
            <a:ext cx="17985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8317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r>
              <a:rPr b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овой потешкой, вызвать чувство рад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малышей рисовать замкнутые линии, похожие на кру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хнолог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техн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ериал: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ш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ечная божья коров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«тропинки» - узкая и широ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ы бумаги с божьей кор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7093080" y="4653000"/>
            <a:ext cx="923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286000" y="-26547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c000"/>
                </a:solidFill>
                <a:uFillTx/>
                <a:latin typeface="Times New Roman"/>
              </a:rPr>
              <a:t>Содержание организованной деятельности детей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Занимайте вагончики, все малыши удобно сели? Отправляемся в путь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агончики, вагончи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 рельсам тарахтят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езут в лесок зелёны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мпанию ребят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от приехали мы в лес. Выходите из вагончиков. Смотрите: две тропин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дна какая? (узкая) А другая какая? (широкая). Давайте сначала пойдём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 узкой дорожке, а потом по широкой (дети идут по тропинкам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смотрите, кто это сидит под деревом? Жучок, у которого на спинке много пятнышек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А называется он божья коровка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492120"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вайте выучим про него потешку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Божья коровк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ети на неб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Там твои детк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ушают конфетки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сем по одной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А тебе – ни одной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Воспитатель читает потешку ещё раз, дети повторяют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тем воспитатель говорит, что каждая букашка живёт в своём домике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даёт детям листочки с изображением божьей коровки и предлагает её разукрасить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бъясняет детям, что на спинке у божьей коровки яркие красивые пятныш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утём примакивания дети пальчиком наносят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ятнышки на спинку божьей коровки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держание организованной деятельности детей:</a:t>
            </a:r>
            <a:br>
              <a:rPr sz="2400"/>
            </a:b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нимайте вагончики, все малыши удобно сели? Отправляемся в путь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чики, вагонч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льсам тарахтя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т в лесок зелё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ю ребя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иехали мы в лес. Выходите из вагончиков. Смотрите: две тропин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акая? (узкая) А другая какая? (широкая). Давайте сначала пойдё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зкой дорожке, а потом по широкой (дети идут по тропинкам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кто это сидит под деревом? Жучок, у которого на спинке много пятныше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 он божья коров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вайте выучим про него потешку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жья коров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ети на неб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твои дет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ают конф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 одно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бе – ни одной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читает потешку ещё раз, дети повторяют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воспитатель говорит, что каждая букашка живёт в своём доми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ёт детям листочки с изображением божьей коровки и предлагает её разукрасить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ет детям, что на спинке у божьей коровки яркие красивые пятныш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ём примакивания дети пальчиком нанося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ышки на спинку божьей коровки.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836280"/>
            <a:ext cx="80629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дагог объясняет и показыв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C:\Users\Светлана\Desktop\CAM00533.jpg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Светлана\Desktop\CAM00532.jpg"/>
          <p:cNvPicPr/>
          <p:nvPr/>
        </p:nvPicPr>
        <p:blipFill>
          <a:blip r:embed="rId3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авайте нарисуем нашей божьей коровке красивые пятнышки!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Users\Светлана\Desktop\CAM00534.jpg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Светлана\Desktop\CAM00538.jpg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ь хвалит детей: «Какие вы молодцы!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унки детей устанавливаются на мольбер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ь просит детей занять места в поезд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гончики, вагонч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рельсам тарах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зут обратно в групп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анию ребя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C:\Documents and Settings\Admin\Local Settings\Temporary Internet Files\Content.IE5\568XI1XW\MC900346925[1].wmf"/>
          <p:cNvPicPr/>
          <p:nvPr/>
        </p:nvPicPr>
        <p:blipFill>
          <a:blip r:embed="rId1"/>
          <a:stretch/>
        </p:blipFill>
        <p:spPr>
          <a:xfrm>
            <a:off x="6618240" y="4437000"/>
            <a:ext cx="2000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Nataly</cp:lastModifiedBy>
  <dcterms:modified xsi:type="dcterms:W3CDTF">2020-04-11T12:56:51Z</dcterms:modified>
  <cp:revision>8</cp:revision>
  <dc:subject/>
  <dc:title>фон облака</dc:title>
</cp:coreProperties>
</file>