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4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07BC4-5C8C-42B6-B4D8-85341E651E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2F794-8A3E-4C88-8E8E-659B92CBE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005FE-13D5-45B7-B2F4-F0730347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4E32A-98C1-498B-A9E8-A742D5D08F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217E1-FD00-4570-8EDD-4C3369ACE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D9EC1-D894-4DB3-B438-D50A12ACD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A5DFD-1390-48DC-9329-84CB9D139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B6B7F-EC69-4C24-B159-45758227D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0EC89-D23F-4158-97C0-C0795F149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A3BA9-BCC1-45AB-B96B-120104CD6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826F3-1EF9-40C8-95F3-80A377741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CDD85-C962-4901-BFBA-7F52DFC23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622BD54-C509-4E6D-8750-00817371E8ED}" type="slidenum">
              <a:rPr b="0" lang="ru-RU" sz="18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Декоративный натюрморт в график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1268280"/>
            <a:ext cx="835164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971640" y="1916280"/>
            <a:ext cx="7416720" cy="381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полнить декоративный натюрморт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сделать несколько эскизов натюрморта (2 – 3 шт.) на бумаге форматом А5 и выбрать наиболее удачный из них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перед рисованием на А3 определить нужное расположение лист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нанести тонкими линиями основные предметы, стараясь не располагать их друг под друго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 добавить недостающие мелкие детал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. предметы могут перекрывать друг друг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. последовательно декорируя каждый предмет, стараться использовать такие графические средства, как: точка, линия, штрих, пятно, 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ведением орнамен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териал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ушь черная, перо, кисть, маркер, гелевая ручка,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умага формат А3, А5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763640" y="2421000"/>
            <a:ext cx="59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лагодарю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11280" y="33336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716360" y="476280"/>
            <a:ext cx="3935520" cy="58276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39640" y="476280"/>
            <a:ext cx="3929040" cy="576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55640" y="333360"/>
            <a:ext cx="357192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овани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едставлени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уктов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рименением декор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72040" y="247680"/>
            <a:ext cx="3714840" cy="4530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11280" y="2421000"/>
            <a:ext cx="3082680" cy="3857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067280" y="5084640"/>
            <a:ext cx="432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ование ткани на основе сетчатого уз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420920" y="189000"/>
            <a:ext cx="6729480" cy="1925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85840" y="2214720"/>
            <a:ext cx="2214360" cy="4060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2916360" y="2276640"/>
            <a:ext cx="2286000" cy="4000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5508720" y="2286000"/>
            <a:ext cx="3456000" cy="40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643280" y="928800"/>
            <a:ext cx="4143600" cy="20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ование по представлению предметов быта с применением деко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14200" y="285840"/>
            <a:ext cx="4143600" cy="6262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4348080" cy="30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3760" y="268200"/>
            <a:ext cx="8948880" cy="7430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79280" y="1114560"/>
            <a:ext cx="8785440" cy="52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420920" y="268200"/>
            <a:ext cx="6589440" cy="1090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28760" y="1928880"/>
            <a:ext cx="2286000" cy="34862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3348000" y="1916280"/>
            <a:ext cx="2325600" cy="3517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6357960" y="1928880"/>
            <a:ext cx="2428920" cy="35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57200" y="498600"/>
            <a:ext cx="8424720" cy="6191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709720" y="128520"/>
            <a:ext cx="36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Различные виды дек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50720" y="189000"/>
            <a:ext cx="8242560" cy="12920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286080" y="2071800"/>
            <a:ext cx="2722680" cy="3571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214200" y="2071800"/>
            <a:ext cx="2691000" cy="3571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6226200" y="2000160"/>
            <a:ext cx="2703600" cy="3643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6:06:19Z</dcterms:created>
  <dc:creator>Пользователь</dc:creator>
  <dc:description/>
  <cp:keywords/>
  <dc:language>en-US</dc:language>
  <cp:lastModifiedBy>Пользователь</cp:lastModifiedBy>
  <dcterms:modified xsi:type="dcterms:W3CDTF">2020-04-10T22:29:56Z</dcterms:modified>
  <cp:revision>53</cp:revision>
  <dc:subject/>
  <dc:title>Слайд 1</dc:title>
</cp:coreProperties>
</file>