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5A9AB-F5A0-43D0-AFD7-DEBFB3644B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9A093-8D9E-478E-8CBA-96CC7898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37EC0-23DF-49C1-96E6-EBD1EBE2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46A46-DF39-4624-ADAC-ED26E4A7C1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CD3F3-A860-4085-BB1B-52A7A536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0EB8-6DEC-4474-B4CC-011CB2EF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53048-1487-49CE-B474-0EE16126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866DA-CF65-4CF3-9EA5-AE743B76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4F3BD-D7CF-438C-88E0-31FE7189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E5788-7E68-40EB-B71F-4AA1390A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CBD4B-04F2-4E06-B1FF-C8AEE2A3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525D9-8D38-48F6-87F7-7723CF72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E64994-EAB6-491D-BB91-ABB495A94379}" type="slidenum">
              <a:rPr b="0" lang="ru-RU" sz="18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екоративный натюрморт в графи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268280"/>
            <a:ext cx="83516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7416720" cy="38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ть декоративный натюрмор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сделать несколько эскизов натюрморта (2 – 3 шт.) на бумаге форматом А5 и выбрать наиболее удачный из ни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перед рисованием на А3 определить нужное расположение лис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нанести тонкими линиями основные предметы, стараясь не располагать их друг под друг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добавить недостающие мелкие детал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предметы могут перекрывать друг дру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последовательно декорируя каждый предмет, стараться использовать такие графические средства, как: точка, линия, штрих, пятно, 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ведением орнамен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териал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ушь черная, перо, кисть, маркер, гелевая ручка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мага формат А3, А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63640" y="242100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лагодар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33336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16360" y="476280"/>
            <a:ext cx="3935520" cy="5827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9640" y="476280"/>
            <a:ext cx="392904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55640" y="333360"/>
            <a:ext cx="3571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едставлен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укт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деко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72040" y="247680"/>
            <a:ext cx="3714840" cy="4530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11280" y="2421000"/>
            <a:ext cx="3082680" cy="3857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67280" y="5084640"/>
            <a:ext cx="432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ткани на основе сетчатого уз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420920" y="189000"/>
            <a:ext cx="6729480" cy="1925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85840" y="2214720"/>
            <a:ext cx="2214360" cy="4060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916360" y="2276640"/>
            <a:ext cx="2286000" cy="4000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5508720" y="2286000"/>
            <a:ext cx="345600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43280" y="928800"/>
            <a:ext cx="414360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по представлению предметов быта с применением дек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14200" y="285840"/>
            <a:ext cx="4143600" cy="626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3480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3760" y="268200"/>
            <a:ext cx="8948880" cy="743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9280" y="1114560"/>
            <a:ext cx="878544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20920" y="268200"/>
            <a:ext cx="6589440" cy="1090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28760" y="1928880"/>
            <a:ext cx="2286000" cy="3486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348000" y="1916280"/>
            <a:ext cx="2325600" cy="3517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357960" y="1928880"/>
            <a:ext cx="242892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498600"/>
            <a:ext cx="8424720" cy="6191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09720" y="128520"/>
            <a:ext cx="36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азличные виды дек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0720" y="189000"/>
            <a:ext cx="8242560" cy="1292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286080" y="2071800"/>
            <a:ext cx="2722680" cy="3571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14200" y="2071800"/>
            <a:ext cx="2691000" cy="3571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226200" y="2000160"/>
            <a:ext cx="2703600" cy="364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6:06:19Z</dcterms:created>
  <dc:creator>Пользователь</dc:creator>
  <dc:description/>
  <cp:keywords/>
  <dc:language>en-US</dc:language>
  <cp:lastModifiedBy>Пользователь</cp:lastModifiedBy>
  <dcterms:modified xsi:type="dcterms:W3CDTF">2020-04-10T22:29:56Z</dcterms:modified>
  <cp:revision>53</cp:revision>
  <dc:subject/>
  <dc:title>Слайд 1</dc:title>
</cp:coreProperties>
</file>