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F9F1-F4C9-44DB-8063-36C70C2C8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F6A2-3721-4F8D-A9C1-23348434C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16A7-E125-451A-B56C-E09D5C8A5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2C67-5BA7-4938-9549-AB8EF7D6E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9790-4F7C-4AE0-A7B4-7D1D23160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9599-97CF-4BD0-8EEE-2516707A0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D0E5-3248-4F25-AC70-EC4740A5B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8550-5E29-4108-82AE-739119A3C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6A70-063C-494D-AA15-D1CD173B4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9319-4CB8-4D4C-AAD7-FFA95E2C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656C-B3B7-4D6F-8616-C312A0DE6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B519-DFCA-488A-B35E-B2F1B585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fbf6"/>
            </a:gs>
            <a:gs pos="100000">
              <a:srgbClr val="b3cac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C67E8-52E9-42C0-93A2-68E64D7811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1268280"/>
            <a:ext cx="8424720" cy="3657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99"/>
                </a:solidFill>
                <a:latin typeface="Constantia"/>
              </a:rPr>
              <a:t>Тема: Круговорот химических элементов в биосфер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435880" cy="42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 биосфере происходит постоянный круговорот активных элементов, которые переходят от  одного организма к другому – это </a:t>
            </a:r>
            <a:r>
              <a:rPr b="0" lang="ru-RU" sz="2800" spc="-1" strike="noStrike">
                <a:solidFill>
                  <a:srgbClr val="ff0066"/>
                </a:solidFill>
                <a:latin typeface="Georgia"/>
              </a:rPr>
              <a:t>биогенная миграция атомов.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Для нее характерно накопление химических элементов в живых организмах, а также их высвобождение в результате распада мертвых организмов.</a:t>
            </a:r>
            <a:br>
              <a:rPr sz="2800"/>
            </a:br>
            <a:r>
              <a:rPr b="0" lang="ru-RU" sz="2800" spc="-1" strike="noStrike">
                <a:solidFill>
                  <a:srgbClr val="ff0066"/>
                </a:solidFill>
                <a:latin typeface="Georgia"/>
              </a:rPr>
              <a:t>Биогенная миграция вызывается тремя процесса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755280" y="4365360"/>
            <a:ext cx="7272360" cy="20876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Обменом веществ в организма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Росто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Размнож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азличают два типа биогенной миграции – через микроорганизмы и через многоклеточные организ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Georgia"/>
              </a:rPr>
              <a:t>Факторы негативно влияющие на круговорот веществ в биосфе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0" y="1557360"/>
            <a:ext cx="91440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именение минеральных удобрений и ядохимикато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Загрязнение среды с/х. промышленными и коммунальными отходам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падание в природную среду энергетических загрязнени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Эрозия почвенного покрова и увеличение твердого стока в океан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Добыча из недр значительного количества руд, топливных и других ископаемых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ерераспределение солей в почвах, грунтовых и речных водах под влиянием оросительного земледел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Georgia"/>
              </a:rPr>
              <a:t>Человечество превратилось в могучую геологическую сил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971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Georgia"/>
              </a:rPr>
              <a:t>Экологические пробле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Ускорение круговоротов элеме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Загряз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Истощение и эрозия поч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Разрушение природных экосистем (вырубка лесов, распашка степе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Сокращение видового разнообраз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4"/>
          <p:cNvSpPr/>
          <p:nvPr/>
        </p:nvSpPr>
        <p:spPr>
          <a:xfrm>
            <a:off x="863640" y="1773360"/>
            <a:ext cx="8280360" cy="0"/>
          </a:xfrm>
          <a:prstGeom prst="line">
            <a:avLst/>
          </a:prstGeom>
          <a:ln w="572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5"/>
          <p:cNvSpPr/>
          <p:nvPr/>
        </p:nvSpPr>
        <p:spPr>
          <a:xfrm>
            <a:off x="4211640" y="1773360"/>
            <a:ext cx="649440" cy="792000"/>
          </a:xfrm>
          <a:prstGeom prst="downArrow">
            <a:avLst>
              <a:gd name="adj1" fmla="val 50000"/>
              <a:gd name="adj2" fmla="val 30488"/>
            </a:avLst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98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98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98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98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98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98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Georgia"/>
              </a:rPr>
              <a:t>Ускорение круговоротов</a:t>
            </a: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До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XVIII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века – 12 химических элеме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Сегодня – вся таблица Менделее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Месторождения – млн. лет, разрабатываются за 10-ле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Новые материалы (пластики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9360"/>
            <a:ext cx="8229600" cy="73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Круговорот се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rcRect l="0" t="11819" r="0" b="0"/>
          <a:stretch/>
        </p:blipFill>
        <p:spPr>
          <a:xfrm>
            <a:off x="179280" y="730080"/>
            <a:ext cx="8785440" cy="59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148000" y="549000"/>
            <a:ext cx="3600360" cy="23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Круговорот фосфо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324000" y="115920"/>
            <a:ext cx="4824360" cy="66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25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Georgia"/>
              </a:rPr>
              <a:t>Круговорот веществ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– это повторяющиеся процессы превращения и перемещения веществ в природе, имеющие более или менее циклический характер</a:t>
            </a: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504000" y="3500280"/>
            <a:ext cx="3603600" cy="2531880"/>
          </a:xfrm>
          <a:prstGeom prst="rect">
            <a:avLst/>
          </a:prstGeom>
          <a:solidFill>
            <a:srgbClr val="def6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ru-RU" sz="4000" spc="-1" strike="noStrike">
                <a:solidFill>
                  <a:srgbClr val="000099"/>
                </a:solidFill>
                <a:latin typeface="Georgia"/>
              </a:rPr>
              <a:t>Воздуш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98,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,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,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 и д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5005800" y="3500280"/>
            <a:ext cx="3821400" cy="2531880"/>
          </a:xfrm>
          <a:prstGeom prst="rect">
            <a:avLst/>
          </a:prstGeom>
          <a:solidFill>
            <a:srgbClr val="def6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000099"/>
                </a:solidFill>
                <a:latin typeface="Georgia"/>
              </a:rPr>
              <a:t>Вод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,7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, Mg, S, Cl, 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6"/>
          <p:cNvSpPr/>
          <p:nvPr/>
        </p:nvSpPr>
        <p:spPr>
          <a:xfrm flipH="1">
            <a:off x="1138320" y="2747880"/>
            <a:ext cx="251928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7"/>
          <p:cNvSpPr/>
          <p:nvPr/>
        </p:nvSpPr>
        <p:spPr>
          <a:xfrm>
            <a:off x="5556240" y="2637000"/>
            <a:ext cx="2376360" cy="86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0007-007-Krugovorot-vody-v-prirode-vsemirnyj-protses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274320"/>
            <a:ext cx="6120000" cy="850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Georgia"/>
              </a:rPr>
              <a:t>Круговорот вещест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-360" y="1599840"/>
            <a:ext cx="4140360" cy="5257800"/>
          </a:xfrm>
          <a:prstGeom prst="rect">
            <a:avLst/>
          </a:prstGeom>
          <a:solidFill>
            <a:srgbClr val="def6f1"/>
          </a:solidFill>
          <a:ln w="9360">
            <a:solidFill>
              <a:srgbClr val="717171"/>
            </a:solidFill>
            <a:miter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Georgia"/>
              </a:rPr>
              <a:t>Большой</a:t>
            </a:r>
            <a:r>
              <a:rPr b="0" lang="ru-RU" sz="3600" spc="-1" strike="noStrike">
                <a:solidFill>
                  <a:srgbClr val="000099"/>
                </a:solidFill>
                <a:latin typeface="Georgia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                            (геологический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Длится миллионы лет и заключается в том, что горные породы подлежат разрушению, а продукты выносятся потоками воды в мировой океан,  где они образуют напластования. Гелиотектонические изменения приводят к тому, что эти напластования возвращаются на сушу и процесс начинается снов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932000" y="1599840"/>
            <a:ext cx="4211640" cy="52578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Georgia"/>
              </a:rPr>
              <a:t>Малый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                    ( биотический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роисходит на уровне экосистем и заключается в том, что питательные вещества, вода и углерод аккумулируются в растениях. Тратятся на построение тела и на жизненные процессы  самих растений и других организмов. Продукты распада органического вещества под действием деструкторов и микроорганизмов снова распадаются до минеральных компонентов,  доступных растениям, которые вовлекаются ими в потоки вещест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7"/>
          <p:cNvSpPr/>
          <p:nvPr/>
        </p:nvSpPr>
        <p:spPr>
          <a:xfrm flipH="1">
            <a:off x="2268360" y="1197000"/>
            <a:ext cx="2159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8"/>
          <p:cNvSpPr/>
          <p:nvPr/>
        </p:nvSpPr>
        <p:spPr>
          <a:xfrm>
            <a:off x="4427640" y="1197000"/>
            <a:ext cx="2160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4221000"/>
            <a:ext cx="9144000" cy="23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Georgia"/>
              </a:rPr>
              <a:t>Биологический круговорот</a:t>
            </a:r>
            <a:r>
              <a:rPr b="0" lang="ru-RU" sz="4000" spc="-1" strike="noStrike">
                <a:solidFill>
                  <a:srgbClr val="8dc6ff"/>
                </a:solidFill>
                <a:latin typeface="Georgi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– это многоразовое участие химических элементов в процессах, происходящих в биосфе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95280" y="476280"/>
            <a:ext cx="8229600" cy="3457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Круговорот химических веществ из неорганической среды через растительные и животные  организмы назад в неорганическую среду с использованием солнечной энергии и энергии химических реакций называется </a:t>
            </a:r>
            <a:r>
              <a:rPr b="1" lang="ru-RU" sz="3200" spc="-1" strike="noStrike">
                <a:solidFill>
                  <a:srgbClr val="1c5a97"/>
                </a:solidFill>
                <a:latin typeface="Georgia"/>
              </a:rPr>
              <a:t>биогеохимическим цикл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7304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Круговорот аз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rcRect l="2910" t="10393" r="2731" b="8571"/>
          <a:stretch/>
        </p:blipFill>
        <p:spPr>
          <a:xfrm>
            <a:off x="108000" y="765000"/>
            <a:ext cx="886788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1332000" y="190440"/>
            <a:ext cx="6497640" cy="64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86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Круговорот углер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rcRect l="2731" t="10393" r="2731" b="7788"/>
          <a:stretch/>
        </p:blipFill>
        <p:spPr>
          <a:xfrm>
            <a:off x="179280" y="836640"/>
            <a:ext cx="8794800" cy="58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4T11:41:27Z</dcterms:created>
  <dc:creator>Трещева</dc:creator>
  <dc:description/>
  <dc:language>en-US</dc:language>
  <cp:lastModifiedBy>Юлия</cp:lastModifiedBy>
  <dcterms:modified xsi:type="dcterms:W3CDTF">2020-04-11T11:30:56Z</dcterms:modified>
  <cp:revision>50</cp:revision>
  <dc:subject/>
  <dc:title>Глобальная экология,</dc:title>
</cp:coreProperties>
</file>