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5.jpeg" ContentType="image/jpeg"/>
  <Override PartName="/ppt/media/drumroll.wav" ContentType="audio/x-wav"/>
  <Override PartName="/ppt/media/image11.jpeg" ContentType="image/jpeg"/>
  <Override PartName="/ppt/media/image51.wmf" ContentType="image/x-wmf"/>
  <Override PartName="/ppt/media/image29.png" ContentType="image/png"/>
  <Override PartName="/ppt/media/image6.jpeg" ContentType="image/jpeg"/>
  <Override PartName="/ppt/media/image13.jpeg" ContentType="image/jpeg"/>
  <Override PartName="/ppt/media/image20.gif" ContentType="image/gif"/>
  <Override PartName="/ppt/media/image53.wmf" ContentType="image/x-wmf"/>
  <Override PartName="/ppt/media/image34.png" ContentType="image/png"/>
  <Override PartName="/ppt/media/image30.png" ContentType="image/png"/>
  <Override PartName="/ppt/media/image3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24.jpeg" ContentType="image/jpeg"/>
  <Override PartName="/ppt/media/image27.gif" ContentType="image/gif"/>
  <Override PartName="/ppt/media/image22.jpeg" ContentType="image/jpeg"/>
  <Override PartName="/ppt/media/chimes.wav" ContentType="audio/x-wav"/>
  <Override PartName="/ppt/media/image17.jpeg" ContentType="image/jpeg"/>
  <Override PartName="/ppt/media/image58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2.png" ContentType="image/png"/>
  <Override PartName="/ppt/media/image16.jpeg" ContentType="image/jpeg"/>
  <Override PartName="/ppt/media/laser.wav" ContentType="audio/x-wav"/>
  <Override PartName="/ppt/media/image15.jpeg" ContentType="image/jpeg"/>
  <Override PartName="/ppt/media/image4.png" ContentType="image/png"/>
  <Override PartName="/ppt/media/image7.jpeg" ContentType="image/jpeg"/>
  <Override PartName="/ppt/media/image26.png" ContentType="image/png"/>
  <Override PartName="/ppt/media/image8.jpeg" ContentType="image/jpeg"/>
  <Override PartName="/ppt/media/image45.gif" ContentType="image/gif"/>
  <Override PartName="/ppt/media/image39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9.jpeg" ContentType="image/jpeg"/>
  <Override PartName="/ppt/media/image36.png" ContentType="image/png"/>
  <Override PartName="/ppt/media/image37.png" ContentType="image/png"/>
  <Override PartName="/ppt/media/image40.wmf" ContentType="image/x-wmf"/>
  <Override PartName="/ppt/media/image59.jpeg" ContentType="image/jpeg"/>
  <Override PartName="/ppt/media/image42.png" ContentType="image/png"/>
  <Override PartName="/ppt/media/image38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1.png" ContentType="image/pn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F25-4C4F-4D88-9425-B18C05A4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EC8-5A2F-4ABD-B3EC-0B6AD93B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808-DF7B-475F-A335-DA289D73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7A0-40D1-40CD-8720-2458DC1F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27D-7FF6-4F76-BC35-5D43E5A8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832-DAE2-4BE1-9B7B-70AC66A5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1C1-B1AE-4963-9C6F-B5CE186B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1F7-54D0-42A5-AEC5-0A8BAB50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18D-F786-4D9A-90EA-F89706B6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A2A-D3B7-4168-842C-C36DFDC7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173-FA80-486B-A370-8A7E3C31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B97-4BEA-4851-A81F-365F764D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BEE6-2DB9-40D8-A518-A77311F098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.png"/><Relationship Id="rId4" Type="http://schemas.openxmlformats.org/officeDocument/2006/relationships/image" Target="../media/image40.wmf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gif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image" Target="../media/image51.wmf"/><Relationship Id="rId12" Type="http://schemas.openxmlformats.org/officeDocument/2006/relationships/image" Target="../media/image52.jpeg"/><Relationship Id="rId13" Type="http://schemas.openxmlformats.org/officeDocument/2006/relationships/image" Target="../media/image53.wmf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drumroll.wav"/><Relationship Id="rId21" Type="http://schemas.openxmlformats.org/officeDocument/2006/relationships/audio" Target="../media/drumroll.wav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16.xml"/><Relationship Id="rId4" Type="http://schemas.openxmlformats.org/officeDocument/2006/relationships/slide" Target="slide10.xml"/><Relationship Id="rId5" Type="http://schemas.openxmlformats.org/officeDocument/2006/relationships/slide" Target="slide17.xml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6360" y="-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7" descr=""/>
          <p:cNvPicPr/>
          <p:nvPr/>
        </p:nvPicPr>
        <p:blipFill>
          <a:blip r:embed="rId2"/>
          <a:stretch/>
        </p:blipFill>
        <p:spPr>
          <a:xfrm>
            <a:off x="1487520" y="993600"/>
            <a:ext cx="6875280" cy="22989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7"/>
          <p:cNvSpPr/>
          <p:nvPr/>
        </p:nvSpPr>
        <p:spPr>
          <a:xfrm>
            <a:off x="3500280" y="4572000"/>
            <a:ext cx="52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 воспита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ржак Ч.Ч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3"/>
          <a:stretch/>
        </p:blipFill>
        <p:spPr>
          <a:xfrm>
            <a:off x="900000" y="3019320"/>
            <a:ext cx="2451240" cy="31705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47600" y="0"/>
            <a:ext cx="674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«Салгакчы» с,Дон-Терез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4925160" y="6215040"/>
            <a:ext cx="150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2019 уч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2"/>
          <p:cNvSpPr txBox="1"/>
          <p:nvPr/>
        </p:nvSpPr>
        <p:spPr>
          <a:xfrm>
            <a:off x="4356000" y="3770280"/>
            <a:ext cx="129240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Т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WordArt 2"/>
          <p:cNvSpPr txBox="1"/>
          <p:nvPr/>
        </p:nvSpPr>
        <p:spPr>
          <a:xfrm>
            <a:off x="789120" y="3778200"/>
            <a:ext cx="1766880" cy="20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К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3" name="Picture 10" descr="jiv2329"/>
          <p:cNvPicPr/>
          <p:nvPr/>
        </p:nvPicPr>
        <p:blipFill>
          <a:blip r:embed="rId4"/>
          <a:stretch/>
        </p:blipFill>
        <p:spPr>
          <a:xfrm rot="12101400">
            <a:off x="2184480" y="3646440"/>
            <a:ext cx="1652400" cy="181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3449160" y="16430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5715000" y="3857760"/>
            <a:ext cx="2711520" cy="16430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7"/>
          <p:cNvSpPr/>
          <p:nvPr/>
        </p:nvSpPr>
        <p:spPr>
          <a:xfrm>
            <a:off x="8159040" y="171468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8" descr=""/>
          <p:cNvPicPr/>
          <p:nvPr/>
        </p:nvPicPr>
        <p:blipFill>
          <a:blip r:embed="rId6"/>
          <a:stretch/>
        </p:blipFill>
        <p:spPr>
          <a:xfrm>
            <a:off x="4857840" y="765000"/>
            <a:ext cx="2738520" cy="24498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9"/>
          <p:cNvSpPr/>
          <p:nvPr/>
        </p:nvSpPr>
        <p:spPr>
          <a:xfrm>
            <a:off x="1719000" y="1557360"/>
            <a:ext cx="184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СТ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2"/>
          <p:cNvSpPr txBox="1"/>
          <p:nvPr/>
        </p:nvSpPr>
        <p:spPr>
          <a:xfrm>
            <a:off x="1143000" y="4221000"/>
            <a:ext cx="155736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О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2" name="Рисунок 9" descr=""/>
          <p:cNvPicPr/>
          <p:nvPr/>
        </p:nvPicPr>
        <p:blipFill>
          <a:blip r:embed="rId2"/>
          <a:stretch/>
        </p:blipFill>
        <p:spPr>
          <a:xfrm>
            <a:off x="5608800" y="731880"/>
            <a:ext cx="235728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3357720" y="3716280"/>
            <a:ext cx="2739960" cy="29224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1"/>
          <p:cNvSpPr/>
          <p:nvPr/>
        </p:nvSpPr>
        <p:spPr>
          <a:xfrm>
            <a:off x="6794280" y="4286160"/>
            <a:ext cx="16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К=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1678680" y="1487520"/>
            <a:ext cx="16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-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1872720" y="3214800"/>
            <a:ext cx="296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ОМ=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5565600" y="3706920"/>
            <a:ext cx="2872080" cy="28699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8159040" y="200016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7801920" y="200016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3"/>
          <a:stretch/>
        </p:blipFill>
        <p:spPr>
          <a:xfrm>
            <a:off x="517680" y="3992400"/>
            <a:ext cx="5243400" cy="224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newy64"/>
          <p:cNvPicPr/>
          <p:nvPr/>
        </p:nvPicPr>
        <p:blipFill>
          <a:blip r:embed="rId4"/>
          <a:stretch/>
        </p:blipFill>
        <p:spPr>
          <a:xfrm>
            <a:off x="5867280" y="187200"/>
            <a:ext cx="1571760" cy="314352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10" descr=""/>
          <p:cNvPicPr/>
          <p:nvPr/>
        </p:nvPicPr>
        <p:blipFill>
          <a:blip r:embed="rId5"/>
          <a:stretch/>
        </p:blipFill>
        <p:spPr>
          <a:xfrm>
            <a:off x="2932200" y="1590840"/>
            <a:ext cx="1749240" cy="1122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1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2"/>
          <p:cNvSpPr txBox="1"/>
          <p:nvPr/>
        </p:nvSpPr>
        <p:spPr>
          <a:xfrm>
            <a:off x="4356000" y="4214880"/>
            <a:ext cx="2073240" cy="20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Ж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3229920" y="157176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53880" y="4065480"/>
            <a:ext cx="3164040" cy="2511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3515760" y="157176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8159040" y="178596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7" descr=""/>
          <p:cNvPicPr/>
          <p:nvPr/>
        </p:nvPicPr>
        <p:blipFill>
          <a:blip r:embed="rId3"/>
          <a:stretch/>
        </p:blipFill>
        <p:spPr>
          <a:xfrm>
            <a:off x="6643800" y="3929040"/>
            <a:ext cx="1785960" cy="27147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8"/>
          <p:cNvSpPr/>
          <p:nvPr/>
        </p:nvSpPr>
        <p:spPr>
          <a:xfrm>
            <a:off x="6937560" y="3214800"/>
            <a:ext cx="140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2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0" descr=""/>
          <p:cNvPicPr/>
          <p:nvPr/>
        </p:nvPicPr>
        <p:blipFill>
          <a:blip r:embed="rId4"/>
          <a:stretch/>
        </p:blipFill>
        <p:spPr>
          <a:xfrm>
            <a:off x="4714920" y="285840"/>
            <a:ext cx="3929040" cy="31431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1"/>
          <p:cNvSpPr/>
          <p:nvPr/>
        </p:nvSpPr>
        <p:spPr>
          <a:xfrm>
            <a:off x="1318320" y="1762200"/>
            <a:ext cx="174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11"/>
          <p:cNvSpPr/>
          <p:nvPr/>
        </p:nvSpPr>
        <p:spPr>
          <a:xfrm>
            <a:off x="6790680" y="4286160"/>
            <a:ext cx="55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1364760" y="1571760"/>
            <a:ext cx="12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7" descr=""/>
          <p:cNvPicPr/>
          <p:nvPr/>
        </p:nvPicPr>
        <p:blipFill>
          <a:blip r:embed="rId2"/>
          <a:stretch/>
        </p:blipFill>
        <p:spPr>
          <a:xfrm>
            <a:off x="500040" y="3643200"/>
            <a:ext cx="3286080" cy="2786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8"/>
          <p:cNvSpPr/>
          <p:nvPr/>
        </p:nvSpPr>
        <p:spPr>
          <a:xfrm>
            <a:off x="3087000" y="14288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2801160" y="14288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4071960" y="4429080"/>
            <a:ext cx="2143080" cy="21812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14"/>
          <p:cNvSpPr/>
          <p:nvPr/>
        </p:nvSpPr>
        <p:spPr>
          <a:xfrm>
            <a:off x="4087080" y="228600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5"/>
          <p:cNvSpPr/>
          <p:nvPr/>
        </p:nvSpPr>
        <p:spPr>
          <a:xfrm>
            <a:off x="5873040" y="228600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6" descr=""/>
          <p:cNvPicPr/>
          <p:nvPr/>
        </p:nvPicPr>
        <p:blipFill>
          <a:blip r:embed="rId4"/>
          <a:stretch/>
        </p:blipFill>
        <p:spPr>
          <a:xfrm>
            <a:off x="6643800" y="3571920"/>
            <a:ext cx="2009520" cy="29448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7"/>
          <p:cNvSpPr/>
          <p:nvPr/>
        </p:nvSpPr>
        <p:spPr>
          <a:xfrm>
            <a:off x="8230680" y="128592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8"/>
          <p:cNvSpPr/>
          <p:nvPr/>
        </p:nvSpPr>
        <p:spPr>
          <a:xfrm>
            <a:off x="7944840" y="128592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{EA3C0CAB-28EE-4233-B433-80D48347ED33}"/>
          <p:cNvPicPr/>
          <p:nvPr/>
        </p:nvPicPr>
        <p:blipFill>
          <a:blip r:embed="rId5"/>
          <a:stretch/>
        </p:blipFill>
        <p:spPr>
          <a:xfrm>
            <a:off x="4711680" y="512640"/>
            <a:ext cx="2597040" cy="27799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9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2"/>
          <a:srcRect l="16735" t="0" r="0" b="0"/>
          <a:stretch/>
        </p:blipFill>
        <p:spPr>
          <a:xfrm>
            <a:off x="2000160" y="3786120"/>
            <a:ext cx="1785960" cy="28638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2"/>
          <p:cNvSpPr txBox="1"/>
          <p:nvPr/>
        </p:nvSpPr>
        <p:spPr>
          <a:xfrm>
            <a:off x="611280" y="3929040"/>
            <a:ext cx="153180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1792440" y="1844640"/>
            <a:ext cx="197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5778360" y="4138560"/>
            <a:ext cx="2013120" cy="22986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1"/>
          <p:cNvSpPr/>
          <p:nvPr/>
        </p:nvSpPr>
        <p:spPr>
          <a:xfrm>
            <a:off x="7291800" y="4357800"/>
            <a:ext cx="184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А=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3"/>
          <p:cNvSpPr/>
          <p:nvPr/>
        </p:nvSpPr>
        <p:spPr>
          <a:xfrm>
            <a:off x="5087160" y="16430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5373000" y="16430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6"/>
          <p:cNvSpPr/>
          <p:nvPr/>
        </p:nvSpPr>
        <p:spPr>
          <a:xfrm>
            <a:off x="3729960" y="16430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7"/>
          <p:cNvSpPr/>
          <p:nvPr/>
        </p:nvSpPr>
        <p:spPr>
          <a:xfrm>
            <a:off x="3372840" y="1643040"/>
            <a:ext cx="861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cc"/>
                </a:solidFill>
                <a:latin typeface="Gabriola"/>
              </a:rPr>
              <a:t>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8"/>
          <p:cNvSpPr/>
          <p:nvPr/>
        </p:nvSpPr>
        <p:spPr>
          <a:xfrm>
            <a:off x="3367080" y="5000760"/>
            <a:ext cx="174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Е=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118" descr=""/>
          <p:cNvPicPr/>
          <p:nvPr/>
        </p:nvPicPr>
        <p:blipFill>
          <a:blip r:embed="rId4"/>
          <a:stretch/>
        </p:blipFill>
        <p:spPr>
          <a:xfrm>
            <a:off x="5278320" y="853920"/>
            <a:ext cx="2944800" cy="2401920"/>
          </a:xfrm>
          <a:prstGeom prst="rect">
            <a:avLst/>
          </a:prstGeom>
          <a:ln w="0">
            <a:noFill/>
          </a:ln>
        </p:spPr>
      </p:pic>
      <p:sp>
        <p:nvSpPr>
          <p:cNvPr id="173" name="Стрелка вправо 1"/>
          <p:cNvSpPr/>
          <p:nvPr/>
        </p:nvSpPr>
        <p:spPr>
          <a:xfrm>
            <a:off x="8043840" y="599436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990720" y="3952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935440" y="404640"/>
            <a:ext cx="33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АПИТ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IMG_0009"/>
          <p:cNvPicPr/>
          <p:nvPr/>
        </p:nvPicPr>
        <p:blipFill>
          <a:blip r:embed="rId2"/>
          <a:stretch/>
        </p:blipFill>
        <p:spPr>
          <a:xfrm>
            <a:off x="1111320" y="1413000"/>
            <a:ext cx="6948360" cy="429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Рисунок 2" descr=""/>
          <p:cNvPicPr/>
          <p:nvPr/>
        </p:nvPicPr>
        <p:blipFill>
          <a:blip r:embed="rId3"/>
          <a:stretch/>
        </p:blipFill>
        <p:spPr>
          <a:xfrm>
            <a:off x="8244000" y="4653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79" name="Стрелка вправо 3"/>
          <p:cNvSpPr/>
          <p:nvPr/>
        </p:nvSpPr>
        <p:spPr>
          <a:xfrm>
            <a:off x="7873920" y="59752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"/>
          <p:cNvGrpSpPr/>
          <p:nvPr/>
        </p:nvGrpSpPr>
        <p:grpSpPr>
          <a:xfrm>
            <a:off x="214200" y="5715000"/>
            <a:ext cx="1361880" cy="628560"/>
            <a:chOff x="214200" y="5715000"/>
            <a:chExt cx="1361880" cy="628560"/>
          </a:xfrm>
        </p:grpSpPr>
        <p:pic>
          <p:nvPicPr>
            <p:cNvPr id="181" name="Picture 18" descr="MCj04244440000[1]"/>
            <p:cNvPicPr/>
            <p:nvPr/>
          </p:nvPicPr>
          <p:blipFill>
            <a:blip r:embed="rId4"/>
            <a:stretch/>
          </p:blipFill>
          <p:spPr>
            <a:xfrm>
              <a:off x="214200" y="5715000"/>
              <a:ext cx="5763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AutoShape 19"/>
            <p:cNvSpPr/>
            <p:nvPr/>
          </p:nvSpPr>
          <p:spPr>
            <a:xfrm>
              <a:off x="685800" y="5784480"/>
              <a:ext cx="890280" cy="21924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Comic Sans MS"/>
                </a:rPr>
                <a:t>ПОДУМА</a:t>
              </a:r>
              <a:r>
                <a:rPr b="0" lang="ru-RU" sz="10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71" dur="3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animEffect filter="checkerboard(across)" transition="out">
                                      <p:cBhvr additive="repl">
                                        <p:cTn id="2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6500"/>
                            </p:stCondLst>
                            <p:childTnLst>
                              <p:par>
                                <p:cTn id="313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14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0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animEffect filter="plus(in)" transition="out">
                                      <p:cBhvr additive="repl">
                                        <p:cTn id="34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3500"/>
                            </p:stCondLst>
                            <p:childTnLst>
                              <p:par>
                                <p:cTn id="3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3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7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39852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8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Светлана\Documents\Мои результаты сканирования\сканирование0045.jpg"/>
          <p:cNvPicPr/>
          <p:nvPr/>
        </p:nvPicPr>
        <p:blipFill>
          <a:blip r:embed="rId1"/>
          <a:stretch/>
        </p:blipFill>
        <p:spPr>
          <a:xfrm>
            <a:off x="285840" y="4000680"/>
            <a:ext cx="1357200" cy="10760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6" descr="12.jpg"/>
          <p:cNvPicPr/>
          <p:nvPr/>
        </p:nvPicPr>
        <p:blipFill>
          <a:blip r:embed="rId2"/>
          <a:stretch/>
        </p:blipFill>
        <p:spPr>
          <a:xfrm>
            <a:off x="5742000" y="4973760"/>
            <a:ext cx="1639800" cy="12682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7" descr="55.jpg"/>
          <p:cNvPicPr/>
          <p:nvPr/>
        </p:nvPicPr>
        <p:blipFill>
          <a:blip r:embed="rId3"/>
          <a:stretch/>
        </p:blipFill>
        <p:spPr>
          <a:xfrm>
            <a:off x="285840" y="2000160"/>
            <a:ext cx="1500120" cy="1486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утю.jpeg"/>
          <p:cNvPicPr/>
          <p:nvPr/>
        </p:nvPicPr>
        <p:blipFill>
          <a:blip r:embed="rId4"/>
          <a:stretch/>
        </p:blipFill>
        <p:spPr>
          <a:xfrm>
            <a:off x="2071800" y="14288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2" descr="candle-animation.gif"/>
          <p:cNvPicPr/>
          <p:nvPr/>
        </p:nvPicPr>
        <p:blipFill>
          <a:blip r:embed="rId5"/>
          <a:stretch/>
        </p:blipFill>
        <p:spPr>
          <a:xfrm>
            <a:off x="6929280" y="135720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3" descr="plita5.jpg"/>
          <p:cNvPicPr/>
          <p:nvPr/>
        </p:nvPicPr>
        <p:blipFill>
          <a:blip r:embed="rId6"/>
          <a:stretch/>
        </p:blipFill>
        <p:spPr>
          <a:xfrm>
            <a:off x="3857760" y="485784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5" descr="8-1.jpg"/>
          <p:cNvPicPr/>
          <p:nvPr/>
        </p:nvPicPr>
        <p:blipFill>
          <a:blip r:embed="rId7"/>
          <a:stretch/>
        </p:blipFill>
        <p:spPr>
          <a:xfrm>
            <a:off x="5999040" y="3692520"/>
            <a:ext cx="927360" cy="8985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6" descr="5096-51_298x248.jpg"/>
          <p:cNvPicPr/>
          <p:nvPr/>
        </p:nvPicPr>
        <p:blipFill>
          <a:blip r:embed="rId8"/>
          <a:stretch/>
        </p:blipFill>
        <p:spPr>
          <a:xfrm>
            <a:off x="2786040" y="2643120"/>
            <a:ext cx="1071720" cy="12366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7" descr="163-1.jpg"/>
          <p:cNvPicPr/>
          <p:nvPr/>
        </p:nvPicPr>
        <p:blipFill>
          <a:blip r:embed="rId9"/>
          <a:stretch/>
        </p:blipFill>
        <p:spPr>
          <a:xfrm>
            <a:off x="5000760" y="1428840"/>
            <a:ext cx="857160" cy="11682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8" descr="Чайник_эмалированный_на_газовой_плите.JPG"/>
          <p:cNvPicPr/>
          <p:nvPr/>
        </p:nvPicPr>
        <p:blipFill>
          <a:blip r:embed="rId10"/>
          <a:stretch/>
        </p:blipFill>
        <p:spPr>
          <a:xfrm>
            <a:off x="4286160" y="314316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MCj02329000000[1]"/>
          <p:cNvPicPr/>
          <p:nvPr/>
        </p:nvPicPr>
        <p:blipFill>
          <a:blip r:embed="rId11"/>
          <a:stretch/>
        </p:blipFill>
        <p:spPr>
          <a:xfrm>
            <a:off x="7358040" y="3429000"/>
            <a:ext cx="1285920" cy="10303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94" name="Рисунок 20" descr="36248841_1.jpg"/>
          <p:cNvPicPr/>
          <p:nvPr/>
        </p:nvPicPr>
        <p:blipFill>
          <a:blip r:embed="rId12"/>
          <a:stretch/>
        </p:blipFill>
        <p:spPr>
          <a:xfrm>
            <a:off x="1857240" y="5000760"/>
            <a:ext cx="133380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14"/>
          <p:cNvGrpSpPr/>
          <p:nvPr/>
        </p:nvGrpSpPr>
        <p:grpSpPr>
          <a:xfrm>
            <a:off x="7964640" y="5386320"/>
            <a:ext cx="980640" cy="723960"/>
            <a:chOff x="7964640" y="5386320"/>
            <a:chExt cx="980640" cy="723960"/>
          </a:xfrm>
        </p:grpSpPr>
        <p:sp>
          <p:nvSpPr>
            <p:cNvPr id="196" name="Text Box 15"/>
            <p:cNvSpPr/>
            <p:nvPr/>
          </p:nvSpPr>
          <p:spPr>
            <a:xfrm>
              <a:off x="8178120" y="5386320"/>
              <a:ext cx="767160" cy="16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ff"/>
                  </a:solidFill>
                  <a:latin typeface="Comic Sans MS"/>
                </a:rPr>
                <a:t>ПРАВИЛЬНО</a:t>
              </a:r>
              <a:r>
                <a:rPr b="0" lang="ru-RU" sz="800" spc="-1" strike="noStrike">
                  <a:solidFill>
                    <a:srgbClr val="0000ff"/>
                  </a:solidFill>
                  <a:latin typeface="Comic Sans MS"/>
                </a:rPr>
                <a:t>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6" descr="MCj04298290000[1]"/>
            <p:cNvPicPr/>
            <p:nvPr/>
          </p:nvPicPr>
          <p:blipFill>
            <a:blip r:embed="rId13"/>
            <a:stretch/>
          </p:blipFill>
          <p:spPr>
            <a:xfrm>
              <a:off x="7964640" y="5415840"/>
              <a:ext cx="913320" cy="69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Стрелка вправо 1"/>
          <p:cNvSpPr/>
          <p:nvPr/>
        </p:nvSpPr>
        <p:spPr>
          <a:xfrm>
            <a:off x="7899480" y="6257880"/>
            <a:ext cx="979560" cy="4860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889560" y="3240"/>
            <a:ext cx="755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ГНЕОПАСНЫЕ ПРЕД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500"/>
                            </p:stCondLst>
                            <p:childTnLst>
                              <p:par>
                                <p:cTn id="4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2286000" y="260280"/>
            <a:ext cx="430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1072440" y="96840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Если у вас мелкое возгорани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392040" y="2133720"/>
            <a:ext cx="4775400" cy="459720"/>
          </a:xfrm>
          <a:prstGeom prst="rect">
            <a:avLst/>
          </a:prstGeom>
          <a:noFill/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до спрятаться под к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404640" y="2940120"/>
            <a:ext cx="4343400" cy="1557000"/>
          </a:xfrm>
          <a:prstGeom prst="rect">
            <a:avLst/>
          </a:prstGeom>
          <a:noFill/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Надо потуш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дручными средст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(водой, мокрым покрывал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404640" y="4902120"/>
            <a:ext cx="3600720" cy="459720"/>
          </a:xfrm>
          <a:prstGeom prst="rect">
            <a:avLst/>
          </a:prstGeom>
          <a:noFill/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Надо убегать из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гшещ"/>
          <p:cNvPicPr/>
          <p:nvPr/>
        </p:nvPicPr>
        <p:blipFill>
          <a:blip r:embed="rId2"/>
          <a:stretch/>
        </p:blipFill>
        <p:spPr>
          <a:xfrm>
            <a:off x="5364000" y="1854360"/>
            <a:ext cx="3097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2214720" y="26028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854280" y="968400"/>
            <a:ext cx="78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Если в помещении много дым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егн7"/>
          <p:cNvPicPr/>
          <p:nvPr/>
        </p:nvPicPr>
        <p:blipFill>
          <a:blip r:embed="rId2"/>
          <a:stretch/>
        </p:blipFill>
        <p:spPr>
          <a:xfrm>
            <a:off x="5435640" y="1916280"/>
            <a:ext cx="2935080" cy="37573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"/>
          <p:cNvSpPr/>
          <p:nvPr/>
        </p:nvSpPr>
        <p:spPr>
          <a:xfrm>
            <a:off x="438120" y="2492280"/>
            <a:ext cx="4729320" cy="459720"/>
          </a:xfrm>
          <a:prstGeom prst="rect">
            <a:avLst/>
          </a:prstGeom>
          <a:noFill/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 Необходимо  быстро убе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438120" y="3689280"/>
            <a:ext cx="5045040" cy="520560"/>
          </a:xfrm>
          <a:prstGeom prst="rect">
            <a:avLst/>
          </a:prstGeom>
          <a:noFill/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. Необходимо  двигаться полз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714240" y="1024920"/>
            <a:ext cx="7715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основ пожарной  безопасности до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закреплять и систематизировать знания детей о правилах пожарной 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ивать навыки осторожного обращения с ог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навыки детей пожарной безопасности в различных жизненных ситуа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ющ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навыки наблюдательности и бдительности, осторож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К, проектор, экран,  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аточный материал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ые листочки, ручки и смайл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КВНу (заранее даны задания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визитную карточку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ть эмбл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правила пожарной безопасности, действия при пожа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тихотворения на тему по пожарной безопас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7"/>
          <p:cNvSpPr/>
          <p:nvPr/>
        </p:nvSpPr>
        <p:spPr>
          <a:xfrm>
            <a:off x="1857240" y="260280"/>
            <a:ext cx="47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лоьбг"/>
          <p:cNvPicPr/>
          <p:nvPr/>
        </p:nvPicPr>
        <p:blipFill>
          <a:blip r:embed="rId2"/>
          <a:stretch/>
        </p:blipFill>
        <p:spPr>
          <a:xfrm>
            <a:off x="5369040" y="1844640"/>
            <a:ext cx="3008160" cy="38498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262440" y="895320"/>
            <a:ext cx="675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Если невозможно потуш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озгорани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539640" y="2708280"/>
            <a:ext cx="4438800" cy="459720"/>
          </a:xfrm>
          <a:prstGeom prst="rect">
            <a:avLst/>
          </a:prstGeom>
          <a:noFill/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 Надо покинуть поме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539640" y="4111560"/>
            <a:ext cx="3114720" cy="825480"/>
          </a:xfrm>
          <a:prstGeom prst="rect">
            <a:avLst/>
          </a:prstGeom>
          <a:noFill/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Надо спрят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 другую комн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"/>
          <p:cNvSpPr/>
          <p:nvPr/>
        </p:nvSpPr>
        <p:spPr>
          <a:xfrm>
            <a:off x="1785960" y="260280"/>
            <a:ext cx="487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661040" y="968400"/>
            <a:ext cx="61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Если загорелась одеж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372960" y="2421000"/>
            <a:ext cx="4262400" cy="1191240"/>
          </a:xfrm>
          <a:prstGeom prst="rect">
            <a:avLst/>
          </a:prstGeom>
          <a:noFill/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 Бегать в горящей одежд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чтобы  загасить пла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5"/>
          <p:cNvSpPr/>
          <p:nvPr/>
        </p:nvSpPr>
        <p:spPr>
          <a:xfrm>
            <a:off x="396720" y="3933720"/>
            <a:ext cx="4176720" cy="459720"/>
          </a:xfrm>
          <a:prstGeom prst="rect">
            <a:avLst/>
          </a:prstGeom>
          <a:noFill/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Падать на пол и кат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епке"/>
          <p:cNvPicPr/>
          <p:nvPr/>
        </p:nvPicPr>
        <p:blipFill>
          <a:blip r:embed="rId2"/>
          <a:stretch/>
        </p:blipFill>
        <p:spPr>
          <a:xfrm>
            <a:off x="4932360" y="1989000"/>
            <a:ext cx="3598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1571760" y="260280"/>
            <a:ext cx="50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755640" y="911160"/>
            <a:ext cx="81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жарных вызвать по телефон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павп"/>
          <p:cNvPicPr/>
          <p:nvPr/>
        </p:nvPicPr>
        <p:blipFill>
          <a:blip r:embed="rId2"/>
          <a:stretch/>
        </p:blipFill>
        <p:spPr>
          <a:xfrm>
            <a:off x="5003640" y="1916280"/>
            <a:ext cx="3441960" cy="3711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5"/>
          <p:cNvSpPr/>
          <p:nvPr/>
        </p:nvSpPr>
        <p:spPr>
          <a:xfrm>
            <a:off x="928800" y="2538360"/>
            <a:ext cx="1500120" cy="916920"/>
          </a:xfrm>
          <a:prstGeom prst="rect">
            <a:avLst/>
          </a:prstGeom>
          <a:noFill/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Calibri"/>
                <a:ea typeface="FrankRueh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3276720" y="2538360"/>
            <a:ext cx="1428480" cy="916920"/>
          </a:xfrm>
          <a:prstGeom prst="rect">
            <a:avLst/>
          </a:prstGeom>
          <a:noFill/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2050920" y="4221000"/>
            <a:ext cx="1571760" cy="916920"/>
          </a:xfrm>
          <a:prstGeom prst="rect">
            <a:avLst/>
          </a:prstGeom>
          <a:noFill/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  <a:ea typeface="FrankRueh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2071800" y="260280"/>
            <a:ext cx="46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Юный пож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павп"/>
          <p:cNvPicPr/>
          <p:nvPr/>
        </p:nvPicPr>
        <p:blipFill>
          <a:blip r:embed="rId2"/>
          <a:stretch/>
        </p:blipFill>
        <p:spPr>
          <a:xfrm>
            <a:off x="5219640" y="1916280"/>
            <a:ext cx="3535560" cy="39351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750960" y="928800"/>
            <a:ext cx="844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жарным необходимо сообщи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568440" y="2421000"/>
            <a:ext cx="4537080" cy="886320"/>
          </a:xfrm>
          <a:prstGeom prst="rect">
            <a:avLst/>
          </a:prstGeom>
          <a:noFill/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Calibri"/>
                <a:ea typeface="FrankRuehl"/>
              </a:rPr>
              <a:t> 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 Фамилию, адрес, возра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аш рост, цвет гл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568440" y="4118040"/>
            <a:ext cx="4219560" cy="886320"/>
          </a:xfrm>
          <a:prstGeom prst="rect">
            <a:avLst/>
          </a:prstGeom>
          <a:noFill/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  <a:ea typeface="FrankRuehl"/>
              </a:rPr>
              <a:t>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Фамилию,  адрес, подъез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этаж, объект возгор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вправо 4"/>
          <p:cNvSpPr/>
          <p:nvPr/>
        </p:nvSpPr>
        <p:spPr>
          <a:xfrm>
            <a:off x="7956720" y="6138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5"/>
          <p:cNvSpPr/>
          <p:nvPr/>
        </p:nvSpPr>
        <p:spPr>
          <a:xfrm>
            <a:off x="971640" y="1785960"/>
            <a:ext cx="6985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амое главное прави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е только при пожар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о и при любой другой опас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е поддавайтесь панике и не теряйте самообладани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2784960" y="441360"/>
            <a:ext cx="37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5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5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3357720" y="92880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857160" y="1357200"/>
            <a:ext cx="7286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Ребята, какую важную науку мы повторили на нашем занят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Будете ли всегда соблюдать правила пожарной безопас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Какие из перечисленных заданий вам понравилось больше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Какая команда по вашему мнению хорошо работала? Давайте узнаем, посчитав ваши заработанные баллы, т.е. смайл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1143000" y="1500120"/>
            <a:ext cx="671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Ребята, спасибо всем вам за ва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активную и дружную работу. Всегда и везде соблюдайте правила пожарной безопасности. Занятие оконче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0" y="476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усть ого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сердцах пыла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 пожаров не бывает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8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2451240" cy="31716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3"/>
          <a:stretch/>
        </p:blipFill>
        <p:spPr>
          <a:xfrm>
            <a:off x="7236000" y="508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25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601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4" dur="22437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 flipH="1">
            <a:off x="318960" y="836640"/>
            <a:ext cx="82296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нают все – человек без огня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е живёт ни единого дня.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и огне, как при солнце светло,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и огне и зимою тепло.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смотрите ребята вокруг: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м огонь – повседневный наш друг.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о когда мы небрежны с огнём,</a:t>
            </a:r>
            <a:br>
              <a:rPr sz="3200"/>
            </a:br>
            <a:r>
              <a:rPr b="1" lang="ru-RU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Он становится нашим врагом.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792440" y="333360"/>
            <a:ext cx="60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ИЗИТНАЯ КАР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0"/>
          <p:cNvSpPr/>
          <p:nvPr/>
        </p:nvSpPr>
        <p:spPr>
          <a:xfrm>
            <a:off x="1476360" y="3716280"/>
            <a:ext cx="3959280" cy="1962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кор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з: запомнить твердо нужно н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 не возникает са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1"/>
          <p:cNvSpPr/>
          <p:nvPr/>
        </p:nvSpPr>
        <p:spPr>
          <a:xfrm>
            <a:off x="4584600" y="1403280"/>
            <a:ext cx="3497400" cy="1954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жарн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з: Наш отряд следит всег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было огн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7839000" y="5373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2986560" y="336600"/>
            <a:ext cx="32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НК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5"/>
          <p:cNvSpPr/>
          <p:nvPr/>
        </p:nvSpPr>
        <p:spPr>
          <a:xfrm>
            <a:off x="1071720" y="1357200"/>
            <a:ext cx="3214440" cy="1428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Загадки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7"/>
          <p:cNvSpPr/>
          <p:nvPr/>
        </p:nvSpPr>
        <p:spPr>
          <a:xfrm>
            <a:off x="4572000" y="4357800"/>
            <a:ext cx="3214800" cy="15001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Юный пожарный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1000080" y="3500280"/>
            <a:ext cx="3143160" cy="1428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Капитаны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1"/>
          <p:cNvSpPr/>
          <p:nvPr/>
        </p:nvSpPr>
        <p:spPr>
          <a:xfrm>
            <a:off x="4857840" y="2143080"/>
            <a:ext cx="3011400" cy="15001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Ребусы</a:t>
            </a:r>
            <a:r>
              <a:rPr b="1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5840" y="2500200"/>
            <a:ext cx="925560" cy="1233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7"/>
          <a:stretch/>
        </p:blipFill>
        <p:spPr>
          <a:xfrm>
            <a:off x="7643880" y="3429000"/>
            <a:ext cx="1168200" cy="855720"/>
          </a:xfrm>
          <a:prstGeom prst="rect">
            <a:avLst/>
          </a:prstGeom>
          <a:ln w="0">
            <a:noFill/>
          </a:ln>
        </p:spPr>
      </p:pic>
      <p:sp>
        <p:nvSpPr>
          <p:cNvPr id="64" name="Управляющая кнопка: домой 2"/>
          <p:cNvSpPr/>
          <p:nvPr/>
        </p:nvSpPr>
        <p:spPr>
          <a:xfrm>
            <a:off x="8020080" y="5732640"/>
            <a:ext cx="817560" cy="687240"/>
          </a:xfrm>
          <a:custGeom>
            <a:avLst/>
            <a:gdLst>
              <a:gd name="textAreaLeft" fmla="*/ 44280 w 817560"/>
              <a:gd name="textAreaRight" fmla="*/ 773280 w 817560"/>
              <a:gd name="textAreaTop" fmla="*/ 44280 h 687240"/>
              <a:gd name="textAreaBottom" fmla="*/ 642960 h 687240"/>
            </a:gdLst>
            <a:ahLst/>
            <a:rect l="textAreaLeft" t="textAreaTop" r="textAreaRight" b="textAreaBottom"/>
            <a:pathLst>
              <a:path w="25694" h="21600">
                <a:moveTo>
                  <a:pt x="0" y="0"/>
                </a:moveTo>
                <a:lnTo>
                  <a:pt x="25694" y="0"/>
                </a:lnTo>
                <a:lnTo>
                  <a:pt x="25694" y="21600"/>
                </a:lnTo>
                <a:lnTo>
                  <a:pt x="0" y="21600"/>
                </a:lnTo>
                <a:close/>
              </a:path>
              <a:path fill="lightenLess" w="25694" h="21600">
                <a:moveTo>
                  <a:pt x="0" y="0"/>
                </a:moveTo>
                <a:lnTo>
                  <a:pt x="25694" y="0"/>
                </a:lnTo>
                <a:lnTo>
                  <a:pt x="24294" y="1400"/>
                </a:lnTo>
                <a:lnTo>
                  <a:pt x="1400" y="1400"/>
                </a:lnTo>
                <a:close/>
              </a:path>
              <a:path fill="darken" w="25694" h="21600">
                <a:moveTo>
                  <a:pt x="25694" y="0"/>
                </a:moveTo>
                <a:lnTo>
                  <a:pt x="25694" y="21600"/>
                </a:lnTo>
                <a:lnTo>
                  <a:pt x="24294" y="20200"/>
                </a:lnTo>
                <a:lnTo>
                  <a:pt x="24294" y="1400"/>
                </a:lnTo>
                <a:close/>
              </a:path>
              <a:path fill="darkenLess" w="25694" h="21600">
                <a:moveTo>
                  <a:pt x="256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94" y="20200"/>
                </a:lnTo>
                <a:close/>
              </a:path>
              <a:path fill="lighten" w="256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94" h="21600">
                <a:moveTo>
                  <a:pt x="12847" y="3837"/>
                </a:moveTo>
                <a:lnTo>
                  <a:pt x="15423" y="6448"/>
                </a:lnTo>
                <a:lnTo>
                  <a:pt x="15423" y="4707"/>
                </a:lnTo>
                <a:lnTo>
                  <a:pt x="17199" y="4707"/>
                </a:lnTo>
                <a:lnTo>
                  <a:pt x="17199" y="8224"/>
                </a:lnTo>
                <a:lnTo>
                  <a:pt x="19810" y="10800"/>
                </a:lnTo>
                <a:lnTo>
                  <a:pt x="18156" y="10800"/>
                </a:lnTo>
                <a:lnTo>
                  <a:pt x="18156" y="17989"/>
                </a:lnTo>
                <a:lnTo>
                  <a:pt x="7538" y="17989"/>
                </a:lnTo>
                <a:lnTo>
                  <a:pt x="7538" y="10800"/>
                </a:lnTo>
                <a:lnTo>
                  <a:pt x="5884" y="10800"/>
                </a:lnTo>
                <a:close/>
              </a:path>
              <a:path fill="darkenLess" w="25694" h="21600">
                <a:moveTo>
                  <a:pt x="15423" y="6448"/>
                </a:moveTo>
                <a:lnTo>
                  <a:pt x="15423" y="4707"/>
                </a:lnTo>
                <a:lnTo>
                  <a:pt x="17199" y="4707"/>
                </a:lnTo>
                <a:lnTo>
                  <a:pt x="17199" y="8224"/>
                </a:lnTo>
                <a:close/>
              </a:path>
              <a:path fill="darkenLess" w="25694" h="21600">
                <a:moveTo>
                  <a:pt x="11924" y="14299"/>
                </a:moveTo>
                <a:lnTo>
                  <a:pt x="13770" y="14299"/>
                </a:lnTo>
                <a:lnTo>
                  <a:pt x="13770" y="17989"/>
                </a:lnTo>
                <a:lnTo>
                  <a:pt x="18156" y="17989"/>
                </a:lnTo>
                <a:lnTo>
                  <a:pt x="18156" y="10800"/>
                </a:lnTo>
                <a:lnTo>
                  <a:pt x="7538" y="10800"/>
                </a:lnTo>
                <a:lnTo>
                  <a:pt x="7538" y="17989"/>
                </a:lnTo>
                <a:lnTo>
                  <a:pt x="1192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337680" y="1450800"/>
            <a:ext cx="31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 маленьком амба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Держат 100 пож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3711600" y="169560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чечный коро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324000" y="2757600"/>
            <a:ext cx="322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Шипит и зли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оды бо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 языком, а не 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Без зубов, а кус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4032720" y="32878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324000" y="5011560"/>
            <a:ext cx="41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Где с огнём беспечны лю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Обязательно он буд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4596120" y="5195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9" descr=""/>
          <p:cNvPicPr/>
          <p:nvPr/>
        </p:nvPicPr>
        <p:blipFill>
          <a:blip r:embed="rId2"/>
          <a:stretch/>
        </p:blipFill>
        <p:spPr>
          <a:xfrm>
            <a:off x="6977160" y="1112760"/>
            <a:ext cx="186984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0" descr=""/>
          <p:cNvPicPr/>
          <p:nvPr/>
        </p:nvPicPr>
        <p:blipFill>
          <a:blip r:embed="rId3"/>
          <a:stretch/>
        </p:blipFill>
        <p:spPr>
          <a:xfrm>
            <a:off x="5521320" y="2760840"/>
            <a:ext cx="2048040" cy="1388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1" descr=""/>
          <p:cNvPicPr/>
          <p:nvPr/>
        </p:nvPicPr>
        <p:blipFill>
          <a:blip r:embed="rId4"/>
          <a:stretch/>
        </p:blipFill>
        <p:spPr>
          <a:xfrm>
            <a:off x="6296040" y="4464000"/>
            <a:ext cx="1432080" cy="1773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>
            <a:off x="3229920" y="404640"/>
            <a:ext cx="26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595440" y="302256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Раскалённая стр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Дуб свалила у сел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140360" y="1628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507960" y="1382760"/>
            <a:ext cx="33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Дым увидел, не зе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с скорее вызыва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3927600" y="32734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4007160" y="49132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595440" y="4359240"/>
            <a:ext cx="26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Летела мош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Осиновая но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 стог се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сё сено съ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0" descr=""/>
          <p:cNvPicPr/>
          <p:nvPr/>
        </p:nvPicPr>
        <p:blipFill>
          <a:blip r:embed="rId2"/>
          <a:stretch/>
        </p:blipFill>
        <p:spPr>
          <a:xfrm>
            <a:off x="5808600" y="2708280"/>
            <a:ext cx="183852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1" descr=""/>
          <p:cNvPicPr/>
          <p:nvPr/>
        </p:nvPicPr>
        <p:blipFill>
          <a:blip r:embed="rId3"/>
          <a:stretch/>
        </p:blipFill>
        <p:spPr>
          <a:xfrm>
            <a:off x="5808600" y="4508640"/>
            <a:ext cx="1838520" cy="1384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2" descr=""/>
          <p:cNvPicPr/>
          <p:nvPr/>
        </p:nvPicPr>
        <p:blipFill>
          <a:blip r:embed="rId4"/>
          <a:stretch/>
        </p:blipFill>
        <p:spPr>
          <a:xfrm>
            <a:off x="6165720" y="1052640"/>
            <a:ext cx="1984680" cy="1377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3"/>
          <p:cNvSpPr/>
          <p:nvPr/>
        </p:nvSpPr>
        <p:spPr>
          <a:xfrm>
            <a:off x="3160080" y="260280"/>
            <a:ext cx="26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320" y="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372960" y="125568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шумела, нагрем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сё промыла и у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И сады, и огор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сей округе полила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4079880" y="199404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4131360" y="36669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ю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484880" y="528156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434880" y="4741920"/>
            <a:ext cx="40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Я мохнатый, я кудлатый,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Я зимой над каждой хатой,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д пожаром, пароходом. 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е бываю без огн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04720" y="3068640"/>
            <a:ext cx="34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То назад, то впер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Ходит, бродит паро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Остановишь – г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одырявит море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9" descr=""/>
          <p:cNvPicPr/>
          <p:nvPr/>
        </p:nvPicPr>
        <p:blipFill>
          <a:blip r:embed="rId2"/>
          <a:stretch/>
        </p:blipFill>
        <p:spPr>
          <a:xfrm>
            <a:off x="5794200" y="1274760"/>
            <a:ext cx="1916280" cy="14382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"/>
          <p:cNvPicPr/>
          <p:nvPr/>
        </p:nvPicPr>
        <p:blipFill>
          <a:blip r:embed="rId3"/>
          <a:stretch/>
        </p:blipFill>
        <p:spPr>
          <a:xfrm>
            <a:off x="5543640" y="3068640"/>
            <a:ext cx="220824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1" descr=""/>
          <p:cNvPicPr/>
          <p:nvPr/>
        </p:nvPicPr>
        <p:blipFill>
          <a:blip r:embed="rId4"/>
          <a:stretch/>
        </p:blipFill>
        <p:spPr>
          <a:xfrm>
            <a:off x="6156360" y="4741920"/>
            <a:ext cx="2135160" cy="1423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12"/>
          <p:cNvSpPr/>
          <p:nvPr/>
        </p:nvSpPr>
        <p:spPr>
          <a:xfrm>
            <a:off x="3191760" y="260280"/>
            <a:ext cx="26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60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"/>
          <p:cNvSpPr/>
          <p:nvPr/>
        </p:nvSpPr>
        <p:spPr>
          <a:xfrm>
            <a:off x="414360" y="1116000"/>
            <a:ext cx="36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Таять может, да не лё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е фонарь, а свет 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4452120" y="133524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4296240" y="296388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тиво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4430880" y="456552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рн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428760" y="4149720"/>
            <a:ext cx="43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Я мчусь с сиреной на пожар,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езу я воду с пеной.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отушим вмиг огонь и жар.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Мы быстры, словно стре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395280" y="2311560"/>
            <a:ext cx="388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Заклубился дым угарный,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Гарью комната полна.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Что пожарный надевает? </a:t>
            </a:r>
            <a:br>
              <a:rPr sz="2400"/>
            </a:b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Без чего никак нельз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2"/>
          <a:stretch/>
        </p:blipFill>
        <p:spPr>
          <a:xfrm>
            <a:off x="6383160" y="809640"/>
            <a:ext cx="1136880" cy="1511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"/>
          <p:cNvPicPr/>
          <p:nvPr/>
        </p:nvPicPr>
        <p:blipFill>
          <a:blip r:embed="rId3"/>
          <a:stretch/>
        </p:blipFill>
        <p:spPr>
          <a:xfrm>
            <a:off x="6227640" y="2852640"/>
            <a:ext cx="1843200" cy="15512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1" descr=""/>
          <p:cNvPicPr/>
          <p:nvPr/>
        </p:nvPicPr>
        <p:blipFill>
          <a:blip r:embed="rId4"/>
          <a:stretch/>
        </p:blipFill>
        <p:spPr>
          <a:xfrm>
            <a:off x="5827680" y="4962600"/>
            <a:ext cx="2076480" cy="139212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право 12"/>
          <p:cNvSpPr/>
          <p:nvPr/>
        </p:nvSpPr>
        <p:spPr>
          <a:xfrm>
            <a:off x="7904160" y="602280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3229920" y="333360"/>
            <a:ext cx="26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07:59:27Z</dcterms:created>
  <dc:creator>сашкин</dc:creator>
  <dc:description/>
  <dc:language>en-US</dc:language>
  <cp:lastModifiedBy>Admin</cp:lastModifiedBy>
  <dcterms:modified xsi:type="dcterms:W3CDTF">2020-04-11T03:20:51Z</dcterms:modified>
  <cp:revision>132</cp:revision>
  <dc:subject/>
  <dc:title>Слайд 1</dc:title>
</cp:coreProperties>
</file>