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621-486E-481D-9125-B76A8F6E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BE1-2952-4325-A931-5F6858B1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976-0FF6-4D11-835B-3759A37C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74D-47DE-4E67-8141-30AFED6F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65A-645C-44EC-A820-1F3BDC74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A02-7D5F-4DFE-A73A-C609B033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B73-6010-4E38-B310-04D7505F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96F-2665-4D65-801E-9F73EB78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8B8-DF36-46F3-9A2B-0FFF6669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EB1-CC68-428F-A818-8D4AD30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C7F-EB30-4A80-B06F-2D679F9D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2D5-A6FF-4D17-8C33-9BD43871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2045-E6FC-49CA-8AFB-8485C45CA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Мастер-класс для детей и родителей на тему «Развитие фонематического слуха у дете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5000" y="4876920"/>
            <a:ext cx="3124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очкина Е.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Азбука. Учим букву А. - YouTube"/>
          <p:cNvPicPr/>
          <p:nvPr/>
        </p:nvPicPr>
        <p:blipFill>
          <a:blip r:embed="rId1"/>
          <a:stretch/>
        </p:blipFill>
        <p:spPr>
          <a:xfrm>
            <a:off x="0" y="2666880"/>
            <a:ext cx="556560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Задание 7. Повтори чистоговор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шка кошка на окошке кашу кушала по кро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ые бараны били в бараб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варила щука щей, угощала двух ле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шуршите мыши, кошка шорох слы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оронила ворона ворон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Спасибо за работ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Уважаемые родители, данные упражнения способствуют развитию речевых навыков и умений детей в области грамоты, формируют представления о слове, слоге и звуке.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Мастер-класс позволит их выполнить дома вместе с ребён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Для выполнения заданий вам потребуются цветные карандаши, листок бумаги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Желаю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Гласные и согласные звуки. Вспоминаем правил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гласный говорят, нет во рту у нас преград. (Воздух свободно выходит изо рта).Гласные звуки по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667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Если согласный сказать нам надо – во рту возникает преграда. (у воздуха есть преграда – зубы, губы, или язы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, 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,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,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Ш,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Щ,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Arial"/>
              </a:rPr>
              <a:t>Задание 1.Обведи гласные звуки красным, а согласные синим цветом. Мама перепишет буквы на бумагу , а ребёнок обведё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         М            С               У           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            Р              Щ         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       У               Х               Ш           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          Ж             А            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дание 2.Назови предметы, в названии которых есть «песенка жука», или звук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Отзыв &quot;Снежинка&quot; АИ-168У — Москвич 2140, 1.5 л., 1987 года на DRIVE2"/>
          <p:cNvPicPr/>
          <p:nvPr/>
        </p:nvPicPr>
        <p:blipFill>
          <a:blip r:embed="rId1"/>
          <a:stretch/>
        </p:blipFill>
        <p:spPr>
          <a:xfrm>
            <a:off x="6781680" y="4267080"/>
            <a:ext cx="1727280" cy="17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ᐈ Желуди дуб фото, фотографии жёлудь | скачать на Depositphotos®"/>
          <p:cNvPicPr/>
          <p:nvPr/>
        </p:nvPicPr>
        <p:blipFill>
          <a:blip r:embed="rId2"/>
          <a:stretch/>
        </p:blipFill>
        <p:spPr>
          <a:xfrm>
            <a:off x="6477120" y="1828800"/>
            <a:ext cx="1908000" cy="154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Летние пляжные шорты Дети хлопчатобумажные шорты Детские мальчики ..."/>
          <p:cNvPicPr/>
          <p:nvPr/>
        </p:nvPicPr>
        <p:blipFill>
          <a:blip r:embed="rId3"/>
          <a:stretch/>
        </p:blipFill>
        <p:spPr>
          <a:xfrm>
            <a:off x="4343400" y="3657600"/>
            <a:ext cx="20988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Ножницы, 250 мм - купите по низкой цене в интернет-магазине Castorama"/>
          <p:cNvPicPr/>
          <p:nvPr/>
        </p:nvPicPr>
        <p:blipFill>
          <a:blip r:embed="rId4"/>
          <a:stretch/>
        </p:blipFill>
        <p:spPr>
          <a:xfrm>
            <a:off x="1752480" y="4343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Жук ветчинный | справочник Пестициды.ru"/>
          <p:cNvPicPr/>
          <p:nvPr/>
        </p:nvPicPr>
        <p:blipFill>
          <a:blip r:embed="rId5"/>
          <a:stretch/>
        </p:blipFill>
        <p:spPr>
          <a:xfrm>
            <a:off x="3352680" y="2133720"/>
            <a:ext cx="1374840" cy="137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Мультяшный счастливый кролик на белом фоне | Премиум векторы"/>
          <p:cNvPicPr/>
          <p:nvPr/>
        </p:nvPicPr>
        <p:blipFill>
          <a:blip r:embed="rId6"/>
          <a:stretch/>
        </p:blipFill>
        <p:spPr>
          <a:xfrm>
            <a:off x="838080" y="2743200"/>
            <a:ext cx="133524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дание 3. Назови первый звук в названии предметов. Назови предметы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3D модель Императорская стрекоза - TurboSquid 1122326"/>
          <p:cNvPicPr/>
          <p:nvPr/>
        </p:nvPicPr>
        <p:blipFill>
          <a:blip r:embed="rId1"/>
          <a:stretch/>
        </p:blipFill>
        <p:spPr>
          <a:xfrm>
            <a:off x="609480" y="1981080"/>
            <a:ext cx="2060640" cy="2060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к рисовать муравья карандашом поэтапно для детей"/>
          <p:cNvPicPr/>
          <p:nvPr/>
        </p:nvPicPr>
        <p:blipFill>
          <a:blip r:embed="rId2"/>
          <a:stretch/>
        </p:blipFill>
        <p:spPr>
          <a:xfrm>
            <a:off x="3581280" y="196992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Муха рисунок карандашом для детей. Как нарисовать муху карандашом ..."/>
          <p:cNvPicPr/>
          <p:nvPr/>
        </p:nvPicPr>
        <p:blipFill>
          <a:blip r:embed="rId3"/>
          <a:stretch/>
        </p:blipFill>
        <p:spPr>
          <a:xfrm>
            <a:off x="6934320" y="2209680"/>
            <a:ext cx="167004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к нарисовать жука карандашом поэтапно?"/>
          <p:cNvPicPr/>
          <p:nvPr/>
        </p:nvPicPr>
        <p:blipFill>
          <a:blip r:embed="rId4"/>
          <a:stretch/>
        </p:blipFill>
        <p:spPr>
          <a:xfrm>
            <a:off x="2244600" y="4572000"/>
            <a:ext cx="144324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к нарисовать бабочку для детей поэтапно: инструкция с фото"/>
          <p:cNvPicPr/>
          <p:nvPr/>
        </p:nvPicPr>
        <p:blipFill>
          <a:blip r:embed="rId5"/>
          <a:stretch/>
        </p:blipFill>
        <p:spPr>
          <a:xfrm>
            <a:off x="5257800" y="4724280"/>
            <a:ext cx="2228760" cy="16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дание 4. Назови овощи в названии которых есть звук «Р». Что здесь лиш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Сказка про морковь"/>
          <p:cNvPicPr/>
          <p:nvPr/>
        </p:nvPicPr>
        <p:blipFill>
          <a:blip r:embed="rId1"/>
          <a:stretch/>
        </p:blipFill>
        <p:spPr>
          <a:xfrm>
            <a:off x="304920" y="1752480"/>
            <a:ext cx="198108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О картошке"/>
          <p:cNvPicPr/>
          <p:nvPr/>
        </p:nvPicPr>
        <p:blipFill>
          <a:blip r:embed="rId2"/>
          <a:stretch/>
        </p:blipFill>
        <p:spPr>
          <a:xfrm>
            <a:off x="7086600" y="464832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Раскраска гороха для детей – Раскраска горох. Распечатать картинки ..."/>
          <p:cNvPicPr/>
          <p:nvPr/>
        </p:nvPicPr>
        <p:blipFill>
          <a:blip r:embed="rId3"/>
          <a:stretch/>
        </p:blipFill>
        <p:spPr>
          <a:xfrm>
            <a:off x="4114800" y="2362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огурец картинка для детей - Поиск в Google | Картинки, Для детей и ..."/>
          <p:cNvPicPr/>
          <p:nvPr/>
        </p:nvPicPr>
        <p:blipFill>
          <a:blip r:embed="rId4"/>
          <a:stretch/>
        </p:blipFill>
        <p:spPr>
          <a:xfrm>
            <a:off x="304920" y="4648320"/>
            <a:ext cx="1981080" cy="1885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помидор картинка для детей - Поиск в Google | Помидоры, Для детей ..."/>
          <p:cNvPicPr/>
          <p:nvPr/>
        </p:nvPicPr>
        <p:blipFill>
          <a:blip r:embed="rId5"/>
          <a:stretch/>
        </p:blipFill>
        <p:spPr>
          <a:xfrm>
            <a:off x="4495680" y="45594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Лук для детей в картинках – фотографии и картинка лук репчатый ..."/>
          <p:cNvPicPr/>
          <p:nvPr/>
        </p:nvPicPr>
        <p:blipFill>
          <a:blip r:embed="rId6"/>
          <a:stretch/>
        </p:blipFill>
        <p:spPr>
          <a:xfrm>
            <a:off x="1676520" y="3276720"/>
            <a:ext cx="2552760" cy="1854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Рисунки карандашом для детей яблоки (18 фото) 🔥 Прикольные ..."/>
          <p:cNvPicPr/>
          <p:nvPr/>
        </p:nvPicPr>
        <p:blipFill>
          <a:blip r:embed="rId7"/>
          <a:stretch/>
        </p:blipFill>
        <p:spPr>
          <a:xfrm>
            <a:off x="6934320" y="2209680"/>
            <a:ext cx="1600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Задание 5.Раздели прямоугольник на столько частей, сколько слогов в слове. Мама рисует прямоугольники, а ребёнок разде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к нарисовать домик ребенку | ❤Lessdraw❤"/>
          <p:cNvPicPr/>
          <p:nvPr/>
        </p:nvPicPr>
        <p:blipFill>
          <a:blip r:embed="rId1"/>
          <a:stretch/>
        </p:blipFill>
        <p:spPr>
          <a:xfrm>
            <a:off x="228600" y="1981080"/>
            <a:ext cx="2743200" cy="1909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к нарисовать рыбку ребенку. ▷ Поэтапно нарисовать рыбку ..."/>
          <p:cNvPicPr/>
          <p:nvPr/>
        </p:nvPicPr>
        <p:blipFill>
          <a:blip r:embed="rId2"/>
          <a:stretch/>
        </p:blipFill>
        <p:spPr>
          <a:xfrm>
            <a:off x="3505320" y="2133720"/>
            <a:ext cx="2057400" cy="164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Игрушка &quot;Инерционная машинка Поли&quot;, Робокар Поли от Silverlit ..."/>
          <p:cNvPicPr/>
          <p:nvPr/>
        </p:nvPicPr>
        <p:blipFill>
          <a:blip r:embed="rId3"/>
          <a:stretch/>
        </p:blipFill>
        <p:spPr>
          <a:xfrm>
            <a:off x="6553080" y="2057400"/>
            <a:ext cx="1771920" cy="17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553080" y="4724280"/>
          <a:ext cx="2210040" cy="83844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505320" y="4724280"/>
          <a:ext cx="2361960" cy="78768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09480" y="4724280"/>
          <a:ext cx="2286000" cy="7621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дание 6. Продолжи ряд. Срисуйте образец на лист бумаги, а ребёнок продол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Дидактическая игра «продолжи ряд»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0T14:29:16Z</dcterms:created>
  <dc:creator>1</dc:creator>
  <dc:description/>
  <dc:language>en-US</dc:language>
  <cp:lastModifiedBy>1</cp:lastModifiedBy>
  <dcterms:modified xsi:type="dcterms:W3CDTF">2020-04-11T16:07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