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66F-6B3D-44BC-97AD-54FAC43A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D74-BCE1-4CD5-BCEB-D3E79459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BA3-0B6F-4EC4-B556-19F850CB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4CA0-1837-4157-9F78-68CDC38D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1261-E869-4167-9F39-85AC2E58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69A-29CE-4FE1-8465-DC2D4E8C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2B0-6017-4FA5-A31A-AC4A3B1F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C110-709A-4C97-B9F8-E281BCB5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2D9C-6F49-44B3-B818-42B48E4C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09E-5676-41E4-A4BA-0624062A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74AC-C7D6-4479-A414-0CE8EC97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1DB-E897-4852-BF32-FAEE760A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F3E9-FF7B-4068-B54B-ED7C9574A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Мастер-класс для детей и родителей на тему «Развитие фонематического слуха у детей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5000" y="4876920"/>
            <a:ext cx="3124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лочкина Е.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Азбука. Учим букву А. - YouTube"/>
          <p:cNvPicPr/>
          <p:nvPr/>
        </p:nvPicPr>
        <p:blipFill>
          <a:blip r:embed="rId1"/>
          <a:stretch/>
        </p:blipFill>
        <p:spPr>
          <a:xfrm>
            <a:off x="0" y="2666880"/>
            <a:ext cx="5565600" cy="38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Задание 7. Повтори чистоговор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шка кошка на окошке кашу кушала по крош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ые бараны били в бараб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варила щука щей, угощала двух лещ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шуршите мыши, кошка шорох слы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оронила ворона воронё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Arial"/>
              </a:rPr>
              <a:t>Спасибо за работу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Уважаемые родители, данные упражнения способствуют развитию речевых навыков и умений детей в области грамоты, формируют представления о слове, слоге и звуке.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Мастер-класс позволит их выполнить дома вместе с ребёнко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648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Для выполнения заданий вам потребуются цветные карандаши, листок бумаги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Желаю удач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Гласные и согласные звуки. Вспоминаем правил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Если гласный говорят, нет во рту у нас преград. (Воздух свободно выходит изо рта).Гласные звуки по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2667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Если согласный сказать нам надо – во рту возникает преграда. (у воздуха есть преграда – зубы, губы, или язы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М, 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,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Х,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Ш, 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Щ, 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Arial"/>
              </a:rPr>
              <a:t>Задание 1.Обведи гласные звуки красным, а согласные синим цветом. Мама перепишет буквы на бумагу , а ребёнок обведё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         М            С               У           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            Р              Щ            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       У               Х               Ш           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          Ж             А              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Задание 2.Назови предметы, в названии которых есть «песенка жука», или звук 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Отзыв &quot;Снежинка&quot; АИ-168У — Москвич 2140, 1.5 л., 1987 года на DRIVE2"/>
          <p:cNvPicPr/>
          <p:nvPr/>
        </p:nvPicPr>
        <p:blipFill>
          <a:blip r:embed="rId1"/>
          <a:stretch/>
        </p:blipFill>
        <p:spPr>
          <a:xfrm>
            <a:off x="6781680" y="4267080"/>
            <a:ext cx="1727280" cy="1708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ᐈ Желуди дуб фото, фотографии жёлудь | скачать на Depositphotos®"/>
          <p:cNvPicPr/>
          <p:nvPr/>
        </p:nvPicPr>
        <p:blipFill>
          <a:blip r:embed="rId2"/>
          <a:stretch/>
        </p:blipFill>
        <p:spPr>
          <a:xfrm>
            <a:off x="6477120" y="1828800"/>
            <a:ext cx="1908000" cy="1546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Летние пляжные шорты Дети хлопчатобумажные шорты Детские мальчики ..."/>
          <p:cNvPicPr/>
          <p:nvPr/>
        </p:nvPicPr>
        <p:blipFill>
          <a:blip r:embed="rId3"/>
          <a:stretch/>
        </p:blipFill>
        <p:spPr>
          <a:xfrm>
            <a:off x="4343400" y="3657600"/>
            <a:ext cx="209880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Ножницы, 250 мм - купите по низкой цене в интернет-магазине Castorama"/>
          <p:cNvPicPr/>
          <p:nvPr/>
        </p:nvPicPr>
        <p:blipFill>
          <a:blip r:embed="rId4"/>
          <a:stretch/>
        </p:blipFill>
        <p:spPr>
          <a:xfrm>
            <a:off x="1752480" y="43434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Жук ветчинный | справочник Пестициды.ru"/>
          <p:cNvPicPr/>
          <p:nvPr/>
        </p:nvPicPr>
        <p:blipFill>
          <a:blip r:embed="rId5"/>
          <a:stretch/>
        </p:blipFill>
        <p:spPr>
          <a:xfrm>
            <a:off x="3352680" y="2133720"/>
            <a:ext cx="1374840" cy="137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Мультяшный счастливый кролик на белом фоне | Премиум векторы"/>
          <p:cNvPicPr/>
          <p:nvPr/>
        </p:nvPicPr>
        <p:blipFill>
          <a:blip r:embed="rId6"/>
          <a:stretch/>
        </p:blipFill>
        <p:spPr>
          <a:xfrm>
            <a:off x="838080" y="2743200"/>
            <a:ext cx="1335240" cy="17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Задание 3. Назови первый звук в названии предметов. Назови предметы одним сло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3D модель Императорская стрекоза - TurboSquid 1122326"/>
          <p:cNvPicPr/>
          <p:nvPr/>
        </p:nvPicPr>
        <p:blipFill>
          <a:blip r:embed="rId1"/>
          <a:stretch/>
        </p:blipFill>
        <p:spPr>
          <a:xfrm>
            <a:off x="609480" y="1981080"/>
            <a:ext cx="2060640" cy="2060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Как рисовать муравья карандашом поэтапно для детей"/>
          <p:cNvPicPr/>
          <p:nvPr/>
        </p:nvPicPr>
        <p:blipFill>
          <a:blip r:embed="rId2"/>
          <a:stretch/>
        </p:blipFill>
        <p:spPr>
          <a:xfrm>
            <a:off x="3581280" y="1969920"/>
            <a:ext cx="2438640" cy="2063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Муха рисунок карандашом для детей. Как нарисовать муху карандашом ..."/>
          <p:cNvPicPr/>
          <p:nvPr/>
        </p:nvPicPr>
        <p:blipFill>
          <a:blip r:embed="rId3"/>
          <a:stretch/>
        </p:blipFill>
        <p:spPr>
          <a:xfrm>
            <a:off x="6934320" y="2209680"/>
            <a:ext cx="1670040" cy="1952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Как нарисовать жука карандашом поэтапно?"/>
          <p:cNvPicPr/>
          <p:nvPr/>
        </p:nvPicPr>
        <p:blipFill>
          <a:blip r:embed="rId4"/>
          <a:stretch/>
        </p:blipFill>
        <p:spPr>
          <a:xfrm>
            <a:off x="2244600" y="4572000"/>
            <a:ext cx="1443240" cy="1981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Как нарисовать бабочку для детей поэтапно: инструкция с фото"/>
          <p:cNvPicPr/>
          <p:nvPr/>
        </p:nvPicPr>
        <p:blipFill>
          <a:blip r:embed="rId5"/>
          <a:stretch/>
        </p:blipFill>
        <p:spPr>
          <a:xfrm>
            <a:off x="5257800" y="4724280"/>
            <a:ext cx="2228760" cy="16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Задание 4. Назови овощи в названии которых есть звук «Р». Что здесь лиш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Сказка про морковь"/>
          <p:cNvPicPr/>
          <p:nvPr/>
        </p:nvPicPr>
        <p:blipFill>
          <a:blip r:embed="rId1"/>
          <a:stretch/>
        </p:blipFill>
        <p:spPr>
          <a:xfrm>
            <a:off x="304920" y="1752480"/>
            <a:ext cx="1981080" cy="1571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О картошке"/>
          <p:cNvPicPr/>
          <p:nvPr/>
        </p:nvPicPr>
        <p:blipFill>
          <a:blip r:embed="rId2"/>
          <a:stretch/>
        </p:blipFill>
        <p:spPr>
          <a:xfrm>
            <a:off x="7086600" y="4648320"/>
            <a:ext cx="1771560" cy="1771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Раскраска гороха для детей – Раскраска горох. Распечатать картинки ..."/>
          <p:cNvPicPr/>
          <p:nvPr/>
        </p:nvPicPr>
        <p:blipFill>
          <a:blip r:embed="rId3"/>
          <a:stretch/>
        </p:blipFill>
        <p:spPr>
          <a:xfrm>
            <a:off x="4114800" y="23623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огурец картинка для детей - Поиск в Google | Картинки, Для детей и ..."/>
          <p:cNvPicPr/>
          <p:nvPr/>
        </p:nvPicPr>
        <p:blipFill>
          <a:blip r:embed="rId4"/>
          <a:stretch/>
        </p:blipFill>
        <p:spPr>
          <a:xfrm>
            <a:off x="304920" y="4648320"/>
            <a:ext cx="1981080" cy="1885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помидор картинка для детей - Поиск в Google | Помидоры, Для детей ..."/>
          <p:cNvPicPr/>
          <p:nvPr/>
        </p:nvPicPr>
        <p:blipFill>
          <a:blip r:embed="rId5"/>
          <a:stretch/>
        </p:blipFill>
        <p:spPr>
          <a:xfrm>
            <a:off x="4495680" y="455940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Лук для детей в картинках – фотографии и картинка лук репчатый ..."/>
          <p:cNvPicPr/>
          <p:nvPr/>
        </p:nvPicPr>
        <p:blipFill>
          <a:blip r:embed="rId6"/>
          <a:stretch/>
        </p:blipFill>
        <p:spPr>
          <a:xfrm>
            <a:off x="1676520" y="3276720"/>
            <a:ext cx="2552760" cy="1854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Рисунки карандашом для детей яблоки (18 фото) 🔥 Прикольные ..."/>
          <p:cNvPicPr/>
          <p:nvPr/>
        </p:nvPicPr>
        <p:blipFill>
          <a:blip r:embed="rId7"/>
          <a:stretch/>
        </p:blipFill>
        <p:spPr>
          <a:xfrm>
            <a:off x="6934320" y="2209680"/>
            <a:ext cx="1600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76960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Задание 5.Раздели прямоугольник на столько частей, сколько слогов в слове. Мама рисует прямоугольники, а ребёнок раздел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Как нарисовать домик ребенку | ❤Lessdraw❤"/>
          <p:cNvPicPr/>
          <p:nvPr/>
        </p:nvPicPr>
        <p:blipFill>
          <a:blip r:embed="rId1"/>
          <a:stretch/>
        </p:blipFill>
        <p:spPr>
          <a:xfrm>
            <a:off x="228600" y="1981080"/>
            <a:ext cx="2743200" cy="1909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Как нарисовать рыбку ребенку. ▷ Поэтапно нарисовать рыбку ..."/>
          <p:cNvPicPr/>
          <p:nvPr/>
        </p:nvPicPr>
        <p:blipFill>
          <a:blip r:embed="rId2"/>
          <a:stretch/>
        </p:blipFill>
        <p:spPr>
          <a:xfrm>
            <a:off x="3505320" y="2133720"/>
            <a:ext cx="2057400" cy="1649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Игрушка &quot;Инерционная машинка Поли&quot;, Робокар Поли от Silverlit ..."/>
          <p:cNvPicPr/>
          <p:nvPr/>
        </p:nvPicPr>
        <p:blipFill>
          <a:blip r:embed="rId3"/>
          <a:stretch/>
        </p:blipFill>
        <p:spPr>
          <a:xfrm>
            <a:off x="6553080" y="2057400"/>
            <a:ext cx="1771920" cy="177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6553080" y="4724280"/>
          <a:ext cx="2210040" cy="838440"/>
        </p:xfrm>
        <a:graphic>
          <a:graphicData uri="http://schemas.openxmlformats.org/drawingml/2006/table">
            <a:tbl>
              <a:tblPr/>
              <a:tblGrid>
                <a:gridCol w="221004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505320" y="4724280"/>
          <a:ext cx="2361960" cy="787680"/>
        </p:xfrm>
        <a:graphic>
          <a:graphicData uri="http://schemas.openxmlformats.org/drawingml/2006/table">
            <a:tbl>
              <a:tblPr/>
              <a:tblGrid>
                <a:gridCol w="236196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609480" y="4724280"/>
          <a:ext cx="2286000" cy="76212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Задание 6. Продолжи ряд. Срисуйте образец на лист бумаги, а ребёнок продолж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Дидактическая игра «продолжи ряд»"/>
          <p:cNvPicPr/>
          <p:nvPr/>
        </p:nvPicPr>
        <p:blipFill>
          <a:blip r:embed="rId1"/>
          <a:stretch/>
        </p:blipFill>
        <p:spPr>
          <a:xfrm>
            <a:off x="1600200" y="1752480"/>
            <a:ext cx="60958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0T14:29:16Z</dcterms:created>
  <dc:creator>1</dc:creator>
  <dc:description/>
  <dc:language>en-US</dc:language>
  <cp:lastModifiedBy>1</cp:lastModifiedBy>
  <dcterms:modified xsi:type="dcterms:W3CDTF">2020-04-11T16:07:2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